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857-1E1A-42AB-99AD-B0CD2109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34B-8CB6-46CD-8E5E-B6430909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AEB-8B6F-4F76-866F-CECE1FFB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90E-0ED8-4B9E-B4DE-10BC7039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629-7F41-45D0-A8F1-73A0C7A7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87F-29E7-406E-AE11-B49D925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EF0-240A-40B0-89AA-4B752B0F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F68-3976-49FC-9D40-D758045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E92-6D3F-4D17-BA8B-F27A624D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983-5A4D-49D8-BF08-B6E30DE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758-02B6-43E5-B6ED-9DBD02A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178-A4D3-4F72-946D-50A8074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49B-7D9A-49CF-A455-A31B32D1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1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895480" y="1828800"/>
                <a:ext cx="692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2666880" y="4267080"/>
                <a:ext cx="190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·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743200" y="3124080"/>
                <a:ext cx="1211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743200" y="2133720"/>
                <a:ext cx="38098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Ink 4"/>
          <p:cNvSpPr/>
          <p:nvPr/>
        </p:nvSpPr>
        <p:spPr>
          <a:xfrm>
            <a:off x="365040" y="1736640"/>
            <a:ext cx="2046240" cy="801720"/>
          </a:xfrm>
          <a:custGeom>
            <a:avLst/>
            <a:gdLst/>
            <a:ahLst/>
            <a:rect l="l" t="t" r="r" b="b"/>
            <a:pathLst>
              <a:path w="5684" h="2223">
                <a:moveTo>
                  <a:pt x="1556" y="5048"/>
                </a:moveTo>
                <a:cubicBezTo>
                  <a:pt x="1516" y="5077"/>
                  <a:pt x="1502" y="5114"/>
                  <a:pt x="1460" y="5144"/>
                </a:cubicBezTo>
                <a:cubicBezTo>
                  <a:pt x="1375" y="5204"/>
                  <a:pt x="1329" y="5276"/>
                  <a:pt x="1270" y="5366"/>
                </a:cubicBezTo>
                <a:cubicBezTo>
                  <a:pt x="1176" y="5509"/>
                  <a:pt x="1124" y="5576"/>
                  <a:pt x="1080" y="5747"/>
                </a:cubicBezTo>
                <a:cubicBezTo>
                  <a:pt x="1037" y="5914"/>
                  <a:pt x="991" y="6080"/>
                  <a:pt x="1016" y="6255"/>
                </a:cubicBezTo>
                <a:cubicBezTo>
                  <a:pt x="1038" y="6411"/>
                  <a:pt x="1091" y="6538"/>
                  <a:pt x="1175" y="6668"/>
                </a:cubicBezTo>
                <a:cubicBezTo>
                  <a:pt x="1262" y="6801"/>
                  <a:pt x="1343" y="6867"/>
                  <a:pt x="1492" y="6922"/>
                </a:cubicBezTo>
                <a:cubicBezTo>
                  <a:pt x="1588" y="6953"/>
                  <a:pt x="1620" y="6963"/>
                  <a:pt x="1683" y="6985"/>
                </a:cubicBezTo>
              </a:path>
              <a:path w="5684" h="2223">
                <a:moveTo>
                  <a:pt x="4000" y="4985"/>
                </a:moveTo>
                <a:cubicBezTo>
                  <a:pt x="4026" y="5030"/>
                  <a:pt x="4073" y="5088"/>
                  <a:pt x="4096" y="5144"/>
                </a:cubicBezTo>
                <a:cubicBezTo>
                  <a:pt x="4152" y="5279"/>
                  <a:pt x="4219" y="5343"/>
                  <a:pt x="4286" y="5461"/>
                </a:cubicBezTo>
                <a:cubicBezTo>
                  <a:pt x="4351" y="5575"/>
                  <a:pt x="4405" y="5748"/>
                  <a:pt x="4413" y="5874"/>
                </a:cubicBezTo>
                <a:cubicBezTo>
                  <a:pt x="4423" y="6045"/>
                  <a:pt x="4399" y="6187"/>
                  <a:pt x="4350" y="6350"/>
                </a:cubicBezTo>
                <a:cubicBezTo>
                  <a:pt x="4306" y="6495"/>
                  <a:pt x="4204" y="6602"/>
                  <a:pt x="4128" y="6731"/>
                </a:cubicBezTo>
                <a:cubicBezTo>
                  <a:pt x="4076" y="6818"/>
                  <a:pt x="4009" y="6881"/>
                  <a:pt x="3937" y="6953"/>
                </a:cubicBezTo>
                <a:cubicBezTo>
                  <a:pt x="3926" y="6964"/>
                  <a:pt x="3916" y="6974"/>
                  <a:pt x="3905" y="6985"/>
                </a:cubicBezTo>
              </a:path>
              <a:path w="5684" h="2223">
                <a:moveTo>
                  <a:pt x="5398" y="4826"/>
                </a:moveTo>
                <a:cubicBezTo>
                  <a:pt x="5337" y="4887"/>
                  <a:pt x="5298" y="4953"/>
                  <a:pt x="5239" y="5016"/>
                </a:cubicBezTo>
                <a:cubicBezTo>
                  <a:pt x="5121" y="5140"/>
                  <a:pt x="5088" y="5253"/>
                  <a:pt x="5016" y="5398"/>
                </a:cubicBezTo>
                <a:cubicBezTo>
                  <a:pt x="4928" y="5576"/>
                  <a:pt x="4839" y="5709"/>
                  <a:pt x="4794" y="5906"/>
                </a:cubicBezTo>
                <a:cubicBezTo>
                  <a:pt x="4747" y="6112"/>
                  <a:pt x="4717" y="6268"/>
                  <a:pt x="4762" y="6477"/>
                </a:cubicBezTo>
                <a:cubicBezTo>
                  <a:pt x="4795" y="6631"/>
                  <a:pt x="4833" y="6807"/>
                  <a:pt x="4953" y="6922"/>
                </a:cubicBezTo>
                <a:cubicBezTo>
                  <a:pt x="5048" y="6985"/>
                  <a:pt x="5080" y="7006"/>
                  <a:pt x="5144" y="7048"/>
                </a:cubicBezTo>
              </a:path>
              <a:path w="5684" h="2223">
                <a:moveTo>
                  <a:pt x="2508" y="5715"/>
                </a:moveTo>
                <a:cubicBezTo>
                  <a:pt x="2528" y="5831"/>
                  <a:pt x="2526" y="5862"/>
                  <a:pt x="2508" y="5969"/>
                </a:cubicBezTo>
                <a:cubicBezTo>
                  <a:pt x="2489" y="6083"/>
                  <a:pt x="2506" y="6207"/>
                  <a:pt x="2476" y="6318"/>
                </a:cubicBezTo>
                <a:cubicBezTo>
                  <a:pt x="2459" y="6382"/>
                  <a:pt x="2445" y="6409"/>
                  <a:pt x="2445" y="6477"/>
                </a:cubicBezTo>
              </a:path>
              <a:path w="5684" h="2223">
                <a:moveTo>
                  <a:pt x="2286" y="6128"/>
                </a:moveTo>
                <a:cubicBezTo>
                  <a:pt x="2302" y="6176"/>
                  <a:pt x="2324" y="6160"/>
                  <a:pt x="2381" y="6160"/>
                </a:cubicBezTo>
                <a:cubicBezTo>
                  <a:pt x="2494" y="6160"/>
                  <a:pt x="2590" y="6082"/>
                  <a:pt x="2699" y="6064"/>
                </a:cubicBezTo>
                <a:cubicBezTo>
                  <a:pt x="2775" y="6064"/>
                  <a:pt x="2808" y="6060"/>
                  <a:pt x="2858" y="6032"/>
                </a:cubicBezTo>
              </a:path>
              <a:path w="5684" h="2223">
                <a:moveTo>
                  <a:pt x="6540" y="5556"/>
                </a:moveTo>
                <a:cubicBezTo>
                  <a:pt x="6540" y="5863"/>
                  <a:pt x="6540" y="6170"/>
                  <a:pt x="6540" y="6477"/>
                </a:cubicBezTo>
              </a:path>
              <a:path w="5684" h="2223">
                <a:moveTo>
                  <a:pt x="6096" y="6001"/>
                </a:moveTo>
                <a:cubicBezTo>
                  <a:pt x="6260" y="6001"/>
                  <a:pt x="6416" y="6007"/>
                  <a:pt x="6572" y="6032"/>
                </a:cubicBezTo>
                <a:cubicBezTo>
                  <a:pt x="6636" y="6032"/>
                  <a:pt x="6657" y="6032"/>
                  <a:pt x="6699" y="6032"/>
                </a:cubicBezTo>
              </a:path>
              <a:path w="5684" h="2223">
                <a:moveTo>
                  <a:pt x="1556" y="5588"/>
                </a:moveTo>
                <a:cubicBezTo>
                  <a:pt x="1540" y="5583"/>
                  <a:pt x="1486" y="5523"/>
                  <a:pt x="1524" y="5493"/>
                </a:cubicBezTo>
                <a:cubicBezTo>
                  <a:pt x="1563" y="5462"/>
                  <a:pt x="1575" y="5461"/>
                  <a:pt x="1651" y="5461"/>
                </a:cubicBezTo>
                <a:cubicBezTo>
                  <a:pt x="1701" y="5461"/>
                  <a:pt x="1755" y="5480"/>
                  <a:pt x="1746" y="5556"/>
                </a:cubicBezTo>
                <a:cubicBezTo>
                  <a:pt x="1734" y="5656"/>
                  <a:pt x="1693" y="5777"/>
                  <a:pt x="1651" y="5874"/>
                </a:cubicBezTo>
                <a:cubicBezTo>
                  <a:pt x="1604" y="5982"/>
                  <a:pt x="1548" y="6060"/>
                  <a:pt x="1492" y="6160"/>
                </a:cubicBezTo>
                <a:cubicBezTo>
                  <a:pt x="1459" y="6219"/>
                  <a:pt x="1429" y="6301"/>
                  <a:pt x="1397" y="6350"/>
                </a:cubicBezTo>
                <a:cubicBezTo>
                  <a:pt x="1386" y="6361"/>
                  <a:pt x="1376" y="6371"/>
                  <a:pt x="1365" y="6382"/>
                </a:cubicBezTo>
                <a:cubicBezTo>
                  <a:pt x="1381" y="6333"/>
                  <a:pt x="1394" y="6345"/>
                  <a:pt x="1429" y="6318"/>
                </a:cubicBezTo>
                <a:cubicBezTo>
                  <a:pt x="1457" y="6296"/>
                  <a:pt x="1513" y="6262"/>
                  <a:pt x="1556" y="6286"/>
                </a:cubicBezTo>
                <a:cubicBezTo>
                  <a:pt x="1603" y="6312"/>
                  <a:pt x="1660" y="6344"/>
                  <a:pt x="1714" y="6350"/>
                </a:cubicBezTo>
                <a:cubicBezTo>
                  <a:pt x="1774" y="6357"/>
                  <a:pt x="1801" y="6353"/>
                  <a:pt x="1810" y="6350"/>
                </a:cubicBezTo>
                <a:cubicBezTo>
                  <a:pt x="1842" y="6350"/>
                  <a:pt x="1853" y="6350"/>
                  <a:pt x="1842" y="6318"/>
                </a:cubicBezTo>
              </a:path>
              <a:path w="5684" h="2223">
                <a:moveTo>
                  <a:pt x="2000" y="5461"/>
                </a:moveTo>
                <a:cubicBezTo>
                  <a:pt x="2050" y="5494"/>
                  <a:pt x="2032" y="5574"/>
                  <a:pt x="2032" y="5652"/>
                </a:cubicBezTo>
                <a:cubicBezTo>
                  <a:pt x="2032" y="5828"/>
                  <a:pt x="2019" y="5990"/>
                  <a:pt x="2000" y="6160"/>
                </a:cubicBezTo>
                <a:cubicBezTo>
                  <a:pt x="1993" y="6221"/>
                  <a:pt x="2000" y="6288"/>
                  <a:pt x="2000" y="6350"/>
                </a:cubicBezTo>
              </a:path>
              <a:path w="5684" h="2223">
                <a:moveTo>
                  <a:pt x="2191" y="5683"/>
                </a:moveTo>
                <a:cubicBezTo>
                  <a:pt x="2201" y="5673"/>
                  <a:pt x="2212" y="5662"/>
                  <a:pt x="2222" y="5652"/>
                </a:cubicBezTo>
                <a:cubicBezTo>
                  <a:pt x="2211" y="5762"/>
                  <a:pt x="2178" y="5804"/>
                  <a:pt x="2127" y="5906"/>
                </a:cubicBezTo>
                <a:cubicBezTo>
                  <a:pt x="2109" y="5942"/>
                  <a:pt x="2047" y="6078"/>
                  <a:pt x="2032" y="6096"/>
                </a:cubicBezTo>
                <a:cubicBezTo>
                  <a:pt x="2000" y="6096"/>
                  <a:pt x="1989" y="6096"/>
                  <a:pt x="2000" y="6128"/>
                </a:cubicBezTo>
                <a:cubicBezTo>
                  <a:pt x="2050" y="6166"/>
                  <a:pt x="2104" y="6167"/>
                  <a:pt x="2159" y="6191"/>
                </a:cubicBezTo>
                <a:cubicBezTo>
                  <a:pt x="2217" y="6216"/>
                  <a:pt x="2263" y="6241"/>
                  <a:pt x="2318" y="6255"/>
                </a:cubicBezTo>
              </a:path>
              <a:path w="5684" h="2223">
                <a:moveTo>
                  <a:pt x="5175" y="5715"/>
                </a:moveTo>
                <a:cubicBezTo>
                  <a:pt x="5158" y="5663"/>
                  <a:pt x="5132" y="5658"/>
                  <a:pt x="5207" y="5620"/>
                </a:cubicBezTo>
                <a:cubicBezTo>
                  <a:pt x="5264" y="5591"/>
                  <a:pt x="5364" y="5563"/>
                  <a:pt x="5429" y="5588"/>
                </a:cubicBezTo>
                <a:cubicBezTo>
                  <a:pt x="5483" y="5609"/>
                  <a:pt x="5536" y="5693"/>
                  <a:pt x="5524" y="5747"/>
                </a:cubicBezTo>
                <a:cubicBezTo>
                  <a:pt x="5499" y="5856"/>
                  <a:pt x="5408" y="5986"/>
                  <a:pt x="5334" y="6064"/>
                </a:cubicBezTo>
                <a:cubicBezTo>
                  <a:pt x="5272" y="6130"/>
                  <a:pt x="5194" y="6211"/>
                  <a:pt x="5144" y="6286"/>
                </a:cubicBezTo>
                <a:cubicBezTo>
                  <a:pt x="5118" y="6338"/>
                  <a:pt x="5107" y="6346"/>
                  <a:pt x="5112" y="6382"/>
                </a:cubicBezTo>
                <a:cubicBezTo>
                  <a:pt x="5170" y="6382"/>
                  <a:pt x="5187" y="6356"/>
                  <a:pt x="5239" y="6350"/>
                </a:cubicBezTo>
                <a:cubicBezTo>
                  <a:pt x="5309" y="6342"/>
                  <a:pt x="5318" y="6342"/>
                  <a:pt x="5398" y="6350"/>
                </a:cubicBezTo>
                <a:cubicBezTo>
                  <a:pt x="5454" y="6356"/>
                  <a:pt x="5478" y="6362"/>
                  <a:pt x="5493" y="6318"/>
                </a:cubicBezTo>
              </a:path>
              <a:path w="5684" h="2223">
                <a:moveTo>
                  <a:pt x="5715" y="5620"/>
                </a:moveTo>
                <a:cubicBezTo>
                  <a:pt x="5729" y="5674"/>
                  <a:pt x="5767" y="5709"/>
                  <a:pt x="5747" y="5778"/>
                </a:cubicBezTo>
                <a:cubicBezTo>
                  <a:pt x="5720" y="5868"/>
                  <a:pt x="5694" y="5973"/>
                  <a:pt x="5683" y="6064"/>
                </a:cubicBezTo>
                <a:cubicBezTo>
                  <a:pt x="5672" y="6153"/>
                  <a:pt x="5652" y="6228"/>
                  <a:pt x="5652" y="6318"/>
                </a:cubicBezTo>
                <a:cubicBezTo>
                  <a:pt x="5652" y="6350"/>
                  <a:pt x="5652" y="6361"/>
                  <a:pt x="5652" y="6382"/>
                </a:cubicBezTo>
              </a:path>
              <a:path w="5684" h="2223">
                <a:moveTo>
                  <a:pt x="6001" y="5747"/>
                </a:moveTo>
                <a:cubicBezTo>
                  <a:pt x="5992" y="5806"/>
                  <a:pt x="5957" y="5893"/>
                  <a:pt x="5906" y="5937"/>
                </a:cubicBezTo>
                <a:cubicBezTo>
                  <a:pt x="5846" y="5988"/>
                  <a:pt x="5805" y="6037"/>
                  <a:pt x="5747" y="6096"/>
                </a:cubicBezTo>
                <a:cubicBezTo>
                  <a:pt x="5718" y="6125"/>
                  <a:pt x="5712" y="6136"/>
                  <a:pt x="5683" y="6128"/>
                </a:cubicBezTo>
                <a:cubicBezTo>
                  <a:pt x="5750" y="6178"/>
                  <a:pt x="5768" y="6130"/>
                  <a:pt x="5842" y="6160"/>
                </a:cubicBezTo>
                <a:cubicBezTo>
                  <a:pt x="5895" y="6182"/>
                  <a:pt x="5914" y="6252"/>
                  <a:pt x="5937" y="6286"/>
                </a:cubicBezTo>
                <a:cubicBezTo>
                  <a:pt x="5960" y="6320"/>
                  <a:pt x="6003" y="6352"/>
                  <a:pt x="6032" y="6382"/>
                </a:cubicBezTo>
              </a:path>
              <a:path w="5684" h="2223">
                <a:moveTo>
                  <a:pt x="3588" y="5620"/>
                </a:moveTo>
                <a:cubicBezTo>
                  <a:pt x="3617" y="5591"/>
                  <a:pt x="3628" y="5585"/>
                  <a:pt x="3620" y="5556"/>
                </a:cubicBezTo>
                <a:cubicBezTo>
                  <a:pt x="3586" y="5548"/>
                  <a:pt x="3533" y="5501"/>
                  <a:pt x="3492" y="5524"/>
                </a:cubicBezTo>
                <a:cubicBezTo>
                  <a:pt x="3406" y="5573"/>
                  <a:pt x="3416" y="5569"/>
                  <a:pt x="3366" y="5652"/>
                </a:cubicBezTo>
                <a:cubicBezTo>
                  <a:pt x="3331" y="5709"/>
                  <a:pt x="3315" y="5721"/>
                  <a:pt x="3366" y="5778"/>
                </a:cubicBezTo>
                <a:cubicBezTo>
                  <a:pt x="3414" y="5832"/>
                  <a:pt x="3450" y="5880"/>
                  <a:pt x="3492" y="5937"/>
                </a:cubicBezTo>
                <a:cubicBezTo>
                  <a:pt x="3554" y="6020"/>
                  <a:pt x="3568" y="6035"/>
                  <a:pt x="3556" y="6128"/>
                </a:cubicBezTo>
                <a:cubicBezTo>
                  <a:pt x="3546" y="6206"/>
                  <a:pt x="3517" y="6255"/>
                  <a:pt x="3461" y="6318"/>
                </a:cubicBezTo>
                <a:cubicBezTo>
                  <a:pt x="3433" y="6349"/>
                  <a:pt x="3344" y="6374"/>
                  <a:pt x="3302" y="6350"/>
                </a:cubicBezTo>
                <a:cubicBezTo>
                  <a:pt x="3220" y="6305"/>
                  <a:pt x="3229" y="6283"/>
                  <a:pt x="3270" y="6191"/>
                </a:cubicBezTo>
                <a:cubicBezTo>
                  <a:pt x="3311" y="6101"/>
                  <a:pt x="3367" y="6011"/>
                  <a:pt x="3429" y="5937"/>
                </a:cubicBezTo>
                <a:cubicBezTo>
                  <a:pt x="3483" y="5872"/>
                  <a:pt x="3535" y="5812"/>
                  <a:pt x="3588" y="5747"/>
                </a:cubicBezTo>
              </a:path>
              <a:path w="5684" h="2223">
                <a:moveTo>
                  <a:pt x="3715" y="5461"/>
                </a:moveTo>
                <a:cubicBezTo>
                  <a:pt x="3731" y="5525"/>
                  <a:pt x="3746" y="5543"/>
                  <a:pt x="3746" y="5620"/>
                </a:cubicBezTo>
                <a:cubicBezTo>
                  <a:pt x="3746" y="5854"/>
                  <a:pt x="3762" y="6095"/>
                  <a:pt x="3715" y="6318"/>
                </a:cubicBezTo>
                <a:cubicBezTo>
                  <a:pt x="3715" y="6329"/>
                  <a:pt x="3715" y="6339"/>
                  <a:pt x="3715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2651040" y="1714680"/>
            <a:ext cx="435240" cy="777600"/>
          </a:xfrm>
          <a:custGeom>
            <a:avLst/>
            <a:gdLst/>
            <a:ahLst/>
            <a:rect l="l" t="t" r="r" b="b"/>
            <a:pathLst>
              <a:path w="1207" h="2161">
                <a:moveTo>
                  <a:pt x="8223" y="4762"/>
                </a:moveTo>
                <a:cubicBezTo>
                  <a:pt x="8277" y="4801"/>
                  <a:pt x="8331" y="4834"/>
                  <a:pt x="8350" y="4921"/>
                </a:cubicBezTo>
                <a:cubicBezTo>
                  <a:pt x="8374" y="5028"/>
                  <a:pt x="8410" y="5131"/>
                  <a:pt x="8446" y="5239"/>
                </a:cubicBezTo>
                <a:cubicBezTo>
                  <a:pt x="8487" y="5362"/>
                  <a:pt x="8554" y="5491"/>
                  <a:pt x="8572" y="5620"/>
                </a:cubicBezTo>
                <a:cubicBezTo>
                  <a:pt x="8588" y="5736"/>
                  <a:pt x="8573" y="5900"/>
                  <a:pt x="8509" y="6001"/>
                </a:cubicBezTo>
                <a:cubicBezTo>
                  <a:pt x="8431" y="6123"/>
                  <a:pt x="8348" y="6211"/>
                  <a:pt x="8255" y="6318"/>
                </a:cubicBezTo>
                <a:cubicBezTo>
                  <a:pt x="8164" y="6422"/>
                  <a:pt x="8080" y="6554"/>
                  <a:pt x="8001" y="6668"/>
                </a:cubicBezTo>
                <a:cubicBezTo>
                  <a:pt x="7940" y="6757"/>
                  <a:pt x="7911" y="6822"/>
                  <a:pt x="7874" y="6922"/>
                </a:cubicBezTo>
              </a:path>
              <a:path w="1207" h="2161">
                <a:moveTo>
                  <a:pt x="7493" y="5556"/>
                </a:moveTo>
                <a:cubicBezTo>
                  <a:pt x="7493" y="5640"/>
                  <a:pt x="7479" y="5730"/>
                  <a:pt x="7461" y="5810"/>
                </a:cubicBezTo>
                <a:cubicBezTo>
                  <a:pt x="7432" y="5939"/>
                  <a:pt x="7381" y="6061"/>
                  <a:pt x="7366" y="6191"/>
                </a:cubicBezTo>
                <a:cubicBezTo>
                  <a:pt x="7351" y="6324"/>
                  <a:pt x="7366" y="6470"/>
                  <a:pt x="7366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217440" y="1817640"/>
            <a:ext cx="389160" cy="365040"/>
          </a:xfrm>
          <a:custGeom>
            <a:avLst/>
            <a:gdLst/>
            <a:ahLst/>
            <a:rect l="l" t="t" r="r" b="b"/>
            <a:pathLst>
              <a:path w="1081" h="1017">
                <a:moveTo>
                  <a:pt x="603" y="5937"/>
                </a:moveTo>
                <a:cubicBezTo>
                  <a:pt x="652" y="5953"/>
                  <a:pt x="636" y="5978"/>
                  <a:pt x="667" y="6001"/>
                </a:cubicBezTo>
                <a:cubicBezTo>
                  <a:pt x="695" y="6021"/>
                  <a:pt x="737" y="6061"/>
                  <a:pt x="762" y="6064"/>
                </a:cubicBezTo>
                <a:cubicBezTo>
                  <a:pt x="855" y="6076"/>
                  <a:pt x="868" y="6029"/>
                  <a:pt x="921" y="5969"/>
                </a:cubicBezTo>
                <a:cubicBezTo>
                  <a:pt x="1031" y="5845"/>
                  <a:pt x="1108" y="5723"/>
                  <a:pt x="1206" y="5588"/>
                </a:cubicBezTo>
                <a:cubicBezTo>
                  <a:pt x="1346" y="5395"/>
                  <a:pt x="1522" y="5227"/>
                  <a:pt x="1683" y="5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1154160" y="2606760"/>
            <a:ext cx="938160" cy="903240"/>
          </a:xfrm>
          <a:custGeom>
            <a:avLst/>
            <a:gdLst/>
            <a:ahLst/>
            <a:rect l="l" t="t" r="r" b="b"/>
            <a:pathLst>
              <a:path w="2604" h="2509">
                <a:moveTo>
                  <a:pt x="3651" y="7239"/>
                </a:moveTo>
                <a:cubicBezTo>
                  <a:pt x="3651" y="7344"/>
                  <a:pt x="3637" y="7428"/>
                  <a:pt x="3620" y="7525"/>
                </a:cubicBezTo>
                <a:cubicBezTo>
                  <a:pt x="3606" y="7608"/>
                  <a:pt x="3593" y="7697"/>
                  <a:pt x="3588" y="7779"/>
                </a:cubicBezTo>
                <a:cubicBezTo>
                  <a:pt x="3583" y="7861"/>
                  <a:pt x="3610" y="7965"/>
                  <a:pt x="3556" y="8001"/>
                </a:cubicBezTo>
              </a:path>
              <a:path w="2604" h="2509">
                <a:moveTo>
                  <a:pt x="3937" y="7302"/>
                </a:moveTo>
                <a:cubicBezTo>
                  <a:pt x="3948" y="7302"/>
                  <a:pt x="3958" y="7302"/>
                  <a:pt x="3969" y="7302"/>
                </a:cubicBezTo>
              </a:path>
              <a:path w="2604" h="2509">
                <a:moveTo>
                  <a:pt x="3937" y="7302"/>
                </a:moveTo>
                <a:lnTo>
                  <a:pt x="3937" y="7302"/>
                </a:lnTo>
              </a:path>
              <a:path w="2604" h="2509">
                <a:moveTo>
                  <a:pt x="3937" y="7334"/>
                </a:moveTo>
                <a:cubicBezTo>
                  <a:pt x="3924" y="7399"/>
                  <a:pt x="3885" y="7460"/>
                  <a:pt x="3874" y="7525"/>
                </a:cubicBezTo>
                <a:cubicBezTo>
                  <a:pt x="3857" y="7621"/>
                  <a:pt x="3842" y="7711"/>
                  <a:pt x="3842" y="7810"/>
                </a:cubicBezTo>
                <a:cubicBezTo>
                  <a:pt x="3842" y="7876"/>
                  <a:pt x="3835" y="7962"/>
                  <a:pt x="3905" y="8001"/>
                </a:cubicBezTo>
                <a:cubicBezTo>
                  <a:pt x="3975" y="8040"/>
                  <a:pt x="3970" y="8014"/>
                  <a:pt x="4032" y="8001"/>
                </a:cubicBezTo>
                <a:cubicBezTo>
                  <a:pt x="4102" y="7986"/>
                  <a:pt x="4146" y="7976"/>
                  <a:pt x="4191" y="7906"/>
                </a:cubicBezTo>
                <a:cubicBezTo>
                  <a:pt x="4217" y="7865"/>
                  <a:pt x="4248" y="7764"/>
                  <a:pt x="4223" y="7715"/>
                </a:cubicBezTo>
                <a:cubicBezTo>
                  <a:pt x="4212" y="7705"/>
                  <a:pt x="4202" y="7694"/>
                  <a:pt x="4191" y="7684"/>
                </a:cubicBezTo>
                <a:cubicBezTo>
                  <a:pt x="4155" y="7719"/>
                  <a:pt x="4045" y="7795"/>
                  <a:pt x="4032" y="7842"/>
                </a:cubicBezTo>
                <a:cubicBezTo>
                  <a:pt x="4027" y="7861"/>
                  <a:pt x="3997" y="8026"/>
                  <a:pt x="4000" y="8033"/>
                </a:cubicBezTo>
                <a:cubicBezTo>
                  <a:pt x="4029" y="8061"/>
                  <a:pt x="4040" y="8067"/>
                  <a:pt x="4032" y="8096"/>
                </a:cubicBezTo>
              </a:path>
              <a:path w="2604" h="2509">
                <a:moveTo>
                  <a:pt x="4318" y="7525"/>
                </a:moveTo>
                <a:cubicBezTo>
                  <a:pt x="4332" y="7456"/>
                  <a:pt x="4346" y="7425"/>
                  <a:pt x="4382" y="7398"/>
                </a:cubicBezTo>
                <a:cubicBezTo>
                  <a:pt x="4424" y="7365"/>
                  <a:pt x="4427" y="7347"/>
                  <a:pt x="4477" y="7334"/>
                </a:cubicBezTo>
                <a:cubicBezTo>
                  <a:pt x="4507" y="7385"/>
                  <a:pt x="4533" y="7489"/>
                  <a:pt x="4508" y="7556"/>
                </a:cubicBezTo>
                <a:cubicBezTo>
                  <a:pt x="4484" y="7620"/>
                  <a:pt x="4430" y="7704"/>
                  <a:pt x="4413" y="7779"/>
                </a:cubicBezTo>
                <a:cubicBezTo>
                  <a:pt x="4397" y="7852"/>
                  <a:pt x="4392" y="7902"/>
                  <a:pt x="4350" y="7938"/>
                </a:cubicBezTo>
                <a:cubicBezTo>
                  <a:pt x="4271" y="8006"/>
                  <a:pt x="4380" y="7910"/>
                  <a:pt x="4413" y="7906"/>
                </a:cubicBezTo>
                <a:cubicBezTo>
                  <a:pt x="4458" y="7901"/>
                  <a:pt x="4508" y="7917"/>
                  <a:pt x="4540" y="7938"/>
                </a:cubicBezTo>
                <a:cubicBezTo>
                  <a:pt x="4598" y="7976"/>
                  <a:pt x="4593" y="8001"/>
                  <a:pt x="4667" y="8001"/>
                </a:cubicBezTo>
                <a:cubicBezTo>
                  <a:pt x="4715" y="8001"/>
                  <a:pt x="4729" y="7971"/>
                  <a:pt x="4762" y="7938"/>
                </a:cubicBezTo>
              </a:path>
              <a:path w="2604" h="2509">
                <a:moveTo>
                  <a:pt x="4826" y="7334"/>
                </a:moveTo>
                <a:cubicBezTo>
                  <a:pt x="4826" y="7588"/>
                  <a:pt x="4826" y="8287"/>
                  <a:pt x="4826" y="8033"/>
                </a:cubicBezTo>
              </a:path>
              <a:path w="2604" h="2509">
                <a:moveTo>
                  <a:pt x="5080" y="7430"/>
                </a:moveTo>
                <a:cubicBezTo>
                  <a:pt x="5091" y="7430"/>
                  <a:pt x="5101" y="7430"/>
                  <a:pt x="5112" y="7430"/>
                </a:cubicBezTo>
                <a:cubicBezTo>
                  <a:pt x="5099" y="7480"/>
                  <a:pt x="5050" y="7543"/>
                  <a:pt x="5016" y="7588"/>
                </a:cubicBezTo>
                <a:cubicBezTo>
                  <a:pt x="4976" y="7641"/>
                  <a:pt x="4934" y="7698"/>
                  <a:pt x="4890" y="7747"/>
                </a:cubicBezTo>
                <a:cubicBezTo>
                  <a:pt x="4845" y="7797"/>
                  <a:pt x="4801" y="7779"/>
                  <a:pt x="4890" y="7779"/>
                </a:cubicBezTo>
                <a:cubicBezTo>
                  <a:pt x="4941" y="7779"/>
                  <a:pt x="4991" y="7786"/>
                  <a:pt x="5016" y="7842"/>
                </a:cubicBezTo>
                <a:cubicBezTo>
                  <a:pt x="5032" y="7878"/>
                  <a:pt x="5077" y="7974"/>
                  <a:pt x="5112" y="8001"/>
                </a:cubicBezTo>
                <a:cubicBezTo>
                  <a:pt x="5153" y="8032"/>
                  <a:pt x="5214" y="8033"/>
                  <a:pt x="5270" y="8033"/>
                </a:cubicBezTo>
                <a:cubicBezTo>
                  <a:pt x="5281" y="8033"/>
                  <a:pt x="5291" y="8033"/>
                  <a:pt x="5302" y="8033"/>
                </a:cubicBezTo>
              </a:path>
              <a:path w="2604" h="2509">
                <a:moveTo>
                  <a:pt x="4064" y="8287"/>
                </a:moveTo>
                <a:cubicBezTo>
                  <a:pt x="4105" y="8257"/>
                  <a:pt x="4119" y="8254"/>
                  <a:pt x="4159" y="8223"/>
                </a:cubicBezTo>
                <a:cubicBezTo>
                  <a:pt x="4214" y="8264"/>
                  <a:pt x="4223" y="8247"/>
                  <a:pt x="4223" y="8318"/>
                </a:cubicBezTo>
                <a:cubicBezTo>
                  <a:pt x="4223" y="8380"/>
                  <a:pt x="4217" y="8458"/>
                  <a:pt x="4191" y="8509"/>
                </a:cubicBezTo>
                <a:cubicBezTo>
                  <a:pt x="4163" y="8565"/>
                  <a:pt x="4088" y="8613"/>
                  <a:pt x="4064" y="8668"/>
                </a:cubicBezTo>
                <a:cubicBezTo>
                  <a:pt x="4064" y="8704"/>
                  <a:pt x="4061" y="8718"/>
                  <a:pt x="4032" y="8731"/>
                </a:cubicBezTo>
                <a:cubicBezTo>
                  <a:pt x="4091" y="8731"/>
                  <a:pt x="4114" y="8709"/>
                  <a:pt x="4159" y="8700"/>
                </a:cubicBezTo>
                <a:cubicBezTo>
                  <a:pt x="4215" y="8688"/>
                  <a:pt x="4292" y="8700"/>
                  <a:pt x="4350" y="8700"/>
                </a:cubicBezTo>
              </a:path>
              <a:path w="2604" h="2509">
                <a:moveTo>
                  <a:pt x="4667" y="8223"/>
                </a:moveTo>
                <a:cubicBezTo>
                  <a:pt x="4667" y="8336"/>
                  <a:pt x="4653" y="8435"/>
                  <a:pt x="4636" y="8541"/>
                </a:cubicBezTo>
                <a:cubicBezTo>
                  <a:pt x="4626" y="8600"/>
                  <a:pt x="4636" y="8671"/>
                  <a:pt x="4636" y="8731"/>
                </a:cubicBezTo>
              </a:path>
              <a:path w="2604" h="2509">
                <a:moveTo>
                  <a:pt x="4858" y="8350"/>
                </a:moveTo>
                <a:cubicBezTo>
                  <a:pt x="4912" y="8377"/>
                  <a:pt x="4834" y="8379"/>
                  <a:pt x="4794" y="8414"/>
                </a:cubicBezTo>
                <a:cubicBezTo>
                  <a:pt x="4746" y="8457"/>
                  <a:pt x="4699" y="8545"/>
                  <a:pt x="4667" y="8572"/>
                </a:cubicBezTo>
                <a:cubicBezTo>
                  <a:pt x="4636" y="8572"/>
                  <a:pt x="4625" y="8572"/>
                  <a:pt x="4636" y="8604"/>
                </a:cubicBezTo>
                <a:cubicBezTo>
                  <a:pt x="4653" y="8656"/>
                  <a:pt x="4695" y="8662"/>
                  <a:pt x="4762" y="8668"/>
                </a:cubicBezTo>
                <a:cubicBezTo>
                  <a:pt x="4828" y="8674"/>
                  <a:pt x="4868" y="8714"/>
                  <a:pt x="4921" y="8731"/>
                </a:cubicBezTo>
                <a:cubicBezTo>
                  <a:pt x="4953" y="8731"/>
                  <a:pt x="4964" y="8731"/>
                  <a:pt x="4985" y="8731"/>
                </a:cubicBezTo>
              </a:path>
              <a:path w="2604" h="2509">
                <a:moveTo>
                  <a:pt x="3270" y="8826"/>
                </a:moveTo>
                <a:cubicBezTo>
                  <a:pt x="3218" y="8826"/>
                  <a:pt x="3186" y="8826"/>
                  <a:pt x="3238" y="8826"/>
                </a:cubicBezTo>
                <a:cubicBezTo>
                  <a:pt x="3422" y="8826"/>
                  <a:pt x="3597" y="8810"/>
                  <a:pt x="3778" y="8795"/>
                </a:cubicBezTo>
                <a:cubicBezTo>
                  <a:pt x="3957" y="8780"/>
                  <a:pt x="4139" y="8767"/>
                  <a:pt x="4318" y="8763"/>
                </a:cubicBezTo>
                <a:cubicBezTo>
                  <a:pt x="4565" y="8757"/>
                  <a:pt x="4806" y="8749"/>
                  <a:pt x="5048" y="8731"/>
                </a:cubicBezTo>
                <a:cubicBezTo>
                  <a:pt x="5200" y="8720"/>
                  <a:pt x="5605" y="8731"/>
                  <a:pt x="5652" y="8731"/>
                </a:cubicBezTo>
              </a:path>
              <a:path w="2604" h="2509">
                <a:moveTo>
                  <a:pt x="4000" y="9017"/>
                </a:moveTo>
                <a:cubicBezTo>
                  <a:pt x="4000" y="9111"/>
                  <a:pt x="3984" y="9185"/>
                  <a:pt x="3969" y="9271"/>
                </a:cubicBezTo>
                <a:cubicBezTo>
                  <a:pt x="3955" y="9354"/>
                  <a:pt x="3951" y="9445"/>
                  <a:pt x="3937" y="9525"/>
                </a:cubicBezTo>
                <a:cubicBezTo>
                  <a:pt x="3929" y="9573"/>
                  <a:pt x="3937" y="9634"/>
                  <a:pt x="3937" y="9684"/>
                </a:cubicBezTo>
              </a:path>
              <a:path w="2604" h="2509">
                <a:moveTo>
                  <a:pt x="4191" y="9080"/>
                </a:moveTo>
                <a:cubicBezTo>
                  <a:pt x="4162" y="9148"/>
                  <a:pt x="4140" y="9232"/>
                  <a:pt x="4128" y="9303"/>
                </a:cubicBezTo>
                <a:cubicBezTo>
                  <a:pt x="4114" y="9390"/>
                  <a:pt x="4106" y="9553"/>
                  <a:pt x="4159" y="9620"/>
                </a:cubicBezTo>
                <a:cubicBezTo>
                  <a:pt x="4194" y="9665"/>
                  <a:pt x="4204" y="9719"/>
                  <a:pt x="4286" y="9684"/>
                </a:cubicBezTo>
                <a:cubicBezTo>
                  <a:pt x="4349" y="9657"/>
                  <a:pt x="4406" y="9571"/>
                  <a:pt x="4445" y="9525"/>
                </a:cubicBezTo>
                <a:cubicBezTo>
                  <a:pt x="4481" y="9482"/>
                  <a:pt x="4513" y="9368"/>
                  <a:pt x="4445" y="9334"/>
                </a:cubicBezTo>
                <a:cubicBezTo>
                  <a:pt x="4389" y="9306"/>
                  <a:pt x="4362" y="9360"/>
                  <a:pt x="4350" y="9366"/>
                </a:cubicBezTo>
                <a:cubicBezTo>
                  <a:pt x="4324" y="9379"/>
                  <a:pt x="4301" y="9499"/>
                  <a:pt x="4286" y="9557"/>
                </a:cubicBezTo>
                <a:cubicBezTo>
                  <a:pt x="4277" y="9592"/>
                  <a:pt x="4310" y="9619"/>
                  <a:pt x="4318" y="9652"/>
                </a:cubicBezTo>
              </a:path>
              <a:path w="2604" h="2509">
                <a:moveTo>
                  <a:pt x="4636" y="9049"/>
                </a:moveTo>
                <a:cubicBezTo>
                  <a:pt x="4636" y="9080"/>
                  <a:pt x="4636" y="9091"/>
                  <a:pt x="4604" y="9080"/>
                </a:cubicBezTo>
                <a:cubicBezTo>
                  <a:pt x="4604" y="9172"/>
                  <a:pt x="4579" y="9220"/>
                  <a:pt x="4572" y="9303"/>
                </a:cubicBezTo>
                <a:cubicBezTo>
                  <a:pt x="4567" y="9358"/>
                  <a:pt x="4588" y="9350"/>
                  <a:pt x="4540" y="9366"/>
                </a:cubicBezTo>
                <a:cubicBezTo>
                  <a:pt x="4661" y="9366"/>
                  <a:pt x="4859" y="9405"/>
                  <a:pt x="4953" y="9334"/>
                </a:cubicBezTo>
              </a:path>
              <a:path w="2604" h="2509">
                <a:moveTo>
                  <a:pt x="4953" y="8922"/>
                </a:moveTo>
                <a:cubicBezTo>
                  <a:pt x="4939" y="8976"/>
                  <a:pt x="4901" y="9019"/>
                  <a:pt x="4890" y="9080"/>
                </a:cubicBezTo>
                <a:cubicBezTo>
                  <a:pt x="4874" y="9176"/>
                  <a:pt x="4876" y="9269"/>
                  <a:pt x="4858" y="9366"/>
                </a:cubicBezTo>
                <a:cubicBezTo>
                  <a:pt x="4844" y="9441"/>
                  <a:pt x="4830" y="9755"/>
                  <a:pt x="4890" y="9716"/>
                </a:cubicBezTo>
              </a:path>
              <a:path w="2604" h="2509">
                <a:moveTo>
                  <a:pt x="5112" y="8985"/>
                </a:moveTo>
                <a:cubicBezTo>
                  <a:pt x="5130" y="9029"/>
                  <a:pt x="5131" y="9141"/>
                  <a:pt x="5112" y="9208"/>
                </a:cubicBezTo>
                <a:cubicBezTo>
                  <a:pt x="5087" y="9297"/>
                  <a:pt x="5062" y="9398"/>
                  <a:pt x="5048" y="9493"/>
                </a:cubicBezTo>
                <a:cubicBezTo>
                  <a:pt x="5047" y="9501"/>
                  <a:pt x="5024" y="9660"/>
                  <a:pt x="5016" y="9652"/>
                </a:cubicBezTo>
                <a:cubicBezTo>
                  <a:pt x="5016" y="9641"/>
                  <a:pt x="5016" y="9631"/>
                  <a:pt x="5016" y="9620"/>
                </a:cubicBezTo>
              </a:path>
              <a:path w="2604" h="2509">
                <a:moveTo>
                  <a:pt x="5334" y="9080"/>
                </a:moveTo>
                <a:cubicBezTo>
                  <a:pt x="5392" y="9119"/>
                  <a:pt x="5350" y="9175"/>
                  <a:pt x="5302" y="9239"/>
                </a:cubicBezTo>
                <a:cubicBezTo>
                  <a:pt x="5272" y="9279"/>
                  <a:pt x="5178" y="9359"/>
                  <a:pt x="5144" y="9366"/>
                </a:cubicBezTo>
                <a:cubicBezTo>
                  <a:pt x="5108" y="9366"/>
                  <a:pt x="5094" y="9369"/>
                  <a:pt x="5080" y="9398"/>
                </a:cubicBezTo>
                <a:cubicBezTo>
                  <a:pt x="5092" y="9362"/>
                  <a:pt x="5123" y="9340"/>
                  <a:pt x="5175" y="9334"/>
                </a:cubicBezTo>
                <a:cubicBezTo>
                  <a:pt x="5185" y="9333"/>
                  <a:pt x="5265" y="9374"/>
                  <a:pt x="5270" y="9398"/>
                </a:cubicBezTo>
                <a:cubicBezTo>
                  <a:pt x="5290" y="9488"/>
                  <a:pt x="5274" y="9522"/>
                  <a:pt x="5334" y="9588"/>
                </a:cubicBezTo>
                <a:cubicBezTo>
                  <a:pt x="5397" y="9658"/>
                  <a:pt x="5431" y="9652"/>
                  <a:pt x="5524" y="9652"/>
                </a:cubicBezTo>
                <a:cubicBezTo>
                  <a:pt x="5620" y="9652"/>
                  <a:pt x="5674" y="9656"/>
                  <a:pt x="5747" y="9588"/>
                </a:cubicBezTo>
                <a:cubicBezTo>
                  <a:pt x="5768" y="9567"/>
                  <a:pt x="5789" y="9546"/>
                  <a:pt x="5810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8"/>
          <p:cNvSpPr/>
          <p:nvPr/>
        </p:nvSpPr>
        <p:spPr>
          <a:xfrm>
            <a:off x="6515280" y="2960640"/>
            <a:ext cx="2388960" cy="1211400"/>
          </a:xfrm>
          <a:custGeom>
            <a:avLst/>
            <a:gdLst/>
            <a:ahLst/>
            <a:rect l="l" t="t" r="r" b="b"/>
            <a:pathLst>
              <a:path w="6636" h="3367">
                <a:moveTo>
                  <a:pt x="18764" y="8382"/>
                </a:moveTo>
                <a:cubicBezTo>
                  <a:pt x="18703" y="8367"/>
                  <a:pt x="18704" y="8387"/>
                  <a:pt x="18637" y="8446"/>
                </a:cubicBezTo>
                <a:cubicBezTo>
                  <a:pt x="18579" y="8497"/>
                  <a:pt x="18519" y="8574"/>
                  <a:pt x="18478" y="8636"/>
                </a:cubicBezTo>
                <a:cubicBezTo>
                  <a:pt x="18392" y="8766"/>
                  <a:pt x="18271" y="8933"/>
                  <a:pt x="18224" y="9080"/>
                </a:cubicBezTo>
                <a:cubicBezTo>
                  <a:pt x="18154" y="9296"/>
                  <a:pt x="18103" y="9553"/>
                  <a:pt x="18098" y="9779"/>
                </a:cubicBezTo>
                <a:cubicBezTo>
                  <a:pt x="18094" y="9967"/>
                  <a:pt x="18112" y="10108"/>
                  <a:pt x="18161" y="10287"/>
                </a:cubicBezTo>
                <a:cubicBezTo>
                  <a:pt x="18202" y="10436"/>
                  <a:pt x="18227" y="10548"/>
                  <a:pt x="18320" y="10668"/>
                </a:cubicBezTo>
              </a:path>
              <a:path w="6636" h="3367">
                <a:moveTo>
                  <a:pt x="20796" y="8287"/>
                </a:moveTo>
                <a:cubicBezTo>
                  <a:pt x="20891" y="8340"/>
                  <a:pt x="20853" y="8347"/>
                  <a:pt x="20923" y="8446"/>
                </a:cubicBezTo>
                <a:cubicBezTo>
                  <a:pt x="20987" y="8538"/>
                  <a:pt x="21065" y="8626"/>
                  <a:pt x="21114" y="8731"/>
                </a:cubicBezTo>
                <a:cubicBezTo>
                  <a:pt x="21178" y="8868"/>
                  <a:pt x="21205" y="9030"/>
                  <a:pt x="21241" y="9176"/>
                </a:cubicBezTo>
                <a:cubicBezTo>
                  <a:pt x="21280" y="9335"/>
                  <a:pt x="21294" y="9521"/>
                  <a:pt x="21272" y="9684"/>
                </a:cubicBezTo>
                <a:cubicBezTo>
                  <a:pt x="21253" y="9827"/>
                  <a:pt x="21211" y="10030"/>
                  <a:pt x="21146" y="10160"/>
                </a:cubicBezTo>
                <a:cubicBezTo>
                  <a:pt x="21097" y="10259"/>
                  <a:pt x="21051" y="10386"/>
                  <a:pt x="20987" y="10478"/>
                </a:cubicBezTo>
                <a:cubicBezTo>
                  <a:pt x="20955" y="10509"/>
                  <a:pt x="20944" y="10520"/>
                  <a:pt x="20923" y="10541"/>
                </a:cubicBezTo>
              </a:path>
              <a:path w="6636" h="3367">
                <a:moveTo>
                  <a:pt x="21876" y="8350"/>
                </a:moveTo>
                <a:cubicBezTo>
                  <a:pt x="21864" y="8435"/>
                  <a:pt x="21818" y="8519"/>
                  <a:pt x="21780" y="8604"/>
                </a:cubicBezTo>
                <a:cubicBezTo>
                  <a:pt x="21709" y="8762"/>
                  <a:pt x="21650" y="8918"/>
                  <a:pt x="21590" y="9080"/>
                </a:cubicBezTo>
                <a:cubicBezTo>
                  <a:pt x="21510" y="9298"/>
                  <a:pt x="21469" y="9482"/>
                  <a:pt x="21463" y="9716"/>
                </a:cubicBezTo>
                <a:cubicBezTo>
                  <a:pt x="21458" y="9907"/>
                  <a:pt x="21473" y="10072"/>
                  <a:pt x="21526" y="10255"/>
                </a:cubicBezTo>
                <a:cubicBezTo>
                  <a:pt x="21571" y="10411"/>
                  <a:pt x="21660" y="10506"/>
                  <a:pt x="21780" y="10604"/>
                </a:cubicBezTo>
              </a:path>
              <a:path w="6636" h="3367">
                <a:moveTo>
                  <a:pt x="24416" y="8223"/>
                </a:moveTo>
                <a:cubicBezTo>
                  <a:pt x="24438" y="8245"/>
                  <a:pt x="24453" y="8283"/>
                  <a:pt x="24479" y="8318"/>
                </a:cubicBezTo>
                <a:cubicBezTo>
                  <a:pt x="24524" y="8378"/>
                  <a:pt x="24592" y="8428"/>
                  <a:pt x="24606" y="8509"/>
                </a:cubicBezTo>
                <a:cubicBezTo>
                  <a:pt x="24633" y="8666"/>
                  <a:pt x="24684" y="8827"/>
                  <a:pt x="24702" y="8985"/>
                </a:cubicBezTo>
                <a:cubicBezTo>
                  <a:pt x="24718" y="9124"/>
                  <a:pt x="24733" y="9257"/>
                  <a:pt x="24733" y="9398"/>
                </a:cubicBezTo>
                <a:cubicBezTo>
                  <a:pt x="24733" y="9537"/>
                  <a:pt x="24727" y="9744"/>
                  <a:pt x="24670" y="9874"/>
                </a:cubicBezTo>
                <a:cubicBezTo>
                  <a:pt x="24615" y="10000"/>
                  <a:pt x="24545" y="10096"/>
                  <a:pt x="24448" y="10192"/>
                </a:cubicBezTo>
                <a:cubicBezTo>
                  <a:pt x="24383" y="10256"/>
                  <a:pt x="24360" y="10300"/>
                  <a:pt x="24289" y="10350"/>
                </a:cubicBezTo>
              </a:path>
              <a:path w="6636" h="3367">
                <a:moveTo>
                  <a:pt x="19272" y="9620"/>
                </a:moveTo>
                <a:cubicBezTo>
                  <a:pt x="19332" y="9620"/>
                  <a:pt x="19353" y="9598"/>
                  <a:pt x="19399" y="9588"/>
                </a:cubicBezTo>
                <a:cubicBezTo>
                  <a:pt x="19472" y="9572"/>
                  <a:pt x="19549" y="9550"/>
                  <a:pt x="19622" y="9525"/>
                </a:cubicBezTo>
                <a:cubicBezTo>
                  <a:pt x="19720" y="9492"/>
                  <a:pt x="19802" y="9493"/>
                  <a:pt x="19907" y="9493"/>
                </a:cubicBezTo>
                <a:cubicBezTo>
                  <a:pt x="19928" y="9493"/>
                  <a:pt x="19950" y="9493"/>
                  <a:pt x="19971" y="9493"/>
                </a:cubicBezTo>
              </a:path>
              <a:path w="6636" h="3367">
                <a:moveTo>
                  <a:pt x="22924" y="9398"/>
                </a:moveTo>
                <a:cubicBezTo>
                  <a:pt x="22886" y="9417"/>
                  <a:pt x="22805" y="9462"/>
                  <a:pt x="22860" y="9462"/>
                </a:cubicBezTo>
                <a:cubicBezTo>
                  <a:pt x="23101" y="9462"/>
                  <a:pt x="23355" y="9492"/>
                  <a:pt x="23558" y="9398"/>
                </a:cubicBezTo>
                <a:cubicBezTo>
                  <a:pt x="23603" y="9398"/>
                  <a:pt x="23620" y="9410"/>
                  <a:pt x="23622" y="9462"/>
                </a:cubicBezTo>
              </a:path>
              <a:path w="6636" h="3367">
                <a:moveTo>
                  <a:pt x="18320" y="9366"/>
                </a:moveTo>
                <a:cubicBezTo>
                  <a:pt x="18368" y="9350"/>
                  <a:pt x="18357" y="9338"/>
                  <a:pt x="18383" y="9303"/>
                </a:cubicBezTo>
                <a:cubicBezTo>
                  <a:pt x="18424" y="9249"/>
                  <a:pt x="18475" y="9203"/>
                  <a:pt x="18510" y="9144"/>
                </a:cubicBezTo>
                <a:cubicBezTo>
                  <a:pt x="18557" y="9065"/>
                  <a:pt x="18553" y="9080"/>
                  <a:pt x="18637" y="9080"/>
                </a:cubicBezTo>
                <a:cubicBezTo>
                  <a:pt x="18637" y="9182"/>
                  <a:pt x="18631" y="9271"/>
                  <a:pt x="18606" y="9366"/>
                </a:cubicBezTo>
                <a:cubicBezTo>
                  <a:pt x="18578" y="9472"/>
                  <a:pt x="18551" y="9587"/>
                  <a:pt x="18510" y="9684"/>
                </a:cubicBezTo>
                <a:cubicBezTo>
                  <a:pt x="18485" y="9742"/>
                  <a:pt x="18480" y="9766"/>
                  <a:pt x="18447" y="9811"/>
                </a:cubicBezTo>
                <a:cubicBezTo>
                  <a:pt x="18471" y="9787"/>
                  <a:pt x="18530" y="9692"/>
                  <a:pt x="18542" y="9684"/>
                </a:cubicBezTo>
                <a:cubicBezTo>
                  <a:pt x="18583" y="9657"/>
                  <a:pt x="18654" y="9713"/>
                  <a:pt x="18669" y="9747"/>
                </a:cubicBezTo>
                <a:cubicBezTo>
                  <a:pt x="18696" y="9808"/>
                  <a:pt x="18728" y="9871"/>
                  <a:pt x="18732" y="9938"/>
                </a:cubicBezTo>
                <a:cubicBezTo>
                  <a:pt x="18738" y="10036"/>
                  <a:pt x="18753" y="10169"/>
                  <a:pt x="18701" y="10255"/>
                </a:cubicBezTo>
                <a:cubicBezTo>
                  <a:pt x="18664" y="10315"/>
                  <a:pt x="18612" y="10447"/>
                  <a:pt x="18542" y="10478"/>
                </a:cubicBezTo>
                <a:cubicBezTo>
                  <a:pt x="18490" y="10501"/>
                  <a:pt x="18532" y="10513"/>
                  <a:pt x="18478" y="10478"/>
                </a:cubicBezTo>
              </a:path>
              <a:path w="6636" h="3367">
                <a:moveTo>
                  <a:pt x="18701" y="9779"/>
                </a:moveTo>
                <a:cubicBezTo>
                  <a:pt x="18727" y="9833"/>
                  <a:pt x="18756" y="9906"/>
                  <a:pt x="18764" y="9970"/>
                </a:cubicBezTo>
                <a:cubicBezTo>
                  <a:pt x="18778" y="10079"/>
                  <a:pt x="18787" y="10181"/>
                  <a:pt x="18828" y="10287"/>
                </a:cubicBezTo>
                <a:cubicBezTo>
                  <a:pt x="18853" y="10351"/>
                  <a:pt x="18874" y="10420"/>
                  <a:pt x="18891" y="10478"/>
                </a:cubicBezTo>
                <a:cubicBezTo>
                  <a:pt x="18891" y="10488"/>
                  <a:pt x="18891" y="10499"/>
                  <a:pt x="18891" y="10509"/>
                </a:cubicBezTo>
                <a:cubicBezTo>
                  <a:pt x="18940" y="10437"/>
                  <a:pt x="18950" y="10383"/>
                  <a:pt x="18955" y="10287"/>
                </a:cubicBezTo>
                <a:cubicBezTo>
                  <a:pt x="18960" y="10176"/>
                  <a:pt x="18955" y="9849"/>
                  <a:pt x="18955" y="9842"/>
                </a:cubicBezTo>
                <a:cubicBezTo>
                  <a:pt x="18977" y="9932"/>
                  <a:pt x="19009" y="10035"/>
                  <a:pt x="19018" y="10128"/>
                </a:cubicBezTo>
                <a:cubicBezTo>
                  <a:pt x="19034" y="10300"/>
                  <a:pt x="19044" y="10467"/>
                  <a:pt x="19082" y="10636"/>
                </a:cubicBezTo>
                <a:cubicBezTo>
                  <a:pt x="19118" y="10797"/>
                  <a:pt x="19114" y="10947"/>
                  <a:pt x="19114" y="11112"/>
                </a:cubicBezTo>
                <a:cubicBezTo>
                  <a:pt x="19114" y="11261"/>
                  <a:pt x="19115" y="11359"/>
                  <a:pt x="19050" y="11494"/>
                </a:cubicBezTo>
                <a:cubicBezTo>
                  <a:pt x="19011" y="11576"/>
                  <a:pt x="19003" y="11582"/>
                  <a:pt x="18923" y="11589"/>
                </a:cubicBezTo>
                <a:cubicBezTo>
                  <a:pt x="18912" y="11589"/>
                  <a:pt x="18902" y="11589"/>
                  <a:pt x="18891" y="11589"/>
                </a:cubicBezTo>
                <a:cubicBezTo>
                  <a:pt x="18835" y="11517"/>
                  <a:pt x="18807" y="11427"/>
                  <a:pt x="18796" y="11335"/>
                </a:cubicBezTo>
                <a:cubicBezTo>
                  <a:pt x="18779" y="11192"/>
                  <a:pt x="18803" y="11029"/>
                  <a:pt x="18828" y="10890"/>
                </a:cubicBezTo>
                <a:cubicBezTo>
                  <a:pt x="18856" y="10738"/>
                  <a:pt x="18912" y="10638"/>
                  <a:pt x="18986" y="10509"/>
                </a:cubicBezTo>
                <a:cubicBezTo>
                  <a:pt x="18997" y="10488"/>
                  <a:pt x="19007" y="10467"/>
                  <a:pt x="19018" y="10446"/>
                </a:cubicBezTo>
              </a:path>
              <a:path w="6636" h="3367">
                <a:moveTo>
                  <a:pt x="21876" y="9303"/>
                </a:moveTo>
                <a:cubicBezTo>
                  <a:pt x="21876" y="9230"/>
                  <a:pt x="21888" y="9148"/>
                  <a:pt x="21908" y="9080"/>
                </a:cubicBezTo>
                <a:cubicBezTo>
                  <a:pt x="21928" y="9011"/>
                  <a:pt x="22033" y="8890"/>
                  <a:pt x="22098" y="8858"/>
                </a:cubicBezTo>
                <a:cubicBezTo>
                  <a:pt x="22168" y="8823"/>
                  <a:pt x="22192" y="8954"/>
                  <a:pt x="22193" y="8985"/>
                </a:cubicBezTo>
                <a:cubicBezTo>
                  <a:pt x="22198" y="9106"/>
                  <a:pt x="22161" y="9262"/>
                  <a:pt x="22098" y="9366"/>
                </a:cubicBezTo>
                <a:cubicBezTo>
                  <a:pt x="22057" y="9435"/>
                  <a:pt x="22030" y="9498"/>
                  <a:pt x="21971" y="9557"/>
                </a:cubicBezTo>
                <a:cubicBezTo>
                  <a:pt x="22000" y="9506"/>
                  <a:pt x="22045" y="9395"/>
                  <a:pt x="22098" y="9366"/>
                </a:cubicBezTo>
                <a:cubicBezTo>
                  <a:pt x="22131" y="9348"/>
                  <a:pt x="22209" y="9366"/>
                  <a:pt x="22225" y="9398"/>
                </a:cubicBezTo>
                <a:cubicBezTo>
                  <a:pt x="22259" y="9466"/>
                  <a:pt x="22279" y="9607"/>
                  <a:pt x="22257" y="9684"/>
                </a:cubicBezTo>
                <a:cubicBezTo>
                  <a:pt x="22222" y="9808"/>
                  <a:pt x="22201" y="9863"/>
                  <a:pt x="22130" y="9970"/>
                </a:cubicBezTo>
                <a:cubicBezTo>
                  <a:pt x="22092" y="10026"/>
                  <a:pt x="22076" y="10088"/>
                  <a:pt x="22003" y="10096"/>
                </a:cubicBezTo>
                <a:cubicBezTo>
                  <a:pt x="21952" y="10102"/>
                  <a:pt x="21971" y="10071"/>
                  <a:pt x="21971" y="10033"/>
                </a:cubicBezTo>
              </a:path>
              <a:path w="6636" h="3367">
                <a:moveTo>
                  <a:pt x="22288" y="9303"/>
                </a:moveTo>
                <a:cubicBezTo>
                  <a:pt x="22299" y="9401"/>
                  <a:pt x="22313" y="9331"/>
                  <a:pt x="22320" y="9462"/>
                </a:cubicBezTo>
                <a:cubicBezTo>
                  <a:pt x="22326" y="9578"/>
                  <a:pt x="22351" y="9700"/>
                  <a:pt x="22384" y="9811"/>
                </a:cubicBezTo>
                <a:cubicBezTo>
                  <a:pt x="22418" y="9923"/>
                  <a:pt x="22420" y="9999"/>
                  <a:pt x="22479" y="10096"/>
                </a:cubicBezTo>
                <a:cubicBezTo>
                  <a:pt x="22479" y="10132"/>
                  <a:pt x="22482" y="10146"/>
                  <a:pt x="22511" y="10160"/>
                </a:cubicBezTo>
                <a:cubicBezTo>
                  <a:pt x="22550" y="10100"/>
                  <a:pt x="22571" y="10048"/>
                  <a:pt x="22574" y="9970"/>
                </a:cubicBezTo>
                <a:cubicBezTo>
                  <a:pt x="22579" y="9817"/>
                  <a:pt x="22601" y="9674"/>
                  <a:pt x="22606" y="9525"/>
                </a:cubicBezTo>
                <a:cubicBezTo>
                  <a:pt x="22606" y="9430"/>
                  <a:pt x="22606" y="9419"/>
                  <a:pt x="22606" y="9366"/>
                </a:cubicBezTo>
                <a:cubicBezTo>
                  <a:pt x="22606" y="9494"/>
                  <a:pt x="22602" y="9595"/>
                  <a:pt x="22638" y="9716"/>
                </a:cubicBezTo>
                <a:cubicBezTo>
                  <a:pt x="22675" y="9841"/>
                  <a:pt x="22718" y="9997"/>
                  <a:pt x="22733" y="10128"/>
                </a:cubicBezTo>
                <a:cubicBezTo>
                  <a:pt x="22752" y="10296"/>
                  <a:pt x="22782" y="10468"/>
                  <a:pt x="22796" y="10636"/>
                </a:cubicBezTo>
                <a:cubicBezTo>
                  <a:pt x="22808" y="10783"/>
                  <a:pt x="22784" y="10973"/>
                  <a:pt x="22733" y="11112"/>
                </a:cubicBezTo>
                <a:cubicBezTo>
                  <a:pt x="22701" y="11176"/>
                  <a:pt x="22690" y="11197"/>
                  <a:pt x="22670" y="11240"/>
                </a:cubicBezTo>
                <a:cubicBezTo>
                  <a:pt x="22611" y="11182"/>
                  <a:pt x="22594" y="11209"/>
                  <a:pt x="22574" y="11081"/>
                </a:cubicBezTo>
                <a:cubicBezTo>
                  <a:pt x="22549" y="10923"/>
                  <a:pt x="22542" y="10766"/>
                  <a:pt x="22542" y="10604"/>
                </a:cubicBezTo>
                <a:cubicBezTo>
                  <a:pt x="22542" y="10438"/>
                  <a:pt x="22571" y="10257"/>
                  <a:pt x="22606" y="10096"/>
                </a:cubicBezTo>
                <a:cubicBezTo>
                  <a:pt x="22630" y="9984"/>
                  <a:pt x="22658" y="9849"/>
                  <a:pt x="22701" y="9747"/>
                </a:cubicBezTo>
                <a:cubicBezTo>
                  <a:pt x="22712" y="9726"/>
                  <a:pt x="22722" y="9705"/>
                  <a:pt x="22733" y="9684"/>
                </a:cubicBezTo>
              </a:path>
              <a:path w="6636" h="3367">
                <a:moveTo>
                  <a:pt x="20701" y="8763"/>
                </a:moveTo>
                <a:cubicBezTo>
                  <a:pt x="20655" y="8772"/>
                  <a:pt x="20612" y="8770"/>
                  <a:pt x="20574" y="8795"/>
                </a:cubicBezTo>
                <a:cubicBezTo>
                  <a:pt x="20518" y="8831"/>
                  <a:pt x="20472" y="8887"/>
                  <a:pt x="20415" y="8922"/>
                </a:cubicBezTo>
                <a:cubicBezTo>
                  <a:pt x="20366" y="8952"/>
                  <a:pt x="20306" y="8973"/>
                  <a:pt x="20256" y="8985"/>
                </a:cubicBezTo>
                <a:cubicBezTo>
                  <a:pt x="20218" y="8994"/>
                  <a:pt x="20267" y="8984"/>
                  <a:pt x="20288" y="9049"/>
                </a:cubicBezTo>
                <a:cubicBezTo>
                  <a:pt x="20317" y="9141"/>
                  <a:pt x="20292" y="9176"/>
                  <a:pt x="20288" y="9271"/>
                </a:cubicBezTo>
                <a:cubicBezTo>
                  <a:pt x="20284" y="9361"/>
                  <a:pt x="20263" y="9437"/>
                  <a:pt x="20256" y="9525"/>
                </a:cubicBezTo>
                <a:cubicBezTo>
                  <a:pt x="20256" y="9536"/>
                  <a:pt x="20256" y="9546"/>
                  <a:pt x="20256" y="9557"/>
                </a:cubicBezTo>
                <a:cubicBezTo>
                  <a:pt x="20268" y="9507"/>
                  <a:pt x="20318" y="9443"/>
                  <a:pt x="20352" y="9398"/>
                </a:cubicBezTo>
                <a:cubicBezTo>
                  <a:pt x="20377" y="9365"/>
                  <a:pt x="20441" y="9337"/>
                  <a:pt x="20479" y="9334"/>
                </a:cubicBezTo>
                <a:cubicBezTo>
                  <a:pt x="20589" y="9326"/>
                  <a:pt x="20598" y="9377"/>
                  <a:pt x="20638" y="9462"/>
                </a:cubicBezTo>
                <a:cubicBezTo>
                  <a:pt x="20695" y="9583"/>
                  <a:pt x="20724" y="9706"/>
                  <a:pt x="20701" y="9842"/>
                </a:cubicBezTo>
                <a:cubicBezTo>
                  <a:pt x="20680" y="9966"/>
                  <a:pt x="20617" y="10185"/>
                  <a:pt x="20542" y="10287"/>
                </a:cubicBezTo>
                <a:cubicBezTo>
                  <a:pt x="20514" y="10325"/>
                  <a:pt x="20413" y="10438"/>
                  <a:pt x="20352" y="10414"/>
                </a:cubicBezTo>
                <a:cubicBezTo>
                  <a:pt x="20292" y="10390"/>
                  <a:pt x="20295" y="10336"/>
                  <a:pt x="20288" y="10287"/>
                </a:cubicBezTo>
              </a:path>
              <a:path w="6636" h="3367">
                <a:moveTo>
                  <a:pt x="24162" y="8541"/>
                </a:moveTo>
                <a:cubicBezTo>
                  <a:pt x="24194" y="8604"/>
                  <a:pt x="24147" y="8615"/>
                  <a:pt x="24066" y="8636"/>
                </a:cubicBezTo>
                <a:cubicBezTo>
                  <a:pt x="24027" y="8646"/>
                  <a:pt x="23942" y="8649"/>
                  <a:pt x="23908" y="8668"/>
                </a:cubicBezTo>
                <a:cubicBezTo>
                  <a:pt x="23852" y="8699"/>
                  <a:pt x="23817" y="8700"/>
                  <a:pt x="23749" y="8700"/>
                </a:cubicBezTo>
                <a:cubicBezTo>
                  <a:pt x="23823" y="8724"/>
                  <a:pt x="23760" y="8745"/>
                  <a:pt x="23749" y="8795"/>
                </a:cubicBezTo>
                <a:cubicBezTo>
                  <a:pt x="23729" y="8888"/>
                  <a:pt x="23743" y="8988"/>
                  <a:pt x="23717" y="9080"/>
                </a:cubicBezTo>
                <a:cubicBezTo>
                  <a:pt x="23698" y="9148"/>
                  <a:pt x="23642" y="9212"/>
                  <a:pt x="23622" y="9271"/>
                </a:cubicBezTo>
                <a:cubicBezTo>
                  <a:pt x="23599" y="9338"/>
                  <a:pt x="23648" y="9247"/>
                  <a:pt x="23654" y="9239"/>
                </a:cubicBezTo>
                <a:cubicBezTo>
                  <a:pt x="23695" y="9185"/>
                  <a:pt x="23721" y="9094"/>
                  <a:pt x="23781" y="9080"/>
                </a:cubicBezTo>
                <a:cubicBezTo>
                  <a:pt x="23873" y="9059"/>
                  <a:pt x="23836" y="9054"/>
                  <a:pt x="23940" y="9080"/>
                </a:cubicBezTo>
                <a:cubicBezTo>
                  <a:pt x="24020" y="9100"/>
                  <a:pt x="24048" y="9129"/>
                  <a:pt x="24098" y="9208"/>
                </a:cubicBezTo>
                <a:cubicBezTo>
                  <a:pt x="24158" y="9303"/>
                  <a:pt x="24188" y="9345"/>
                  <a:pt x="24194" y="9462"/>
                </a:cubicBezTo>
                <a:cubicBezTo>
                  <a:pt x="24199" y="9576"/>
                  <a:pt x="24174" y="9673"/>
                  <a:pt x="24130" y="9779"/>
                </a:cubicBezTo>
                <a:cubicBezTo>
                  <a:pt x="24088" y="9881"/>
                  <a:pt x="24049" y="9936"/>
                  <a:pt x="23971" y="10001"/>
                </a:cubicBezTo>
                <a:cubicBezTo>
                  <a:pt x="23925" y="10039"/>
                  <a:pt x="23904" y="10033"/>
                  <a:pt x="2384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9"/>
          <p:cNvSpPr/>
          <p:nvPr/>
        </p:nvSpPr>
        <p:spPr>
          <a:xfrm>
            <a:off x="7372440" y="3863880"/>
            <a:ext cx="799920" cy="1290600"/>
          </a:xfrm>
          <a:custGeom>
            <a:avLst/>
            <a:gdLst/>
            <a:ahLst/>
            <a:rect l="l" t="t" r="r" b="b"/>
            <a:pathLst>
              <a:path w="2223" h="3588">
                <a:moveTo>
                  <a:pt x="20574" y="11303"/>
                </a:moveTo>
                <a:cubicBezTo>
                  <a:pt x="20574" y="11314"/>
                  <a:pt x="20574" y="11324"/>
                  <a:pt x="20574" y="11335"/>
                </a:cubicBezTo>
                <a:cubicBezTo>
                  <a:pt x="20633" y="11315"/>
                  <a:pt x="20605" y="11303"/>
                  <a:pt x="20701" y="11303"/>
                </a:cubicBezTo>
                <a:cubicBezTo>
                  <a:pt x="20752" y="11303"/>
                  <a:pt x="20770" y="11271"/>
                  <a:pt x="20828" y="11271"/>
                </a:cubicBezTo>
                <a:cubicBezTo>
                  <a:pt x="20839" y="11271"/>
                  <a:pt x="20849" y="11271"/>
                  <a:pt x="20860" y="11271"/>
                </a:cubicBezTo>
              </a:path>
              <a:path w="2223" h="3588">
                <a:moveTo>
                  <a:pt x="21050" y="10858"/>
                </a:moveTo>
                <a:cubicBezTo>
                  <a:pt x="21067" y="10926"/>
                  <a:pt x="21082" y="10968"/>
                  <a:pt x="21082" y="11049"/>
                </a:cubicBezTo>
                <a:cubicBezTo>
                  <a:pt x="21082" y="11156"/>
                  <a:pt x="21050" y="11255"/>
                  <a:pt x="21050" y="11366"/>
                </a:cubicBezTo>
                <a:cubicBezTo>
                  <a:pt x="21050" y="11525"/>
                  <a:pt x="21050" y="11684"/>
                  <a:pt x="21050" y="11843"/>
                </a:cubicBezTo>
              </a:path>
              <a:path w="2223" h="3588">
                <a:moveTo>
                  <a:pt x="21526" y="10763"/>
                </a:moveTo>
                <a:cubicBezTo>
                  <a:pt x="21526" y="10732"/>
                  <a:pt x="21526" y="10721"/>
                  <a:pt x="21558" y="10732"/>
                </a:cubicBezTo>
                <a:cubicBezTo>
                  <a:pt x="21544" y="10787"/>
                  <a:pt x="21506" y="10815"/>
                  <a:pt x="21463" y="10858"/>
                </a:cubicBezTo>
                <a:cubicBezTo>
                  <a:pt x="21412" y="10908"/>
                  <a:pt x="21379" y="10947"/>
                  <a:pt x="21304" y="10954"/>
                </a:cubicBezTo>
                <a:cubicBezTo>
                  <a:pt x="21284" y="10956"/>
                  <a:pt x="21227" y="10989"/>
                  <a:pt x="21241" y="11017"/>
                </a:cubicBezTo>
                <a:cubicBezTo>
                  <a:pt x="21271" y="11078"/>
                  <a:pt x="21275" y="11150"/>
                  <a:pt x="21304" y="11208"/>
                </a:cubicBezTo>
                <a:cubicBezTo>
                  <a:pt x="21332" y="11263"/>
                  <a:pt x="21336" y="11313"/>
                  <a:pt x="21368" y="11366"/>
                </a:cubicBezTo>
                <a:cubicBezTo>
                  <a:pt x="21376" y="11335"/>
                  <a:pt x="21385" y="11268"/>
                  <a:pt x="21400" y="11240"/>
                </a:cubicBezTo>
                <a:cubicBezTo>
                  <a:pt x="21421" y="11202"/>
                  <a:pt x="21468" y="11147"/>
                  <a:pt x="21495" y="11144"/>
                </a:cubicBezTo>
                <a:cubicBezTo>
                  <a:pt x="21538" y="11139"/>
                  <a:pt x="21576" y="11156"/>
                  <a:pt x="21590" y="11176"/>
                </a:cubicBezTo>
                <a:cubicBezTo>
                  <a:pt x="21625" y="11224"/>
                  <a:pt x="21640" y="11338"/>
                  <a:pt x="21622" y="11398"/>
                </a:cubicBezTo>
                <a:cubicBezTo>
                  <a:pt x="21597" y="11483"/>
                  <a:pt x="21579" y="11575"/>
                  <a:pt x="21526" y="11652"/>
                </a:cubicBezTo>
                <a:cubicBezTo>
                  <a:pt x="21492" y="11701"/>
                  <a:pt x="21452" y="11746"/>
                  <a:pt x="21431" y="11684"/>
                </a:cubicBezTo>
              </a:path>
              <a:path w="2223" h="3588">
                <a:moveTo>
                  <a:pt x="21717" y="11112"/>
                </a:moveTo>
                <a:cubicBezTo>
                  <a:pt x="21686" y="11175"/>
                  <a:pt x="21708" y="11247"/>
                  <a:pt x="21717" y="11335"/>
                </a:cubicBezTo>
                <a:cubicBezTo>
                  <a:pt x="21725" y="11413"/>
                  <a:pt x="21697" y="11466"/>
                  <a:pt x="21749" y="11525"/>
                </a:cubicBezTo>
                <a:cubicBezTo>
                  <a:pt x="21777" y="11557"/>
                  <a:pt x="21825" y="11618"/>
                  <a:pt x="21876" y="11589"/>
                </a:cubicBezTo>
                <a:cubicBezTo>
                  <a:pt x="21924" y="11563"/>
                  <a:pt x="21962" y="11480"/>
                  <a:pt x="21971" y="11430"/>
                </a:cubicBezTo>
                <a:cubicBezTo>
                  <a:pt x="21994" y="11301"/>
                  <a:pt x="21971" y="11148"/>
                  <a:pt x="21971" y="11017"/>
                </a:cubicBezTo>
                <a:cubicBezTo>
                  <a:pt x="21971" y="10938"/>
                  <a:pt x="22002" y="11105"/>
                  <a:pt x="22003" y="11112"/>
                </a:cubicBezTo>
                <a:cubicBezTo>
                  <a:pt x="22044" y="11346"/>
                  <a:pt x="21994" y="11613"/>
                  <a:pt x="21971" y="11843"/>
                </a:cubicBezTo>
                <a:cubicBezTo>
                  <a:pt x="21960" y="11949"/>
                  <a:pt x="21942" y="12025"/>
                  <a:pt x="21908" y="12128"/>
                </a:cubicBezTo>
              </a:path>
              <a:path w="2223" h="3588">
                <a:moveTo>
                  <a:pt x="20479" y="12382"/>
                </a:moveTo>
                <a:cubicBezTo>
                  <a:pt x="20542" y="12382"/>
                  <a:pt x="20555" y="12368"/>
                  <a:pt x="20606" y="12351"/>
                </a:cubicBezTo>
                <a:cubicBezTo>
                  <a:pt x="20662" y="12333"/>
                  <a:pt x="20648" y="12359"/>
                  <a:pt x="20701" y="12319"/>
                </a:cubicBezTo>
              </a:path>
              <a:path w="2223" h="3588">
                <a:moveTo>
                  <a:pt x="21082" y="12033"/>
                </a:moveTo>
                <a:cubicBezTo>
                  <a:pt x="21124" y="12103"/>
                  <a:pt x="21114" y="12169"/>
                  <a:pt x="21114" y="12256"/>
                </a:cubicBezTo>
                <a:cubicBezTo>
                  <a:pt x="21114" y="12446"/>
                  <a:pt x="21114" y="12637"/>
                  <a:pt x="21114" y="12827"/>
                </a:cubicBezTo>
              </a:path>
              <a:path w="2223" h="3588">
                <a:moveTo>
                  <a:pt x="21495" y="11906"/>
                </a:moveTo>
                <a:cubicBezTo>
                  <a:pt x="21505" y="11895"/>
                  <a:pt x="21516" y="11885"/>
                  <a:pt x="21526" y="11874"/>
                </a:cubicBezTo>
                <a:cubicBezTo>
                  <a:pt x="21526" y="11940"/>
                  <a:pt x="21532" y="11942"/>
                  <a:pt x="21495" y="11970"/>
                </a:cubicBezTo>
                <a:cubicBezTo>
                  <a:pt x="21451" y="12003"/>
                  <a:pt x="21406" y="12039"/>
                  <a:pt x="21368" y="12065"/>
                </a:cubicBezTo>
                <a:cubicBezTo>
                  <a:pt x="21321" y="12097"/>
                  <a:pt x="21329" y="12097"/>
                  <a:pt x="21272" y="12097"/>
                </a:cubicBezTo>
                <a:cubicBezTo>
                  <a:pt x="21272" y="12203"/>
                  <a:pt x="21272" y="12308"/>
                  <a:pt x="21272" y="12414"/>
                </a:cubicBezTo>
                <a:cubicBezTo>
                  <a:pt x="21315" y="12372"/>
                  <a:pt x="21359" y="12347"/>
                  <a:pt x="21400" y="12319"/>
                </a:cubicBezTo>
                <a:cubicBezTo>
                  <a:pt x="21450" y="12285"/>
                  <a:pt x="21463" y="12287"/>
                  <a:pt x="21526" y="12287"/>
                </a:cubicBezTo>
                <a:cubicBezTo>
                  <a:pt x="21565" y="12287"/>
                  <a:pt x="21585" y="12340"/>
                  <a:pt x="21590" y="12382"/>
                </a:cubicBezTo>
                <a:cubicBezTo>
                  <a:pt x="21598" y="12457"/>
                  <a:pt x="21570" y="12514"/>
                  <a:pt x="21558" y="12573"/>
                </a:cubicBezTo>
                <a:cubicBezTo>
                  <a:pt x="21541" y="12656"/>
                  <a:pt x="21526" y="12669"/>
                  <a:pt x="21463" y="12732"/>
                </a:cubicBezTo>
                <a:cubicBezTo>
                  <a:pt x="21424" y="12771"/>
                  <a:pt x="21419" y="12764"/>
                  <a:pt x="21368" y="12764"/>
                </a:cubicBezTo>
              </a:path>
              <a:path w="2223" h="3588">
                <a:moveTo>
                  <a:pt x="21685" y="12097"/>
                </a:moveTo>
                <a:cubicBezTo>
                  <a:pt x="21698" y="12150"/>
                  <a:pt x="21741" y="12197"/>
                  <a:pt x="21749" y="12256"/>
                </a:cubicBezTo>
                <a:cubicBezTo>
                  <a:pt x="21763" y="12356"/>
                  <a:pt x="21740" y="12479"/>
                  <a:pt x="21780" y="12573"/>
                </a:cubicBezTo>
                <a:cubicBezTo>
                  <a:pt x="21794" y="12606"/>
                  <a:pt x="21822" y="12638"/>
                  <a:pt x="21844" y="12668"/>
                </a:cubicBezTo>
                <a:cubicBezTo>
                  <a:pt x="21907" y="12605"/>
                  <a:pt x="21910" y="12562"/>
                  <a:pt x="21939" y="12478"/>
                </a:cubicBezTo>
                <a:cubicBezTo>
                  <a:pt x="21982" y="12353"/>
                  <a:pt x="21970" y="12221"/>
                  <a:pt x="22003" y="12097"/>
                </a:cubicBezTo>
                <a:cubicBezTo>
                  <a:pt x="22020" y="12033"/>
                  <a:pt x="22034" y="12006"/>
                  <a:pt x="22034" y="11938"/>
                </a:cubicBezTo>
                <a:cubicBezTo>
                  <a:pt x="22066" y="11949"/>
                  <a:pt x="22089" y="12013"/>
                  <a:pt x="22098" y="12065"/>
                </a:cubicBezTo>
                <a:cubicBezTo>
                  <a:pt x="22145" y="12327"/>
                  <a:pt x="22088" y="12632"/>
                  <a:pt x="22066" y="12890"/>
                </a:cubicBezTo>
                <a:cubicBezTo>
                  <a:pt x="22053" y="13045"/>
                  <a:pt x="22003" y="13189"/>
                  <a:pt x="21939" y="13335"/>
                </a:cubicBezTo>
                <a:cubicBezTo>
                  <a:pt x="21893" y="13441"/>
                  <a:pt x="21857" y="13482"/>
                  <a:pt x="21780" y="13557"/>
                </a:cubicBezTo>
              </a:path>
              <a:path w="2223" h="3588">
                <a:moveTo>
                  <a:pt x="20542" y="13240"/>
                </a:moveTo>
                <a:cubicBezTo>
                  <a:pt x="20586" y="13221"/>
                  <a:pt x="20649" y="13188"/>
                  <a:pt x="20701" y="13176"/>
                </a:cubicBezTo>
                <a:cubicBezTo>
                  <a:pt x="20805" y="13153"/>
                  <a:pt x="20915" y="13126"/>
                  <a:pt x="21018" y="13081"/>
                </a:cubicBezTo>
                <a:cubicBezTo>
                  <a:pt x="21176" y="13013"/>
                  <a:pt x="21338" y="12955"/>
                  <a:pt x="21495" y="12890"/>
                </a:cubicBezTo>
                <a:cubicBezTo>
                  <a:pt x="21647" y="12827"/>
                  <a:pt x="21834" y="12782"/>
                  <a:pt x="22003" y="12764"/>
                </a:cubicBezTo>
                <a:cubicBezTo>
                  <a:pt x="22153" y="12748"/>
                  <a:pt x="22294" y="12732"/>
                  <a:pt x="22447" y="12732"/>
                </a:cubicBezTo>
                <a:cubicBezTo>
                  <a:pt x="22532" y="12732"/>
                  <a:pt x="22616" y="12732"/>
                  <a:pt x="22701" y="12732"/>
                </a:cubicBezTo>
              </a:path>
              <a:path w="2223" h="3588">
                <a:moveTo>
                  <a:pt x="20860" y="13652"/>
                </a:moveTo>
                <a:cubicBezTo>
                  <a:pt x="20849" y="13652"/>
                  <a:pt x="20839" y="13652"/>
                  <a:pt x="20828" y="13652"/>
                </a:cubicBezTo>
                <a:cubicBezTo>
                  <a:pt x="20883" y="13639"/>
                  <a:pt x="20926" y="13601"/>
                  <a:pt x="20987" y="13589"/>
                </a:cubicBezTo>
              </a:path>
              <a:path w="2223" h="3588">
                <a:moveTo>
                  <a:pt x="21304" y="13208"/>
                </a:moveTo>
                <a:cubicBezTo>
                  <a:pt x="21312" y="13175"/>
                  <a:pt x="21353" y="13120"/>
                  <a:pt x="21368" y="13113"/>
                </a:cubicBezTo>
                <a:cubicBezTo>
                  <a:pt x="21393" y="13101"/>
                  <a:pt x="21460" y="13061"/>
                  <a:pt x="21495" y="13081"/>
                </a:cubicBezTo>
                <a:cubicBezTo>
                  <a:pt x="21545" y="13110"/>
                  <a:pt x="21526" y="13193"/>
                  <a:pt x="21526" y="13240"/>
                </a:cubicBezTo>
                <a:cubicBezTo>
                  <a:pt x="21526" y="13339"/>
                  <a:pt x="21478" y="13431"/>
                  <a:pt x="21463" y="13526"/>
                </a:cubicBezTo>
                <a:cubicBezTo>
                  <a:pt x="21451" y="13598"/>
                  <a:pt x="21431" y="13605"/>
                  <a:pt x="21463" y="13621"/>
                </a:cubicBezTo>
                <a:cubicBezTo>
                  <a:pt x="21471" y="13581"/>
                  <a:pt x="21483" y="13484"/>
                  <a:pt x="21526" y="13462"/>
                </a:cubicBezTo>
                <a:cubicBezTo>
                  <a:pt x="21596" y="13426"/>
                  <a:pt x="21590" y="13440"/>
                  <a:pt x="21654" y="13462"/>
                </a:cubicBezTo>
                <a:cubicBezTo>
                  <a:pt x="21710" y="13481"/>
                  <a:pt x="21737" y="13519"/>
                  <a:pt x="21749" y="13589"/>
                </a:cubicBezTo>
                <a:cubicBezTo>
                  <a:pt x="21766" y="13684"/>
                  <a:pt x="21731" y="13758"/>
                  <a:pt x="21717" y="13843"/>
                </a:cubicBezTo>
                <a:cubicBezTo>
                  <a:pt x="21702" y="13933"/>
                  <a:pt x="21688" y="13969"/>
                  <a:pt x="21622" y="14034"/>
                </a:cubicBezTo>
                <a:cubicBezTo>
                  <a:pt x="21585" y="14071"/>
                  <a:pt x="21573" y="14085"/>
                  <a:pt x="21526" y="14097"/>
                </a:cubicBezTo>
                <a:cubicBezTo>
                  <a:pt x="21513" y="14044"/>
                  <a:pt x="21504" y="14032"/>
                  <a:pt x="21495" y="13970"/>
                </a:cubicBezTo>
              </a:path>
              <a:path w="2223" h="3588">
                <a:moveTo>
                  <a:pt x="21812" y="13081"/>
                </a:moveTo>
                <a:cubicBezTo>
                  <a:pt x="21823" y="13081"/>
                  <a:pt x="21833" y="13081"/>
                  <a:pt x="21844" y="13081"/>
                </a:cubicBezTo>
              </a:path>
              <a:path w="2223" h="3588">
                <a:moveTo>
                  <a:pt x="21812" y="13081"/>
                </a:moveTo>
                <a:cubicBezTo>
                  <a:pt x="21823" y="13092"/>
                  <a:pt x="21833" y="13102"/>
                  <a:pt x="21844" y="13113"/>
                </a:cubicBezTo>
              </a:path>
              <a:path w="2223" h="3588">
                <a:moveTo>
                  <a:pt x="21844" y="13113"/>
                </a:moveTo>
                <a:cubicBezTo>
                  <a:pt x="21801" y="13183"/>
                  <a:pt x="21783" y="13277"/>
                  <a:pt x="21780" y="13367"/>
                </a:cubicBezTo>
                <a:cubicBezTo>
                  <a:pt x="21776" y="13490"/>
                  <a:pt x="21775" y="13632"/>
                  <a:pt x="21812" y="13748"/>
                </a:cubicBezTo>
                <a:cubicBezTo>
                  <a:pt x="21833" y="13814"/>
                  <a:pt x="21853" y="13829"/>
                  <a:pt x="21908" y="13843"/>
                </a:cubicBezTo>
                <a:cubicBezTo>
                  <a:pt x="21973" y="13793"/>
                  <a:pt x="21991" y="13769"/>
                  <a:pt x="22034" y="13684"/>
                </a:cubicBezTo>
                <a:cubicBezTo>
                  <a:pt x="22087" y="13578"/>
                  <a:pt x="22094" y="13453"/>
                  <a:pt x="22098" y="13335"/>
                </a:cubicBezTo>
                <a:cubicBezTo>
                  <a:pt x="22101" y="13248"/>
                  <a:pt x="22080" y="13124"/>
                  <a:pt x="22034" y="13049"/>
                </a:cubicBezTo>
                <a:cubicBezTo>
                  <a:pt x="21995" y="12985"/>
                  <a:pt x="21955" y="13037"/>
                  <a:pt x="21908" y="13049"/>
                </a:cubicBezTo>
              </a:path>
              <a:path w="2223" h="3588">
                <a:moveTo>
                  <a:pt x="22257" y="12986"/>
                </a:moveTo>
                <a:cubicBezTo>
                  <a:pt x="22257" y="13121"/>
                  <a:pt x="22266" y="13241"/>
                  <a:pt x="22288" y="13367"/>
                </a:cubicBezTo>
                <a:cubicBezTo>
                  <a:pt x="22296" y="13416"/>
                  <a:pt x="22275" y="13528"/>
                  <a:pt x="22320" y="13557"/>
                </a:cubicBezTo>
                <a:cubicBezTo>
                  <a:pt x="22352" y="13557"/>
                  <a:pt x="22363" y="13557"/>
                  <a:pt x="22384" y="13557"/>
                </a:cubicBezTo>
                <a:cubicBezTo>
                  <a:pt x="22446" y="13537"/>
                  <a:pt x="22424" y="13495"/>
                  <a:pt x="22447" y="13430"/>
                </a:cubicBezTo>
                <a:cubicBezTo>
                  <a:pt x="22483" y="13330"/>
                  <a:pt x="22479" y="13254"/>
                  <a:pt x="22479" y="13144"/>
                </a:cubicBezTo>
                <a:cubicBezTo>
                  <a:pt x="22479" y="13081"/>
                  <a:pt x="22479" y="13017"/>
                  <a:pt x="22479" y="12954"/>
                </a:cubicBezTo>
                <a:cubicBezTo>
                  <a:pt x="22534" y="13027"/>
                  <a:pt x="22521" y="13086"/>
                  <a:pt x="22542" y="13176"/>
                </a:cubicBezTo>
                <a:cubicBezTo>
                  <a:pt x="22577" y="13327"/>
                  <a:pt x="22623" y="13465"/>
                  <a:pt x="22638" y="13621"/>
                </a:cubicBezTo>
                <a:cubicBezTo>
                  <a:pt x="22652" y="13761"/>
                  <a:pt x="22670" y="13892"/>
                  <a:pt x="22670" y="14034"/>
                </a:cubicBezTo>
                <a:cubicBezTo>
                  <a:pt x="22670" y="14129"/>
                  <a:pt x="22670" y="14224"/>
                  <a:pt x="22670" y="14319"/>
                </a:cubicBezTo>
                <a:cubicBezTo>
                  <a:pt x="22607" y="14299"/>
                  <a:pt x="22609" y="14240"/>
                  <a:pt x="22606" y="14160"/>
                </a:cubicBezTo>
                <a:cubicBezTo>
                  <a:pt x="22595" y="13893"/>
                  <a:pt x="22606" y="13629"/>
                  <a:pt x="22638" y="13367"/>
                </a:cubicBezTo>
                <a:cubicBezTo>
                  <a:pt x="22649" y="13277"/>
                  <a:pt x="22672" y="13201"/>
                  <a:pt x="22701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8823240" y="2536920"/>
            <a:ext cx="149400" cy="366480"/>
          </a:xfrm>
          <a:custGeom>
            <a:avLst/>
            <a:gdLst/>
            <a:ahLst/>
            <a:rect l="l" t="t" r="r" b="b"/>
            <a:pathLst>
              <a:path w="414" h="1017">
                <a:moveTo>
                  <a:pt x="24543" y="7779"/>
                </a:moveTo>
                <a:cubicBezTo>
                  <a:pt x="24532" y="7768"/>
                  <a:pt x="24522" y="7758"/>
                  <a:pt x="24511" y="7747"/>
                </a:cubicBezTo>
              </a:path>
              <a:path w="414" h="1017">
                <a:moveTo>
                  <a:pt x="24543" y="7779"/>
                </a:moveTo>
                <a:lnTo>
                  <a:pt x="24543" y="7779"/>
                </a:lnTo>
              </a:path>
              <a:path w="414" h="1017">
                <a:moveTo>
                  <a:pt x="24511" y="7810"/>
                </a:moveTo>
                <a:cubicBezTo>
                  <a:pt x="24511" y="7878"/>
                  <a:pt x="24537" y="7900"/>
                  <a:pt x="24543" y="7969"/>
                </a:cubicBezTo>
                <a:cubicBezTo>
                  <a:pt x="24548" y="8033"/>
                  <a:pt x="24538" y="8047"/>
                  <a:pt x="24606" y="8064"/>
                </a:cubicBezTo>
                <a:cubicBezTo>
                  <a:pt x="24606" y="7968"/>
                  <a:pt x="24609" y="7904"/>
                  <a:pt x="24638" y="7810"/>
                </a:cubicBezTo>
                <a:cubicBezTo>
                  <a:pt x="24691" y="7639"/>
                  <a:pt x="24725" y="7467"/>
                  <a:pt x="24797" y="7302"/>
                </a:cubicBezTo>
                <a:cubicBezTo>
                  <a:pt x="24860" y="7175"/>
                  <a:pt x="24882" y="7133"/>
                  <a:pt x="24924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2949480" y="4664160"/>
            <a:ext cx="365400" cy="250920"/>
          </a:xfrm>
          <a:custGeom>
            <a:avLst/>
            <a:gdLst/>
            <a:ahLst/>
            <a:rect l="l" t="t" r="r" b="b"/>
            <a:pathLst>
              <a:path w="1017" h="699">
                <a:moveTo>
                  <a:pt x="8192" y="13176"/>
                </a:moveTo>
                <a:cubicBezTo>
                  <a:pt x="8241" y="13138"/>
                  <a:pt x="8292" y="13136"/>
                  <a:pt x="8350" y="13113"/>
                </a:cubicBezTo>
                <a:cubicBezTo>
                  <a:pt x="8436" y="13079"/>
                  <a:pt x="8517" y="13071"/>
                  <a:pt x="8604" y="13049"/>
                </a:cubicBezTo>
                <a:cubicBezTo>
                  <a:pt x="8709" y="13022"/>
                  <a:pt x="8814" y="12991"/>
                  <a:pt x="8922" y="12986"/>
                </a:cubicBezTo>
                <a:cubicBezTo>
                  <a:pt x="9016" y="12982"/>
                  <a:pt x="9082" y="12954"/>
                  <a:pt x="9176" y="12954"/>
                </a:cubicBezTo>
                <a:cubicBezTo>
                  <a:pt x="9187" y="12954"/>
                  <a:pt x="9197" y="12954"/>
                  <a:pt x="9208" y="12954"/>
                </a:cubicBezTo>
              </a:path>
              <a:path w="1017" h="699">
                <a:moveTo>
                  <a:pt x="8668" y="13240"/>
                </a:moveTo>
                <a:cubicBezTo>
                  <a:pt x="8680" y="13203"/>
                  <a:pt x="8711" y="13182"/>
                  <a:pt x="8763" y="13176"/>
                </a:cubicBezTo>
                <a:cubicBezTo>
                  <a:pt x="8846" y="13167"/>
                  <a:pt x="8880" y="13189"/>
                  <a:pt x="8954" y="13208"/>
                </a:cubicBezTo>
                <a:cubicBezTo>
                  <a:pt x="9017" y="13224"/>
                  <a:pt x="9017" y="13239"/>
                  <a:pt x="9017" y="13303"/>
                </a:cubicBezTo>
                <a:cubicBezTo>
                  <a:pt x="9017" y="13342"/>
                  <a:pt x="8965" y="13362"/>
                  <a:pt x="8922" y="13367"/>
                </a:cubicBezTo>
                <a:cubicBezTo>
                  <a:pt x="8860" y="13374"/>
                  <a:pt x="8882" y="13511"/>
                  <a:pt x="8858" y="13367"/>
                </a:cubicBezTo>
                <a:cubicBezTo>
                  <a:pt x="8858" y="13388"/>
                  <a:pt x="8858" y="13409"/>
                  <a:pt x="8858" y="13430"/>
                </a:cubicBezTo>
                <a:cubicBezTo>
                  <a:pt x="8876" y="13323"/>
                  <a:pt x="8906" y="13375"/>
                  <a:pt x="8985" y="13430"/>
                </a:cubicBezTo>
                <a:cubicBezTo>
                  <a:pt x="9031" y="13462"/>
                  <a:pt x="9073" y="13464"/>
                  <a:pt x="9080" y="13526"/>
                </a:cubicBezTo>
                <a:cubicBezTo>
                  <a:pt x="9086" y="13577"/>
                  <a:pt x="9069" y="13629"/>
                  <a:pt x="9017" y="13652"/>
                </a:cubicBezTo>
                <a:cubicBezTo>
                  <a:pt x="8949" y="13682"/>
                  <a:pt x="8851" y="13633"/>
                  <a:pt x="8826" y="13621"/>
                </a:cubicBezTo>
                <a:cubicBezTo>
                  <a:pt x="8787" y="13601"/>
                  <a:pt x="8774" y="13575"/>
                  <a:pt x="8826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2708280" y="5075280"/>
            <a:ext cx="274680" cy="411120"/>
          </a:xfrm>
          <a:custGeom>
            <a:avLst/>
            <a:gdLst/>
            <a:ahLst/>
            <a:rect l="l" t="t" r="r" b="b"/>
            <a:pathLst>
              <a:path w="763" h="1144">
                <a:moveTo>
                  <a:pt x="7620" y="14288"/>
                </a:moveTo>
                <a:cubicBezTo>
                  <a:pt x="7637" y="14238"/>
                  <a:pt x="7692" y="14234"/>
                  <a:pt x="7747" y="14192"/>
                </a:cubicBezTo>
                <a:cubicBezTo>
                  <a:pt x="7792" y="14158"/>
                  <a:pt x="7907" y="14111"/>
                  <a:pt x="7969" y="14097"/>
                </a:cubicBezTo>
                <a:cubicBezTo>
                  <a:pt x="8022" y="14085"/>
                  <a:pt x="8226" y="14072"/>
                  <a:pt x="8255" y="14129"/>
                </a:cubicBezTo>
                <a:cubicBezTo>
                  <a:pt x="8278" y="14175"/>
                  <a:pt x="8310" y="14259"/>
                  <a:pt x="8287" y="14319"/>
                </a:cubicBezTo>
                <a:cubicBezTo>
                  <a:pt x="8266" y="14373"/>
                  <a:pt x="8250" y="14469"/>
                  <a:pt x="8192" y="14510"/>
                </a:cubicBezTo>
                <a:cubicBezTo>
                  <a:pt x="8150" y="14540"/>
                  <a:pt x="8046" y="14625"/>
                  <a:pt x="8001" y="14637"/>
                </a:cubicBezTo>
                <a:cubicBezTo>
                  <a:pt x="7969" y="14646"/>
                  <a:pt x="7910" y="14637"/>
                  <a:pt x="7874" y="14637"/>
                </a:cubicBezTo>
                <a:cubicBezTo>
                  <a:pt x="7890" y="14589"/>
                  <a:pt x="7912" y="14605"/>
                  <a:pt x="7969" y="14605"/>
                </a:cubicBezTo>
                <a:cubicBezTo>
                  <a:pt x="8016" y="14605"/>
                  <a:pt x="8091" y="14639"/>
                  <a:pt x="8128" y="14668"/>
                </a:cubicBezTo>
                <a:cubicBezTo>
                  <a:pt x="8206" y="14730"/>
                  <a:pt x="8201" y="14760"/>
                  <a:pt x="8255" y="14827"/>
                </a:cubicBezTo>
                <a:cubicBezTo>
                  <a:pt x="8286" y="14865"/>
                  <a:pt x="8310" y="14964"/>
                  <a:pt x="8287" y="15018"/>
                </a:cubicBezTo>
                <a:cubicBezTo>
                  <a:pt x="8262" y="15078"/>
                  <a:pt x="8140" y="15164"/>
                  <a:pt x="8096" y="15208"/>
                </a:cubicBezTo>
                <a:cubicBezTo>
                  <a:pt x="8048" y="15256"/>
                  <a:pt x="7908" y="15256"/>
                  <a:pt x="7842" y="15240"/>
                </a:cubicBezTo>
                <a:cubicBezTo>
                  <a:pt x="7743" y="15216"/>
                  <a:pt x="7694" y="15186"/>
                  <a:pt x="7620" y="15113"/>
                </a:cubicBezTo>
                <a:cubicBezTo>
                  <a:pt x="7539" y="15033"/>
                  <a:pt x="7537" y="14941"/>
                  <a:pt x="7525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4183200" y="4651200"/>
            <a:ext cx="687240" cy="241560"/>
          </a:xfrm>
          <a:custGeom>
            <a:avLst/>
            <a:gdLst/>
            <a:ahLst/>
            <a:rect l="l" t="t" r="r" b="b"/>
            <a:pathLst>
              <a:path w="1907" h="668">
                <a:moveTo>
                  <a:pt x="11620" y="12954"/>
                </a:moveTo>
                <a:cubicBezTo>
                  <a:pt x="11689" y="12954"/>
                  <a:pt x="11709" y="12982"/>
                  <a:pt x="11779" y="12986"/>
                </a:cubicBezTo>
                <a:cubicBezTo>
                  <a:pt x="11891" y="12993"/>
                  <a:pt x="11986" y="12957"/>
                  <a:pt x="12097" y="12954"/>
                </a:cubicBezTo>
                <a:cubicBezTo>
                  <a:pt x="12345" y="12946"/>
                  <a:pt x="12586" y="12949"/>
                  <a:pt x="12827" y="12922"/>
                </a:cubicBezTo>
                <a:cubicBezTo>
                  <a:pt x="13025" y="12900"/>
                  <a:pt x="13239" y="12918"/>
                  <a:pt x="13430" y="12954"/>
                </a:cubicBezTo>
                <a:cubicBezTo>
                  <a:pt x="13473" y="12954"/>
                  <a:pt x="13494" y="12954"/>
                  <a:pt x="13526" y="12954"/>
                </a:cubicBezTo>
              </a:path>
              <a:path w="1907" h="668">
                <a:moveTo>
                  <a:pt x="12859" y="13303"/>
                </a:moveTo>
                <a:cubicBezTo>
                  <a:pt x="12859" y="13248"/>
                  <a:pt x="12867" y="13239"/>
                  <a:pt x="12890" y="13208"/>
                </a:cubicBezTo>
                <a:cubicBezTo>
                  <a:pt x="12915" y="13174"/>
                  <a:pt x="12979" y="13148"/>
                  <a:pt x="13018" y="13144"/>
                </a:cubicBezTo>
                <a:cubicBezTo>
                  <a:pt x="13063" y="13139"/>
                  <a:pt x="13109" y="13177"/>
                  <a:pt x="13113" y="13208"/>
                </a:cubicBezTo>
                <a:cubicBezTo>
                  <a:pt x="13117" y="13237"/>
                  <a:pt x="13077" y="13321"/>
                  <a:pt x="13049" y="13335"/>
                </a:cubicBezTo>
                <a:cubicBezTo>
                  <a:pt x="13013" y="13335"/>
                  <a:pt x="13000" y="13338"/>
                  <a:pt x="12986" y="13367"/>
                </a:cubicBezTo>
                <a:cubicBezTo>
                  <a:pt x="13058" y="13367"/>
                  <a:pt x="13083" y="13347"/>
                  <a:pt x="13113" y="13430"/>
                </a:cubicBezTo>
                <a:cubicBezTo>
                  <a:pt x="13124" y="13459"/>
                  <a:pt x="13164" y="13519"/>
                  <a:pt x="13144" y="13557"/>
                </a:cubicBezTo>
                <a:cubicBezTo>
                  <a:pt x="13118" y="13605"/>
                  <a:pt x="13063" y="13589"/>
                  <a:pt x="13018" y="13589"/>
                </a:cubicBezTo>
                <a:cubicBezTo>
                  <a:pt x="12957" y="13589"/>
                  <a:pt x="12906" y="13588"/>
                  <a:pt x="12859" y="13557"/>
                </a:cubicBezTo>
                <a:cubicBezTo>
                  <a:pt x="12830" y="13529"/>
                  <a:pt x="12819" y="13523"/>
                  <a:pt x="1282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14"/>
          <p:cNvSpPr/>
          <p:nvPr/>
        </p:nvSpPr>
        <p:spPr>
          <a:xfrm>
            <a:off x="5692680" y="4664160"/>
            <a:ext cx="422280" cy="274680"/>
          </a:xfrm>
          <a:custGeom>
            <a:avLst/>
            <a:gdLst/>
            <a:ahLst/>
            <a:rect l="l" t="t" r="r" b="b"/>
            <a:pathLst>
              <a:path w="1175" h="763">
                <a:moveTo>
                  <a:pt x="15812" y="13049"/>
                </a:moveTo>
                <a:cubicBezTo>
                  <a:pt x="15829" y="13015"/>
                  <a:pt x="15842" y="13049"/>
                  <a:pt x="15907" y="13049"/>
                </a:cubicBezTo>
                <a:cubicBezTo>
                  <a:pt x="15976" y="13049"/>
                  <a:pt x="16090" y="13033"/>
                  <a:pt x="16161" y="13018"/>
                </a:cubicBezTo>
                <a:cubicBezTo>
                  <a:pt x="16310" y="12987"/>
                  <a:pt x="16416" y="12954"/>
                  <a:pt x="16574" y="12954"/>
                </a:cubicBezTo>
                <a:cubicBezTo>
                  <a:pt x="16678" y="12954"/>
                  <a:pt x="16761" y="12981"/>
                  <a:pt x="16859" y="12986"/>
                </a:cubicBezTo>
                <a:cubicBezTo>
                  <a:pt x="16923" y="12986"/>
                  <a:pt x="16944" y="12986"/>
                  <a:pt x="16986" y="12986"/>
                </a:cubicBezTo>
              </a:path>
              <a:path w="1175" h="763">
                <a:moveTo>
                  <a:pt x="16446" y="13303"/>
                </a:moveTo>
                <a:cubicBezTo>
                  <a:pt x="16474" y="13283"/>
                  <a:pt x="16542" y="13217"/>
                  <a:pt x="16574" y="13208"/>
                </a:cubicBezTo>
                <a:cubicBezTo>
                  <a:pt x="16585" y="13205"/>
                  <a:pt x="16718" y="13158"/>
                  <a:pt x="16732" y="13176"/>
                </a:cubicBezTo>
                <a:cubicBezTo>
                  <a:pt x="16752" y="13202"/>
                  <a:pt x="16753" y="13206"/>
                  <a:pt x="16764" y="13240"/>
                </a:cubicBezTo>
                <a:cubicBezTo>
                  <a:pt x="16728" y="13276"/>
                  <a:pt x="16682" y="13320"/>
                  <a:pt x="16637" y="13335"/>
                </a:cubicBezTo>
                <a:cubicBezTo>
                  <a:pt x="16601" y="13347"/>
                  <a:pt x="16579" y="13358"/>
                  <a:pt x="16542" y="13367"/>
                </a:cubicBezTo>
                <a:cubicBezTo>
                  <a:pt x="16624" y="13367"/>
                  <a:pt x="16661" y="13343"/>
                  <a:pt x="16700" y="13430"/>
                </a:cubicBezTo>
                <a:cubicBezTo>
                  <a:pt x="16724" y="13482"/>
                  <a:pt x="16732" y="13524"/>
                  <a:pt x="16732" y="13589"/>
                </a:cubicBezTo>
                <a:cubicBezTo>
                  <a:pt x="16732" y="13640"/>
                  <a:pt x="16724" y="13691"/>
                  <a:pt x="16669" y="13716"/>
                </a:cubicBezTo>
                <a:cubicBezTo>
                  <a:pt x="16603" y="13746"/>
                  <a:pt x="16527" y="13695"/>
                  <a:pt x="16478" y="13684"/>
                </a:cubicBezTo>
                <a:cubicBezTo>
                  <a:pt x="16395" y="13666"/>
                  <a:pt x="16405" y="13638"/>
                  <a:pt x="16351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15"/>
          <p:cNvSpPr/>
          <p:nvPr/>
        </p:nvSpPr>
        <p:spPr>
          <a:xfrm>
            <a:off x="3132000" y="5029200"/>
            <a:ext cx="2057400" cy="811080"/>
          </a:xfrm>
          <a:custGeom>
            <a:avLst/>
            <a:gdLst/>
            <a:ahLst/>
            <a:rect l="l" t="t" r="r" b="b"/>
            <a:pathLst>
              <a:path w="5715" h="2255">
                <a:moveTo>
                  <a:pt x="9208" y="14097"/>
                </a:moveTo>
                <a:cubicBezTo>
                  <a:pt x="9150" y="14112"/>
                  <a:pt x="9086" y="14171"/>
                  <a:pt x="9049" y="14224"/>
                </a:cubicBezTo>
                <a:cubicBezTo>
                  <a:pt x="8959" y="14352"/>
                  <a:pt x="8860" y="14459"/>
                  <a:pt x="8795" y="14605"/>
                </a:cubicBezTo>
                <a:cubicBezTo>
                  <a:pt x="8744" y="14720"/>
                  <a:pt x="8713" y="14864"/>
                  <a:pt x="8700" y="14986"/>
                </a:cubicBezTo>
                <a:cubicBezTo>
                  <a:pt x="8684" y="15131"/>
                  <a:pt x="8708" y="15265"/>
                  <a:pt x="8763" y="15399"/>
                </a:cubicBezTo>
                <a:cubicBezTo>
                  <a:pt x="8794" y="15474"/>
                  <a:pt x="8848" y="15559"/>
                  <a:pt x="8922" y="15589"/>
                </a:cubicBezTo>
                <a:cubicBezTo>
                  <a:pt x="8928" y="15592"/>
                  <a:pt x="9070" y="15629"/>
                  <a:pt x="9017" y="15589"/>
                </a:cubicBezTo>
                <a:cubicBezTo>
                  <a:pt x="8985" y="15589"/>
                  <a:pt x="8974" y="15589"/>
                  <a:pt x="9017" y="15589"/>
                </a:cubicBezTo>
              </a:path>
              <a:path w="5715" h="2255">
                <a:moveTo>
                  <a:pt x="9334" y="14510"/>
                </a:moveTo>
                <a:cubicBezTo>
                  <a:pt x="9376" y="14580"/>
                  <a:pt x="9375" y="14677"/>
                  <a:pt x="9398" y="14764"/>
                </a:cubicBezTo>
                <a:cubicBezTo>
                  <a:pt x="9441" y="14929"/>
                  <a:pt x="9504" y="15080"/>
                  <a:pt x="9557" y="15240"/>
                </a:cubicBezTo>
                <a:cubicBezTo>
                  <a:pt x="9591" y="15344"/>
                  <a:pt x="9626" y="15465"/>
                  <a:pt x="9652" y="15558"/>
                </a:cubicBezTo>
                <a:cubicBezTo>
                  <a:pt x="9652" y="15589"/>
                  <a:pt x="9652" y="15600"/>
                  <a:pt x="9684" y="15589"/>
                </a:cubicBezTo>
              </a:path>
              <a:path w="5715" h="2255">
                <a:moveTo>
                  <a:pt x="9716" y="14668"/>
                </a:moveTo>
                <a:cubicBezTo>
                  <a:pt x="9698" y="14742"/>
                  <a:pt x="9643" y="14801"/>
                  <a:pt x="9588" y="14859"/>
                </a:cubicBezTo>
                <a:cubicBezTo>
                  <a:pt x="9498" y="14954"/>
                  <a:pt x="9409" y="15037"/>
                  <a:pt x="9334" y="15145"/>
                </a:cubicBezTo>
                <a:cubicBezTo>
                  <a:pt x="9276" y="15229"/>
                  <a:pt x="9144" y="15357"/>
                  <a:pt x="9112" y="15430"/>
                </a:cubicBezTo>
                <a:cubicBezTo>
                  <a:pt x="9112" y="15488"/>
                  <a:pt x="9116" y="15505"/>
                  <a:pt x="9080" y="15526"/>
                </a:cubicBezTo>
              </a:path>
              <a:path w="5715" h="2255">
                <a:moveTo>
                  <a:pt x="10033" y="14160"/>
                </a:moveTo>
                <a:cubicBezTo>
                  <a:pt x="10041" y="14129"/>
                  <a:pt x="10083" y="14072"/>
                  <a:pt x="10096" y="14065"/>
                </a:cubicBezTo>
                <a:cubicBezTo>
                  <a:pt x="10152" y="14037"/>
                  <a:pt x="10180" y="14091"/>
                  <a:pt x="10192" y="14097"/>
                </a:cubicBezTo>
                <a:cubicBezTo>
                  <a:pt x="10248" y="14125"/>
                  <a:pt x="10255" y="14120"/>
                  <a:pt x="10255" y="14192"/>
                </a:cubicBezTo>
                <a:cubicBezTo>
                  <a:pt x="10255" y="14248"/>
                  <a:pt x="10198" y="14281"/>
                  <a:pt x="10160" y="14319"/>
                </a:cubicBezTo>
                <a:cubicBezTo>
                  <a:pt x="10109" y="14369"/>
                  <a:pt x="10049" y="14413"/>
                  <a:pt x="10033" y="14478"/>
                </a:cubicBezTo>
                <a:cubicBezTo>
                  <a:pt x="10084" y="14465"/>
                  <a:pt x="10113" y="14430"/>
                  <a:pt x="10160" y="14414"/>
                </a:cubicBezTo>
                <a:cubicBezTo>
                  <a:pt x="10215" y="14396"/>
                  <a:pt x="10240" y="14441"/>
                  <a:pt x="10287" y="14446"/>
                </a:cubicBezTo>
                <a:cubicBezTo>
                  <a:pt x="10332" y="14451"/>
                  <a:pt x="10339" y="14478"/>
                  <a:pt x="10414" y="14478"/>
                </a:cubicBezTo>
              </a:path>
              <a:path w="5715" h="2255">
                <a:moveTo>
                  <a:pt x="10890" y="14446"/>
                </a:moveTo>
                <a:cubicBezTo>
                  <a:pt x="10890" y="14524"/>
                  <a:pt x="10858" y="14595"/>
                  <a:pt x="10827" y="14668"/>
                </a:cubicBezTo>
                <a:cubicBezTo>
                  <a:pt x="10790" y="14755"/>
                  <a:pt x="10748" y="14891"/>
                  <a:pt x="10732" y="14986"/>
                </a:cubicBezTo>
                <a:cubicBezTo>
                  <a:pt x="10716" y="15083"/>
                  <a:pt x="10700" y="15171"/>
                  <a:pt x="10700" y="15272"/>
                </a:cubicBezTo>
              </a:path>
              <a:path w="5715" h="2255">
                <a:moveTo>
                  <a:pt x="10573" y="14764"/>
                </a:moveTo>
                <a:cubicBezTo>
                  <a:pt x="10649" y="14811"/>
                  <a:pt x="10732" y="14796"/>
                  <a:pt x="10827" y="14796"/>
                </a:cubicBezTo>
                <a:cubicBezTo>
                  <a:pt x="10914" y="14796"/>
                  <a:pt x="10939" y="14799"/>
                  <a:pt x="10986" y="14764"/>
                </a:cubicBezTo>
              </a:path>
              <a:path w="5715" h="2255">
                <a:moveTo>
                  <a:pt x="11684" y="14224"/>
                </a:moveTo>
                <a:cubicBezTo>
                  <a:pt x="11630" y="14265"/>
                  <a:pt x="11597" y="14256"/>
                  <a:pt x="11525" y="14256"/>
                </a:cubicBezTo>
                <a:cubicBezTo>
                  <a:pt x="11471" y="14256"/>
                  <a:pt x="11401" y="14237"/>
                  <a:pt x="11366" y="14288"/>
                </a:cubicBezTo>
                <a:cubicBezTo>
                  <a:pt x="11330" y="14340"/>
                  <a:pt x="11289" y="14450"/>
                  <a:pt x="11271" y="14510"/>
                </a:cubicBezTo>
                <a:cubicBezTo>
                  <a:pt x="11255" y="14562"/>
                  <a:pt x="11240" y="14611"/>
                  <a:pt x="11240" y="14668"/>
                </a:cubicBezTo>
                <a:cubicBezTo>
                  <a:pt x="11307" y="14601"/>
                  <a:pt x="11333" y="14605"/>
                  <a:pt x="11430" y="14605"/>
                </a:cubicBezTo>
                <a:cubicBezTo>
                  <a:pt x="11552" y="14605"/>
                  <a:pt x="11536" y="14633"/>
                  <a:pt x="11620" y="14700"/>
                </a:cubicBezTo>
                <a:cubicBezTo>
                  <a:pt x="11704" y="14767"/>
                  <a:pt x="11723" y="14814"/>
                  <a:pt x="11748" y="14922"/>
                </a:cubicBezTo>
                <a:cubicBezTo>
                  <a:pt x="11766" y="15000"/>
                  <a:pt x="11734" y="15058"/>
                  <a:pt x="11684" y="15113"/>
                </a:cubicBezTo>
                <a:cubicBezTo>
                  <a:pt x="11639" y="15163"/>
                  <a:pt x="11628" y="15232"/>
                  <a:pt x="11557" y="15240"/>
                </a:cubicBezTo>
                <a:cubicBezTo>
                  <a:pt x="11464" y="15250"/>
                  <a:pt x="11408" y="15233"/>
                  <a:pt x="11335" y="15208"/>
                </a:cubicBezTo>
                <a:cubicBezTo>
                  <a:pt x="11277" y="15188"/>
                  <a:pt x="11289" y="15128"/>
                  <a:pt x="11335" y="15113"/>
                </a:cubicBezTo>
              </a:path>
              <a:path w="5715" h="2255">
                <a:moveTo>
                  <a:pt x="11938" y="14700"/>
                </a:moveTo>
                <a:cubicBezTo>
                  <a:pt x="11975" y="14762"/>
                  <a:pt x="12003" y="14846"/>
                  <a:pt x="12033" y="14922"/>
                </a:cubicBezTo>
                <a:cubicBezTo>
                  <a:pt x="12085" y="15055"/>
                  <a:pt x="12128" y="15208"/>
                  <a:pt x="12192" y="15335"/>
                </a:cubicBezTo>
                <a:cubicBezTo>
                  <a:pt x="12253" y="15426"/>
                  <a:pt x="12273" y="15454"/>
                  <a:pt x="12287" y="15526"/>
                </a:cubicBezTo>
              </a:path>
              <a:path w="5715" h="2255">
                <a:moveTo>
                  <a:pt x="12414" y="14891"/>
                </a:moveTo>
                <a:cubicBezTo>
                  <a:pt x="12377" y="14903"/>
                  <a:pt x="12322" y="15002"/>
                  <a:pt x="12287" y="15050"/>
                </a:cubicBezTo>
                <a:cubicBezTo>
                  <a:pt x="12204" y="15163"/>
                  <a:pt x="12150" y="15285"/>
                  <a:pt x="12065" y="15399"/>
                </a:cubicBezTo>
                <a:cubicBezTo>
                  <a:pt x="12017" y="15464"/>
                  <a:pt x="11936" y="15578"/>
                  <a:pt x="11906" y="15653"/>
                </a:cubicBezTo>
                <a:cubicBezTo>
                  <a:pt x="11906" y="15663"/>
                  <a:pt x="11906" y="15674"/>
                  <a:pt x="11906" y="15684"/>
                </a:cubicBezTo>
              </a:path>
              <a:path w="5715" h="2255">
                <a:moveTo>
                  <a:pt x="12954" y="14668"/>
                </a:moveTo>
                <a:cubicBezTo>
                  <a:pt x="13005" y="14753"/>
                  <a:pt x="12959" y="14793"/>
                  <a:pt x="12954" y="14891"/>
                </a:cubicBezTo>
                <a:cubicBezTo>
                  <a:pt x="12948" y="15002"/>
                  <a:pt x="12906" y="15100"/>
                  <a:pt x="12890" y="15208"/>
                </a:cubicBezTo>
                <a:cubicBezTo>
                  <a:pt x="12890" y="15274"/>
                  <a:pt x="12889" y="15297"/>
                  <a:pt x="12859" y="15335"/>
                </a:cubicBezTo>
              </a:path>
              <a:path w="5715" h="2255">
                <a:moveTo>
                  <a:pt x="12764" y="14891"/>
                </a:moveTo>
                <a:cubicBezTo>
                  <a:pt x="12847" y="14891"/>
                  <a:pt x="12939" y="14904"/>
                  <a:pt x="13018" y="14922"/>
                </a:cubicBezTo>
                <a:cubicBezTo>
                  <a:pt x="13101" y="14950"/>
                  <a:pt x="13120" y="14961"/>
                  <a:pt x="13176" y="14954"/>
                </a:cubicBezTo>
              </a:path>
              <a:path w="5715" h="2255">
                <a:moveTo>
                  <a:pt x="13652" y="14414"/>
                </a:moveTo>
                <a:cubicBezTo>
                  <a:pt x="13604" y="14447"/>
                  <a:pt x="13608" y="14531"/>
                  <a:pt x="13589" y="14605"/>
                </a:cubicBezTo>
                <a:cubicBezTo>
                  <a:pt x="13555" y="14735"/>
                  <a:pt x="13531" y="14852"/>
                  <a:pt x="13526" y="14986"/>
                </a:cubicBezTo>
                <a:cubicBezTo>
                  <a:pt x="13522" y="15114"/>
                  <a:pt x="13492" y="15315"/>
                  <a:pt x="13557" y="15430"/>
                </a:cubicBezTo>
                <a:cubicBezTo>
                  <a:pt x="13601" y="15507"/>
                  <a:pt x="13636" y="15501"/>
                  <a:pt x="13684" y="15494"/>
                </a:cubicBezTo>
                <a:cubicBezTo>
                  <a:pt x="13774" y="15481"/>
                  <a:pt x="13851" y="15417"/>
                  <a:pt x="13906" y="15335"/>
                </a:cubicBezTo>
                <a:cubicBezTo>
                  <a:pt x="13949" y="15271"/>
                  <a:pt x="14001" y="15161"/>
                  <a:pt x="13970" y="15081"/>
                </a:cubicBezTo>
                <a:cubicBezTo>
                  <a:pt x="13948" y="15025"/>
                  <a:pt x="13892" y="15018"/>
                  <a:pt x="13843" y="15018"/>
                </a:cubicBezTo>
                <a:cubicBezTo>
                  <a:pt x="13771" y="15018"/>
                  <a:pt x="13689" y="15076"/>
                  <a:pt x="13652" y="15145"/>
                </a:cubicBezTo>
                <a:cubicBezTo>
                  <a:pt x="13608" y="15226"/>
                  <a:pt x="13564" y="15341"/>
                  <a:pt x="13557" y="15430"/>
                </a:cubicBezTo>
                <a:cubicBezTo>
                  <a:pt x="13557" y="15462"/>
                  <a:pt x="13557" y="15473"/>
                  <a:pt x="13589" y="15462"/>
                </a:cubicBezTo>
              </a:path>
              <a:path w="5715" h="2255">
                <a:moveTo>
                  <a:pt x="14129" y="14002"/>
                </a:moveTo>
                <a:cubicBezTo>
                  <a:pt x="14193" y="13969"/>
                  <a:pt x="14223" y="14017"/>
                  <a:pt x="14256" y="14097"/>
                </a:cubicBezTo>
                <a:cubicBezTo>
                  <a:pt x="14311" y="14230"/>
                  <a:pt x="14369" y="14400"/>
                  <a:pt x="14383" y="14542"/>
                </a:cubicBezTo>
                <a:cubicBezTo>
                  <a:pt x="14405" y="14768"/>
                  <a:pt x="14437" y="15012"/>
                  <a:pt x="14414" y="15240"/>
                </a:cubicBezTo>
                <a:cubicBezTo>
                  <a:pt x="14393" y="15446"/>
                  <a:pt x="14320" y="15622"/>
                  <a:pt x="14256" y="15812"/>
                </a:cubicBezTo>
                <a:cubicBezTo>
                  <a:pt x="14195" y="15996"/>
                  <a:pt x="14144" y="16040"/>
                  <a:pt x="14002" y="16161"/>
                </a:cubicBezTo>
                <a:cubicBezTo>
                  <a:pt x="13981" y="16182"/>
                  <a:pt x="13959" y="16203"/>
                  <a:pt x="13938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16"/>
          <p:cNvSpPr/>
          <p:nvPr/>
        </p:nvSpPr>
        <p:spPr>
          <a:xfrm>
            <a:off x="2743200" y="5692680"/>
            <a:ext cx="2446200" cy="662040"/>
          </a:xfrm>
          <a:custGeom>
            <a:avLst/>
            <a:gdLst/>
            <a:ahLst/>
            <a:rect l="l" t="t" r="r" b="b"/>
            <a:pathLst>
              <a:path w="6795" h="1842">
                <a:moveTo>
                  <a:pt x="7620" y="15812"/>
                </a:moveTo>
                <a:cubicBezTo>
                  <a:pt x="7682" y="15812"/>
                  <a:pt x="7723" y="15805"/>
                  <a:pt x="7779" y="15843"/>
                </a:cubicBezTo>
                <a:cubicBezTo>
                  <a:pt x="7841" y="15884"/>
                  <a:pt x="7902" y="15888"/>
                  <a:pt x="7969" y="15938"/>
                </a:cubicBezTo>
                <a:cubicBezTo>
                  <a:pt x="8022" y="15978"/>
                  <a:pt x="8073" y="16010"/>
                  <a:pt x="8128" y="16034"/>
                </a:cubicBezTo>
                <a:cubicBezTo>
                  <a:pt x="8177" y="16055"/>
                  <a:pt x="8250" y="16089"/>
                  <a:pt x="8255" y="16129"/>
                </a:cubicBezTo>
                <a:cubicBezTo>
                  <a:pt x="8259" y="16164"/>
                  <a:pt x="8244" y="16239"/>
                  <a:pt x="8223" y="16256"/>
                </a:cubicBezTo>
                <a:cubicBezTo>
                  <a:pt x="8175" y="16296"/>
                  <a:pt x="8094" y="16336"/>
                  <a:pt x="8033" y="16351"/>
                </a:cubicBezTo>
                <a:cubicBezTo>
                  <a:pt x="7966" y="16367"/>
                  <a:pt x="7914" y="16383"/>
                  <a:pt x="7842" y="16383"/>
                </a:cubicBezTo>
                <a:cubicBezTo>
                  <a:pt x="7831" y="16383"/>
                  <a:pt x="7821" y="16383"/>
                  <a:pt x="7810" y="16383"/>
                </a:cubicBezTo>
                <a:cubicBezTo>
                  <a:pt x="7870" y="16428"/>
                  <a:pt x="7934" y="16427"/>
                  <a:pt x="8001" y="16478"/>
                </a:cubicBezTo>
                <a:cubicBezTo>
                  <a:pt x="8063" y="16525"/>
                  <a:pt x="8094" y="16632"/>
                  <a:pt x="8128" y="16700"/>
                </a:cubicBezTo>
                <a:cubicBezTo>
                  <a:pt x="8167" y="16777"/>
                  <a:pt x="8160" y="16839"/>
                  <a:pt x="8160" y="16923"/>
                </a:cubicBezTo>
                <a:cubicBezTo>
                  <a:pt x="8160" y="16968"/>
                  <a:pt x="8135" y="17055"/>
                  <a:pt x="8096" y="17082"/>
                </a:cubicBezTo>
                <a:cubicBezTo>
                  <a:pt x="8051" y="17113"/>
                  <a:pt x="7958" y="17142"/>
                  <a:pt x="7906" y="17145"/>
                </a:cubicBezTo>
                <a:cubicBezTo>
                  <a:pt x="7836" y="17150"/>
                  <a:pt x="7766" y="17158"/>
                  <a:pt x="7715" y="17113"/>
                </a:cubicBezTo>
                <a:cubicBezTo>
                  <a:pt x="7672" y="17075"/>
                  <a:pt x="7684" y="17040"/>
                  <a:pt x="7684" y="16986"/>
                </a:cubicBezTo>
              </a:path>
              <a:path w="6795" h="1842">
                <a:moveTo>
                  <a:pt x="8858" y="16066"/>
                </a:moveTo>
                <a:cubicBezTo>
                  <a:pt x="8858" y="16034"/>
                  <a:pt x="8858" y="16023"/>
                  <a:pt x="8858" y="16002"/>
                </a:cubicBezTo>
                <a:cubicBezTo>
                  <a:pt x="8782" y="16002"/>
                  <a:pt x="8702" y="15987"/>
                  <a:pt x="8636" y="16034"/>
                </a:cubicBezTo>
                <a:cubicBezTo>
                  <a:pt x="8544" y="16100"/>
                  <a:pt x="8479" y="16277"/>
                  <a:pt x="8446" y="16383"/>
                </a:cubicBezTo>
                <a:cubicBezTo>
                  <a:pt x="8389" y="16566"/>
                  <a:pt x="8414" y="16765"/>
                  <a:pt x="8414" y="16954"/>
                </a:cubicBezTo>
                <a:cubicBezTo>
                  <a:pt x="8414" y="17107"/>
                  <a:pt x="8411" y="17155"/>
                  <a:pt x="8477" y="17240"/>
                </a:cubicBezTo>
              </a:path>
              <a:path w="6795" h="1842">
                <a:moveTo>
                  <a:pt x="10890" y="15875"/>
                </a:moveTo>
                <a:cubicBezTo>
                  <a:pt x="10957" y="15892"/>
                  <a:pt x="10961" y="15933"/>
                  <a:pt x="10986" y="16002"/>
                </a:cubicBezTo>
                <a:cubicBezTo>
                  <a:pt x="11033" y="16132"/>
                  <a:pt x="11094" y="16278"/>
                  <a:pt x="11112" y="16415"/>
                </a:cubicBezTo>
                <a:cubicBezTo>
                  <a:pt x="11132" y="16568"/>
                  <a:pt x="11119" y="16743"/>
                  <a:pt x="11081" y="16891"/>
                </a:cubicBezTo>
                <a:cubicBezTo>
                  <a:pt x="11056" y="16989"/>
                  <a:pt x="11051" y="17098"/>
                  <a:pt x="10986" y="17177"/>
                </a:cubicBezTo>
                <a:cubicBezTo>
                  <a:pt x="10954" y="17208"/>
                  <a:pt x="10943" y="17219"/>
                  <a:pt x="10922" y="17240"/>
                </a:cubicBezTo>
              </a:path>
              <a:path w="6795" h="1842">
                <a:moveTo>
                  <a:pt x="11557" y="16002"/>
                </a:moveTo>
                <a:cubicBezTo>
                  <a:pt x="11533" y="16038"/>
                  <a:pt x="11455" y="16101"/>
                  <a:pt x="11398" y="16161"/>
                </a:cubicBezTo>
                <a:cubicBezTo>
                  <a:pt x="11320" y="16244"/>
                  <a:pt x="11226" y="16361"/>
                  <a:pt x="11208" y="16478"/>
                </a:cubicBezTo>
                <a:cubicBezTo>
                  <a:pt x="11179" y="16662"/>
                  <a:pt x="11228" y="16841"/>
                  <a:pt x="11271" y="17018"/>
                </a:cubicBezTo>
              </a:path>
              <a:path w="6795" h="1842">
                <a:moveTo>
                  <a:pt x="14288" y="16288"/>
                </a:moveTo>
                <a:cubicBezTo>
                  <a:pt x="14364" y="16308"/>
                  <a:pt x="14361" y="16364"/>
                  <a:pt x="14383" y="16446"/>
                </a:cubicBezTo>
                <a:cubicBezTo>
                  <a:pt x="14432" y="16633"/>
                  <a:pt x="14414" y="16826"/>
                  <a:pt x="14414" y="17018"/>
                </a:cubicBezTo>
                <a:cubicBezTo>
                  <a:pt x="14414" y="17213"/>
                  <a:pt x="14381" y="17386"/>
                  <a:pt x="14288" y="17558"/>
                </a:cubicBezTo>
                <a:cubicBezTo>
                  <a:pt x="14267" y="17590"/>
                  <a:pt x="14245" y="17621"/>
                  <a:pt x="14224" y="17653"/>
                </a:cubicBezTo>
              </a:path>
              <a:path w="6795" h="1842">
                <a:moveTo>
                  <a:pt x="9716" y="16383"/>
                </a:moveTo>
                <a:cubicBezTo>
                  <a:pt x="9723" y="16391"/>
                  <a:pt x="9732" y="16486"/>
                  <a:pt x="9716" y="16542"/>
                </a:cubicBezTo>
                <a:cubicBezTo>
                  <a:pt x="9684" y="16651"/>
                  <a:pt x="9665" y="16780"/>
                  <a:pt x="9652" y="16891"/>
                </a:cubicBezTo>
                <a:cubicBezTo>
                  <a:pt x="9652" y="16976"/>
                  <a:pt x="9652" y="16997"/>
                  <a:pt x="9652" y="17050"/>
                </a:cubicBezTo>
              </a:path>
              <a:path w="6795" h="1842">
                <a:moveTo>
                  <a:pt x="9842" y="16669"/>
                </a:moveTo>
                <a:cubicBezTo>
                  <a:pt x="9773" y="16627"/>
                  <a:pt x="9701" y="16643"/>
                  <a:pt x="9620" y="16669"/>
                </a:cubicBezTo>
                <a:cubicBezTo>
                  <a:pt x="9559" y="16699"/>
                  <a:pt x="9540" y="16709"/>
                  <a:pt x="9493" y="16700"/>
                </a:cubicBezTo>
              </a:path>
              <a:path w="6795" h="1842">
                <a:moveTo>
                  <a:pt x="12636" y="16256"/>
                </a:moveTo>
                <a:cubicBezTo>
                  <a:pt x="12636" y="16357"/>
                  <a:pt x="12658" y="16443"/>
                  <a:pt x="12668" y="16542"/>
                </a:cubicBezTo>
                <a:cubicBezTo>
                  <a:pt x="12683" y="16690"/>
                  <a:pt x="12689" y="16839"/>
                  <a:pt x="12700" y="16986"/>
                </a:cubicBezTo>
              </a:path>
              <a:path w="6795" h="1842">
                <a:moveTo>
                  <a:pt x="12954" y="16637"/>
                </a:moveTo>
                <a:cubicBezTo>
                  <a:pt x="12873" y="16557"/>
                  <a:pt x="12815" y="16574"/>
                  <a:pt x="12700" y="16574"/>
                </a:cubicBezTo>
                <a:cubicBezTo>
                  <a:pt x="12573" y="16574"/>
                  <a:pt x="12531" y="16574"/>
                  <a:pt x="12446" y="16574"/>
                </a:cubicBezTo>
              </a:path>
              <a:path w="6795" h="1842">
                <a:moveTo>
                  <a:pt x="8795" y="16256"/>
                </a:moveTo>
                <a:cubicBezTo>
                  <a:pt x="8808" y="16295"/>
                  <a:pt x="8859" y="16388"/>
                  <a:pt x="8890" y="16446"/>
                </a:cubicBezTo>
                <a:cubicBezTo>
                  <a:pt x="8964" y="16583"/>
                  <a:pt x="9046" y="16770"/>
                  <a:pt x="9080" y="16923"/>
                </a:cubicBezTo>
                <a:cubicBezTo>
                  <a:pt x="9103" y="17024"/>
                  <a:pt x="9112" y="17140"/>
                  <a:pt x="9144" y="17240"/>
                </a:cubicBezTo>
                <a:cubicBezTo>
                  <a:pt x="9155" y="17261"/>
                  <a:pt x="9165" y="17283"/>
                  <a:pt x="9176" y="17304"/>
                </a:cubicBezTo>
              </a:path>
              <a:path w="6795" h="1842">
                <a:moveTo>
                  <a:pt x="9239" y="16478"/>
                </a:moveTo>
                <a:cubicBezTo>
                  <a:pt x="9177" y="16541"/>
                  <a:pt x="9117" y="16620"/>
                  <a:pt x="9080" y="16700"/>
                </a:cubicBezTo>
                <a:cubicBezTo>
                  <a:pt x="9024" y="16823"/>
                  <a:pt x="8974" y="16934"/>
                  <a:pt x="8858" y="17018"/>
                </a:cubicBezTo>
                <a:cubicBezTo>
                  <a:pt x="8801" y="17060"/>
                  <a:pt x="8751" y="17093"/>
                  <a:pt x="8700" y="17145"/>
                </a:cubicBezTo>
              </a:path>
              <a:path w="6795" h="1842">
                <a:moveTo>
                  <a:pt x="11557" y="16161"/>
                </a:moveTo>
                <a:cubicBezTo>
                  <a:pt x="11628" y="16248"/>
                  <a:pt x="11669" y="16344"/>
                  <a:pt x="11716" y="16446"/>
                </a:cubicBezTo>
                <a:cubicBezTo>
                  <a:pt x="11800" y="16627"/>
                  <a:pt x="11868" y="16801"/>
                  <a:pt x="11938" y="16986"/>
                </a:cubicBezTo>
                <a:cubicBezTo>
                  <a:pt x="11967" y="17064"/>
                  <a:pt x="11996" y="17133"/>
                  <a:pt x="12033" y="17208"/>
                </a:cubicBezTo>
              </a:path>
              <a:path w="6795" h="1842">
                <a:moveTo>
                  <a:pt x="12128" y="16383"/>
                </a:moveTo>
                <a:cubicBezTo>
                  <a:pt x="12065" y="16447"/>
                  <a:pt x="12001" y="16510"/>
                  <a:pt x="11938" y="16574"/>
                </a:cubicBezTo>
                <a:cubicBezTo>
                  <a:pt x="11804" y="16709"/>
                  <a:pt x="11668" y="16808"/>
                  <a:pt x="11525" y="16923"/>
                </a:cubicBezTo>
                <a:cubicBezTo>
                  <a:pt x="11424" y="17024"/>
                  <a:pt x="11388" y="17062"/>
                  <a:pt x="11335" y="17145"/>
                </a:cubicBezTo>
              </a:path>
              <a:path w="6795" h="1842">
                <a:moveTo>
                  <a:pt x="10160" y="16066"/>
                </a:moveTo>
                <a:cubicBezTo>
                  <a:pt x="10217" y="16107"/>
                  <a:pt x="10261" y="16100"/>
                  <a:pt x="10319" y="16129"/>
                </a:cubicBezTo>
                <a:cubicBezTo>
                  <a:pt x="10371" y="16156"/>
                  <a:pt x="10390" y="16220"/>
                  <a:pt x="10414" y="16256"/>
                </a:cubicBezTo>
                <a:cubicBezTo>
                  <a:pt x="10451" y="16312"/>
                  <a:pt x="10463" y="16328"/>
                  <a:pt x="10414" y="16383"/>
                </a:cubicBezTo>
                <a:cubicBezTo>
                  <a:pt x="10364" y="16439"/>
                  <a:pt x="10309" y="16445"/>
                  <a:pt x="10255" y="16478"/>
                </a:cubicBezTo>
                <a:cubicBezTo>
                  <a:pt x="10222" y="16498"/>
                  <a:pt x="10134" y="16510"/>
                  <a:pt x="10192" y="16510"/>
                </a:cubicBezTo>
                <a:cubicBezTo>
                  <a:pt x="10267" y="16510"/>
                  <a:pt x="10306" y="16556"/>
                  <a:pt x="10350" y="16605"/>
                </a:cubicBezTo>
                <a:cubicBezTo>
                  <a:pt x="10407" y="16668"/>
                  <a:pt x="10441" y="16742"/>
                  <a:pt x="10446" y="16828"/>
                </a:cubicBezTo>
                <a:cubicBezTo>
                  <a:pt x="10450" y="16898"/>
                  <a:pt x="10420" y="16946"/>
                  <a:pt x="10350" y="16954"/>
                </a:cubicBezTo>
                <a:cubicBezTo>
                  <a:pt x="10275" y="16962"/>
                  <a:pt x="10249" y="16941"/>
                  <a:pt x="10192" y="16923"/>
                </a:cubicBezTo>
                <a:cubicBezTo>
                  <a:pt x="10151" y="16910"/>
                  <a:pt x="10058" y="16910"/>
                  <a:pt x="10096" y="16891"/>
                </a:cubicBezTo>
                <a:cubicBezTo>
                  <a:pt x="10107" y="16891"/>
                  <a:pt x="10117" y="16891"/>
                  <a:pt x="10128" y="16891"/>
                </a:cubicBezTo>
              </a:path>
              <a:path w="6795" h="1842">
                <a:moveTo>
                  <a:pt x="13303" y="16320"/>
                </a:moveTo>
                <a:cubicBezTo>
                  <a:pt x="13353" y="16332"/>
                  <a:pt x="13409" y="16335"/>
                  <a:pt x="13462" y="16351"/>
                </a:cubicBezTo>
                <a:cubicBezTo>
                  <a:pt x="13547" y="16376"/>
                  <a:pt x="13633" y="16360"/>
                  <a:pt x="13716" y="16383"/>
                </a:cubicBezTo>
                <a:cubicBezTo>
                  <a:pt x="13768" y="16409"/>
                  <a:pt x="13789" y="16406"/>
                  <a:pt x="13780" y="16446"/>
                </a:cubicBezTo>
                <a:cubicBezTo>
                  <a:pt x="13759" y="16499"/>
                  <a:pt x="13709" y="16569"/>
                  <a:pt x="13652" y="16605"/>
                </a:cubicBezTo>
                <a:cubicBezTo>
                  <a:pt x="13571" y="16657"/>
                  <a:pt x="13502" y="16698"/>
                  <a:pt x="13430" y="16764"/>
                </a:cubicBezTo>
                <a:cubicBezTo>
                  <a:pt x="13389" y="16802"/>
                  <a:pt x="13341" y="16837"/>
                  <a:pt x="13335" y="16891"/>
                </a:cubicBezTo>
                <a:cubicBezTo>
                  <a:pt x="13327" y="16963"/>
                  <a:pt x="13409" y="17016"/>
                  <a:pt x="13462" y="17050"/>
                </a:cubicBezTo>
                <a:cubicBezTo>
                  <a:pt x="13545" y="17104"/>
                  <a:pt x="13630" y="17116"/>
                  <a:pt x="13716" y="17145"/>
                </a:cubicBezTo>
                <a:cubicBezTo>
                  <a:pt x="13800" y="17173"/>
                  <a:pt x="13786" y="17177"/>
                  <a:pt x="13875" y="17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17"/>
          <p:cNvSpPr/>
          <p:nvPr/>
        </p:nvSpPr>
        <p:spPr>
          <a:xfrm>
            <a:off x="2332080" y="5864400"/>
            <a:ext cx="1646280" cy="982440"/>
          </a:xfrm>
          <a:custGeom>
            <a:avLst/>
            <a:gdLst/>
            <a:ahLst/>
            <a:rect l="l" t="t" r="r" b="b"/>
            <a:pathLst>
              <a:path w="4573" h="2731">
                <a:moveTo>
                  <a:pt x="10382" y="17462"/>
                </a:moveTo>
                <a:cubicBezTo>
                  <a:pt x="10454" y="17392"/>
                  <a:pt x="10434" y="17406"/>
                  <a:pt x="10509" y="17431"/>
                </a:cubicBezTo>
                <a:cubicBezTo>
                  <a:pt x="10537" y="17440"/>
                  <a:pt x="10567" y="17480"/>
                  <a:pt x="10541" y="17526"/>
                </a:cubicBezTo>
                <a:cubicBezTo>
                  <a:pt x="10517" y="17569"/>
                  <a:pt x="10428" y="17599"/>
                  <a:pt x="10414" y="17621"/>
                </a:cubicBezTo>
                <a:cubicBezTo>
                  <a:pt x="10414" y="17653"/>
                  <a:pt x="10414" y="17664"/>
                  <a:pt x="10382" y="17653"/>
                </a:cubicBezTo>
                <a:cubicBezTo>
                  <a:pt x="10431" y="17616"/>
                  <a:pt x="10447" y="17621"/>
                  <a:pt x="10509" y="17621"/>
                </a:cubicBezTo>
                <a:cubicBezTo>
                  <a:pt x="10555" y="17621"/>
                  <a:pt x="10600" y="17649"/>
                  <a:pt x="10604" y="17685"/>
                </a:cubicBezTo>
                <a:cubicBezTo>
                  <a:pt x="10609" y="17726"/>
                  <a:pt x="10616" y="17790"/>
                  <a:pt x="10573" y="17812"/>
                </a:cubicBezTo>
                <a:cubicBezTo>
                  <a:pt x="10549" y="17824"/>
                  <a:pt x="10481" y="17863"/>
                  <a:pt x="10446" y="17844"/>
                </a:cubicBezTo>
                <a:cubicBezTo>
                  <a:pt x="10401" y="17819"/>
                  <a:pt x="10394" y="17816"/>
                  <a:pt x="10382" y="17780"/>
                </a:cubicBezTo>
              </a:path>
              <a:path w="4573" h="2731">
                <a:moveTo>
                  <a:pt x="10700" y="17526"/>
                </a:moveTo>
                <a:cubicBezTo>
                  <a:pt x="10714" y="17583"/>
                  <a:pt x="10752" y="17638"/>
                  <a:pt x="10795" y="17685"/>
                </a:cubicBezTo>
                <a:cubicBezTo>
                  <a:pt x="10834" y="17728"/>
                  <a:pt x="10845" y="17766"/>
                  <a:pt x="10890" y="17812"/>
                </a:cubicBezTo>
              </a:path>
              <a:path w="4573" h="2731">
                <a:moveTo>
                  <a:pt x="10922" y="17590"/>
                </a:moveTo>
                <a:cubicBezTo>
                  <a:pt x="10860" y="17605"/>
                  <a:pt x="10849" y="17651"/>
                  <a:pt x="10795" y="17685"/>
                </a:cubicBezTo>
                <a:cubicBezTo>
                  <a:pt x="10720" y="17733"/>
                  <a:pt x="10683" y="17797"/>
                  <a:pt x="10604" y="17844"/>
                </a:cubicBezTo>
                <a:cubicBezTo>
                  <a:pt x="10583" y="17854"/>
                  <a:pt x="10562" y="17865"/>
                  <a:pt x="10541" y="17875"/>
                </a:cubicBezTo>
              </a:path>
              <a:path w="4573" h="2731">
                <a:moveTo>
                  <a:pt x="10287" y="18066"/>
                </a:moveTo>
                <a:cubicBezTo>
                  <a:pt x="10311" y="18048"/>
                  <a:pt x="10381" y="17987"/>
                  <a:pt x="10414" y="18002"/>
                </a:cubicBezTo>
                <a:cubicBezTo>
                  <a:pt x="10441" y="18014"/>
                  <a:pt x="10529" y="18053"/>
                  <a:pt x="10509" y="18098"/>
                </a:cubicBezTo>
                <a:cubicBezTo>
                  <a:pt x="10488" y="18146"/>
                  <a:pt x="10454" y="18184"/>
                  <a:pt x="10414" y="18224"/>
                </a:cubicBezTo>
                <a:cubicBezTo>
                  <a:pt x="10374" y="18263"/>
                  <a:pt x="10247" y="18281"/>
                  <a:pt x="10287" y="18320"/>
                </a:cubicBezTo>
                <a:cubicBezTo>
                  <a:pt x="10314" y="18346"/>
                  <a:pt x="10500" y="18320"/>
                  <a:pt x="10541" y="18320"/>
                </a:cubicBezTo>
              </a:path>
              <a:path w="4573" h="2731">
                <a:moveTo>
                  <a:pt x="10604" y="18034"/>
                </a:moveTo>
                <a:cubicBezTo>
                  <a:pt x="10604" y="18102"/>
                  <a:pt x="10619" y="18112"/>
                  <a:pt x="10668" y="18161"/>
                </a:cubicBezTo>
                <a:cubicBezTo>
                  <a:pt x="10701" y="18194"/>
                  <a:pt x="10778" y="18221"/>
                  <a:pt x="10795" y="18256"/>
                </a:cubicBezTo>
                <a:cubicBezTo>
                  <a:pt x="10795" y="18267"/>
                  <a:pt x="10795" y="18277"/>
                  <a:pt x="10795" y="18288"/>
                </a:cubicBezTo>
              </a:path>
              <a:path w="4573" h="2731">
                <a:moveTo>
                  <a:pt x="10763" y="18098"/>
                </a:moveTo>
                <a:cubicBezTo>
                  <a:pt x="10750" y="18151"/>
                  <a:pt x="10727" y="18178"/>
                  <a:pt x="10700" y="18224"/>
                </a:cubicBezTo>
                <a:cubicBezTo>
                  <a:pt x="10654" y="18304"/>
                  <a:pt x="10653" y="18306"/>
                  <a:pt x="10573" y="18352"/>
                </a:cubicBezTo>
              </a:path>
              <a:path w="4573" h="2731">
                <a:moveTo>
                  <a:pt x="9906" y="18574"/>
                </a:moveTo>
                <a:cubicBezTo>
                  <a:pt x="10050" y="18574"/>
                  <a:pt x="10180" y="18558"/>
                  <a:pt x="10319" y="18542"/>
                </a:cubicBezTo>
                <a:cubicBezTo>
                  <a:pt x="10491" y="18523"/>
                  <a:pt x="10662" y="18551"/>
                  <a:pt x="10827" y="18574"/>
                </a:cubicBezTo>
                <a:cubicBezTo>
                  <a:pt x="10896" y="18584"/>
                  <a:pt x="10980" y="18574"/>
                  <a:pt x="11049" y="18574"/>
                </a:cubicBezTo>
              </a:path>
              <a:path w="4573" h="2731">
                <a:moveTo>
                  <a:pt x="10509" y="18701"/>
                </a:moveTo>
                <a:cubicBezTo>
                  <a:pt x="10460" y="18713"/>
                  <a:pt x="10438" y="18732"/>
                  <a:pt x="10382" y="18732"/>
                </a:cubicBezTo>
                <a:cubicBezTo>
                  <a:pt x="10332" y="18732"/>
                  <a:pt x="10312" y="18701"/>
                  <a:pt x="10255" y="18701"/>
                </a:cubicBezTo>
                <a:cubicBezTo>
                  <a:pt x="10267" y="18717"/>
                  <a:pt x="10320" y="18801"/>
                  <a:pt x="10287" y="18828"/>
                </a:cubicBezTo>
                <a:cubicBezTo>
                  <a:pt x="10255" y="18828"/>
                  <a:pt x="10244" y="18828"/>
                  <a:pt x="10255" y="18860"/>
                </a:cubicBezTo>
                <a:cubicBezTo>
                  <a:pt x="10299" y="18845"/>
                  <a:pt x="10294" y="18815"/>
                  <a:pt x="10350" y="18796"/>
                </a:cubicBezTo>
                <a:cubicBezTo>
                  <a:pt x="10393" y="18782"/>
                  <a:pt x="10479" y="18810"/>
                  <a:pt x="10509" y="18828"/>
                </a:cubicBezTo>
                <a:cubicBezTo>
                  <a:pt x="10640" y="18907"/>
                  <a:pt x="10435" y="19023"/>
                  <a:pt x="10287" y="18986"/>
                </a:cubicBezTo>
              </a:path>
              <a:path w="4573" h="2731">
                <a:moveTo>
                  <a:pt x="10604" y="18796"/>
                </a:moveTo>
                <a:cubicBezTo>
                  <a:pt x="10618" y="18839"/>
                  <a:pt x="10633" y="18841"/>
                  <a:pt x="10668" y="18891"/>
                </a:cubicBezTo>
                <a:cubicBezTo>
                  <a:pt x="10734" y="18989"/>
                  <a:pt x="10759" y="19021"/>
                  <a:pt x="10858" y="18986"/>
                </a:cubicBezTo>
              </a:path>
              <a:path w="4573" h="2731">
                <a:moveTo>
                  <a:pt x="10795" y="18828"/>
                </a:moveTo>
                <a:cubicBezTo>
                  <a:pt x="8035" y="17869"/>
                  <a:pt x="-1453" y="-20901"/>
                  <a:pt x="6477" y="16923"/>
                </a:cubicBezTo>
              </a:path>
              <a:path w="4573" h="2731">
                <a:moveTo>
                  <a:pt x="6604" y="17145"/>
                </a:moveTo>
                <a:cubicBezTo>
                  <a:pt x="6612" y="17178"/>
                  <a:pt x="6654" y="17233"/>
                  <a:pt x="6668" y="17240"/>
                </a:cubicBezTo>
                <a:cubicBezTo>
                  <a:pt x="6728" y="17271"/>
                  <a:pt x="6813" y="17223"/>
                  <a:pt x="6858" y="17208"/>
                </a:cubicBezTo>
                <a:cubicBezTo>
                  <a:pt x="6928" y="17185"/>
                  <a:pt x="7001" y="17054"/>
                  <a:pt x="7048" y="16986"/>
                </a:cubicBezTo>
                <a:cubicBezTo>
                  <a:pt x="7179" y="16797"/>
                  <a:pt x="7314" y="16621"/>
                  <a:pt x="7461" y="16446"/>
                </a:cubicBezTo>
                <a:cubicBezTo>
                  <a:pt x="7503" y="16393"/>
                  <a:pt x="7546" y="16341"/>
                  <a:pt x="7588" y="16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01b/c: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Prep Goal 1.01b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2635200"/>
                <a:ext cx="6477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392120" y="4495680"/>
                <a:ext cx="65898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Ink 6"/>
          <p:cNvSpPr/>
          <p:nvPr/>
        </p:nvSpPr>
        <p:spPr>
          <a:xfrm>
            <a:off x="6343560" y="1177920"/>
            <a:ext cx="1760760" cy="446040"/>
          </a:xfrm>
          <a:custGeom>
            <a:avLst/>
            <a:gdLst/>
            <a:ahLst/>
            <a:rect l="l" t="t" r="r" b="b"/>
            <a:pathLst>
              <a:path w="4891" h="1239">
                <a:moveTo>
                  <a:pt x="17716" y="3334"/>
                </a:moveTo>
                <a:cubicBezTo>
                  <a:pt x="17716" y="3498"/>
                  <a:pt x="17704" y="3655"/>
                  <a:pt x="17685" y="3810"/>
                </a:cubicBezTo>
                <a:cubicBezTo>
                  <a:pt x="17669" y="3939"/>
                  <a:pt x="17674" y="4067"/>
                  <a:pt x="17653" y="4191"/>
                </a:cubicBezTo>
                <a:cubicBezTo>
                  <a:pt x="17642" y="4259"/>
                  <a:pt x="17680" y="4298"/>
                  <a:pt x="17621" y="4318"/>
                </a:cubicBezTo>
                <a:cubicBezTo>
                  <a:pt x="17633" y="4283"/>
                  <a:pt x="17645" y="4259"/>
                  <a:pt x="17685" y="4254"/>
                </a:cubicBezTo>
                <a:cubicBezTo>
                  <a:pt x="17738" y="4247"/>
                  <a:pt x="17768" y="4303"/>
                  <a:pt x="17812" y="4318"/>
                </a:cubicBezTo>
                <a:cubicBezTo>
                  <a:pt x="17865" y="4336"/>
                  <a:pt x="17923" y="4366"/>
                  <a:pt x="17970" y="4382"/>
                </a:cubicBezTo>
                <a:cubicBezTo>
                  <a:pt x="18014" y="4397"/>
                  <a:pt x="18084" y="4409"/>
                  <a:pt x="18129" y="4413"/>
                </a:cubicBezTo>
                <a:cubicBezTo>
                  <a:pt x="18181" y="4418"/>
                  <a:pt x="18184" y="4412"/>
                  <a:pt x="18224" y="4382"/>
                </a:cubicBezTo>
              </a:path>
              <a:path w="4891" h="1239">
                <a:moveTo>
                  <a:pt x="18224" y="3651"/>
                </a:moveTo>
                <a:cubicBezTo>
                  <a:pt x="18236" y="3701"/>
                  <a:pt x="18256" y="3721"/>
                  <a:pt x="18256" y="3778"/>
                </a:cubicBezTo>
                <a:cubicBezTo>
                  <a:pt x="18256" y="3912"/>
                  <a:pt x="18282" y="4028"/>
                  <a:pt x="18288" y="4159"/>
                </a:cubicBezTo>
                <a:cubicBezTo>
                  <a:pt x="18292" y="4251"/>
                  <a:pt x="18315" y="4324"/>
                  <a:pt x="18320" y="4413"/>
                </a:cubicBezTo>
                <a:cubicBezTo>
                  <a:pt x="18320" y="4471"/>
                  <a:pt x="18325" y="4487"/>
                  <a:pt x="18288" y="4508"/>
                </a:cubicBezTo>
              </a:path>
              <a:path w="4891" h="1239">
                <a:moveTo>
                  <a:pt x="18542" y="3715"/>
                </a:moveTo>
                <a:cubicBezTo>
                  <a:pt x="18594" y="3732"/>
                  <a:pt x="18574" y="3777"/>
                  <a:pt x="18574" y="3842"/>
                </a:cubicBezTo>
                <a:cubicBezTo>
                  <a:pt x="18574" y="4007"/>
                  <a:pt x="18577" y="4173"/>
                  <a:pt x="18606" y="4318"/>
                </a:cubicBezTo>
                <a:cubicBezTo>
                  <a:pt x="18639" y="4482"/>
                  <a:pt x="18580" y="4244"/>
                  <a:pt x="18574" y="4223"/>
                </a:cubicBezTo>
                <a:cubicBezTo>
                  <a:pt x="18546" y="4122"/>
                  <a:pt x="18516" y="3982"/>
                  <a:pt x="18542" y="3874"/>
                </a:cubicBezTo>
                <a:cubicBezTo>
                  <a:pt x="18561" y="3793"/>
                  <a:pt x="18579" y="3742"/>
                  <a:pt x="18637" y="3683"/>
                </a:cubicBezTo>
                <a:cubicBezTo>
                  <a:pt x="18666" y="3654"/>
                  <a:pt x="18672" y="3643"/>
                  <a:pt x="18701" y="3651"/>
                </a:cubicBezTo>
                <a:cubicBezTo>
                  <a:pt x="18776" y="3670"/>
                  <a:pt x="18769" y="3712"/>
                  <a:pt x="18796" y="3778"/>
                </a:cubicBezTo>
                <a:cubicBezTo>
                  <a:pt x="18833" y="3871"/>
                  <a:pt x="18845" y="3995"/>
                  <a:pt x="18860" y="4096"/>
                </a:cubicBezTo>
                <a:cubicBezTo>
                  <a:pt x="18870" y="4166"/>
                  <a:pt x="18828" y="4296"/>
                  <a:pt x="18891" y="4318"/>
                </a:cubicBezTo>
              </a:path>
              <a:path w="4891" h="1239">
                <a:moveTo>
                  <a:pt x="19114" y="3937"/>
                </a:moveTo>
                <a:cubicBezTo>
                  <a:pt x="19221" y="3937"/>
                  <a:pt x="19309" y="3935"/>
                  <a:pt x="19399" y="3905"/>
                </a:cubicBezTo>
                <a:cubicBezTo>
                  <a:pt x="19423" y="3897"/>
                  <a:pt x="19468" y="3905"/>
                  <a:pt x="19494" y="3905"/>
                </a:cubicBezTo>
                <a:cubicBezTo>
                  <a:pt x="19480" y="3848"/>
                  <a:pt x="19441" y="3793"/>
                  <a:pt x="19399" y="3746"/>
                </a:cubicBezTo>
                <a:cubicBezTo>
                  <a:pt x="19367" y="3711"/>
                  <a:pt x="19286" y="3692"/>
                  <a:pt x="19240" y="3715"/>
                </a:cubicBezTo>
                <a:cubicBezTo>
                  <a:pt x="19194" y="3738"/>
                  <a:pt x="19125" y="3827"/>
                  <a:pt x="19114" y="3874"/>
                </a:cubicBezTo>
                <a:cubicBezTo>
                  <a:pt x="19092" y="3968"/>
                  <a:pt x="19107" y="4107"/>
                  <a:pt x="19145" y="4191"/>
                </a:cubicBezTo>
                <a:cubicBezTo>
                  <a:pt x="19193" y="4299"/>
                  <a:pt x="19255" y="4278"/>
                  <a:pt x="19336" y="4318"/>
                </a:cubicBezTo>
                <a:cubicBezTo>
                  <a:pt x="19414" y="4357"/>
                  <a:pt x="19448" y="4360"/>
                  <a:pt x="19526" y="4318"/>
                </a:cubicBezTo>
                <a:cubicBezTo>
                  <a:pt x="19590" y="4286"/>
                  <a:pt x="19611" y="4276"/>
                  <a:pt x="19653" y="4254"/>
                </a:cubicBezTo>
              </a:path>
              <a:path w="4891" h="1239">
                <a:moveTo>
                  <a:pt x="20288" y="3270"/>
                </a:moveTo>
                <a:cubicBezTo>
                  <a:pt x="20288" y="3382"/>
                  <a:pt x="20259" y="3477"/>
                  <a:pt x="20256" y="3588"/>
                </a:cubicBezTo>
                <a:cubicBezTo>
                  <a:pt x="20247" y="3884"/>
                  <a:pt x="20256" y="4181"/>
                  <a:pt x="20256" y="4477"/>
                </a:cubicBezTo>
              </a:path>
              <a:path w="4891" h="1239">
                <a:moveTo>
                  <a:pt x="20002" y="3969"/>
                </a:moveTo>
                <a:cubicBezTo>
                  <a:pt x="20130" y="3969"/>
                  <a:pt x="20268" y="3989"/>
                  <a:pt x="20384" y="3937"/>
                </a:cubicBezTo>
                <a:cubicBezTo>
                  <a:pt x="20470" y="3899"/>
                  <a:pt x="20523" y="3850"/>
                  <a:pt x="20574" y="3778"/>
                </a:cubicBezTo>
              </a:path>
              <a:path w="4891" h="1239">
                <a:moveTo>
                  <a:pt x="20638" y="3334"/>
                </a:moveTo>
                <a:cubicBezTo>
                  <a:pt x="20638" y="3529"/>
                  <a:pt x="20651" y="3716"/>
                  <a:pt x="20669" y="3905"/>
                </a:cubicBezTo>
                <a:cubicBezTo>
                  <a:pt x="20682" y="4040"/>
                  <a:pt x="20669" y="4182"/>
                  <a:pt x="20669" y="4318"/>
                </a:cubicBezTo>
                <a:cubicBezTo>
                  <a:pt x="20669" y="4482"/>
                  <a:pt x="20664" y="4251"/>
                  <a:pt x="20669" y="4223"/>
                </a:cubicBezTo>
                <a:cubicBezTo>
                  <a:pt x="20694" y="4082"/>
                  <a:pt x="20676" y="3909"/>
                  <a:pt x="20733" y="3778"/>
                </a:cubicBezTo>
                <a:cubicBezTo>
                  <a:pt x="20762" y="3712"/>
                  <a:pt x="20792" y="3683"/>
                  <a:pt x="20860" y="3683"/>
                </a:cubicBezTo>
                <a:cubicBezTo>
                  <a:pt x="20893" y="3791"/>
                  <a:pt x="20919" y="3886"/>
                  <a:pt x="20923" y="4000"/>
                </a:cubicBezTo>
                <a:cubicBezTo>
                  <a:pt x="20927" y="4124"/>
                  <a:pt x="20900" y="4230"/>
                  <a:pt x="20892" y="4350"/>
                </a:cubicBezTo>
                <a:cubicBezTo>
                  <a:pt x="20889" y="4390"/>
                  <a:pt x="20914" y="4408"/>
                  <a:pt x="20923" y="4445"/>
                </a:cubicBezTo>
              </a:path>
              <a:path w="4891" h="1239">
                <a:moveTo>
                  <a:pt x="21177" y="4000"/>
                </a:moveTo>
                <a:lnTo>
                  <a:pt x="21177" y="4000"/>
                </a:lnTo>
              </a:path>
              <a:path w="4891" h="1239">
                <a:moveTo>
                  <a:pt x="21336" y="4032"/>
                </a:moveTo>
                <a:cubicBezTo>
                  <a:pt x="21388" y="4019"/>
                  <a:pt x="21411" y="3982"/>
                  <a:pt x="21463" y="3969"/>
                </a:cubicBezTo>
                <a:cubicBezTo>
                  <a:pt x="21463" y="3916"/>
                  <a:pt x="21463" y="3884"/>
                  <a:pt x="21463" y="3842"/>
                </a:cubicBezTo>
              </a:path>
              <a:path w="4891" h="1239">
                <a:moveTo>
                  <a:pt x="21431" y="3778"/>
                </a:moveTo>
                <a:cubicBezTo>
                  <a:pt x="21370" y="3716"/>
                  <a:pt x="21374" y="3706"/>
                  <a:pt x="21304" y="3746"/>
                </a:cubicBezTo>
                <a:cubicBezTo>
                  <a:pt x="21194" y="3809"/>
                  <a:pt x="21196" y="3853"/>
                  <a:pt x="21146" y="3969"/>
                </a:cubicBezTo>
                <a:cubicBezTo>
                  <a:pt x="21095" y="4089"/>
                  <a:pt x="21105" y="4205"/>
                  <a:pt x="21177" y="4318"/>
                </a:cubicBezTo>
                <a:cubicBezTo>
                  <a:pt x="21204" y="4360"/>
                  <a:pt x="21257" y="4410"/>
                  <a:pt x="21304" y="4413"/>
                </a:cubicBezTo>
                <a:cubicBezTo>
                  <a:pt x="21398" y="4420"/>
                  <a:pt x="21472" y="4362"/>
                  <a:pt x="21526" y="4286"/>
                </a:cubicBezTo>
                <a:cubicBezTo>
                  <a:pt x="21537" y="4265"/>
                  <a:pt x="21547" y="4244"/>
                  <a:pt x="21558" y="4223"/>
                </a:cubicBezTo>
              </a:path>
              <a:path w="4891" h="1239">
                <a:moveTo>
                  <a:pt x="21717" y="3715"/>
                </a:moveTo>
                <a:cubicBezTo>
                  <a:pt x="21697" y="3795"/>
                  <a:pt x="21685" y="3803"/>
                  <a:pt x="21685" y="3905"/>
                </a:cubicBezTo>
                <a:cubicBezTo>
                  <a:pt x="21685" y="4003"/>
                  <a:pt x="21695" y="4158"/>
                  <a:pt x="21717" y="4254"/>
                </a:cubicBezTo>
                <a:cubicBezTo>
                  <a:pt x="21727" y="4299"/>
                  <a:pt x="21810" y="4445"/>
                  <a:pt x="21749" y="4350"/>
                </a:cubicBezTo>
                <a:cubicBezTo>
                  <a:pt x="21749" y="4191"/>
                  <a:pt x="21728" y="4025"/>
                  <a:pt x="21780" y="3874"/>
                </a:cubicBezTo>
                <a:cubicBezTo>
                  <a:pt x="21796" y="3826"/>
                  <a:pt x="21864" y="3708"/>
                  <a:pt x="21908" y="3683"/>
                </a:cubicBezTo>
                <a:cubicBezTo>
                  <a:pt x="21939" y="3683"/>
                  <a:pt x="21950" y="3683"/>
                  <a:pt x="21971" y="3683"/>
                </a:cubicBezTo>
                <a:cubicBezTo>
                  <a:pt x="22004" y="3759"/>
                  <a:pt x="22026" y="3858"/>
                  <a:pt x="22034" y="3937"/>
                </a:cubicBezTo>
                <a:cubicBezTo>
                  <a:pt x="22046" y="4057"/>
                  <a:pt x="21993" y="4221"/>
                  <a:pt x="22066" y="4318"/>
                </a:cubicBezTo>
                <a:cubicBezTo>
                  <a:pt x="22066" y="4138"/>
                  <a:pt x="22042" y="3946"/>
                  <a:pt x="22098" y="3778"/>
                </a:cubicBezTo>
                <a:cubicBezTo>
                  <a:pt x="22128" y="3688"/>
                  <a:pt x="22134" y="3679"/>
                  <a:pt x="22193" y="3620"/>
                </a:cubicBezTo>
                <a:cubicBezTo>
                  <a:pt x="22257" y="3698"/>
                  <a:pt x="22257" y="3743"/>
                  <a:pt x="22257" y="3842"/>
                </a:cubicBezTo>
                <a:cubicBezTo>
                  <a:pt x="22257" y="3962"/>
                  <a:pt x="22259" y="4139"/>
                  <a:pt x="22288" y="4254"/>
                </a:cubicBezTo>
                <a:cubicBezTo>
                  <a:pt x="22298" y="4294"/>
                  <a:pt x="22394" y="4382"/>
                  <a:pt x="22447" y="4350"/>
                </a:cubicBezTo>
                <a:cubicBezTo>
                  <a:pt x="22468" y="4329"/>
                  <a:pt x="22490" y="4307"/>
                  <a:pt x="22511" y="4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7"/>
          <p:cNvSpPr/>
          <p:nvPr/>
        </p:nvSpPr>
        <p:spPr>
          <a:xfrm>
            <a:off x="8298000" y="1279440"/>
            <a:ext cx="457200" cy="470160"/>
          </a:xfrm>
          <a:custGeom>
            <a:avLst/>
            <a:gdLst/>
            <a:ahLst/>
            <a:rect l="l" t="t" r="r" b="b"/>
            <a:pathLst>
              <a:path w="1271" h="1303">
                <a:moveTo>
                  <a:pt x="23082" y="3620"/>
                </a:moveTo>
                <a:cubicBezTo>
                  <a:pt x="23064" y="3686"/>
                  <a:pt x="23053" y="3739"/>
                  <a:pt x="23050" y="3810"/>
                </a:cubicBezTo>
                <a:cubicBezTo>
                  <a:pt x="23044" y="3954"/>
                  <a:pt x="23027" y="4123"/>
                  <a:pt x="23082" y="4254"/>
                </a:cubicBezTo>
                <a:cubicBezTo>
                  <a:pt x="23082" y="4290"/>
                  <a:pt x="23085" y="4304"/>
                  <a:pt x="23114" y="4318"/>
                </a:cubicBezTo>
                <a:cubicBezTo>
                  <a:pt x="23188" y="4307"/>
                  <a:pt x="23179" y="4294"/>
                  <a:pt x="23241" y="4254"/>
                </a:cubicBezTo>
                <a:cubicBezTo>
                  <a:pt x="23359" y="4179"/>
                  <a:pt x="23330" y="4104"/>
                  <a:pt x="23368" y="3969"/>
                </a:cubicBezTo>
                <a:cubicBezTo>
                  <a:pt x="23393" y="3879"/>
                  <a:pt x="23422" y="3806"/>
                  <a:pt x="23432" y="3715"/>
                </a:cubicBezTo>
                <a:cubicBezTo>
                  <a:pt x="23432" y="3860"/>
                  <a:pt x="23444" y="3988"/>
                  <a:pt x="23463" y="4128"/>
                </a:cubicBezTo>
                <a:cubicBezTo>
                  <a:pt x="23472" y="4194"/>
                  <a:pt x="23496" y="4233"/>
                  <a:pt x="23527" y="4286"/>
                </a:cubicBezTo>
                <a:cubicBezTo>
                  <a:pt x="23567" y="4280"/>
                  <a:pt x="23628" y="4280"/>
                  <a:pt x="23654" y="4254"/>
                </a:cubicBezTo>
                <a:cubicBezTo>
                  <a:pt x="23715" y="4194"/>
                  <a:pt x="23754" y="4046"/>
                  <a:pt x="23781" y="3969"/>
                </a:cubicBezTo>
                <a:cubicBezTo>
                  <a:pt x="23815" y="3870"/>
                  <a:pt x="23809" y="3740"/>
                  <a:pt x="23844" y="3651"/>
                </a:cubicBezTo>
                <a:cubicBezTo>
                  <a:pt x="23876" y="3620"/>
                  <a:pt x="23887" y="3609"/>
                  <a:pt x="23844" y="3588"/>
                </a:cubicBezTo>
                <a:cubicBezTo>
                  <a:pt x="23844" y="3825"/>
                  <a:pt x="23850" y="4056"/>
                  <a:pt x="23876" y="4286"/>
                </a:cubicBezTo>
                <a:cubicBezTo>
                  <a:pt x="23889" y="4402"/>
                  <a:pt x="23902" y="4522"/>
                  <a:pt x="23908" y="4636"/>
                </a:cubicBezTo>
                <a:cubicBezTo>
                  <a:pt x="23912" y="4710"/>
                  <a:pt x="23908" y="4784"/>
                  <a:pt x="23908" y="4858"/>
                </a:cubicBezTo>
                <a:cubicBezTo>
                  <a:pt x="23886" y="4757"/>
                  <a:pt x="23876" y="4677"/>
                  <a:pt x="23876" y="4572"/>
                </a:cubicBezTo>
                <a:cubicBezTo>
                  <a:pt x="23876" y="4324"/>
                  <a:pt x="23876" y="4083"/>
                  <a:pt x="23908" y="3842"/>
                </a:cubicBezTo>
                <a:cubicBezTo>
                  <a:pt x="23919" y="3762"/>
                  <a:pt x="23911" y="3696"/>
                  <a:pt x="23940" y="3620"/>
                </a:cubicBezTo>
                <a:cubicBezTo>
                  <a:pt x="23940" y="3584"/>
                  <a:pt x="23943" y="3570"/>
                  <a:pt x="23971" y="3556"/>
                </a:cubicBezTo>
                <a:cubicBezTo>
                  <a:pt x="24029" y="3562"/>
                  <a:pt x="24080" y="3539"/>
                  <a:pt x="24130" y="3588"/>
                </a:cubicBezTo>
                <a:cubicBezTo>
                  <a:pt x="24173" y="3631"/>
                  <a:pt x="24226" y="3726"/>
                  <a:pt x="24257" y="3778"/>
                </a:cubicBezTo>
                <a:cubicBezTo>
                  <a:pt x="24308" y="3864"/>
                  <a:pt x="24344" y="3961"/>
                  <a:pt x="24320" y="4064"/>
                </a:cubicBezTo>
                <a:cubicBezTo>
                  <a:pt x="24302" y="4140"/>
                  <a:pt x="24223" y="4187"/>
                  <a:pt x="24162" y="4223"/>
                </a:cubicBezTo>
                <a:cubicBezTo>
                  <a:pt x="24093" y="4264"/>
                  <a:pt x="23987" y="4282"/>
                  <a:pt x="23908" y="4286"/>
                </a:cubicBezTo>
                <a:cubicBezTo>
                  <a:pt x="23866" y="4288"/>
                  <a:pt x="23823" y="4286"/>
                  <a:pt x="23781" y="4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8"/>
          <p:cNvSpPr/>
          <p:nvPr/>
        </p:nvSpPr>
        <p:spPr>
          <a:xfrm>
            <a:off x="3543480" y="3314880"/>
            <a:ext cx="3006720" cy="514080"/>
          </a:xfrm>
          <a:custGeom>
            <a:avLst/>
            <a:gdLst/>
            <a:ahLst/>
            <a:rect l="l" t="t" r="r" b="b"/>
            <a:pathLst>
              <a:path w="8352" h="1429">
                <a:moveTo>
                  <a:pt x="10001" y="9366"/>
                </a:moveTo>
                <a:lnTo>
                  <a:pt x="10001" y="9366"/>
                </a:lnTo>
              </a:path>
              <a:path w="8352" h="1429">
                <a:moveTo>
                  <a:pt x="10001" y="9366"/>
                </a:moveTo>
                <a:lnTo>
                  <a:pt x="10001" y="9366"/>
                </a:lnTo>
              </a:path>
              <a:path w="8352" h="1429">
                <a:moveTo>
                  <a:pt x="9970" y="9462"/>
                </a:moveTo>
                <a:cubicBezTo>
                  <a:pt x="9931" y="9525"/>
                  <a:pt x="9937" y="9590"/>
                  <a:pt x="9906" y="9652"/>
                </a:cubicBezTo>
                <a:cubicBezTo>
                  <a:pt x="9876" y="9711"/>
                  <a:pt x="9847" y="9809"/>
                  <a:pt x="9842" y="9874"/>
                </a:cubicBezTo>
                <a:cubicBezTo>
                  <a:pt x="9832" y="10017"/>
                  <a:pt x="9823" y="9932"/>
                  <a:pt x="9874" y="9906"/>
                </a:cubicBezTo>
                <a:cubicBezTo>
                  <a:pt x="9908" y="9889"/>
                  <a:pt x="9930" y="9897"/>
                  <a:pt x="9970" y="9874"/>
                </a:cubicBezTo>
                <a:cubicBezTo>
                  <a:pt x="10046" y="9831"/>
                  <a:pt x="10049" y="9850"/>
                  <a:pt x="10128" y="9874"/>
                </a:cubicBezTo>
                <a:cubicBezTo>
                  <a:pt x="10182" y="9890"/>
                  <a:pt x="10230" y="9901"/>
                  <a:pt x="10287" y="9906"/>
                </a:cubicBezTo>
                <a:cubicBezTo>
                  <a:pt x="10352" y="9911"/>
                  <a:pt x="10363" y="9891"/>
                  <a:pt x="10414" y="9874"/>
                </a:cubicBezTo>
                <a:cubicBezTo>
                  <a:pt x="10459" y="9874"/>
                  <a:pt x="10481" y="9868"/>
                  <a:pt x="10509" y="9842"/>
                </a:cubicBezTo>
              </a:path>
              <a:path w="8352" h="1429">
                <a:moveTo>
                  <a:pt x="10509" y="9239"/>
                </a:moveTo>
                <a:cubicBezTo>
                  <a:pt x="10492" y="9311"/>
                  <a:pt x="10471" y="9382"/>
                  <a:pt x="10446" y="9462"/>
                </a:cubicBezTo>
                <a:cubicBezTo>
                  <a:pt x="10403" y="9600"/>
                  <a:pt x="10410" y="9735"/>
                  <a:pt x="10382" y="9874"/>
                </a:cubicBezTo>
                <a:cubicBezTo>
                  <a:pt x="10355" y="10009"/>
                  <a:pt x="10379" y="10155"/>
                  <a:pt x="10350" y="10287"/>
                </a:cubicBezTo>
                <a:cubicBezTo>
                  <a:pt x="10332" y="10367"/>
                  <a:pt x="10319" y="10422"/>
                  <a:pt x="10319" y="10509"/>
                </a:cubicBezTo>
                <a:cubicBezTo>
                  <a:pt x="10319" y="10473"/>
                  <a:pt x="10322" y="10460"/>
                  <a:pt x="10350" y="10446"/>
                </a:cubicBezTo>
              </a:path>
              <a:path w="8352" h="1429">
                <a:moveTo>
                  <a:pt x="10827" y="9588"/>
                </a:moveTo>
                <a:cubicBezTo>
                  <a:pt x="10781" y="9611"/>
                  <a:pt x="10846" y="9654"/>
                  <a:pt x="10858" y="9716"/>
                </a:cubicBezTo>
                <a:cubicBezTo>
                  <a:pt x="10878" y="9817"/>
                  <a:pt x="10919" y="9901"/>
                  <a:pt x="10954" y="10001"/>
                </a:cubicBezTo>
                <a:cubicBezTo>
                  <a:pt x="10997" y="10124"/>
                  <a:pt x="11045" y="10214"/>
                  <a:pt x="11112" y="10319"/>
                </a:cubicBezTo>
                <a:cubicBezTo>
                  <a:pt x="11142" y="10366"/>
                  <a:pt x="11183" y="10452"/>
                  <a:pt x="11240" y="10478"/>
                </a:cubicBezTo>
                <a:cubicBezTo>
                  <a:pt x="11276" y="10478"/>
                  <a:pt x="11283" y="10475"/>
                  <a:pt x="11240" y="10446"/>
                </a:cubicBezTo>
              </a:path>
              <a:path w="8352" h="1429">
                <a:moveTo>
                  <a:pt x="11240" y="9652"/>
                </a:moveTo>
                <a:cubicBezTo>
                  <a:pt x="11192" y="9736"/>
                  <a:pt x="11158" y="9821"/>
                  <a:pt x="11112" y="9906"/>
                </a:cubicBezTo>
                <a:cubicBezTo>
                  <a:pt x="11042" y="10036"/>
                  <a:pt x="10961" y="10158"/>
                  <a:pt x="10890" y="10287"/>
                </a:cubicBezTo>
                <a:cubicBezTo>
                  <a:pt x="10839" y="10379"/>
                  <a:pt x="10792" y="10487"/>
                  <a:pt x="10732" y="10573"/>
                </a:cubicBezTo>
                <a:cubicBezTo>
                  <a:pt x="10699" y="10620"/>
                  <a:pt x="10656" y="10636"/>
                  <a:pt x="10700" y="10636"/>
                </a:cubicBezTo>
              </a:path>
              <a:path w="8352" h="1429">
                <a:moveTo>
                  <a:pt x="11589" y="9366"/>
                </a:moveTo>
                <a:cubicBezTo>
                  <a:pt x="11589" y="9327"/>
                  <a:pt x="11599" y="9282"/>
                  <a:pt x="11620" y="9271"/>
                </a:cubicBezTo>
                <a:cubicBezTo>
                  <a:pt x="11662" y="9250"/>
                  <a:pt x="11652" y="9239"/>
                  <a:pt x="11716" y="9239"/>
                </a:cubicBezTo>
                <a:cubicBezTo>
                  <a:pt x="11775" y="9239"/>
                  <a:pt x="11804" y="9237"/>
                  <a:pt x="11811" y="9303"/>
                </a:cubicBezTo>
                <a:cubicBezTo>
                  <a:pt x="11819" y="9378"/>
                  <a:pt x="11771" y="9392"/>
                  <a:pt x="11748" y="9462"/>
                </a:cubicBezTo>
                <a:cubicBezTo>
                  <a:pt x="11738" y="9493"/>
                  <a:pt x="11698" y="9550"/>
                  <a:pt x="11684" y="9557"/>
                </a:cubicBezTo>
                <a:cubicBezTo>
                  <a:pt x="11673" y="9557"/>
                  <a:pt x="11663" y="9557"/>
                  <a:pt x="11652" y="9557"/>
                </a:cubicBezTo>
                <a:cubicBezTo>
                  <a:pt x="11664" y="9520"/>
                  <a:pt x="11696" y="9499"/>
                  <a:pt x="11748" y="9493"/>
                </a:cubicBezTo>
                <a:cubicBezTo>
                  <a:pt x="11799" y="9487"/>
                  <a:pt x="11851" y="9505"/>
                  <a:pt x="11874" y="9557"/>
                </a:cubicBezTo>
                <a:cubicBezTo>
                  <a:pt x="11879" y="9569"/>
                  <a:pt x="11854" y="9697"/>
                  <a:pt x="11843" y="9716"/>
                </a:cubicBezTo>
                <a:cubicBezTo>
                  <a:pt x="11825" y="9749"/>
                  <a:pt x="11748" y="9775"/>
                  <a:pt x="11716" y="9779"/>
                </a:cubicBezTo>
                <a:cubicBezTo>
                  <a:pt x="11689" y="9782"/>
                  <a:pt x="11652" y="9826"/>
                  <a:pt x="11620" y="9779"/>
                </a:cubicBezTo>
                <a:cubicBezTo>
                  <a:pt x="11620" y="9768"/>
                  <a:pt x="11620" y="9758"/>
                  <a:pt x="11620" y="9747"/>
                </a:cubicBezTo>
              </a:path>
              <a:path w="8352" h="1429">
                <a:moveTo>
                  <a:pt x="12256" y="9684"/>
                </a:moveTo>
                <a:cubicBezTo>
                  <a:pt x="12307" y="9753"/>
                  <a:pt x="12261" y="9788"/>
                  <a:pt x="12256" y="9874"/>
                </a:cubicBezTo>
                <a:cubicBezTo>
                  <a:pt x="12251" y="9958"/>
                  <a:pt x="12246" y="10078"/>
                  <a:pt x="12224" y="10160"/>
                </a:cubicBezTo>
                <a:cubicBezTo>
                  <a:pt x="12205" y="10231"/>
                  <a:pt x="12192" y="10275"/>
                  <a:pt x="12192" y="10350"/>
                </a:cubicBezTo>
              </a:path>
              <a:path w="8352" h="1429">
                <a:moveTo>
                  <a:pt x="12033" y="9938"/>
                </a:moveTo>
                <a:cubicBezTo>
                  <a:pt x="12049" y="10001"/>
                  <a:pt x="12064" y="10001"/>
                  <a:pt x="12128" y="10001"/>
                </a:cubicBezTo>
                <a:cubicBezTo>
                  <a:pt x="12213" y="10001"/>
                  <a:pt x="12297" y="10001"/>
                  <a:pt x="12382" y="10001"/>
                </a:cubicBezTo>
              </a:path>
              <a:path w="8352" h="1429">
                <a:moveTo>
                  <a:pt x="12922" y="9557"/>
                </a:moveTo>
                <a:cubicBezTo>
                  <a:pt x="12822" y="9557"/>
                  <a:pt x="12863" y="9593"/>
                  <a:pt x="12795" y="9652"/>
                </a:cubicBezTo>
                <a:cubicBezTo>
                  <a:pt x="12706" y="9729"/>
                  <a:pt x="12677" y="9819"/>
                  <a:pt x="12636" y="9938"/>
                </a:cubicBezTo>
                <a:cubicBezTo>
                  <a:pt x="12597" y="10051"/>
                  <a:pt x="12588" y="10147"/>
                  <a:pt x="12636" y="10255"/>
                </a:cubicBezTo>
                <a:cubicBezTo>
                  <a:pt x="12669" y="10330"/>
                  <a:pt x="12709" y="10376"/>
                  <a:pt x="12795" y="10382"/>
                </a:cubicBezTo>
                <a:cubicBezTo>
                  <a:pt x="12901" y="10389"/>
                  <a:pt x="12941" y="10340"/>
                  <a:pt x="12986" y="10255"/>
                </a:cubicBezTo>
                <a:cubicBezTo>
                  <a:pt x="13046" y="10144"/>
                  <a:pt x="13076" y="10030"/>
                  <a:pt x="13081" y="9906"/>
                </a:cubicBezTo>
                <a:cubicBezTo>
                  <a:pt x="13086" y="9782"/>
                  <a:pt x="13044" y="9726"/>
                  <a:pt x="13018" y="9620"/>
                </a:cubicBezTo>
                <a:cubicBezTo>
                  <a:pt x="13007" y="9577"/>
                  <a:pt x="12984" y="9496"/>
                  <a:pt x="12954" y="9557"/>
                </a:cubicBezTo>
              </a:path>
              <a:path w="8352" h="1429">
                <a:moveTo>
                  <a:pt x="13367" y="9588"/>
                </a:moveTo>
                <a:cubicBezTo>
                  <a:pt x="13406" y="9655"/>
                  <a:pt x="13407" y="9742"/>
                  <a:pt x="13462" y="9811"/>
                </a:cubicBezTo>
                <a:cubicBezTo>
                  <a:pt x="13542" y="9913"/>
                  <a:pt x="13596" y="10011"/>
                  <a:pt x="13652" y="10128"/>
                </a:cubicBezTo>
                <a:cubicBezTo>
                  <a:pt x="13695" y="10218"/>
                  <a:pt x="13781" y="10289"/>
                  <a:pt x="13811" y="10382"/>
                </a:cubicBezTo>
                <a:cubicBezTo>
                  <a:pt x="13820" y="10408"/>
                  <a:pt x="13843" y="10469"/>
                  <a:pt x="13843" y="10414"/>
                </a:cubicBezTo>
                <a:cubicBezTo>
                  <a:pt x="13843" y="10393"/>
                  <a:pt x="13843" y="10371"/>
                  <a:pt x="13843" y="10350"/>
                </a:cubicBezTo>
              </a:path>
              <a:path w="8352" h="1429">
                <a:moveTo>
                  <a:pt x="13811" y="9652"/>
                </a:moveTo>
                <a:cubicBezTo>
                  <a:pt x="13770" y="9708"/>
                  <a:pt x="13755" y="9778"/>
                  <a:pt x="13716" y="9842"/>
                </a:cubicBezTo>
                <a:cubicBezTo>
                  <a:pt x="13656" y="9940"/>
                  <a:pt x="13623" y="10070"/>
                  <a:pt x="13557" y="10160"/>
                </a:cubicBezTo>
                <a:cubicBezTo>
                  <a:pt x="13505" y="10231"/>
                  <a:pt x="13456" y="10316"/>
                  <a:pt x="13398" y="10382"/>
                </a:cubicBezTo>
                <a:cubicBezTo>
                  <a:pt x="13370" y="10413"/>
                  <a:pt x="13367" y="10473"/>
                  <a:pt x="13367" y="10414"/>
                </a:cubicBezTo>
              </a:path>
              <a:path w="8352" h="1429">
                <a:moveTo>
                  <a:pt x="14097" y="9239"/>
                </a:moveTo>
                <a:cubicBezTo>
                  <a:pt x="14113" y="9192"/>
                  <a:pt x="14136" y="9208"/>
                  <a:pt x="14192" y="9208"/>
                </a:cubicBezTo>
                <a:cubicBezTo>
                  <a:pt x="14237" y="9208"/>
                  <a:pt x="14285" y="9235"/>
                  <a:pt x="14288" y="9271"/>
                </a:cubicBezTo>
                <a:cubicBezTo>
                  <a:pt x="14295" y="9358"/>
                  <a:pt x="14280" y="9425"/>
                  <a:pt x="14224" y="9493"/>
                </a:cubicBezTo>
                <a:cubicBezTo>
                  <a:pt x="14189" y="9535"/>
                  <a:pt x="14119" y="9603"/>
                  <a:pt x="14097" y="9652"/>
                </a:cubicBezTo>
                <a:cubicBezTo>
                  <a:pt x="14097" y="9663"/>
                  <a:pt x="14097" y="9673"/>
                  <a:pt x="14097" y="9684"/>
                </a:cubicBezTo>
                <a:cubicBezTo>
                  <a:pt x="14147" y="9671"/>
                  <a:pt x="14167" y="9652"/>
                  <a:pt x="14224" y="9652"/>
                </a:cubicBezTo>
                <a:cubicBezTo>
                  <a:pt x="14245" y="9652"/>
                  <a:pt x="14331" y="9673"/>
                  <a:pt x="14351" y="9684"/>
                </a:cubicBezTo>
                <a:cubicBezTo>
                  <a:pt x="14380" y="9713"/>
                  <a:pt x="14386" y="9723"/>
                  <a:pt x="14414" y="9716"/>
                </a:cubicBezTo>
              </a:path>
              <a:path w="8352" h="1429">
                <a:moveTo>
                  <a:pt x="14796" y="9716"/>
                </a:moveTo>
                <a:cubicBezTo>
                  <a:pt x="14796" y="9786"/>
                  <a:pt x="14781" y="9806"/>
                  <a:pt x="14764" y="9874"/>
                </a:cubicBezTo>
                <a:cubicBezTo>
                  <a:pt x="14746" y="9947"/>
                  <a:pt x="14744" y="10054"/>
                  <a:pt x="14732" y="10128"/>
                </a:cubicBezTo>
                <a:cubicBezTo>
                  <a:pt x="14719" y="10208"/>
                  <a:pt x="14732" y="10300"/>
                  <a:pt x="14732" y="10382"/>
                </a:cubicBezTo>
              </a:path>
              <a:path w="8352" h="1429">
                <a:moveTo>
                  <a:pt x="14605" y="9938"/>
                </a:moveTo>
                <a:cubicBezTo>
                  <a:pt x="14712" y="9938"/>
                  <a:pt x="14791" y="9929"/>
                  <a:pt x="14891" y="9906"/>
                </a:cubicBezTo>
                <a:cubicBezTo>
                  <a:pt x="14933" y="9906"/>
                  <a:pt x="14954" y="9906"/>
                  <a:pt x="14986" y="9906"/>
                </a:cubicBezTo>
              </a:path>
              <a:path w="8352" h="1429">
                <a:moveTo>
                  <a:pt x="15208" y="9525"/>
                </a:moveTo>
                <a:cubicBezTo>
                  <a:pt x="15208" y="9473"/>
                  <a:pt x="15211" y="9388"/>
                  <a:pt x="15272" y="9366"/>
                </a:cubicBezTo>
                <a:cubicBezTo>
                  <a:pt x="15315" y="9351"/>
                  <a:pt x="15431" y="9364"/>
                  <a:pt x="15462" y="9398"/>
                </a:cubicBezTo>
                <a:cubicBezTo>
                  <a:pt x="15528" y="9470"/>
                  <a:pt x="15526" y="9563"/>
                  <a:pt x="15526" y="9652"/>
                </a:cubicBezTo>
                <a:cubicBezTo>
                  <a:pt x="15526" y="9773"/>
                  <a:pt x="15469" y="9856"/>
                  <a:pt x="15430" y="9970"/>
                </a:cubicBezTo>
                <a:cubicBezTo>
                  <a:pt x="15394" y="10075"/>
                  <a:pt x="15327" y="10132"/>
                  <a:pt x="15272" y="10224"/>
                </a:cubicBezTo>
                <a:cubicBezTo>
                  <a:pt x="15239" y="10279"/>
                  <a:pt x="15221" y="10306"/>
                  <a:pt x="15176" y="10350"/>
                </a:cubicBezTo>
                <a:cubicBezTo>
                  <a:pt x="15206" y="10340"/>
                  <a:pt x="15237" y="10339"/>
                  <a:pt x="15272" y="10319"/>
                </a:cubicBezTo>
                <a:cubicBezTo>
                  <a:pt x="15314" y="10296"/>
                  <a:pt x="15373" y="10267"/>
                  <a:pt x="15430" y="10287"/>
                </a:cubicBezTo>
                <a:cubicBezTo>
                  <a:pt x="15495" y="10310"/>
                  <a:pt x="15552" y="10343"/>
                  <a:pt x="15621" y="10350"/>
                </a:cubicBezTo>
                <a:cubicBezTo>
                  <a:pt x="15685" y="10356"/>
                  <a:pt x="15731" y="10355"/>
                  <a:pt x="15780" y="10319"/>
                </a:cubicBezTo>
              </a:path>
              <a:path w="8352" h="1429">
                <a:moveTo>
                  <a:pt x="15812" y="9652"/>
                </a:moveTo>
                <a:cubicBezTo>
                  <a:pt x="15852" y="9707"/>
                  <a:pt x="15874" y="9776"/>
                  <a:pt x="15907" y="9842"/>
                </a:cubicBezTo>
                <a:cubicBezTo>
                  <a:pt x="15959" y="9948"/>
                  <a:pt x="15992" y="10065"/>
                  <a:pt x="16066" y="10160"/>
                </a:cubicBezTo>
                <a:cubicBezTo>
                  <a:pt x="16129" y="10240"/>
                  <a:pt x="16183" y="10285"/>
                  <a:pt x="16256" y="10350"/>
                </a:cubicBezTo>
                <a:cubicBezTo>
                  <a:pt x="16285" y="10379"/>
                  <a:pt x="16291" y="10390"/>
                  <a:pt x="16320" y="10382"/>
                </a:cubicBezTo>
              </a:path>
              <a:path w="8352" h="1429">
                <a:moveTo>
                  <a:pt x="16256" y="9652"/>
                </a:moveTo>
                <a:cubicBezTo>
                  <a:pt x="16216" y="9722"/>
                  <a:pt x="16178" y="9811"/>
                  <a:pt x="16129" y="9874"/>
                </a:cubicBezTo>
                <a:cubicBezTo>
                  <a:pt x="16059" y="9965"/>
                  <a:pt x="15994" y="10058"/>
                  <a:pt x="15938" y="10160"/>
                </a:cubicBezTo>
                <a:cubicBezTo>
                  <a:pt x="15897" y="10234"/>
                  <a:pt x="15872" y="10290"/>
                  <a:pt x="15812" y="10350"/>
                </a:cubicBezTo>
                <a:cubicBezTo>
                  <a:pt x="15783" y="10379"/>
                  <a:pt x="15772" y="10385"/>
                  <a:pt x="15780" y="10414"/>
                </a:cubicBezTo>
              </a:path>
              <a:path w="8352" h="1429">
                <a:moveTo>
                  <a:pt x="16796" y="9588"/>
                </a:moveTo>
                <a:cubicBezTo>
                  <a:pt x="16796" y="9792"/>
                  <a:pt x="16783" y="9999"/>
                  <a:pt x="16828" y="10192"/>
                </a:cubicBezTo>
                <a:cubicBezTo>
                  <a:pt x="16828" y="10224"/>
                  <a:pt x="16828" y="10234"/>
                  <a:pt x="16828" y="10255"/>
                </a:cubicBezTo>
              </a:path>
              <a:path w="8352" h="1429">
                <a:moveTo>
                  <a:pt x="16637" y="9842"/>
                </a:moveTo>
                <a:cubicBezTo>
                  <a:pt x="16709" y="9856"/>
                  <a:pt x="16786" y="9858"/>
                  <a:pt x="16859" y="9874"/>
                </a:cubicBezTo>
                <a:cubicBezTo>
                  <a:pt x="16982" y="9901"/>
                  <a:pt x="17080" y="9906"/>
                  <a:pt x="17208" y="9906"/>
                </a:cubicBezTo>
              </a:path>
              <a:path w="8352" h="1429">
                <a:moveTo>
                  <a:pt x="17970" y="9303"/>
                </a:moveTo>
                <a:cubicBezTo>
                  <a:pt x="18025" y="9248"/>
                  <a:pt x="17930" y="9285"/>
                  <a:pt x="17875" y="9303"/>
                </a:cubicBezTo>
                <a:cubicBezTo>
                  <a:pt x="17794" y="9329"/>
                  <a:pt x="17740" y="9334"/>
                  <a:pt x="17653" y="9334"/>
                </a:cubicBezTo>
                <a:cubicBezTo>
                  <a:pt x="17600" y="9334"/>
                  <a:pt x="17547" y="9334"/>
                  <a:pt x="17494" y="9334"/>
                </a:cubicBezTo>
                <a:cubicBezTo>
                  <a:pt x="17494" y="9432"/>
                  <a:pt x="17479" y="9508"/>
                  <a:pt x="17462" y="9588"/>
                </a:cubicBezTo>
                <a:cubicBezTo>
                  <a:pt x="17448" y="9655"/>
                  <a:pt x="17450" y="9690"/>
                  <a:pt x="17431" y="9747"/>
                </a:cubicBezTo>
                <a:cubicBezTo>
                  <a:pt x="17431" y="9779"/>
                  <a:pt x="17431" y="9790"/>
                  <a:pt x="17431" y="9811"/>
                </a:cubicBezTo>
                <a:cubicBezTo>
                  <a:pt x="17471" y="9797"/>
                  <a:pt x="17471" y="9731"/>
                  <a:pt x="17526" y="9716"/>
                </a:cubicBezTo>
                <a:cubicBezTo>
                  <a:pt x="17588" y="9699"/>
                  <a:pt x="17676" y="9664"/>
                  <a:pt x="17748" y="9684"/>
                </a:cubicBezTo>
                <a:cubicBezTo>
                  <a:pt x="17842" y="9710"/>
                  <a:pt x="17933" y="9777"/>
                  <a:pt x="18002" y="9842"/>
                </a:cubicBezTo>
                <a:cubicBezTo>
                  <a:pt x="18093" y="9928"/>
                  <a:pt x="18113" y="10017"/>
                  <a:pt x="18161" y="10128"/>
                </a:cubicBezTo>
                <a:cubicBezTo>
                  <a:pt x="18196" y="10210"/>
                  <a:pt x="18199" y="10300"/>
                  <a:pt x="18161" y="10382"/>
                </a:cubicBezTo>
                <a:cubicBezTo>
                  <a:pt x="18128" y="10452"/>
                  <a:pt x="18066" y="10446"/>
                  <a:pt x="18002" y="10446"/>
                </a:cubicBezTo>
                <a:cubicBezTo>
                  <a:pt x="17916" y="10446"/>
                  <a:pt x="17826" y="10440"/>
                  <a:pt x="17748" y="10414"/>
                </a:cubicBezTo>
                <a:cubicBezTo>
                  <a:pt x="17686" y="10393"/>
                  <a:pt x="17643" y="10348"/>
                  <a:pt x="17621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9"/>
          <p:cNvSpPr/>
          <p:nvPr/>
        </p:nvSpPr>
        <p:spPr>
          <a:xfrm>
            <a:off x="3097080" y="3772080"/>
            <a:ext cx="3429000" cy="457200"/>
          </a:xfrm>
          <a:custGeom>
            <a:avLst/>
            <a:gdLst/>
            <a:ahLst/>
            <a:rect l="l" t="t" r="r" b="b"/>
            <a:pathLst>
              <a:path w="9526" h="1271">
                <a:moveTo>
                  <a:pt x="9271" y="10478"/>
                </a:moveTo>
                <a:cubicBezTo>
                  <a:pt x="9312" y="10532"/>
                  <a:pt x="9303" y="10564"/>
                  <a:pt x="9303" y="10636"/>
                </a:cubicBezTo>
                <a:cubicBezTo>
                  <a:pt x="9303" y="10741"/>
                  <a:pt x="9275" y="10819"/>
                  <a:pt x="9271" y="10922"/>
                </a:cubicBezTo>
                <a:cubicBezTo>
                  <a:pt x="9266" y="11054"/>
                  <a:pt x="9244" y="11174"/>
                  <a:pt x="9239" y="11303"/>
                </a:cubicBezTo>
                <a:cubicBezTo>
                  <a:pt x="9235" y="11421"/>
                  <a:pt x="9229" y="11506"/>
                  <a:pt x="9208" y="11620"/>
                </a:cubicBezTo>
                <a:cubicBezTo>
                  <a:pt x="9202" y="11653"/>
                  <a:pt x="9208" y="11838"/>
                  <a:pt x="9208" y="11684"/>
                </a:cubicBezTo>
                <a:cubicBezTo>
                  <a:pt x="9208" y="11340"/>
                  <a:pt x="9297" y="10859"/>
                  <a:pt x="9176" y="10541"/>
                </a:cubicBezTo>
                <a:cubicBezTo>
                  <a:pt x="9176" y="10436"/>
                  <a:pt x="9176" y="10511"/>
                  <a:pt x="9176" y="10573"/>
                </a:cubicBezTo>
                <a:cubicBezTo>
                  <a:pt x="9176" y="10839"/>
                  <a:pt x="9165" y="11111"/>
                  <a:pt x="9208" y="11366"/>
                </a:cubicBezTo>
                <a:cubicBezTo>
                  <a:pt x="9219" y="11429"/>
                  <a:pt x="9239" y="11461"/>
                  <a:pt x="9239" y="11525"/>
                </a:cubicBezTo>
              </a:path>
              <a:path w="9526" h="1271">
                <a:moveTo>
                  <a:pt x="8604" y="10954"/>
                </a:moveTo>
                <a:cubicBezTo>
                  <a:pt x="8673" y="10954"/>
                  <a:pt x="8693" y="10926"/>
                  <a:pt x="8763" y="10922"/>
                </a:cubicBezTo>
                <a:cubicBezTo>
                  <a:pt x="9078" y="10903"/>
                  <a:pt x="9400" y="10922"/>
                  <a:pt x="9716" y="10922"/>
                </a:cubicBezTo>
              </a:path>
              <a:path w="9526" h="1271">
                <a:moveTo>
                  <a:pt x="10255" y="10700"/>
                </a:moveTo>
                <a:cubicBezTo>
                  <a:pt x="10189" y="10717"/>
                  <a:pt x="10202" y="10747"/>
                  <a:pt x="10160" y="10795"/>
                </a:cubicBezTo>
                <a:cubicBezTo>
                  <a:pt x="10102" y="10860"/>
                  <a:pt x="10024" y="10964"/>
                  <a:pt x="10001" y="11049"/>
                </a:cubicBezTo>
                <a:cubicBezTo>
                  <a:pt x="9977" y="11140"/>
                  <a:pt x="9970" y="11239"/>
                  <a:pt x="9970" y="11335"/>
                </a:cubicBezTo>
                <a:cubicBezTo>
                  <a:pt x="9970" y="11440"/>
                  <a:pt x="10021" y="11438"/>
                  <a:pt x="10096" y="11494"/>
                </a:cubicBezTo>
                <a:cubicBezTo>
                  <a:pt x="10168" y="11547"/>
                  <a:pt x="10239" y="11530"/>
                  <a:pt x="10319" y="11494"/>
                </a:cubicBezTo>
                <a:cubicBezTo>
                  <a:pt x="10426" y="11447"/>
                  <a:pt x="10421" y="11368"/>
                  <a:pt x="10446" y="11271"/>
                </a:cubicBezTo>
                <a:cubicBezTo>
                  <a:pt x="10477" y="11152"/>
                  <a:pt x="10463" y="11037"/>
                  <a:pt x="10414" y="10922"/>
                </a:cubicBezTo>
                <a:cubicBezTo>
                  <a:pt x="10383" y="10848"/>
                  <a:pt x="10315" y="10804"/>
                  <a:pt x="10287" y="10763"/>
                </a:cubicBezTo>
                <a:cubicBezTo>
                  <a:pt x="10250" y="10709"/>
                  <a:pt x="10249" y="10744"/>
                  <a:pt x="10287" y="10795"/>
                </a:cubicBezTo>
              </a:path>
              <a:path w="9526" h="1271">
                <a:moveTo>
                  <a:pt x="10668" y="10890"/>
                </a:moveTo>
                <a:cubicBezTo>
                  <a:pt x="10682" y="10945"/>
                  <a:pt x="10721" y="10988"/>
                  <a:pt x="10732" y="11049"/>
                </a:cubicBezTo>
                <a:cubicBezTo>
                  <a:pt x="10749" y="11145"/>
                  <a:pt x="10782" y="11213"/>
                  <a:pt x="10827" y="11303"/>
                </a:cubicBezTo>
                <a:cubicBezTo>
                  <a:pt x="10859" y="11367"/>
                  <a:pt x="10906" y="11432"/>
                  <a:pt x="10922" y="11494"/>
                </a:cubicBezTo>
                <a:cubicBezTo>
                  <a:pt x="10954" y="11494"/>
                  <a:pt x="10965" y="11494"/>
                  <a:pt x="10954" y="11462"/>
                </a:cubicBezTo>
              </a:path>
              <a:path w="9526" h="1271">
                <a:moveTo>
                  <a:pt x="11017" y="10922"/>
                </a:moveTo>
                <a:cubicBezTo>
                  <a:pt x="10977" y="10978"/>
                  <a:pt x="10968" y="11053"/>
                  <a:pt x="10922" y="11112"/>
                </a:cubicBezTo>
                <a:cubicBezTo>
                  <a:pt x="10856" y="11196"/>
                  <a:pt x="10813" y="11328"/>
                  <a:pt x="10732" y="11398"/>
                </a:cubicBezTo>
                <a:cubicBezTo>
                  <a:pt x="10693" y="11432"/>
                  <a:pt x="10632" y="11538"/>
                  <a:pt x="10604" y="11557"/>
                </a:cubicBezTo>
                <a:cubicBezTo>
                  <a:pt x="10573" y="11557"/>
                  <a:pt x="10563" y="11557"/>
                  <a:pt x="10604" y="11557"/>
                </a:cubicBezTo>
              </a:path>
              <a:path w="9526" h="1271">
                <a:moveTo>
                  <a:pt x="11240" y="10636"/>
                </a:moveTo>
                <a:cubicBezTo>
                  <a:pt x="11287" y="10620"/>
                  <a:pt x="11266" y="10604"/>
                  <a:pt x="11335" y="10604"/>
                </a:cubicBezTo>
                <a:cubicBezTo>
                  <a:pt x="11402" y="10604"/>
                  <a:pt x="11402" y="10598"/>
                  <a:pt x="11430" y="10636"/>
                </a:cubicBezTo>
                <a:cubicBezTo>
                  <a:pt x="11457" y="10671"/>
                  <a:pt x="11475" y="10734"/>
                  <a:pt x="11430" y="10763"/>
                </a:cubicBezTo>
                <a:cubicBezTo>
                  <a:pt x="11395" y="10786"/>
                  <a:pt x="11393" y="10795"/>
                  <a:pt x="11335" y="10795"/>
                </a:cubicBezTo>
                <a:cubicBezTo>
                  <a:pt x="11278" y="10795"/>
                  <a:pt x="11333" y="10788"/>
                  <a:pt x="11366" y="10763"/>
                </a:cubicBezTo>
                <a:cubicBezTo>
                  <a:pt x="11387" y="10770"/>
                  <a:pt x="11444" y="10792"/>
                  <a:pt x="11462" y="10827"/>
                </a:cubicBezTo>
                <a:cubicBezTo>
                  <a:pt x="11484" y="10871"/>
                  <a:pt x="11458" y="10874"/>
                  <a:pt x="11494" y="10922"/>
                </a:cubicBezTo>
                <a:cubicBezTo>
                  <a:pt x="11474" y="10949"/>
                  <a:pt x="11434" y="11009"/>
                  <a:pt x="11430" y="11017"/>
                </a:cubicBezTo>
                <a:cubicBezTo>
                  <a:pt x="11422" y="11034"/>
                  <a:pt x="11380" y="11101"/>
                  <a:pt x="11335" y="11081"/>
                </a:cubicBezTo>
                <a:cubicBezTo>
                  <a:pt x="11306" y="11052"/>
                  <a:pt x="11300" y="11041"/>
                  <a:pt x="11271" y="11049"/>
                </a:cubicBezTo>
              </a:path>
              <a:path w="9526" h="1271">
                <a:moveTo>
                  <a:pt x="11970" y="10922"/>
                </a:moveTo>
                <a:cubicBezTo>
                  <a:pt x="11981" y="10922"/>
                  <a:pt x="11991" y="10922"/>
                  <a:pt x="12002" y="10922"/>
                </a:cubicBezTo>
                <a:cubicBezTo>
                  <a:pt x="12002" y="10995"/>
                  <a:pt x="11990" y="11022"/>
                  <a:pt x="11970" y="11081"/>
                </a:cubicBezTo>
                <a:cubicBezTo>
                  <a:pt x="11953" y="11132"/>
                  <a:pt x="11954" y="11193"/>
                  <a:pt x="11938" y="11240"/>
                </a:cubicBezTo>
                <a:cubicBezTo>
                  <a:pt x="11921" y="11291"/>
                  <a:pt x="11935" y="11323"/>
                  <a:pt x="11970" y="11335"/>
                </a:cubicBezTo>
              </a:path>
              <a:path w="9526" h="1271">
                <a:moveTo>
                  <a:pt x="11811" y="11049"/>
                </a:moveTo>
                <a:cubicBezTo>
                  <a:pt x="11828" y="10997"/>
                  <a:pt x="11873" y="11017"/>
                  <a:pt x="11938" y="11017"/>
                </a:cubicBezTo>
                <a:cubicBezTo>
                  <a:pt x="12018" y="11017"/>
                  <a:pt x="12053" y="11043"/>
                  <a:pt x="12128" y="11049"/>
                </a:cubicBezTo>
                <a:cubicBezTo>
                  <a:pt x="12171" y="11049"/>
                  <a:pt x="12192" y="11049"/>
                  <a:pt x="12224" y="11049"/>
                </a:cubicBezTo>
              </a:path>
              <a:path w="9526" h="1271">
                <a:moveTo>
                  <a:pt x="12478" y="10700"/>
                </a:moveTo>
                <a:cubicBezTo>
                  <a:pt x="12543" y="10700"/>
                  <a:pt x="12553" y="10714"/>
                  <a:pt x="12605" y="10732"/>
                </a:cubicBezTo>
                <a:cubicBezTo>
                  <a:pt x="12677" y="10756"/>
                  <a:pt x="12814" y="10750"/>
                  <a:pt x="12890" y="10763"/>
                </a:cubicBezTo>
                <a:cubicBezTo>
                  <a:pt x="12971" y="10777"/>
                  <a:pt x="13007" y="10774"/>
                  <a:pt x="13049" y="10795"/>
                </a:cubicBezTo>
                <a:cubicBezTo>
                  <a:pt x="13105" y="10823"/>
                  <a:pt x="13080" y="10835"/>
                  <a:pt x="13049" y="10890"/>
                </a:cubicBezTo>
                <a:cubicBezTo>
                  <a:pt x="12990" y="10995"/>
                  <a:pt x="12958" y="11101"/>
                  <a:pt x="12922" y="11208"/>
                </a:cubicBezTo>
                <a:cubicBezTo>
                  <a:pt x="12893" y="11295"/>
                  <a:pt x="12842" y="11372"/>
                  <a:pt x="12827" y="11462"/>
                </a:cubicBezTo>
                <a:cubicBezTo>
                  <a:pt x="12825" y="11477"/>
                  <a:pt x="12776" y="11605"/>
                  <a:pt x="12795" y="11620"/>
                </a:cubicBezTo>
                <a:cubicBezTo>
                  <a:pt x="12827" y="11620"/>
                  <a:pt x="12837" y="11620"/>
                  <a:pt x="12827" y="11589"/>
                </a:cubicBezTo>
              </a:path>
              <a:path w="9526" h="1271">
                <a:moveTo>
                  <a:pt x="13272" y="10922"/>
                </a:moveTo>
                <a:cubicBezTo>
                  <a:pt x="13316" y="10982"/>
                  <a:pt x="13311" y="11013"/>
                  <a:pt x="13335" y="11081"/>
                </a:cubicBezTo>
                <a:cubicBezTo>
                  <a:pt x="13366" y="11167"/>
                  <a:pt x="13394" y="11254"/>
                  <a:pt x="13430" y="11335"/>
                </a:cubicBezTo>
                <a:cubicBezTo>
                  <a:pt x="13459" y="11400"/>
                  <a:pt x="13531" y="11434"/>
                  <a:pt x="13557" y="11494"/>
                </a:cubicBezTo>
                <a:cubicBezTo>
                  <a:pt x="13557" y="11525"/>
                  <a:pt x="13557" y="11536"/>
                  <a:pt x="13589" y="11525"/>
                </a:cubicBezTo>
              </a:path>
              <a:path w="9526" h="1271">
                <a:moveTo>
                  <a:pt x="13589" y="10986"/>
                </a:moveTo>
                <a:cubicBezTo>
                  <a:pt x="13541" y="11046"/>
                  <a:pt x="13498" y="11108"/>
                  <a:pt x="13462" y="11176"/>
                </a:cubicBezTo>
                <a:cubicBezTo>
                  <a:pt x="13411" y="11272"/>
                  <a:pt x="13331" y="11324"/>
                  <a:pt x="13272" y="11398"/>
                </a:cubicBezTo>
                <a:cubicBezTo>
                  <a:pt x="13218" y="11466"/>
                  <a:pt x="13169" y="11518"/>
                  <a:pt x="13113" y="11589"/>
                </a:cubicBezTo>
              </a:path>
              <a:path w="9526" h="1271">
                <a:moveTo>
                  <a:pt x="13780" y="10668"/>
                </a:moveTo>
                <a:cubicBezTo>
                  <a:pt x="13812" y="10624"/>
                  <a:pt x="13820" y="10591"/>
                  <a:pt x="13875" y="10573"/>
                </a:cubicBezTo>
                <a:cubicBezTo>
                  <a:pt x="13911" y="10561"/>
                  <a:pt x="13983" y="10567"/>
                  <a:pt x="14002" y="10604"/>
                </a:cubicBezTo>
                <a:cubicBezTo>
                  <a:pt x="14024" y="10647"/>
                  <a:pt x="13995" y="10704"/>
                  <a:pt x="13970" y="10732"/>
                </a:cubicBezTo>
                <a:cubicBezTo>
                  <a:pt x="13944" y="10760"/>
                  <a:pt x="13891" y="10822"/>
                  <a:pt x="13875" y="10858"/>
                </a:cubicBezTo>
                <a:cubicBezTo>
                  <a:pt x="13875" y="10890"/>
                  <a:pt x="13875" y="10901"/>
                  <a:pt x="13843" y="10890"/>
                </a:cubicBezTo>
                <a:cubicBezTo>
                  <a:pt x="13854" y="10924"/>
                  <a:pt x="13867" y="10949"/>
                  <a:pt x="13906" y="10954"/>
                </a:cubicBezTo>
                <a:cubicBezTo>
                  <a:pt x="13958" y="10961"/>
                  <a:pt x="13962" y="10952"/>
                  <a:pt x="14002" y="10922"/>
                </a:cubicBezTo>
                <a:cubicBezTo>
                  <a:pt x="14066" y="10971"/>
                  <a:pt x="14060" y="10939"/>
                  <a:pt x="14129" y="10922"/>
                </a:cubicBezTo>
              </a:path>
              <a:path w="9526" h="1271">
                <a:moveTo>
                  <a:pt x="14383" y="11081"/>
                </a:moveTo>
                <a:cubicBezTo>
                  <a:pt x="14372" y="11081"/>
                  <a:pt x="14362" y="11081"/>
                  <a:pt x="14351" y="11081"/>
                </a:cubicBezTo>
                <a:cubicBezTo>
                  <a:pt x="14510" y="11081"/>
                  <a:pt x="14668" y="11081"/>
                  <a:pt x="14827" y="11081"/>
                </a:cubicBezTo>
              </a:path>
              <a:path w="9526" h="1271">
                <a:moveTo>
                  <a:pt x="15494" y="10668"/>
                </a:moveTo>
                <a:cubicBezTo>
                  <a:pt x="15388" y="10668"/>
                  <a:pt x="15298" y="10666"/>
                  <a:pt x="15208" y="10636"/>
                </a:cubicBezTo>
                <a:cubicBezTo>
                  <a:pt x="15184" y="10628"/>
                  <a:pt x="15138" y="10636"/>
                  <a:pt x="15113" y="10636"/>
                </a:cubicBezTo>
                <a:cubicBezTo>
                  <a:pt x="15113" y="10694"/>
                  <a:pt x="15087" y="10711"/>
                  <a:pt x="15081" y="10763"/>
                </a:cubicBezTo>
                <a:cubicBezTo>
                  <a:pt x="15074" y="10828"/>
                  <a:pt x="15055" y="10855"/>
                  <a:pt x="15050" y="10922"/>
                </a:cubicBezTo>
                <a:cubicBezTo>
                  <a:pt x="15044" y="11000"/>
                  <a:pt x="15025" y="11001"/>
                  <a:pt x="15050" y="11081"/>
                </a:cubicBezTo>
                <a:cubicBezTo>
                  <a:pt x="15058" y="11108"/>
                  <a:pt x="15061" y="11095"/>
                  <a:pt x="15113" y="11049"/>
                </a:cubicBezTo>
                <a:cubicBezTo>
                  <a:pt x="15149" y="11017"/>
                  <a:pt x="15193" y="10991"/>
                  <a:pt x="15240" y="10986"/>
                </a:cubicBezTo>
                <a:cubicBezTo>
                  <a:pt x="15295" y="10980"/>
                  <a:pt x="15385" y="10995"/>
                  <a:pt x="15430" y="11017"/>
                </a:cubicBezTo>
                <a:cubicBezTo>
                  <a:pt x="15498" y="11051"/>
                  <a:pt x="15537" y="11157"/>
                  <a:pt x="15558" y="11208"/>
                </a:cubicBezTo>
                <a:cubicBezTo>
                  <a:pt x="15583" y="11269"/>
                  <a:pt x="15615" y="11361"/>
                  <a:pt x="15589" y="11430"/>
                </a:cubicBezTo>
                <a:cubicBezTo>
                  <a:pt x="15563" y="11498"/>
                  <a:pt x="15475" y="11498"/>
                  <a:pt x="15430" y="11525"/>
                </a:cubicBezTo>
                <a:cubicBezTo>
                  <a:pt x="15349" y="11574"/>
                  <a:pt x="15345" y="11549"/>
                  <a:pt x="15272" y="11525"/>
                </a:cubicBezTo>
                <a:cubicBezTo>
                  <a:pt x="15241" y="11514"/>
                  <a:pt x="15163" y="11522"/>
                  <a:pt x="15145" y="11494"/>
                </a:cubicBezTo>
                <a:cubicBezTo>
                  <a:pt x="15145" y="11483"/>
                  <a:pt x="15145" y="11473"/>
                  <a:pt x="15145" y="11462"/>
                </a:cubicBezTo>
              </a:path>
              <a:path w="9526" h="1271">
                <a:moveTo>
                  <a:pt x="15748" y="10858"/>
                </a:moveTo>
                <a:cubicBezTo>
                  <a:pt x="15763" y="10917"/>
                  <a:pt x="15792" y="10988"/>
                  <a:pt x="15812" y="11049"/>
                </a:cubicBezTo>
                <a:cubicBezTo>
                  <a:pt x="15843" y="11144"/>
                  <a:pt x="15895" y="11245"/>
                  <a:pt x="15938" y="11335"/>
                </a:cubicBezTo>
                <a:cubicBezTo>
                  <a:pt x="15975" y="11413"/>
                  <a:pt x="16045" y="11488"/>
                  <a:pt x="16097" y="11557"/>
                </a:cubicBezTo>
                <a:cubicBezTo>
                  <a:pt x="16132" y="11604"/>
                  <a:pt x="16180" y="11614"/>
                  <a:pt x="16192" y="11589"/>
                </a:cubicBezTo>
              </a:path>
              <a:path w="9526" h="1271">
                <a:moveTo>
                  <a:pt x="16224" y="11081"/>
                </a:moveTo>
                <a:cubicBezTo>
                  <a:pt x="16213" y="11081"/>
                  <a:pt x="16203" y="11081"/>
                  <a:pt x="16192" y="11081"/>
                </a:cubicBezTo>
                <a:cubicBezTo>
                  <a:pt x="16178" y="11138"/>
                  <a:pt x="16118" y="11204"/>
                  <a:pt x="16066" y="11240"/>
                </a:cubicBezTo>
                <a:cubicBezTo>
                  <a:pt x="15983" y="11298"/>
                  <a:pt x="15916" y="11356"/>
                  <a:pt x="15843" y="11430"/>
                </a:cubicBezTo>
                <a:cubicBezTo>
                  <a:pt x="15797" y="11476"/>
                  <a:pt x="15764" y="11490"/>
                  <a:pt x="15716" y="11525"/>
                </a:cubicBezTo>
              </a:path>
              <a:path w="9526" h="1271">
                <a:moveTo>
                  <a:pt x="16954" y="10890"/>
                </a:moveTo>
                <a:cubicBezTo>
                  <a:pt x="16954" y="10960"/>
                  <a:pt x="16927" y="11010"/>
                  <a:pt x="16923" y="11081"/>
                </a:cubicBezTo>
                <a:cubicBezTo>
                  <a:pt x="16919" y="11163"/>
                  <a:pt x="16891" y="11212"/>
                  <a:pt x="16891" y="11303"/>
                </a:cubicBezTo>
                <a:cubicBezTo>
                  <a:pt x="16891" y="11345"/>
                  <a:pt x="16891" y="11388"/>
                  <a:pt x="16891" y="11430"/>
                </a:cubicBezTo>
              </a:path>
              <a:path w="9526" h="1271">
                <a:moveTo>
                  <a:pt x="16732" y="11049"/>
                </a:moveTo>
                <a:cubicBezTo>
                  <a:pt x="16747" y="11094"/>
                  <a:pt x="16799" y="11084"/>
                  <a:pt x="16859" y="11112"/>
                </a:cubicBezTo>
                <a:cubicBezTo>
                  <a:pt x="16918" y="11139"/>
                  <a:pt x="17015" y="11170"/>
                  <a:pt x="17082" y="11144"/>
                </a:cubicBezTo>
                <a:cubicBezTo>
                  <a:pt x="17118" y="11107"/>
                  <a:pt x="17134" y="11097"/>
                  <a:pt x="17177" y="11112"/>
                </a:cubicBezTo>
              </a:path>
              <a:path w="9526" h="1271">
                <a:moveTo>
                  <a:pt x="17462" y="10763"/>
                </a:moveTo>
                <a:cubicBezTo>
                  <a:pt x="17531" y="10746"/>
                  <a:pt x="17542" y="10707"/>
                  <a:pt x="17621" y="10700"/>
                </a:cubicBezTo>
                <a:cubicBezTo>
                  <a:pt x="17697" y="10694"/>
                  <a:pt x="17759" y="10693"/>
                  <a:pt x="17812" y="10700"/>
                </a:cubicBezTo>
                <a:cubicBezTo>
                  <a:pt x="17877" y="10709"/>
                  <a:pt x="17933" y="10677"/>
                  <a:pt x="17939" y="10763"/>
                </a:cubicBezTo>
                <a:cubicBezTo>
                  <a:pt x="17944" y="10836"/>
                  <a:pt x="17894" y="10900"/>
                  <a:pt x="17844" y="10954"/>
                </a:cubicBezTo>
                <a:cubicBezTo>
                  <a:pt x="17775" y="11027"/>
                  <a:pt x="17725" y="11104"/>
                  <a:pt x="17653" y="11176"/>
                </a:cubicBezTo>
                <a:cubicBezTo>
                  <a:pt x="17634" y="11195"/>
                  <a:pt x="17539" y="11326"/>
                  <a:pt x="17526" y="11335"/>
                </a:cubicBezTo>
                <a:cubicBezTo>
                  <a:pt x="17515" y="11335"/>
                  <a:pt x="17505" y="11335"/>
                  <a:pt x="17494" y="11335"/>
                </a:cubicBezTo>
                <a:cubicBezTo>
                  <a:pt x="17598" y="11335"/>
                  <a:pt x="17683" y="11349"/>
                  <a:pt x="17780" y="11366"/>
                </a:cubicBezTo>
                <a:cubicBezTo>
                  <a:pt x="17862" y="11380"/>
                  <a:pt x="17923" y="11410"/>
                  <a:pt x="18002" y="11430"/>
                </a:cubicBezTo>
                <a:cubicBezTo>
                  <a:pt x="18044" y="11441"/>
                  <a:pt x="18086" y="11453"/>
                  <a:pt x="18129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834240" y="4251240"/>
            <a:ext cx="34920" cy="129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9082" y="11843"/>
                </a:moveTo>
                <a:lnTo>
                  <a:pt x="19082" y="11843"/>
                </a:lnTo>
              </a:path>
              <a:path w="97" h="33">
                <a:moveTo>
                  <a:pt x="19082" y="11843"/>
                </a:moveTo>
                <a:cubicBezTo>
                  <a:pt x="19050" y="11832"/>
                  <a:pt x="19018" y="11822"/>
                  <a:pt x="18986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1"/>
          <p:cNvSpPr/>
          <p:nvPr/>
        </p:nvSpPr>
        <p:spPr>
          <a:xfrm>
            <a:off x="3554280" y="4251240"/>
            <a:ext cx="1327320" cy="344520"/>
          </a:xfrm>
          <a:custGeom>
            <a:avLst/>
            <a:gdLst/>
            <a:ahLst/>
            <a:rect l="l" t="t" r="r" b="b"/>
            <a:pathLst>
              <a:path w="3684" h="954">
                <a:moveTo>
                  <a:pt x="10096" y="11843"/>
                </a:moveTo>
                <a:cubicBezTo>
                  <a:pt x="10096" y="11906"/>
                  <a:pt x="10082" y="11919"/>
                  <a:pt x="10065" y="11970"/>
                </a:cubicBezTo>
                <a:cubicBezTo>
                  <a:pt x="10040" y="12046"/>
                  <a:pt x="10015" y="12155"/>
                  <a:pt x="9970" y="12224"/>
                </a:cubicBezTo>
                <a:cubicBezTo>
                  <a:pt x="9957" y="12244"/>
                  <a:pt x="9915" y="12345"/>
                  <a:pt x="9906" y="12351"/>
                </a:cubicBezTo>
                <a:cubicBezTo>
                  <a:pt x="9874" y="12351"/>
                  <a:pt x="9864" y="12351"/>
                  <a:pt x="9874" y="12382"/>
                </a:cubicBezTo>
                <a:cubicBezTo>
                  <a:pt x="9933" y="12382"/>
                  <a:pt x="9956" y="12360"/>
                  <a:pt x="10001" y="12351"/>
                </a:cubicBezTo>
                <a:cubicBezTo>
                  <a:pt x="10068" y="12337"/>
                  <a:pt x="10094" y="12382"/>
                  <a:pt x="10160" y="12382"/>
                </a:cubicBezTo>
                <a:cubicBezTo>
                  <a:pt x="10224" y="12382"/>
                  <a:pt x="10229" y="12364"/>
                  <a:pt x="10255" y="12351"/>
                </a:cubicBezTo>
                <a:cubicBezTo>
                  <a:pt x="10296" y="12331"/>
                  <a:pt x="10282" y="12336"/>
                  <a:pt x="10319" y="12287"/>
                </a:cubicBezTo>
              </a:path>
              <a:path w="3684" h="954">
                <a:moveTo>
                  <a:pt x="10414" y="11811"/>
                </a:moveTo>
                <a:cubicBezTo>
                  <a:pt x="10401" y="11861"/>
                  <a:pt x="10398" y="11916"/>
                  <a:pt x="10382" y="11970"/>
                </a:cubicBezTo>
                <a:cubicBezTo>
                  <a:pt x="10354" y="12063"/>
                  <a:pt x="10343" y="12161"/>
                  <a:pt x="10319" y="12256"/>
                </a:cubicBezTo>
                <a:cubicBezTo>
                  <a:pt x="10287" y="12382"/>
                  <a:pt x="10255" y="12439"/>
                  <a:pt x="10255" y="12573"/>
                </a:cubicBezTo>
                <a:cubicBezTo>
                  <a:pt x="10255" y="12626"/>
                  <a:pt x="10177" y="12676"/>
                  <a:pt x="10224" y="12700"/>
                </a:cubicBezTo>
                <a:cubicBezTo>
                  <a:pt x="10255" y="12700"/>
                  <a:pt x="10266" y="12700"/>
                  <a:pt x="10255" y="12668"/>
                </a:cubicBezTo>
              </a:path>
              <a:path w="3684" h="954">
                <a:moveTo>
                  <a:pt x="10509" y="12160"/>
                </a:moveTo>
                <a:cubicBezTo>
                  <a:pt x="10546" y="12222"/>
                  <a:pt x="10540" y="12280"/>
                  <a:pt x="10573" y="12351"/>
                </a:cubicBezTo>
                <a:cubicBezTo>
                  <a:pt x="10613" y="12437"/>
                  <a:pt x="10610" y="12523"/>
                  <a:pt x="10668" y="12605"/>
                </a:cubicBezTo>
                <a:cubicBezTo>
                  <a:pt x="10683" y="12626"/>
                  <a:pt x="10761" y="12768"/>
                  <a:pt x="10795" y="12764"/>
                </a:cubicBezTo>
                <a:cubicBezTo>
                  <a:pt x="10806" y="12753"/>
                  <a:pt x="10816" y="12743"/>
                  <a:pt x="10827" y="12732"/>
                </a:cubicBezTo>
              </a:path>
              <a:path w="3684" h="954">
                <a:moveTo>
                  <a:pt x="10890" y="12192"/>
                </a:moveTo>
                <a:cubicBezTo>
                  <a:pt x="10879" y="12192"/>
                  <a:pt x="10869" y="12192"/>
                  <a:pt x="10858" y="12192"/>
                </a:cubicBezTo>
                <a:cubicBezTo>
                  <a:pt x="10845" y="12260"/>
                  <a:pt x="10806" y="12325"/>
                  <a:pt x="10763" y="12382"/>
                </a:cubicBezTo>
                <a:cubicBezTo>
                  <a:pt x="10709" y="12455"/>
                  <a:pt x="10624" y="12510"/>
                  <a:pt x="10573" y="12573"/>
                </a:cubicBezTo>
                <a:cubicBezTo>
                  <a:pt x="10527" y="12630"/>
                  <a:pt x="10482" y="12678"/>
                  <a:pt x="10446" y="12732"/>
                </a:cubicBezTo>
                <a:cubicBezTo>
                  <a:pt x="10435" y="12743"/>
                  <a:pt x="10425" y="12753"/>
                  <a:pt x="10414" y="12764"/>
                </a:cubicBezTo>
              </a:path>
              <a:path w="3684" h="954">
                <a:moveTo>
                  <a:pt x="11144" y="11874"/>
                </a:moveTo>
                <a:cubicBezTo>
                  <a:pt x="11197" y="11836"/>
                  <a:pt x="11219" y="11827"/>
                  <a:pt x="11271" y="11874"/>
                </a:cubicBezTo>
                <a:cubicBezTo>
                  <a:pt x="11339" y="11934"/>
                  <a:pt x="11285" y="11942"/>
                  <a:pt x="11271" y="11970"/>
                </a:cubicBezTo>
                <a:cubicBezTo>
                  <a:pt x="11254" y="12004"/>
                  <a:pt x="11253" y="12028"/>
                  <a:pt x="11208" y="12033"/>
                </a:cubicBezTo>
                <a:cubicBezTo>
                  <a:pt x="11164" y="12038"/>
                  <a:pt x="11222" y="12056"/>
                  <a:pt x="11240" y="12065"/>
                </a:cubicBezTo>
                <a:cubicBezTo>
                  <a:pt x="11273" y="12082"/>
                  <a:pt x="11297" y="12105"/>
                  <a:pt x="11303" y="12160"/>
                </a:cubicBezTo>
                <a:cubicBezTo>
                  <a:pt x="11307" y="12200"/>
                  <a:pt x="11290" y="12246"/>
                  <a:pt x="11271" y="12256"/>
                </a:cubicBezTo>
                <a:cubicBezTo>
                  <a:pt x="11209" y="12288"/>
                  <a:pt x="11130" y="12233"/>
                  <a:pt x="11112" y="12224"/>
                </a:cubicBezTo>
                <a:cubicBezTo>
                  <a:pt x="11081" y="12224"/>
                  <a:pt x="11070" y="12224"/>
                  <a:pt x="11081" y="12192"/>
                </a:cubicBezTo>
              </a:path>
              <a:path w="3684" h="954">
                <a:moveTo>
                  <a:pt x="11843" y="12065"/>
                </a:moveTo>
                <a:cubicBezTo>
                  <a:pt x="11843" y="12191"/>
                  <a:pt x="11838" y="12296"/>
                  <a:pt x="11811" y="12414"/>
                </a:cubicBezTo>
                <a:cubicBezTo>
                  <a:pt x="11793" y="12492"/>
                  <a:pt x="11829" y="12538"/>
                  <a:pt x="11779" y="12605"/>
                </a:cubicBezTo>
              </a:path>
              <a:path w="3684" h="954">
                <a:moveTo>
                  <a:pt x="11652" y="12319"/>
                </a:moveTo>
                <a:cubicBezTo>
                  <a:pt x="11703" y="12358"/>
                  <a:pt x="11732" y="12325"/>
                  <a:pt x="11779" y="12351"/>
                </a:cubicBezTo>
                <a:cubicBezTo>
                  <a:pt x="11814" y="12370"/>
                  <a:pt x="11889" y="12408"/>
                  <a:pt x="11938" y="12382"/>
                </a:cubicBezTo>
                <a:cubicBezTo>
                  <a:pt x="11967" y="12354"/>
                  <a:pt x="11973" y="12344"/>
                  <a:pt x="12002" y="12351"/>
                </a:cubicBezTo>
              </a:path>
              <a:path w="3684" h="954">
                <a:moveTo>
                  <a:pt x="12256" y="11938"/>
                </a:moveTo>
                <a:cubicBezTo>
                  <a:pt x="12285" y="11928"/>
                  <a:pt x="12316" y="11926"/>
                  <a:pt x="12351" y="11906"/>
                </a:cubicBezTo>
                <a:cubicBezTo>
                  <a:pt x="12404" y="11876"/>
                  <a:pt x="12413" y="11874"/>
                  <a:pt x="12478" y="11874"/>
                </a:cubicBezTo>
                <a:cubicBezTo>
                  <a:pt x="12552" y="11874"/>
                  <a:pt x="12626" y="11874"/>
                  <a:pt x="12700" y="11874"/>
                </a:cubicBezTo>
                <a:cubicBezTo>
                  <a:pt x="12700" y="11947"/>
                  <a:pt x="12688" y="11974"/>
                  <a:pt x="12668" y="12033"/>
                </a:cubicBezTo>
                <a:cubicBezTo>
                  <a:pt x="12645" y="12100"/>
                  <a:pt x="12637" y="12165"/>
                  <a:pt x="12605" y="12224"/>
                </a:cubicBezTo>
                <a:cubicBezTo>
                  <a:pt x="12560" y="12309"/>
                  <a:pt x="12557" y="12400"/>
                  <a:pt x="12510" y="12478"/>
                </a:cubicBezTo>
                <a:cubicBezTo>
                  <a:pt x="12489" y="12512"/>
                  <a:pt x="12400" y="12602"/>
                  <a:pt x="12414" y="12636"/>
                </a:cubicBezTo>
                <a:cubicBezTo>
                  <a:pt x="12446" y="12636"/>
                  <a:pt x="12456" y="12636"/>
                  <a:pt x="12446" y="12605"/>
                </a:cubicBezTo>
              </a:path>
              <a:path w="3684" h="954">
                <a:moveTo>
                  <a:pt x="12827" y="12128"/>
                </a:moveTo>
                <a:cubicBezTo>
                  <a:pt x="12864" y="12178"/>
                  <a:pt x="12890" y="12227"/>
                  <a:pt x="12922" y="12287"/>
                </a:cubicBezTo>
                <a:cubicBezTo>
                  <a:pt x="12968" y="12374"/>
                  <a:pt x="12989" y="12454"/>
                  <a:pt x="13018" y="12541"/>
                </a:cubicBezTo>
                <a:cubicBezTo>
                  <a:pt x="13029" y="12575"/>
                  <a:pt x="13090" y="12717"/>
                  <a:pt x="13113" y="12732"/>
                </a:cubicBezTo>
                <a:cubicBezTo>
                  <a:pt x="13123" y="12732"/>
                  <a:pt x="13134" y="12732"/>
                  <a:pt x="13144" y="12732"/>
                </a:cubicBezTo>
              </a:path>
              <a:path w="3684" h="954">
                <a:moveTo>
                  <a:pt x="13176" y="12097"/>
                </a:moveTo>
                <a:cubicBezTo>
                  <a:pt x="13084" y="12119"/>
                  <a:pt x="13112" y="12198"/>
                  <a:pt x="13049" y="12256"/>
                </a:cubicBezTo>
                <a:cubicBezTo>
                  <a:pt x="12967" y="12332"/>
                  <a:pt x="12869" y="12416"/>
                  <a:pt x="12795" y="12510"/>
                </a:cubicBezTo>
                <a:cubicBezTo>
                  <a:pt x="12757" y="12559"/>
                  <a:pt x="12693" y="12700"/>
                  <a:pt x="12636" y="12732"/>
                </a:cubicBezTo>
                <a:cubicBezTo>
                  <a:pt x="12626" y="12732"/>
                  <a:pt x="12615" y="12732"/>
                  <a:pt x="12605" y="12732"/>
                </a:cubicBezTo>
              </a:path>
              <a:path w="3684" h="954">
                <a:moveTo>
                  <a:pt x="13335" y="11874"/>
                </a:moveTo>
                <a:cubicBezTo>
                  <a:pt x="13375" y="11844"/>
                  <a:pt x="13390" y="11841"/>
                  <a:pt x="13430" y="11811"/>
                </a:cubicBezTo>
                <a:cubicBezTo>
                  <a:pt x="13456" y="11831"/>
                  <a:pt x="13548" y="11856"/>
                  <a:pt x="13526" y="11906"/>
                </a:cubicBezTo>
                <a:cubicBezTo>
                  <a:pt x="13511" y="11940"/>
                  <a:pt x="13481" y="12005"/>
                  <a:pt x="13462" y="12033"/>
                </a:cubicBezTo>
                <a:cubicBezTo>
                  <a:pt x="13431" y="12079"/>
                  <a:pt x="13375" y="12120"/>
                  <a:pt x="13335" y="12160"/>
                </a:cubicBezTo>
                <a:cubicBezTo>
                  <a:pt x="13351" y="12148"/>
                  <a:pt x="13436" y="12095"/>
                  <a:pt x="13462" y="12128"/>
                </a:cubicBezTo>
                <a:cubicBezTo>
                  <a:pt x="13468" y="12135"/>
                  <a:pt x="13547" y="12205"/>
                  <a:pt x="13557" y="12192"/>
                </a:cubicBezTo>
                <a:cubicBezTo>
                  <a:pt x="13557" y="12181"/>
                  <a:pt x="13557" y="12171"/>
                  <a:pt x="13557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2"/>
          <p:cNvSpPr/>
          <p:nvPr/>
        </p:nvSpPr>
        <p:spPr>
          <a:xfrm>
            <a:off x="5075280" y="4218120"/>
            <a:ext cx="720720" cy="331560"/>
          </a:xfrm>
          <a:custGeom>
            <a:avLst/>
            <a:gdLst/>
            <a:ahLst/>
            <a:rect l="l" t="t" r="r" b="b"/>
            <a:pathLst>
              <a:path w="2001" h="921">
                <a:moveTo>
                  <a:pt x="14097" y="12160"/>
                </a:moveTo>
                <a:cubicBezTo>
                  <a:pt x="14097" y="12149"/>
                  <a:pt x="14097" y="12139"/>
                  <a:pt x="14097" y="12128"/>
                </a:cubicBezTo>
                <a:cubicBezTo>
                  <a:pt x="14231" y="12128"/>
                  <a:pt x="14351" y="12128"/>
                  <a:pt x="14478" y="12097"/>
                </a:cubicBezTo>
                <a:cubicBezTo>
                  <a:pt x="14548" y="12080"/>
                  <a:pt x="14576" y="12111"/>
                  <a:pt x="14637" y="12065"/>
                </a:cubicBezTo>
              </a:path>
              <a:path w="2001" h="921">
                <a:moveTo>
                  <a:pt x="14986" y="11779"/>
                </a:moveTo>
                <a:cubicBezTo>
                  <a:pt x="14998" y="11744"/>
                  <a:pt x="15030" y="11722"/>
                  <a:pt x="15081" y="11716"/>
                </a:cubicBezTo>
                <a:cubicBezTo>
                  <a:pt x="15166" y="11706"/>
                  <a:pt x="15302" y="11697"/>
                  <a:pt x="15367" y="11748"/>
                </a:cubicBezTo>
                <a:cubicBezTo>
                  <a:pt x="15425" y="11794"/>
                  <a:pt x="15408" y="11831"/>
                  <a:pt x="15399" y="11874"/>
                </a:cubicBezTo>
                <a:cubicBezTo>
                  <a:pt x="15389" y="11921"/>
                  <a:pt x="15349" y="11973"/>
                  <a:pt x="15304" y="12002"/>
                </a:cubicBezTo>
                <a:cubicBezTo>
                  <a:pt x="15248" y="12037"/>
                  <a:pt x="15191" y="12039"/>
                  <a:pt x="15145" y="12065"/>
                </a:cubicBezTo>
                <a:cubicBezTo>
                  <a:pt x="15063" y="12111"/>
                  <a:pt x="15083" y="12086"/>
                  <a:pt x="15145" y="12065"/>
                </a:cubicBezTo>
                <a:cubicBezTo>
                  <a:pt x="15196" y="12048"/>
                  <a:pt x="15266" y="12106"/>
                  <a:pt x="15304" y="12128"/>
                </a:cubicBezTo>
                <a:cubicBezTo>
                  <a:pt x="15379" y="12171"/>
                  <a:pt x="15415" y="12208"/>
                  <a:pt x="15430" y="12287"/>
                </a:cubicBezTo>
                <a:cubicBezTo>
                  <a:pt x="15443" y="12355"/>
                  <a:pt x="15426" y="12483"/>
                  <a:pt x="15399" y="12541"/>
                </a:cubicBezTo>
                <a:cubicBezTo>
                  <a:pt x="15373" y="12597"/>
                  <a:pt x="15285" y="12623"/>
                  <a:pt x="15240" y="12636"/>
                </a:cubicBezTo>
                <a:cubicBezTo>
                  <a:pt x="15222" y="12641"/>
                  <a:pt x="15102" y="12617"/>
                  <a:pt x="15081" y="12605"/>
                </a:cubicBezTo>
                <a:cubicBezTo>
                  <a:pt x="15027" y="12574"/>
                  <a:pt x="15018" y="12533"/>
                  <a:pt x="15018" y="12478"/>
                </a:cubicBezTo>
                <a:cubicBezTo>
                  <a:pt x="15018" y="12467"/>
                  <a:pt x="15018" y="12457"/>
                  <a:pt x="15018" y="12446"/>
                </a:cubicBezTo>
              </a:path>
              <a:path w="2001" h="921">
                <a:moveTo>
                  <a:pt x="15684" y="12002"/>
                </a:moveTo>
                <a:cubicBezTo>
                  <a:pt x="15734" y="12068"/>
                  <a:pt x="15685" y="12087"/>
                  <a:pt x="15716" y="12160"/>
                </a:cubicBezTo>
                <a:cubicBezTo>
                  <a:pt x="15745" y="12230"/>
                  <a:pt x="15807" y="12310"/>
                  <a:pt x="15843" y="12382"/>
                </a:cubicBezTo>
                <a:cubicBezTo>
                  <a:pt x="15881" y="12458"/>
                  <a:pt x="15911" y="12514"/>
                  <a:pt x="15970" y="12573"/>
                </a:cubicBezTo>
                <a:cubicBezTo>
                  <a:pt x="15984" y="12587"/>
                  <a:pt x="16078" y="12654"/>
                  <a:pt x="16097" y="12636"/>
                </a:cubicBezTo>
                <a:cubicBezTo>
                  <a:pt x="16097" y="12626"/>
                  <a:pt x="16097" y="12615"/>
                  <a:pt x="16097" y="12605"/>
                </a:cubicBezTo>
              </a:path>
              <a:path w="2001" h="921">
                <a:moveTo>
                  <a:pt x="16066" y="12224"/>
                </a:moveTo>
                <a:cubicBezTo>
                  <a:pt x="16004" y="12285"/>
                  <a:pt x="15939" y="12329"/>
                  <a:pt x="15875" y="12382"/>
                </a:cubicBezTo>
                <a:cubicBezTo>
                  <a:pt x="15792" y="12451"/>
                  <a:pt x="15716" y="12520"/>
                  <a:pt x="15621" y="12573"/>
                </a:cubicBezTo>
                <a:cubicBezTo>
                  <a:pt x="15600" y="12584"/>
                  <a:pt x="15579" y="12594"/>
                  <a:pt x="15558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3"/>
          <p:cNvSpPr/>
          <p:nvPr/>
        </p:nvSpPr>
        <p:spPr>
          <a:xfrm>
            <a:off x="5989680" y="4275000"/>
            <a:ext cx="353880" cy="228600"/>
          </a:xfrm>
          <a:custGeom>
            <a:avLst/>
            <a:gdLst/>
            <a:ahLst/>
            <a:rect l="l" t="t" r="r" b="b"/>
            <a:pathLst>
              <a:path w="985" h="637">
                <a:moveTo>
                  <a:pt x="16891" y="12097"/>
                </a:moveTo>
                <a:cubicBezTo>
                  <a:pt x="16878" y="12147"/>
                  <a:pt x="16843" y="12178"/>
                  <a:pt x="16828" y="12224"/>
                </a:cubicBezTo>
                <a:cubicBezTo>
                  <a:pt x="16809" y="12284"/>
                  <a:pt x="16828" y="12383"/>
                  <a:pt x="16828" y="12446"/>
                </a:cubicBezTo>
              </a:path>
              <a:path w="985" h="637">
                <a:moveTo>
                  <a:pt x="16637" y="12128"/>
                </a:moveTo>
                <a:cubicBezTo>
                  <a:pt x="16698" y="12128"/>
                  <a:pt x="16738" y="12156"/>
                  <a:pt x="16796" y="12160"/>
                </a:cubicBezTo>
                <a:cubicBezTo>
                  <a:pt x="16837" y="12163"/>
                  <a:pt x="16881" y="12160"/>
                  <a:pt x="16923" y="12160"/>
                </a:cubicBezTo>
              </a:path>
              <a:path w="985" h="637">
                <a:moveTo>
                  <a:pt x="17240" y="11938"/>
                </a:moveTo>
                <a:cubicBezTo>
                  <a:pt x="17298" y="11924"/>
                  <a:pt x="17330" y="11906"/>
                  <a:pt x="17399" y="11906"/>
                </a:cubicBezTo>
                <a:cubicBezTo>
                  <a:pt x="17463" y="11906"/>
                  <a:pt x="17474" y="11891"/>
                  <a:pt x="17526" y="11874"/>
                </a:cubicBezTo>
                <a:cubicBezTo>
                  <a:pt x="17550" y="11866"/>
                  <a:pt x="17595" y="11874"/>
                  <a:pt x="17621" y="11874"/>
                </a:cubicBezTo>
                <a:cubicBezTo>
                  <a:pt x="17621" y="11920"/>
                  <a:pt x="17613" y="11968"/>
                  <a:pt x="17590" y="12002"/>
                </a:cubicBezTo>
                <a:cubicBezTo>
                  <a:pt x="17555" y="12054"/>
                  <a:pt x="17550" y="12105"/>
                  <a:pt x="17526" y="12160"/>
                </a:cubicBezTo>
                <a:cubicBezTo>
                  <a:pt x="17501" y="12217"/>
                  <a:pt x="17518" y="12304"/>
                  <a:pt x="17494" y="12351"/>
                </a:cubicBezTo>
                <a:cubicBezTo>
                  <a:pt x="17473" y="12393"/>
                  <a:pt x="17498" y="12448"/>
                  <a:pt x="17462" y="12478"/>
                </a:cubicBezTo>
                <a:cubicBezTo>
                  <a:pt x="17431" y="12478"/>
                  <a:pt x="17420" y="12478"/>
                  <a:pt x="1743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4"/>
          <p:cNvSpPr/>
          <p:nvPr/>
        </p:nvSpPr>
        <p:spPr>
          <a:xfrm>
            <a:off x="1347840" y="5018040"/>
            <a:ext cx="3716280" cy="628560"/>
          </a:xfrm>
          <a:custGeom>
            <a:avLst/>
            <a:gdLst/>
            <a:ahLst/>
            <a:rect l="l" t="t" r="r" b="b"/>
            <a:pathLst>
              <a:path w="10320" h="1747">
                <a:moveTo>
                  <a:pt x="4382" y="14700"/>
                </a:moveTo>
                <a:cubicBezTo>
                  <a:pt x="4395" y="14684"/>
                  <a:pt x="4432" y="14647"/>
                  <a:pt x="4445" y="14605"/>
                </a:cubicBezTo>
                <a:cubicBezTo>
                  <a:pt x="4457" y="14565"/>
                  <a:pt x="4430" y="14504"/>
                  <a:pt x="4413" y="14478"/>
                </a:cubicBezTo>
                <a:cubicBezTo>
                  <a:pt x="4381" y="14429"/>
                  <a:pt x="4363" y="14396"/>
                  <a:pt x="4318" y="14351"/>
                </a:cubicBezTo>
                <a:cubicBezTo>
                  <a:pt x="4286" y="14319"/>
                  <a:pt x="4207" y="14279"/>
                  <a:pt x="4159" y="14288"/>
                </a:cubicBezTo>
                <a:cubicBezTo>
                  <a:pt x="4115" y="14297"/>
                  <a:pt x="4003" y="14315"/>
                  <a:pt x="3969" y="14351"/>
                </a:cubicBezTo>
                <a:cubicBezTo>
                  <a:pt x="3906" y="14419"/>
                  <a:pt x="3832" y="14492"/>
                  <a:pt x="3778" y="14573"/>
                </a:cubicBezTo>
                <a:cubicBezTo>
                  <a:pt x="3724" y="14654"/>
                  <a:pt x="3746" y="14767"/>
                  <a:pt x="3746" y="14859"/>
                </a:cubicBezTo>
                <a:cubicBezTo>
                  <a:pt x="3746" y="14950"/>
                  <a:pt x="3797" y="15005"/>
                  <a:pt x="3874" y="15050"/>
                </a:cubicBezTo>
                <a:cubicBezTo>
                  <a:pt x="3917" y="15075"/>
                  <a:pt x="3981" y="15075"/>
                  <a:pt x="4032" y="15050"/>
                </a:cubicBezTo>
                <a:cubicBezTo>
                  <a:pt x="4094" y="15019"/>
                  <a:pt x="4120" y="14939"/>
                  <a:pt x="4159" y="14891"/>
                </a:cubicBezTo>
                <a:cubicBezTo>
                  <a:pt x="4226" y="14810"/>
                  <a:pt x="4270" y="14764"/>
                  <a:pt x="4318" y="14668"/>
                </a:cubicBezTo>
                <a:cubicBezTo>
                  <a:pt x="4332" y="14639"/>
                  <a:pt x="4342" y="14606"/>
                  <a:pt x="4350" y="14573"/>
                </a:cubicBezTo>
                <a:cubicBezTo>
                  <a:pt x="4350" y="14652"/>
                  <a:pt x="4304" y="14655"/>
                  <a:pt x="4286" y="14732"/>
                </a:cubicBezTo>
                <a:cubicBezTo>
                  <a:pt x="4264" y="14825"/>
                  <a:pt x="4227" y="14894"/>
                  <a:pt x="4191" y="14986"/>
                </a:cubicBezTo>
                <a:cubicBezTo>
                  <a:pt x="4141" y="15112"/>
                  <a:pt x="4128" y="15198"/>
                  <a:pt x="4128" y="15335"/>
                </a:cubicBezTo>
                <a:cubicBezTo>
                  <a:pt x="4128" y="15451"/>
                  <a:pt x="4128" y="15568"/>
                  <a:pt x="4128" y="15684"/>
                </a:cubicBezTo>
              </a:path>
              <a:path w="10320" h="1747">
                <a:moveTo>
                  <a:pt x="4794" y="14859"/>
                </a:moveTo>
                <a:cubicBezTo>
                  <a:pt x="4807" y="14809"/>
                  <a:pt x="4826" y="14789"/>
                  <a:pt x="4826" y="14732"/>
                </a:cubicBezTo>
                <a:cubicBezTo>
                  <a:pt x="4826" y="14696"/>
                  <a:pt x="4823" y="14682"/>
                  <a:pt x="4794" y="14668"/>
                </a:cubicBezTo>
                <a:cubicBezTo>
                  <a:pt x="4741" y="14681"/>
                  <a:pt x="4714" y="14705"/>
                  <a:pt x="4667" y="14732"/>
                </a:cubicBezTo>
                <a:cubicBezTo>
                  <a:pt x="4576" y="14784"/>
                  <a:pt x="4548" y="14845"/>
                  <a:pt x="4477" y="14922"/>
                </a:cubicBezTo>
                <a:cubicBezTo>
                  <a:pt x="4398" y="15007"/>
                  <a:pt x="4388" y="15096"/>
                  <a:pt x="4382" y="15208"/>
                </a:cubicBezTo>
                <a:cubicBezTo>
                  <a:pt x="4379" y="15254"/>
                  <a:pt x="4419" y="15301"/>
                  <a:pt x="4445" y="15335"/>
                </a:cubicBezTo>
                <a:cubicBezTo>
                  <a:pt x="4534" y="15318"/>
                  <a:pt x="4569" y="15302"/>
                  <a:pt x="4636" y="15240"/>
                </a:cubicBezTo>
                <a:cubicBezTo>
                  <a:pt x="4685" y="15195"/>
                  <a:pt x="4768" y="15081"/>
                  <a:pt x="4794" y="15018"/>
                </a:cubicBezTo>
                <a:cubicBezTo>
                  <a:pt x="4807" y="14986"/>
                  <a:pt x="4817" y="14957"/>
                  <a:pt x="4826" y="14922"/>
                </a:cubicBezTo>
                <a:cubicBezTo>
                  <a:pt x="4780" y="14937"/>
                  <a:pt x="4783" y="14968"/>
                  <a:pt x="4762" y="15018"/>
                </a:cubicBezTo>
                <a:cubicBezTo>
                  <a:pt x="4716" y="15126"/>
                  <a:pt x="4699" y="15184"/>
                  <a:pt x="4699" y="15304"/>
                </a:cubicBezTo>
                <a:cubicBezTo>
                  <a:pt x="4699" y="15378"/>
                  <a:pt x="4701" y="15464"/>
                  <a:pt x="4731" y="15526"/>
                </a:cubicBezTo>
                <a:cubicBezTo>
                  <a:pt x="4770" y="15606"/>
                  <a:pt x="4825" y="15527"/>
                  <a:pt x="4858" y="15494"/>
                </a:cubicBezTo>
              </a:path>
              <a:path w="10320" h="1747">
                <a:moveTo>
                  <a:pt x="5175" y="14256"/>
                </a:moveTo>
                <a:cubicBezTo>
                  <a:pt x="5186" y="14256"/>
                  <a:pt x="5196" y="14256"/>
                  <a:pt x="5207" y="14256"/>
                </a:cubicBezTo>
                <a:cubicBezTo>
                  <a:pt x="5220" y="14306"/>
                  <a:pt x="5239" y="14326"/>
                  <a:pt x="5239" y="14383"/>
                </a:cubicBezTo>
                <a:cubicBezTo>
                  <a:pt x="5239" y="14433"/>
                  <a:pt x="5207" y="14453"/>
                  <a:pt x="5207" y="14510"/>
                </a:cubicBezTo>
                <a:cubicBezTo>
                  <a:pt x="5207" y="14542"/>
                  <a:pt x="5207" y="14552"/>
                  <a:pt x="5207" y="14573"/>
                </a:cubicBezTo>
                <a:cubicBezTo>
                  <a:pt x="5230" y="14505"/>
                  <a:pt x="5252" y="14557"/>
                  <a:pt x="5302" y="14573"/>
                </a:cubicBezTo>
                <a:cubicBezTo>
                  <a:pt x="5368" y="14594"/>
                  <a:pt x="5368" y="14620"/>
                  <a:pt x="5429" y="14573"/>
                </a:cubicBezTo>
              </a:path>
              <a:path w="10320" h="1747">
                <a:moveTo>
                  <a:pt x="5493" y="14129"/>
                </a:moveTo>
                <a:cubicBezTo>
                  <a:pt x="5493" y="14199"/>
                  <a:pt x="5465" y="14248"/>
                  <a:pt x="5461" y="14319"/>
                </a:cubicBezTo>
                <a:cubicBezTo>
                  <a:pt x="5455" y="14425"/>
                  <a:pt x="5426" y="14567"/>
                  <a:pt x="5398" y="14668"/>
                </a:cubicBezTo>
                <a:cubicBezTo>
                  <a:pt x="5387" y="14689"/>
                  <a:pt x="5377" y="14711"/>
                  <a:pt x="5366" y="14732"/>
                </a:cubicBezTo>
              </a:path>
              <a:path w="10320" h="1747">
                <a:moveTo>
                  <a:pt x="5969" y="14542"/>
                </a:moveTo>
                <a:cubicBezTo>
                  <a:pt x="5969" y="14701"/>
                  <a:pt x="5969" y="14859"/>
                  <a:pt x="5969" y="15018"/>
                </a:cubicBezTo>
              </a:path>
              <a:path w="10320" h="1747">
                <a:moveTo>
                  <a:pt x="5842" y="14732"/>
                </a:moveTo>
                <a:cubicBezTo>
                  <a:pt x="5905" y="14770"/>
                  <a:pt x="5969" y="14765"/>
                  <a:pt x="6032" y="14796"/>
                </a:cubicBezTo>
                <a:cubicBezTo>
                  <a:pt x="6081" y="14820"/>
                  <a:pt x="6099" y="14827"/>
                  <a:pt x="6160" y="14827"/>
                </a:cubicBezTo>
              </a:path>
              <a:path w="10320" h="1747">
                <a:moveTo>
                  <a:pt x="6604" y="14414"/>
                </a:moveTo>
                <a:cubicBezTo>
                  <a:pt x="6634" y="14363"/>
                  <a:pt x="6717" y="14344"/>
                  <a:pt x="6699" y="14288"/>
                </a:cubicBezTo>
                <a:cubicBezTo>
                  <a:pt x="6683" y="14238"/>
                  <a:pt x="6638" y="14289"/>
                  <a:pt x="6604" y="14319"/>
                </a:cubicBezTo>
                <a:cubicBezTo>
                  <a:pt x="6528" y="14386"/>
                  <a:pt x="6457" y="14487"/>
                  <a:pt x="6414" y="14573"/>
                </a:cubicBezTo>
                <a:cubicBezTo>
                  <a:pt x="6357" y="14688"/>
                  <a:pt x="6323" y="14828"/>
                  <a:pt x="6318" y="14954"/>
                </a:cubicBezTo>
                <a:cubicBezTo>
                  <a:pt x="6313" y="15098"/>
                  <a:pt x="6355" y="15197"/>
                  <a:pt x="6477" y="15272"/>
                </a:cubicBezTo>
                <a:cubicBezTo>
                  <a:pt x="6530" y="15305"/>
                  <a:pt x="6656" y="15270"/>
                  <a:pt x="6699" y="15208"/>
                </a:cubicBezTo>
                <a:cubicBezTo>
                  <a:pt x="6753" y="15130"/>
                  <a:pt x="6841" y="14950"/>
                  <a:pt x="6858" y="14859"/>
                </a:cubicBezTo>
                <a:cubicBezTo>
                  <a:pt x="6882" y="14731"/>
                  <a:pt x="6876" y="14531"/>
                  <a:pt x="6826" y="14414"/>
                </a:cubicBezTo>
                <a:cubicBezTo>
                  <a:pt x="6802" y="14357"/>
                  <a:pt x="6762" y="14252"/>
                  <a:pt x="6699" y="14224"/>
                </a:cubicBezTo>
                <a:cubicBezTo>
                  <a:pt x="6641" y="14198"/>
                  <a:pt x="6630" y="14253"/>
                  <a:pt x="6604" y="14288"/>
                </a:cubicBezTo>
              </a:path>
              <a:path w="10320" h="1747">
                <a:moveTo>
                  <a:pt x="7334" y="14383"/>
                </a:moveTo>
                <a:cubicBezTo>
                  <a:pt x="7252" y="14362"/>
                  <a:pt x="7283" y="14357"/>
                  <a:pt x="7207" y="14383"/>
                </a:cubicBezTo>
                <a:cubicBezTo>
                  <a:pt x="7135" y="14407"/>
                  <a:pt x="7110" y="14466"/>
                  <a:pt x="7080" y="14542"/>
                </a:cubicBezTo>
                <a:cubicBezTo>
                  <a:pt x="7034" y="14658"/>
                  <a:pt x="7017" y="14735"/>
                  <a:pt x="7017" y="14859"/>
                </a:cubicBezTo>
                <a:cubicBezTo>
                  <a:pt x="7017" y="14947"/>
                  <a:pt x="7018" y="14956"/>
                  <a:pt x="7080" y="15018"/>
                </a:cubicBezTo>
                <a:cubicBezTo>
                  <a:pt x="7140" y="15078"/>
                  <a:pt x="7183" y="15037"/>
                  <a:pt x="7239" y="14986"/>
                </a:cubicBezTo>
                <a:cubicBezTo>
                  <a:pt x="7306" y="14926"/>
                  <a:pt x="7355" y="14860"/>
                  <a:pt x="7398" y="14796"/>
                </a:cubicBezTo>
                <a:cubicBezTo>
                  <a:pt x="7427" y="14767"/>
                  <a:pt x="7438" y="14761"/>
                  <a:pt x="7430" y="14732"/>
                </a:cubicBezTo>
                <a:cubicBezTo>
                  <a:pt x="7430" y="14793"/>
                  <a:pt x="7402" y="14833"/>
                  <a:pt x="7398" y="14891"/>
                </a:cubicBezTo>
                <a:cubicBezTo>
                  <a:pt x="7393" y="14960"/>
                  <a:pt x="7406" y="15020"/>
                  <a:pt x="7430" y="15081"/>
                </a:cubicBezTo>
                <a:cubicBezTo>
                  <a:pt x="7453" y="15139"/>
                  <a:pt x="7499" y="15272"/>
                  <a:pt x="7556" y="15304"/>
                </a:cubicBezTo>
                <a:cubicBezTo>
                  <a:pt x="7601" y="15304"/>
                  <a:pt x="7624" y="15298"/>
                  <a:pt x="7652" y="15272"/>
                </a:cubicBezTo>
              </a:path>
              <a:path w="10320" h="1747">
                <a:moveTo>
                  <a:pt x="7715" y="14034"/>
                </a:moveTo>
                <a:cubicBezTo>
                  <a:pt x="7727" y="13987"/>
                  <a:pt x="7762" y="13954"/>
                  <a:pt x="7810" y="13938"/>
                </a:cubicBezTo>
                <a:cubicBezTo>
                  <a:pt x="7818" y="13935"/>
                  <a:pt x="7925" y="13963"/>
                  <a:pt x="7938" y="13970"/>
                </a:cubicBezTo>
                <a:cubicBezTo>
                  <a:pt x="8022" y="14017"/>
                  <a:pt x="7988" y="14040"/>
                  <a:pt x="7969" y="14097"/>
                </a:cubicBezTo>
                <a:cubicBezTo>
                  <a:pt x="7955" y="14137"/>
                  <a:pt x="7922" y="14202"/>
                  <a:pt x="7874" y="14224"/>
                </a:cubicBezTo>
                <a:cubicBezTo>
                  <a:pt x="7863" y="14224"/>
                  <a:pt x="7853" y="14224"/>
                  <a:pt x="7842" y="14224"/>
                </a:cubicBezTo>
                <a:cubicBezTo>
                  <a:pt x="7891" y="14187"/>
                  <a:pt x="7907" y="14192"/>
                  <a:pt x="7969" y="14192"/>
                </a:cubicBezTo>
                <a:cubicBezTo>
                  <a:pt x="8037" y="14192"/>
                  <a:pt x="8033" y="14234"/>
                  <a:pt x="8033" y="14288"/>
                </a:cubicBezTo>
                <a:cubicBezTo>
                  <a:pt x="8033" y="14367"/>
                  <a:pt x="8020" y="14408"/>
                  <a:pt x="8001" y="14446"/>
                </a:cubicBezTo>
                <a:cubicBezTo>
                  <a:pt x="7989" y="14469"/>
                  <a:pt x="7954" y="14505"/>
                  <a:pt x="7906" y="14478"/>
                </a:cubicBezTo>
                <a:cubicBezTo>
                  <a:pt x="7867" y="14456"/>
                  <a:pt x="7846" y="14441"/>
                  <a:pt x="7810" y="14414"/>
                </a:cubicBezTo>
              </a:path>
              <a:path w="10320" h="1747">
                <a:moveTo>
                  <a:pt x="8192" y="14859"/>
                </a:moveTo>
                <a:cubicBezTo>
                  <a:pt x="8192" y="14848"/>
                  <a:pt x="8192" y="14838"/>
                  <a:pt x="8192" y="14827"/>
                </a:cubicBezTo>
                <a:cubicBezTo>
                  <a:pt x="8351" y="14827"/>
                  <a:pt x="8509" y="14827"/>
                  <a:pt x="8668" y="14827"/>
                </a:cubicBezTo>
              </a:path>
              <a:path w="10320" h="1747">
                <a:moveTo>
                  <a:pt x="9366" y="14002"/>
                </a:moveTo>
                <a:cubicBezTo>
                  <a:pt x="9301" y="14018"/>
                  <a:pt x="9283" y="14065"/>
                  <a:pt x="9208" y="14065"/>
                </a:cubicBezTo>
                <a:cubicBezTo>
                  <a:pt x="9152" y="14065"/>
                  <a:pt x="9014" y="14038"/>
                  <a:pt x="8985" y="14097"/>
                </a:cubicBezTo>
                <a:cubicBezTo>
                  <a:pt x="8961" y="14145"/>
                  <a:pt x="8957" y="14204"/>
                  <a:pt x="8922" y="14256"/>
                </a:cubicBezTo>
                <a:cubicBezTo>
                  <a:pt x="8883" y="14314"/>
                  <a:pt x="8866" y="14364"/>
                  <a:pt x="8826" y="14414"/>
                </a:cubicBezTo>
                <a:cubicBezTo>
                  <a:pt x="8785" y="14465"/>
                  <a:pt x="8795" y="14509"/>
                  <a:pt x="8795" y="14573"/>
                </a:cubicBezTo>
                <a:cubicBezTo>
                  <a:pt x="8851" y="14559"/>
                  <a:pt x="8865" y="14528"/>
                  <a:pt x="8890" y="14510"/>
                </a:cubicBezTo>
                <a:cubicBezTo>
                  <a:pt x="8942" y="14472"/>
                  <a:pt x="8997" y="14443"/>
                  <a:pt x="9049" y="14414"/>
                </a:cubicBezTo>
                <a:cubicBezTo>
                  <a:pt x="9114" y="14377"/>
                  <a:pt x="9154" y="14365"/>
                  <a:pt x="9208" y="14414"/>
                </a:cubicBezTo>
                <a:cubicBezTo>
                  <a:pt x="9257" y="14458"/>
                  <a:pt x="9313" y="14509"/>
                  <a:pt x="9334" y="14573"/>
                </a:cubicBezTo>
                <a:cubicBezTo>
                  <a:pt x="9356" y="14640"/>
                  <a:pt x="9366" y="14691"/>
                  <a:pt x="9366" y="14764"/>
                </a:cubicBezTo>
                <a:cubicBezTo>
                  <a:pt x="9366" y="14814"/>
                  <a:pt x="9332" y="14911"/>
                  <a:pt x="9303" y="14954"/>
                </a:cubicBezTo>
                <a:cubicBezTo>
                  <a:pt x="9269" y="15005"/>
                  <a:pt x="9216" y="15024"/>
                  <a:pt x="9176" y="15050"/>
                </a:cubicBezTo>
                <a:cubicBezTo>
                  <a:pt x="9122" y="15085"/>
                  <a:pt x="9083" y="15081"/>
                  <a:pt x="9017" y="15081"/>
                </a:cubicBezTo>
                <a:cubicBezTo>
                  <a:pt x="8932" y="15081"/>
                  <a:pt x="8894" y="15072"/>
                  <a:pt x="8826" y="15050"/>
                </a:cubicBezTo>
                <a:cubicBezTo>
                  <a:pt x="8816" y="15050"/>
                  <a:pt x="8805" y="15050"/>
                  <a:pt x="8795" y="15050"/>
                </a:cubicBezTo>
              </a:path>
              <a:path w="10320" h="1747">
                <a:moveTo>
                  <a:pt x="9842" y="14732"/>
                </a:moveTo>
                <a:cubicBezTo>
                  <a:pt x="9854" y="14670"/>
                  <a:pt x="9888" y="14625"/>
                  <a:pt x="9906" y="14573"/>
                </a:cubicBezTo>
                <a:cubicBezTo>
                  <a:pt x="9920" y="14531"/>
                  <a:pt x="9867" y="14481"/>
                  <a:pt x="9842" y="14478"/>
                </a:cubicBezTo>
                <a:cubicBezTo>
                  <a:pt x="9775" y="14469"/>
                  <a:pt x="9732" y="14498"/>
                  <a:pt x="9684" y="14542"/>
                </a:cubicBezTo>
                <a:cubicBezTo>
                  <a:pt x="9605" y="14615"/>
                  <a:pt x="9573" y="14701"/>
                  <a:pt x="9525" y="14796"/>
                </a:cubicBezTo>
                <a:cubicBezTo>
                  <a:pt x="9468" y="14910"/>
                  <a:pt x="9466" y="14940"/>
                  <a:pt x="9493" y="15050"/>
                </a:cubicBezTo>
                <a:cubicBezTo>
                  <a:pt x="9500" y="15080"/>
                  <a:pt x="9545" y="15104"/>
                  <a:pt x="9588" y="15081"/>
                </a:cubicBezTo>
                <a:cubicBezTo>
                  <a:pt x="9610" y="15069"/>
                  <a:pt x="9741" y="14903"/>
                  <a:pt x="9747" y="14891"/>
                </a:cubicBezTo>
                <a:cubicBezTo>
                  <a:pt x="9765" y="14851"/>
                  <a:pt x="9806" y="14744"/>
                  <a:pt x="9811" y="14700"/>
                </a:cubicBezTo>
                <a:cubicBezTo>
                  <a:pt x="9811" y="14689"/>
                  <a:pt x="9811" y="14679"/>
                  <a:pt x="9811" y="14668"/>
                </a:cubicBezTo>
                <a:cubicBezTo>
                  <a:pt x="9811" y="14729"/>
                  <a:pt x="9783" y="14769"/>
                  <a:pt x="9779" y="14827"/>
                </a:cubicBezTo>
                <a:cubicBezTo>
                  <a:pt x="9773" y="14910"/>
                  <a:pt x="9764" y="15009"/>
                  <a:pt x="9811" y="15081"/>
                </a:cubicBezTo>
                <a:cubicBezTo>
                  <a:pt x="9843" y="15130"/>
                  <a:pt x="9910" y="15175"/>
                  <a:pt x="9970" y="15145"/>
                </a:cubicBezTo>
                <a:cubicBezTo>
                  <a:pt x="9980" y="15134"/>
                  <a:pt x="9991" y="15124"/>
                  <a:pt x="10001" y="15113"/>
                </a:cubicBezTo>
              </a:path>
              <a:path w="10320" h="1747">
                <a:moveTo>
                  <a:pt x="10192" y="14097"/>
                </a:moveTo>
                <a:cubicBezTo>
                  <a:pt x="10233" y="14066"/>
                  <a:pt x="10282" y="14059"/>
                  <a:pt x="10319" y="14034"/>
                </a:cubicBezTo>
                <a:cubicBezTo>
                  <a:pt x="10369" y="14000"/>
                  <a:pt x="10382" y="14002"/>
                  <a:pt x="10446" y="14002"/>
                </a:cubicBezTo>
                <a:cubicBezTo>
                  <a:pt x="10446" y="14067"/>
                  <a:pt x="10444" y="14076"/>
                  <a:pt x="10414" y="14129"/>
                </a:cubicBezTo>
                <a:cubicBezTo>
                  <a:pt x="10391" y="14169"/>
                  <a:pt x="10298" y="14248"/>
                  <a:pt x="10287" y="14288"/>
                </a:cubicBezTo>
                <a:cubicBezTo>
                  <a:pt x="10269" y="14350"/>
                  <a:pt x="10238" y="14388"/>
                  <a:pt x="10224" y="14446"/>
                </a:cubicBezTo>
                <a:cubicBezTo>
                  <a:pt x="10292" y="14446"/>
                  <a:pt x="10313" y="14420"/>
                  <a:pt x="10382" y="14414"/>
                </a:cubicBezTo>
                <a:cubicBezTo>
                  <a:pt x="10413" y="14411"/>
                  <a:pt x="10446" y="14414"/>
                  <a:pt x="10478" y="14414"/>
                </a:cubicBezTo>
              </a:path>
              <a:path w="10320" h="1747">
                <a:moveTo>
                  <a:pt x="10954" y="14383"/>
                </a:moveTo>
                <a:cubicBezTo>
                  <a:pt x="10954" y="14469"/>
                  <a:pt x="10935" y="14527"/>
                  <a:pt x="10922" y="14605"/>
                </a:cubicBezTo>
                <a:cubicBezTo>
                  <a:pt x="10905" y="14704"/>
                  <a:pt x="10922" y="14820"/>
                  <a:pt x="10922" y="14922"/>
                </a:cubicBezTo>
              </a:path>
              <a:path w="10320" h="1747">
                <a:moveTo>
                  <a:pt x="10700" y="14605"/>
                </a:moveTo>
                <a:cubicBezTo>
                  <a:pt x="10762" y="14621"/>
                  <a:pt x="10824" y="14639"/>
                  <a:pt x="10890" y="14668"/>
                </a:cubicBezTo>
                <a:cubicBezTo>
                  <a:pt x="10969" y="14703"/>
                  <a:pt x="11025" y="14700"/>
                  <a:pt x="11112" y="14700"/>
                </a:cubicBezTo>
              </a:path>
              <a:path w="10320" h="1747">
                <a:moveTo>
                  <a:pt x="11589" y="14192"/>
                </a:moveTo>
                <a:cubicBezTo>
                  <a:pt x="11566" y="14124"/>
                  <a:pt x="11535" y="14183"/>
                  <a:pt x="11494" y="14224"/>
                </a:cubicBezTo>
                <a:cubicBezTo>
                  <a:pt x="11433" y="14286"/>
                  <a:pt x="11377" y="14370"/>
                  <a:pt x="11335" y="14446"/>
                </a:cubicBezTo>
                <a:cubicBezTo>
                  <a:pt x="11282" y="14542"/>
                  <a:pt x="11276" y="14687"/>
                  <a:pt x="11271" y="14796"/>
                </a:cubicBezTo>
                <a:cubicBezTo>
                  <a:pt x="11268" y="14862"/>
                  <a:pt x="11285" y="15031"/>
                  <a:pt x="11335" y="15081"/>
                </a:cubicBezTo>
                <a:cubicBezTo>
                  <a:pt x="11389" y="15135"/>
                  <a:pt x="11470" y="15117"/>
                  <a:pt x="11525" y="15081"/>
                </a:cubicBezTo>
                <a:cubicBezTo>
                  <a:pt x="11607" y="15027"/>
                  <a:pt x="11650" y="14946"/>
                  <a:pt x="11684" y="14859"/>
                </a:cubicBezTo>
                <a:cubicBezTo>
                  <a:pt x="11721" y="14763"/>
                  <a:pt x="11788" y="14612"/>
                  <a:pt x="11779" y="14510"/>
                </a:cubicBezTo>
                <a:cubicBezTo>
                  <a:pt x="11772" y="14429"/>
                  <a:pt x="11742" y="14303"/>
                  <a:pt x="11716" y="14224"/>
                </a:cubicBezTo>
                <a:cubicBezTo>
                  <a:pt x="11696" y="14165"/>
                  <a:pt x="11650" y="14104"/>
                  <a:pt x="11589" y="14097"/>
                </a:cubicBezTo>
                <a:cubicBezTo>
                  <a:pt x="11578" y="14097"/>
                  <a:pt x="11568" y="14097"/>
                  <a:pt x="11557" y="14097"/>
                </a:cubicBezTo>
                <a:cubicBezTo>
                  <a:pt x="11537" y="14194"/>
                  <a:pt x="11516" y="14193"/>
                  <a:pt x="11557" y="14288"/>
                </a:cubicBezTo>
              </a:path>
              <a:path w="10320" h="1747">
                <a:moveTo>
                  <a:pt x="12224" y="14637"/>
                </a:moveTo>
                <a:cubicBezTo>
                  <a:pt x="12240" y="14572"/>
                  <a:pt x="12256" y="14556"/>
                  <a:pt x="12256" y="14478"/>
                </a:cubicBezTo>
                <a:cubicBezTo>
                  <a:pt x="12256" y="14426"/>
                  <a:pt x="12249" y="14376"/>
                  <a:pt x="12192" y="14351"/>
                </a:cubicBezTo>
                <a:cubicBezTo>
                  <a:pt x="12153" y="14334"/>
                  <a:pt x="12087" y="14351"/>
                  <a:pt x="12065" y="14383"/>
                </a:cubicBezTo>
                <a:cubicBezTo>
                  <a:pt x="12013" y="14458"/>
                  <a:pt x="11979" y="14556"/>
                  <a:pt x="11938" y="14637"/>
                </a:cubicBezTo>
                <a:cubicBezTo>
                  <a:pt x="11896" y="14721"/>
                  <a:pt x="11892" y="14792"/>
                  <a:pt x="11906" y="14859"/>
                </a:cubicBezTo>
                <a:cubicBezTo>
                  <a:pt x="11917" y="14916"/>
                  <a:pt x="11895" y="14946"/>
                  <a:pt x="11970" y="14954"/>
                </a:cubicBezTo>
                <a:cubicBezTo>
                  <a:pt x="12041" y="14962"/>
                  <a:pt x="12064" y="14871"/>
                  <a:pt x="12097" y="14827"/>
                </a:cubicBezTo>
                <a:cubicBezTo>
                  <a:pt x="12132" y="14781"/>
                  <a:pt x="12175" y="14719"/>
                  <a:pt x="12192" y="14668"/>
                </a:cubicBezTo>
                <a:cubicBezTo>
                  <a:pt x="12214" y="14603"/>
                  <a:pt x="12192" y="14704"/>
                  <a:pt x="12192" y="14732"/>
                </a:cubicBezTo>
                <a:cubicBezTo>
                  <a:pt x="12192" y="14776"/>
                  <a:pt x="12175" y="14835"/>
                  <a:pt x="12224" y="14859"/>
                </a:cubicBezTo>
                <a:cubicBezTo>
                  <a:pt x="12284" y="14889"/>
                  <a:pt x="12339" y="14916"/>
                  <a:pt x="12414" y="14922"/>
                </a:cubicBezTo>
                <a:cubicBezTo>
                  <a:pt x="12457" y="14922"/>
                  <a:pt x="12478" y="14922"/>
                  <a:pt x="12510" y="14922"/>
                </a:cubicBezTo>
              </a:path>
              <a:path w="10320" h="1747">
                <a:moveTo>
                  <a:pt x="12732" y="14637"/>
                </a:moveTo>
                <a:cubicBezTo>
                  <a:pt x="12849" y="14637"/>
                  <a:pt x="12949" y="14639"/>
                  <a:pt x="13049" y="14668"/>
                </a:cubicBezTo>
                <a:cubicBezTo>
                  <a:pt x="13075" y="14676"/>
                  <a:pt x="13117" y="14668"/>
                  <a:pt x="13144" y="14668"/>
                </a:cubicBezTo>
              </a:path>
              <a:path w="10320" h="1747">
                <a:moveTo>
                  <a:pt x="13494" y="14192"/>
                </a:moveTo>
                <a:cubicBezTo>
                  <a:pt x="13494" y="14298"/>
                  <a:pt x="13496" y="14380"/>
                  <a:pt x="13462" y="14478"/>
                </a:cubicBezTo>
                <a:cubicBezTo>
                  <a:pt x="13427" y="14578"/>
                  <a:pt x="13404" y="14691"/>
                  <a:pt x="13398" y="14796"/>
                </a:cubicBezTo>
                <a:cubicBezTo>
                  <a:pt x="13396" y="14837"/>
                  <a:pt x="13398" y="14880"/>
                  <a:pt x="13398" y="14922"/>
                </a:cubicBezTo>
                <a:cubicBezTo>
                  <a:pt x="13442" y="14908"/>
                  <a:pt x="13438" y="14878"/>
                  <a:pt x="13494" y="14859"/>
                </a:cubicBezTo>
                <a:cubicBezTo>
                  <a:pt x="13552" y="14840"/>
                  <a:pt x="13579" y="14877"/>
                  <a:pt x="13621" y="14891"/>
                </a:cubicBezTo>
                <a:cubicBezTo>
                  <a:pt x="13673" y="14909"/>
                  <a:pt x="13729" y="14939"/>
                  <a:pt x="13780" y="14954"/>
                </a:cubicBezTo>
                <a:cubicBezTo>
                  <a:pt x="13811" y="14954"/>
                  <a:pt x="13822" y="14954"/>
                  <a:pt x="13843" y="14954"/>
                </a:cubicBezTo>
              </a:path>
              <a:path w="10320" h="1747">
                <a:moveTo>
                  <a:pt x="14065" y="14192"/>
                </a:moveTo>
                <a:cubicBezTo>
                  <a:pt x="14045" y="14273"/>
                  <a:pt x="14025" y="14356"/>
                  <a:pt x="14002" y="14446"/>
                </a:cubicBezTo>
                <a:cubicBezTo>
                  <a:pt x="13952" y="14644"/>
                  <a:pt x="13954" y="14849"/>
                  <a:pt x="13906" y="15050"/>
                </a:cubicBezTo>
                <a:cubicBezTo>
                  <a:pt x="13859" y="15245"/>
                  <a:pt x="13811" y="15432"/>
                  <a:pt x="13748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5"/>
          <p:cNvSpPr/>
          <p:nvPr/>
        </p:nvSpPr>
        <p:spPr>
          <a:xfrm>
            <a:off x="1406520" y="5121360"/>
            <a:ext cx="3257640" cy="1303200"/>
          </a:xfrm>
          <a:custGeom>
            <a:avLst/>
            <a:gdLst/>
            <a:ahLst/>
            <a:rect l="l" t="t" r="r" b="b"/>
            <a:pathLst>
              <a:path w="9050" h="3621">
                <a:moveTo>
                  <a:pt x="3937" y="17367"/>
                </a:moveTo>
                <a:cubicBezTo>
                  <a:pt x="3937" y="17426"/>
                  <a:pt x="3911" y="17442"/>
                  <a:pt x="3905" y="17494"/>
                </a:cubicBezTo>
                <a:cubicBezTo>
                  <a:pt x="3897" y="17569"/>
                  <a:pt x="3878" y="17824"/>
                  <a:pt x="3937" y="17844"/>
                </a:cubicBezTo>
              </a:path>
              <a:path w="9050" h="3621">
                <a:moveTo>
                  <a:pt x="4540" y="17336"/>
                </a:moveTo>
                <a:cubicBezTo>
                  <a:pt x="4513" y="17345"/>
                  <a:pt x="4491" y="17392"/>
                  <a:pt x="4445" y="17367"/>
                </a:cubicBezTo>
                <a:cubicBezTo>
                  <a:pt x="4392" y="17339"/>
                  <a:pt x="4382" y="17336"/>
                  <a:pt x="4318" y="17336"/>
                </a:cubicBezTo>
                <a:cubicBezTo>
                  <a:pt x="4286" y="17336"/>
                  <a:pt x="4256" y="17369"/>
                  <a:pt x="4223" y="17399"/>
                </a:cubicBezTo>
                <a:cubicBezTo>
                  <a:pt x="4185" y="17433"/>
                  <a:pt x="4170" y="17461"/>
                  <a:pt x="4159" y="17494"/>
                </a:cubicBezTo>
                <a:cubicBezTo>
                  <a:pt x="4258" y="17494"/>
                  <a:pt x="4331" y="17498"/>
                  <a:pt x="4413" y="17526"/>
                </a:cubicBezTo>
                <a:cubicBezTo>
                  <a:pt x="4461" y="17542"/>
                  <a:pt x="4450" y="17554"/>
                  <a:pt x="4477" y="17590"/>
                </a:cubicBezTo>
                <a:cubicBezTo>
                  <a:pt x="4498" y="17619"/>
                  <a:pt x="4531" y="17673"/>
                  <a:pt x="4508" y="17716"/>
                </a:cubicBezTo>
                <a:cubicBezTo>
                  <a:pt x="4482" y="17764"/>
                  <a:pt x="4427" y="17748"/>
                  <a:pt x="4382" y="17748"/>
                </a:cubicBezTo>
                <a:cubicBezTo>
                  <a:pt x="4325" y="17748"/>
                  <a:pt x="4302" y="17764"/>
                  <a:pt x="4286" y="17716"/>
                </a:cubicBezTo>
              </a:path>
              <a:path w="9050" h="3621">
                <a:moveTo>
                  <a:pt x="5016" y="17399"/>
                </a:moveTo>
                <a:cubicBezTo>
                  <a:pt x="5000" y="17351"/>
                  <a:pt x="4978" y="17367"/>
                  <a:pt x="4921" y="17367"/>
                </a:cubicBezTo>
                <a:cubicBezTo>
                  <a:pt x="4864" y="17367"/>
                  <a:pt x="4813" y="17437"/>
                  <a:pt x="4794" y="17462"/>
                </a:cubicBezTo>
                <a:cubicBezTo>
                  <a:pt x="4767" y="17498"/>
                  <a:pt x="4729" y="17557"/>
                  <a:pt x="4794" y="17590"/>
                </a:cubicBezTo>
                <a:cubicBezTo>
                  <a:pt x="4837" y="17612"/>
                  <a:pt x="4893" y="17583"/>
                  <a:pt x="4921" y="17558"/>
                </a:cubicBezTo>
                <a:cubicBezTo>
                  <a:pt x="4959" y="17524"/>
                  <a:pt x="4985" y="17546"/>
                  <a:pt x="4985" y="17494"/>
                </a:cubicBezTo>
                <a:cubicBezTo>
                  <a:pt x="4985" y="17454"/>
                  <a:pt x="4988" y="17494"/>
                  <a:pt x="4921" y="17494"/>
                </a:cubicBezTo>
                <a:cubicBezTo>
                  <a:pt x="4921" y="17559"/>
                  <a:pt x="4909" y="17604"/>
                  <a:pt x="4953" y="17653"/>
                </a:cubicBezTo>
                <a:cubicBezTo>
                  <a:pt x="4992" y="17697"/>
                  <a:pt x="5033" y="17713"/>
                  <a:pt x="5048" y="17685"/>
                </a:cubicBezTo>
              </a:path>
              <a:path w="9050" h="3621">
                <a:moveTo>
                  <a:pt x="5398" y="17145"/>
                </a:moveTo>
                <a:cubicBezTo>
                  <a:pt x="5388" y="17183"/>
                  <a:pt x="5376" y="17202"/>
                  <a:pt x="5366" y="17240"/>
                </a:cubicBezTo>
                <a:cubicBezTo>
                  <a:pt x="5277" y="17270"/>
                  <a:pt x="5372" y="17257"/>
                  <a:pt x="5398" y="17272"/>
                </a:cubicBezTo>
                <a:cubicBezTo>
                  <a:pt x="5436" y="17294"/>
                  <a:pt x="5457" y="17309"/>
                  <a:pt x="5493" y="17336"/>
                </a:cubicBezTo>
              </a:path>
              <a:path w="9050" h="3621">
                <a:moveTo>
                  <a:pt x="5588" y="17113"/>
                </a:moveTo>
                <a:cubicBezTo>
                  <a:pt x="5588" y="17175"/>
                  <a:pt x="5575" y="17249"/>
                  <a:pt x="5556" y="17304"/>
                </a:cubicBezTo>
                <a:cubicBezTo>
                  <a:pt x="5527" y="17391"/>
                  <a:pt x="5504" y="17466"/>
                  <a:pt x="5493" y="17558"/>
                </a:cubicBezTo>
              </a:path>
              <a:path w="9050" h="3621">
                <a:moveTo>
                  <a:pt x="5937" y="14224"/>
                </a:moveTo>
                <a:cubicBezTo>
                  <a:pt x="5947" y="14234"/>
                  <a:pt x="5996" y="14280"/>
                  <a:pt x="6001" y="14288"/>
                </a:cubicBezTo>
                <a:cubicBezTo>
                  <a:pt x="6024" y="14324"/>
                  <a:pt x="6040" y="14374"/>
                  <a:pt x="6064" y="14414"/>
                </a:cubicBezTo>
                <a:cubicBezTo>
                  <a:pt x="6105" y="14480"/>
                  <a:pt x="6143" y="14575"/>
                  <a:pt x="6191" y="14637"/>
                </a:cubicBezTo>
                <a:cubicBezTo>
                  <a:pt x="6276" y="14745"/>
                  <a:pt x="6321" y="14877"/>
                  <a:pt x="6414" y="14986"/>
                </a:cubicBezTo>
                <a:cubicBezTo>
                  <a:pt x="6536" y="15129"/>
                  <a:pt x="6643" y="15282"/>
                  <a:pt x="6763" y="15430"/>
                </a:cubicBezTo>
                <a:cubicBezTo>
                  <a:pt x="6936" y="15642"/>
                  <a:pt x="7080" y="15868"/>
                  <a:pt x="7271" y="16066"/>
                </a:cubicBezTo>
                <a:cubicBezTo>
                  <a:pt x="7436" y="16237"/>
                  <a:pt x="7618" y="16452"/>
                  <a:pt x="7810" y="16574"/>
                </a:cubicBezTo>
              </a:path>
              <a:path w="9050" h="3621">
                <a:moveTo>
                  <a:pt x="6382" y="17336"/>
                </a:moveTo>
                <a:cubicBezTo>
                  <a:pt x="6444" y="17336"/>
                  <a:pt x="6493" y="17358"/>
                  <a:pt x="6540" y="17367"/>
                </a:cubicBezTo>
                <a:cubicBezTo>
                  <a:pt x="6620" y="17383"/>
                  <a:pt x="6685" y="17411"/>
                  <a:pt x="6763" y="17431"/>
                </a:cubicBezTo>
                <a:cubicBezTo>
                  <a:pt x="6790" y="17438"/>
                  <a:pt x="6830" y="17431"/>
                  <a:pt x="6858" y="17431"/>
                </a:cubicBezTo>
              </a:path>
              <a:path w="9050" h="3621">
                <a:moveTo>
                  <a:pt x="7747" y="17082"/>
                </a:moveTo>
                <a:cubicBezTo>
                  <a:pt x="7725" y="17146"/>
                  <a:pt x="7710" y="17088"/>
                  <a:pt x="7652" y="17082"/>
                </a:cubicBezTo>
                <a:cubicBezTo>
                  <a:pt x="7553" y="17071"/>
                  <a:pt x="7451" y="17087"/>
                  <a:pt x="7398" y="17113"/>
                </a:cubicBezTo>
                <a:cubicBezTo>
                  <a:pt x="7354" y="17134"/>
                  <a:pt x="7331" y="17156"/>
                  <a:pt x="7302" y="17177"/>
                </a:cubicBezTo>
                <a:cubicBezTo>
                  <a:pt x="7281" y="17193"/>
                  <a:pt x="7218" y="17278"/>
                  <a:pt x="7207" y="17304"/>
                </a:cubicBezTo>
                <a:cubicBezTo>
                  <a:pt x="7190" y="17342"/>
                  <a:pt x="7176" y="17441"/>
                  <a:pt x="7176" y="17399"/>
                </a:cubicBezTo>
                <a:cubicBezTo>
                  <a:pt x="7176" y="17361"/>
                  <a:pt x="7233" y="17358"/>
                  <a:pt x="7271" y="17336"/>
                </a:cubicBezTo>
                <a:cubicBezTo>
                  <a:pt x="7357" y="17287"/>
                  <a:pt x="7435" y="17298"/>
                  <a:pt x="7525" y="17272"/>
                </a:cubicBezTo>
                <a:cubicBezTo>
                  <a:pt x="7622" y="17244"/>
                  <a:pt x="7624" y="17276"/>
                  <a:pt x="7715" y="17304"/>
                </a:cubicBezTo>
                <a:cubicBezTo>
                  <a:pt x="7767" y="17320"/>
                  <a:pt x="7796" y="17386"/>
                  <a:pt x="7842" y="17431"/>
                </a:cubicBezTo>
                <a:cubicBezTo>
                  <a:pt x="7889" y="17478"/>
                  <a:pt x="7874" y="17524"/>
                  <a:pt x="7874" y="17590"/>
                </a:cubicBezTo>
                <a:cubicBezTo>
                  <a:pt x="7874" y="17648"/>
                  <a:pt x="7836" y="17665"/>
                  <a:pt x="7810" y="17685"/>
                </a:cubicBezTo>
                <a:cubicBezTo>
                  <a:pt x="7757" y="17725"/>
                  <a:pt x="7723" y="17716"/>
                  <a:pt x="7652" y="17716"/>
                </a:cubicBezTo>
                <a:cubicBezTo>
                  <a:pt x="7569" y="17716"/>
                  <a:pt x="7462" y="17736"/>
                  <a:pt x="7398" y="17685"/>
                </a:cubicBezTo>
                <a:cubicBezTo>
                  <a:pt x="7369" y="17656"/>
                  <a:pt x="7358" y="17650"/>
                  <a:pt x="7366" y="17621"/>
                </a:cubicBezTo>
              </a:path>
              <a:path w="9050" h="3621">
                <a:moveTo>
                  <a:pt x="8382" y="17367"/>
                </a:moveTo>
                <a:cubicBezTo>
                  <a:pt x="8382" y="17298"/>
                  <a:pt x="8398" y="17249"/>
                  <a:pt x="8318" y="17240"/>
                </a:cubicBezTo>
                <a:cubicBezTo>
                  <a:pt x="8254" y="17233"/>
                  <a:pt x="8208" y="17262"/>
                  <a:pt x="8160" y="17272"/>
                </a:cubicBezTo>
                <a:cubicBezTo>
                  <a:pt x="8089" y="17286"/>
                  <a:pt x="8024" y="17313"/>
                  <a:pt x="8001" y="17399"/>
                </a:cubicBezTo>
                <a:cubicBezTo>
                  <a:pt x="7981" y="17474"/>
                  <a:pt x="7990" y="17596"/>
                  <a:pt x="8033" y="17653"/>
                </a:cubicBezTo>
                <a:cubicBezTo>
                  <a:pt x="8105" y="17638"/>
                  <a:pt x="8140" y="17610"/>
                  <a:pt x="8192" y="17558"/>
                </a:cubicBezTo>
                <a:cubicBezTo>
                  <a:pt x="8264" y="17486"/>
                  <a:pt x="8390" y="17398"/>
                  <a:pt x="8414" y="17304"/>
                </a:cubicBezTo>
                <a:cubicBezTo>
                  <a:pt x="8414" y="17382"/>
                  <a:pt x="8366" y="17421"/>
                  <a:pt x="8350" y="17494"/>
                </a:cubicBezTo>
                <a:cubicBezTo>
                  <a:pt x="8339" y="17545"/>
                  <a:pt x="8292" y="17664"/>
                  <a:pt x="8318" y="17716"/>
                </a:cubicBezTo>
                <a:cubicBezTo>
                  <a:pt x="8346" y="17772"/>
                  <a:pt x="8392" y="17780"/>
                  <a:pt x="8446" y="17780"/>
                </a:cubicBezTo>
              </a:path>
              <a:path w="9050" h="3621">
                <a:moveTo>
                  <a:pt x="8858" y="16891"/>
                </a:moveTo>
                <a:cubicBezTo>
                  <a:pt x="8936" y="16891"/>
                  <a:pt x="8986" y="16873"/>
                  <a:pt x="9049" y="16859"/>
                </a:cubicBezTo>
                <a:cubicBezTo>
                  <a:pt x="9131" y="16841"/>
                  <a:pt x="9145" y="16875"/>
                  <a:pt x="9176" y="16891"/>
                </a:cubicBezTo>
                <a:cubicBezTo>
                  <a:pt x="9208" y="16891"/>
                  <a:pt x="9219" y="16891"/>
                  <a:pt x="9208" y="16923"/>
                </a:cubicBezTo>
                <a:cubicBezTo>
                  <a:pt x="9159" y="16987"/>
                  <a:pt x="9177" y="17006"/>
                  <a:pt x="9112" y="17050"/>
                </a:cubicBezTo>
                <a:cubicBezTo>
                  <a:pt x="9070" y="17078"/>
                  <a:pt x="9020" y="17121"/>
                  <a:pt x="8985" y="17145"/>
                </a:cubicBezTo>
                <a:cubicBezTo>
                  <a:pt x="8975" y="17156"/>
                  <a:pt x="8964" y="17166"/>
                  <a:pt x="8954" y="17177"/>
                </a:cubicBezTo>
                <a:cubicBezTo>
                  <a:pt x="9014" y="17177"/>
                  <a:pt x="9054" y="17204"/>
                  <a:pt x="9112" y="17208"/>
                </a:cubicBezTo>
                <a:cubicBezTo>
                  <a:pt x="9195" y="17213"/>
                  <a:pt x="9205" y="17218"/>
                  <a:pt x="9271" y="17240"/>
                </a:cubicBezTo>
                <a:cubicBezTo>
                  <a:pt x="9303" y="17240"/>
                  <a:pt x="9313" y="17240"/>
                  <a:pt x="9334" y="17240"/>
                </a:cubicBezTo>
              </a:path>
              <a:path w="9050" h="3621">
                <a:moveTo>
                  <a:pt x="9366" y="17272"/>
                </a:moveTo>
                <a:cubicBezTo>
                  <a:pt x="9525" y="17272"/>
                  <a:pt x="9683" y="17272"/>
                  <a:pt x="9842" y="17272"/>
                </a:cubicBezTo>
              </a:path>
              <a:path w="9050" h="3621">
                <a:moveTo>
                  <a:pt x="10382" y="16796"/>
                </a:moveTo>
                <a:cubicBezTo>
                  <a:pt x="10429" y="16858"/>
                  <a:pt x="10418" y="16861"/>
                  <a:pt x="10382" y="16923"/>
                </a:cubicBezTo>
                <a:cubicBezTo>
                  <a:pt x="10333" y="17008"/>
                  <a:pt x="10297" y="17087"/>
                  <a:pt x="10255" y="17177"/>
                </a:cubicBezTo>
                <a:cubicBezTo>
                  <a:pt x="10218" y="17256"/>
                  <a:pt x="10178" y="17376"/>
                  <a:pt x="10160" y="17462"/>
                </a:cubicBezTo>
                <a:cubicBezTo>
                  <a:pt x="10147" y="17526"/>
                  <a:pt x="10128" y="17587"/>
                  <a:pt x="10128" y="17653"/>
                </a:cubicBezTo>
              </a:path>
              <a:path w="9050" h="3621">
                <a:moveTo>
                  <a:pt x="10509" y="16954"/>
                </a:moveTo>
                <a:cubicBezTo>
                  <a:pt x="10556" y="16873"/>
                  <a:pt x="10607" y="16800"/>
                  <a:pt x="10700" y="16764"/>
                </a:cubicBezTo>
                <a:cubicBezTo>
                  <a:pt x="10729" y="16753"/>
                  <a:pt x="10803" y="16644"/>
                  <a:pt x="10858" y="16700"/>
                </a:cubicBezTo>
                <a:cubicBezTo>
                  <a:pt x="10901" y="16743"/>
                  <a:pt x="10922" y="16801"/>
                  <a:pt x="10922" y="16859"/>
                </a:cubicBezTo>
                <a:cubicBezTo>
                  <a:pt x="10922" y="16919"/>
                  <a:pt x="10883" y="16995"/>
                  <a:pt x="10858" y="17050"/>
                </a:cubicBezTo>
                <a:cubicBezTo>
                  <a:pt x="10823" y="17125"/>
                  <a:pt x="10753" y="17208"/>
                  <a:pt x="10700" y="17272"/>
                </a:cubicBezTo>
                <a:cubicBezTo>
                  <a:pt x="10639" y="17346"/>
                  <a:pt x="10577" y="17405"/>
                  <a:pt x="10509" y="17462"/>
                </a:cubicBezTo>
                <a:cubicBezTo>
                  <a:pt x="10474" y="17492"/>
                  <a:pt x="10473" y="17522"/>
                  <a:pt x="10446" y="17558"/>
                </a:cubicBezTo>
                <a:cubicBezTo>
                  <a:pt x="10519" y="17558"/>
                  <a:pt x="10577" y="17538"/>
                  <a:pt x="10636" y="17526"/>
                </a:cubicBezTo>
                <a:cubicBezTo>
                  <a:pt x="10716" y="17510"/>
                  <a:pt x="10730" y="17551"/>
                  <a:pt x="10795" y="17558"/>
                </a:cubicBezTo>
                <a:cubicBezTo>
                  <a:pt x="10827" y="17558"/>
                  <a:pt x="10837" y="17558"/>
                  <a:pt x="10858" y="17558"/>
                </a:cubicBezTo>
              </a:path>
              <a:path w="9050" h="3621">
                <a:moveTo>
                  <a:pt x="11271" y="17240"/>
                </a:moveTo>
                <a:cubicBezTo>
                  <a:pt x="11287" y="17159"/>
                  <a:pt x="11279" y="17152"/>
                  <a:pt x="11271" y="17082"/>
                </a:cubicBezTo>
                <a:cubicBezTo>
                  <a:pt x="11262" y="17002"/>
                  <a:pt x="11213" y="17018"/>
                  <a:pt x="11144" y="17018"/>
                </a:cubicBezTo>
                <a:cubicBezTo>
                  <a:pt x="11061" y="17018"/>
                  <a:pt x="11024" y="17081"/>
                  <a:pt x="10986" y="17145"/>
                </a:cubicBezTo>
                <a:cubicBezTo>
                  <a:pt x="10932" y="17235"/>
                  <a:pt x="10922" y="17296"/>
                  <a:pt x="10922" y="17399"/>
                </a:cubicBezTo>
                <a:cubicBezTo>
                  <a:pt x="10922" y="17433"/>
                  <a:pt x="10970" y="17515"/>
                  <a:pt x="11017" y="17494"/>
                </a:cubicBezTo>
                <a:cubicBezTo>
                  <a:pt x="11078" y="17466"/>
                  <a:pt x="11106" y="17382"/>
                  <a:pt x="11144" y="17336"/>
                </a:cubicBezTo>
                <a:cubicBezTo>
                  <a:pt x="11181" y="17291"/>
                  <a:pt x="11230" y="17250"/>
                  <a:pt x="11271" y="17208"/>
                </a:cubicBezTo>
                <a:cubicBezTo>
                  <a:pt x="11254" y="17279"/>
                  <a:pt x="11196" y="17321"/>
                  <a:pt x="11176" y="17399"/>
                </a:cubicBezTo>
                <a:cubicBezTo>
                  <a:pt x="11162" y="17455"/>
                  <a:pt x="11227" y="17537"/>
                  <a:pt x="11240" y="17590"/>
                </a:cubicBezTo>
                <a:cubicBezTo>
                  <a:pt x="11254" y="17644"/>
                  <a:pt x="11281" y="17621"/>
                  <a:pt x="11335" y="17621"/>
                </a:cubicBezTo>
              </a:path>
              <a:path w="9050" h="3621">
                <a:moveTo>
                  <a:pt x="11589" y="17462"/>
                </a:moveTo>
                <a:cubicBezTo>
                  <a:pt x="11695" y="17462"/>
                  <a:pt x="11784" y="17461"/>
                  <a:pt x="11874" y="17431"/>
                </a:cubicBezTo>
                <a:cubicBezTo>
                  <a:pt x="11921" y="17416"/>
                  <a:pt x="11972" y="17459"/>
                  <a:pt x="12002" y="17399"/>
                </a:cubicBezTo>
                <a:cubicBezTo>
                  <a:pt x="12002" y="17367"/>
                  <a:pt x="12002" y="17357"/>
                  <a:pt x="12033" y="17367"/>
                </a:cubicBezTo>
              </a:path>
              <a:path w="9050" h="3621">
                <a:moveTo>
                  <a:pt x="12319" y="16859"/>
                </a:moveTo>
                <a:cubicBezTo>
                  <a:pt x="12358" y="16831"/>
                  <a:pt x="12423" y="16806"/>
                  <a:pt x="12478" y="16828"/>
                </a:cubicBezTo>
                <a:cubicBezTo>
                  <a:pt x="12525" y="16847"/>
                  <a:pt x="12589" y="16882"/>
                  <a:pt x="12636" y="16891"/>
                </a:cubicBezTo>
                <a:cubicBezTo>
                  <a:pt x="12700" y="16904"/>
                  <a:pt x="12771" y="16917"/>
                  <a:pt x="12827" y="16923"/>
                </a:cubicBezTo>
                <a:cubicBezTo>
                  <a:pt x="12883" y="16929"/>
                  <a:pt x="12906" y="16903"/>
                  <a:pt x="12954" y="16891"/>
                </a:cubicBezTo>
                <a:cubicBezTo>
                  <a:pt x="12954" y="16968"/>
                  <a:pt x="12918" y="16956"/>
                  <a:pt x="12890" y="17018"/>
                </a:cubicBezTo>
                <a:cubicBezTo>
                  <a:pt x="12861" y="17082"/>
                  <a:pt x="12832" y="17146"/>
                  <a:pt x="12795" y="17208"/>
                </a:cubicBezTo>
                <a:cubicBezTo>
                  <a:pt x="12739" y="17302"/>
                  <a:pt x="12731" y="17397"/>
                  <a:pt x="12700" y="17494"/>
                </a:cubicBezTo>
                <a:cubicBezTo>
                  <a:pt x="12680" y="17556"/>
                  <a:pt x="12641" y="17662"/>
                  <a:pt x="12605" y="17716"/>
                </a:cubicBezTo>
                <a:cubicBezTo>
                  <a:pt x="12569" y="17752"/>
                  <a:pt x="12558" y="17769"/>
                  <a:pt x="12573" y="17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6"/>
          <p:cNvSpPr/>
          <p:nvPr/>
        </p:nvSpPr>
        <p:spPr>
          <a:xfrm>
            <a:off x="811080" y="5622840"/>
            <a:ext cx="1086120" cy="355680"/>
          </a:xfrm>
          <a:custGeom>
            <a:avLst/>
            <a:gdLst/>
            <a:ahLst/>
            <a:rect l="l" t="t" r="r" b="b"/>
            <a:pathLst>
              <a:path w="3017" h="985">
                <a:moveTo>
                  <a:pt x="3207" y="16097"/>
                </a:moveTo>
                <a:cubicBezTo>
                  <a:pt x="3190" y="16148"/>
                  <a:pt x="3147" y="16155"/>
                  <a:pt x="3080" y="16161"/>
                </a:cubicBezTo>
                <a:cubicBezTo>
                  <a:pt x="2995" y="16168"/>
                  <a:pt x="2913" y="16211"/>
                  <a:pt x="2826" y="16224"/>
                </a:cubicBezTo>
                <a:cubicBezTo>
                  <a:pt x="2740" y="16236"/>
                  <a:pt x="2654" y="16229"/>
                  <a:pt x="2572" y="16256"/>
                </a:cubicBezTo>
                <a:cubicBezTo>
                  <a:pt x="2560" y="16260"/>
                  <a:pt x="2373" y="16296"/>
                  <a:pt x="2381" y="16320"/>
                </a:cubicBezTo>
                <a:cubicBezTo>
                  <a:pt x="2426" y="16320"/>
                  <a:pt x="2448" y="16314"/>
                  <a:pt x="2476" y="16288"/>
                </a:cubicBezTo>
                <a:cubicBezTo>
                  <a:pt x="2556" y="16272"/>
                  <a:pt x="2651" y="16275"/>
                  <a:pt x="2730" y="16256"/>
                </a:cubicBezTo>
                <a:cubicBezTo>
                  <a:pt x="2828" y="16232"/>
                  <a:pt x="2911" y="16224"/>
                  <a:pt x="3016" y="16224"/>
                </a:cubicBezTo>
                <a:cubicBezTo>
                  <a:pt x="3109" y="16224"/>
                  <a:pt x="3154" y="16213"/>
                  <a:pt x="3238" y="16192"/>
                </a:cubicBezTo>
                <a:cubicBezTo>
                  <a:pt x="3249" y="16192"/>
                  <a:pt x="3259" y="16192"/>
                  <a:pt x="3270" y="16192"/>
                </a:cubicBezTo>
                <a:cubicBezTo>
                  <a:pt x="3105" y="16192"/>
                  <a:pt x="2953" y="16206"/>
                  <a:pt x="2794" y="16224"/>
                </a:cubicBezTo>
                <a:cubicBezTo>
                  <a:pt x="2668" y="16238"/>
                  <a:pt x="2535" y="16222"/>
                  <a:pt x="2413" y="16256"/>
                </a:cubicBezTo>
                <a:cubicBezTo>
                  <a:pt x="2376" y="16266"/>
                  <a:pt x="2246" y="16360"/>
                  <a:pt x="2318" y="16288"/>
                </a:cubicBezTo>
                <a:cubicBezTo>
                  <a:pt x="2412" y="16288"/>
                  <a:pt x="2455" y="16239"/>
                  <a:pt x="2540" y="16224"/>
                </a:cubicBezTo>
                <a:cubicBezTo>
                  <a:pt x="2647" y="16205"/>
                  <a:pt x="2781" y="16197"/>
                  <a:pt x="2889" y="16192"/>
                </a:cubicBezTo>
                <a:cubicBezTo>
                  <a:pt x="2969" y="16189"/>
                  <a:pt x="3109" y="16202"/>
                  <a:pt x="3175" y="16192"/>
                </a:cubicBezTo>
                <a:cubicBezTo>
                  <a:pt x="3177" y="16192"/>
                  <a:pt x="3284" y="16161"/>
                  <a:pt x="3207" y="16161"/>
                </a:cubicBezTo>
                <a:cubicBezTo>
                  <a:pt x="3116" y="16143"/>
                  <a:pt x="3053" y="16129"/>
                  <a:pt x="2953" y="16129"/>
                </a:cubicBezTo>
                <a:cubicBezTo>
                  <a:pt x="2836" y="16129"/>
                  <a:pt x="2716" y="16137"/>
                  <a:pt x="2604" y="16161"/>
                </a:cubicBezTo>
                <a:cubicBezTo>
                  <a:pt x="2487" y="16186"/>
                  <a:pt x="2397" y="16222"/>
                  <a:pt x="2286" y="16256"/>
                </a:cubicBezTo>
                <a:cubicBezTo>
                  <a:pt x="2239" y="16271"/>
                  <a:pt x="2241" y="16273"/>
                  <a:pt x="2286" y="16288"/>
                </a:cubicBezTo>
                <a:cubicBezTo>
                  <a:pt x="2430" y="16288"/>
                  <a:pt x="2560" y="16272"/>
                  <a:pt x="2699" y="16256"/>
                </a:cubicBezTo>
                <a:cubicBezTo>
                  <a:pt x="2819" y="16243"/>
                  <a:pt x="2926" y="16224"/>
                  <a:pt x="3048" y="16224"/>
                </a:cubicBezTo>
                <a:cubicBezTo>
                  <a:pt x="3138" y="16224"/>
                  <a:pt x="3134" y="16169"/>
                  <a:pt x="3207" y="16224"/>
                </a:cubicBezTo>
                <a:cubicBezTo>
                  <a:pt x="3130" y="16178"/>
                  <a:pt x="3049" y="16192"/>
                  <a:pt x="2953" y="16192"/>
                </a:cubicBezTo>
                <a:cubicBezTo>
                  <a:pt x="2836" y="16192"/>
                  <a:pt x="2716" y="16197"/>
                  <a:pt x="2604" y="16224"/>
                </a:cubicBezTo>
                <a:cubicBezTo>
                  <a:pt x="2506" y="16248"/>
                  <a:pt x="2414" y="16301"/>
                  <a:pt x="2318" y="16320"/>
                </a:cubicBezTo>
                <a:cubicBezTo>
                  <a:pt x="2334" y="16367"/>
                  <a:pt x="2357" y="16351"/>
                  <a:pt x="2413" y="16351"/>
                </a:cubicBezTo>
                <a:cubicBezTo>
                  <a:pt x="2533" y="16351"/>
                  <a:pt x="2637" y="16320"/>
                  <a:pt x="2762" y="16320"/>
                </a:cubicBezTo>
                <a:cubicBezTo>
                  <a:pt x="2792" y="16320"/>
                  <a:pt x="3139" y="16308"/>
                  <a:pt x="3112" y="16288"/>
                </a:cubicBezTo>
                <a:cubicBezTo>
                  <a:pt x="3101" y="16288"/>
                  <a:pt x="3091" y="16288"/>
                  <a:pt x="3080" y="16288"/>
                </a:cubicBezTo>
                <a:cubicBezTo>
                  <a:pt x="3011" y="16247"/>
                  <a:pt x="2935" y="16250"/>
                  <a:pt x="2858" y="16224"/>
                </a:cubicBezTo>
                <a:cubicBezTo>
                  <a:pt x="2766" y="16193"/>
                  <a:pt x="2680" y="16224"/>
                  <a:pt x="2572" y="16224"/>
                </a:cubicBezTo>
                <a:cubicBezTo>
                  <a:pt x="2466" y="16224"/>
                  <a:pt x="2431" y="16261"/>
                  <a:pt x="2350" y="16288"/>
                </a:cubicBezTo>
                <a:cubicBezTo>
                  <a:pt x="2280" y="16311"/>
                  <a:pt x="2420" y="16288"/>
                  <a:pt x="2445" y="16288"/>
                </a:cubicBezTo>
                <a:cubicBezTo>
                  <a:pt x="2466" y="16288"/>
                  <a:pt x="2487" y="16288"/>
                  <a:pt x="2508" y="16288"/>
                </a:cubicBezTo>
              </a:path>
              <a:path w="3017" h="985">
                <a:moveTo>
                  <a:pt x="3334" y="15780"/>
                </a:moveTo>
                <a:cubicBezTo>
                  <a:pt x="3417" y="15730"/>
                  <a:pt x="3434" y="15772"/>
                  <a:pt x="3524" y="15780"/>
                </a:cubicBezTo>
                <a:cubicBezTo>
                  <a:pt x="3560" y="15783"/>
                  <a:pt x="3629" y="15822"/>
                  <a:pt x="3651" y="15812"/>
                </a:cubicBezTo>
                <a:cubicBezTo>
                  <a:pt x="3701" y="15790"/>
                  <a:pt x="3687" y="15780"/>
                  <a:pt x="3746" y="15780"/>
                </a:cubicBezTo>
              </a:path>
              <a:path w="3017" h="985">
                <a:moveTo>
                  <a:pt x="3937" y="15684"/>
                </a:moveTo>
                <a:cubicBezTo>
                  <a:pt x="3937" y="15731"/>
                  <a:pt x="3928" y="15777"/>
                  <a:pt x="3905" y="15812"/>
                </a:cubicBezTo>
                <a:cubicBezTo>
                  <a:pt x="3862" y="15877"/>
                  <a:pt x="3843" y="15932"/>
                  <a:pt x="3810" y="16002"/>
                </a:cubicBezTo>
                <a:cubicBezTo>
                  <a:pt x="3783" y="16059"/>
                  <a:pt x="3750" y="16130"/>
                  <a:pt x="3746" y="16192"/>
                </a:cubicBezTo>
                <a:cubicBezTo>
                  <a:pt x="3744" y="16225"/>
                  <a:pt x="3761" y="16321"/>
                  <a:pt x="3778" y="16351"/>
                </a:cubicBezTo>
                <a:cubicBezTo>
                  <a:pt x="3809" y="16407"/>
                  <a:pt x="3878" y="16440"/>
                  <a:pt x="3937" y="16446"/>
                </a:cubicBezTo>
                <a:cubicBezTo>
                  <a:pt x="3981" y="16450"/>
                  <a:pt x="4033" y="16436"/>
                  <a:pt x="4064" y="16415"/>
                </a:cubicBezTo>
                <a:cubicBezTo>
                  <a:pt x="4119" y="16378"/>
                  <a:pt x="4126" y="16369"/>
                  <a:pt x="4159" y="16320"/>
                </a:cubicBezTo>
                <a:cubicBezTo>
                  <a:pt x="4193" y="16269"/>
                  <a:pt x="4191" y="16256"/>
                  <a:pt x="4191" y="16192"/>
                </a:cubicBezTo>
                <a:cubicBezTo>
                  <a:pt x="4191" y="16135"/>
                  <a:pt x="4138" y="16117"/>
                  <a:pt x="4128" y="16097"/>
                </a:cubicBezTo>
                <a:cubicBezTo>
                  <a:pt x="4128" y="16066"/>
                  <a:pt x="4128" y="16055"/>
                  <a:pt x="4096" y="16066"/>
                </a:cubicBezTo>
                <a:cubicBezTo>
                  <a:pt x="4068" y="16101"/>
                  <a:pt x="3981" y="16182"/>
                  <a:pt x="3969" y="16224"/>
                </a:cubicBezTo>
                <a:cubicBezTo>
                  <a:pt x="3950" y="16292"/>
                  <a:pt x="3924" y="16352"/>
                  <a:pt x="3905" y="16415"/>
                </a:cubicBezTo>
                <a:cubicBezTo>
                  <a:pt x="3905" y="16446"/>
                  <a:pt x="3905" y="16457"/>
                  <a:pt x="3905" y="16478"/>
                </a:cubicBezTo>
              </a:path>
              <a:path w="3017" h="985">
                <a:moveTo>
                  <a:pt x="4540" y="16320"/>
                </a:moveTo>
                <a:cubicBezTo>
                  <a:pt x="4551" y="16275"/>
                  <a:pt x="4635" y="16216"/>
                  <a:pt x="4604" y="16161"/>
                </a:cubicBezTo>
                <a:cubicBezTo>
                  <a:pt x="4590" y="16136"/>
                  <a:pt x="4548" y="16070"/>
                  <a:pt x="4540" y="16066"/>
                </a:cubicBezTo>
                <a:cubicBezTo>
                  <a:pt x="4494" y="16044"/>
                  <a:pt x="4413" y="16069"/>
                  <a:pt x="4382" y="16097"/>
                </a:cubicBezTo>
                <a:cubicBezTo>
                  <a:pt x="4342" y="16132"/>
                  <a:pt x="4323" y="16203"/>
                  <a:pt x="4318" y="16256"/>
                </a:cubicBezTo>
                <a:cubicBezTo>
                  <a:pt x="4314" y="16298"/>
                  <a:pt x="4305" y="16361"/>
                  <a:pt x="4350" y="16383"/>
                </a:cubicBezTo>
                <a:cubicBezTo>
                  <a:pt x="4421" y="16418"/>
                  <a:pt x="4402" y="16341"/>
                  <a:pt x="4445" y="16320"/>
                </a:cubicBezTo>
                <a:cubicBezTo>
                  <a:pt x="4497" y="16294"/>
                  <a:pt x="4513" y="16292"/>
                  <a:pt x="4540" y="16256"/>
                </a:cubicBezTo>
                <a:cubicBezTo>
                  <a:pt x="4551" y="16245"/>
                  <a:pt x="4561" y="16235"/>
                  <a:pt x="4572" y="16224"/>
                </a:cubicBezTo>
                <a:cubicBezTo>
                  <a:pt x="4557" y="16268"/>
                  <a:pt x="4527" y="16263"/>
                  <a:pt x="4508" y="16320"/>
                </a:cubicBezTo>
                <a:cubicBezTo>
                  <a:pt x="4489" y="16375"/>
                  <a:pt x="4482" y="16453"/>
                  <a:pt x="4477" y="16510"/>
                </a:cubicBezTo>
                <a:cubicBezTo>
                  <a:pt x="4473" y="16556"/>
                  <a:pt x="4507" y="16601"/>
                  <a:pt x="4540" y="16605"/>
                </a:cubicBezTo>
                <a:cubicBezTo>
                  <a:pt x="4551" y="16605"/>
                  <a:pt x="4561" y="16605"/>
                  <a:pt x="4572" y="16605"/>
                </a:cubicBezTo>
              </a:path>
              <a:path w="3017" h="985">
                <a:moveTo>
                  <a:pt x="4953" y="15748"/>
                </a:moveTo>
                <a:cubicBezTo>
                  <a:pt x="4953" y="15824"/>
                  <a:pt x="4940" y="15875"/>
                  <a:pt x="4921" y="15938"/>
                </a:cubicBezTo>
                <a:cubicBezTo>
                  <a:pt x="4906" y="15986"/>
                  <a:pt x="4890" y="16010"/>
                  <a:pt x="4890" y="16066"/>
                </a:cubicBezTo>
                <a:cubicBezTo>
                  <a:pt x="4938" y="16029"/>
                  <a:pt x="4954" y="16034"/>
                  <a:pt x="5016" y="16034"/>
                </a:cubicBezTo>
                <a:cubicBezTo>
                  <a:pt x="5078" y="16034"/>
                  <a:pt x="5095" y="16029"/>
                  <a:pt x="5144" y="16066"/>
                </a:cubicBezTo>
                <a:cubicBezTo>
                  <a:pt x="5158" y="16023"/>
                  <a:pt x="5161" y="16037"/>
                  <a:pt x="5207" y="16002"/>
                </a:cubicBezTo>
              </a:path>
              <a:path w="3017" h="985">
                <a:moveTo>
                  <a:pt x="5270" y="15621"/>
                </a:moveTo>
                <a:cubicBezTo>
                  <a:pt x="5270" y="15693"/>
                  <a:pt x="5250" y="15745"/>
                  <a:pt x="5239" y="15812"/>
                </a:cubicBezTo>
                <a:cubicBezTo>
                  <a:pt x="5221" y="15925"/>
                  <a:pt x="5185" y="16020"/>
                  <a:pt x="5144" y="16129"/>
                </a:cubicBezTo>
                <a:cubicBezTo>
                  <a:pt x="5115" y="16215"/>
                  <a:pt x="5109" y="16238"/>
                  <a:pt x="5080" y="16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7"/>
          <p:cNvSpPr/>
          <p:nvPr/>
        </p:nvSpPr>
        <p:spPr>
          <a:xfrm>
            <a:off x="2079720" y="5486400"/>
            <a:ext cx="2320920" cy="480960"/>
          </a:xfrm>
          <a:custGeom>
            <a:avLst/>
            <a:gdLst/>
            <a:ahLst/>
            <a:rect l="l" t="t" r="r" b="b"/>
            <a:pathLst>
              <a:path w="6447" h="1335">
                <a:moveTo>
                  <a:pt x="5906" y="15843"/>
                </a:moveTo>
                <a:cubicBezTo>
                  <a:pt x="5906" y="15988"/>
                  <a:pt x="5912" y="16130"/>
                  <a:pt x="5874" y="16256"/>
                </a:cubicBezTo>
                <a:cubicBezTo>
                  <a:pt x="5874" y="16267"/>
                  <a:pt x="5874" y="16277"/>
                  <a:pt x="5874" y="16288"/>
                </a:cubicBezTo>
              </a:path>
              <a:path w="6447" h="1335">
                <a:moveTo>
                  <a:pt x="5778" y="16002"/>
                </a:moveTo>
                <a:cubicBezTo>
                  <a:pt x="5870" y="16002"/>
                  <a:pt x="5869" y="16047"/>
                  <a:pt x="5937" y="16066"/>
                </a:cubicBezTo>
                <a:cubicBezTo>
                  <a:pt x="5992" y="16082"/>
                  <a:pt x="6044" y="16123"/>
                  <a:pt x="6096" y="16129"/>
                </a:cubicBezTo>
                <a:cubicBezTo>
                  <a:pt x="6107" y="16129"/>
                  <a:pt x="6117" y="16129"/>
                  <a:pt x="6128" y="16129"/>
                </a:cubicBezTo>
              </a:path>
              <a:path w="6447" h="1335">
                <a:moveTo>
                  <a:pt x="6604" y="15589"/>
                </a:moveTo>
                <a:cubicBezTo>
                  <a:pt x="6604" y="15556"/>
                  <a:pt x="6561" y="15577"/>
                  <a:pt x="6509" y="15621"/>
                </a:cubicBezTo>
                <a:cubicBezTo>
                  <a:pt x="6422" y="15696"/>
                  <a:pt x="6358" y="15803"/>
                  <a:pt x="6318" y="15907"/>
                </a:cubicBezTo>
                <a:cubicBezTo>
                  <a:pt x="6268" y="16035"/>
                  <a:pt x="6255" y="16118"/>
                  <a:pt x="6255" y="16256"/>
                </a:cubicBezTo>
                <a:cubicBezTo>
                  <a:pt x="6255" y="16362"/>
                  <a:pt x="6278" y="16467"/>
                  <a:pt x="6382" y="16510"/>
                </a:cubicBezTo>
                <a:cubicBezTo>
                  <a:pt x="6444" y="16536"/>
                  <a:pt x="6516" y="16463"/>
                  <a:pt x="6540" y="16415"/>
                </a:cubicBezTo>
                <a:cubicBezTo>
                  <a:pt x="6586" y="16322"/>
                  <a:pt x="6654" y="16232"/>
                  <a:pt x="6668" y="16129"/>
                </a:cubicBezTo>
                <a:cubicBezTo>
                  <a:pt x="6684" y="16004"/>
                  <a:pt x="6686" y="15932"/>
                  <a:pt x="6668" y="15812"/>
                </a:cubicBezTo>
                <a:cubicBezTo>
                  <a:pt x="6656" y="15734"/>
                  <a:pt x="6626" y="15685"/>
                  <a:pt x="6604" y="15621"/>
                </a:cubicBezTo>
                <a:cubicBezTo>
                  <a:pt x="6604" y="15610"/>
                  <a:pt x="6604" y="15600"/>
                  <a:pt x="6604" y="15589"/>
                </a:cubicBezTo>
                <a:cubicBezTo>
                  <a:pt x="6562" y="15645"/>
                  <a:pt x="6572" y="15673"/>
                  <a:pt x="6572" y="15748"/>
                </a:cubicBezTo>
              </a:path>
              <a:path w="6447" h="1335">
                <a:moveTo>
                  <a:pt x="7112" y="16097"/>
                </a:moveTo>
                <a:cubicBezTo>
                  <a:pt x="7135" y="16017"/>
                  <a:pt x="7198" y="16002"/>
                  <a:pt x="7207" y="15907"/>
                </a:cubicBezTo>
                <a:cubicBezTo>
                  <a:pt x="7214" y="15839"/>
                  <a:pt x="7162" y="15843"/>
                  <a:pt x="7112" y="15843"/>
                </a:cubicBezTo>
                <a:cubicBezTo>
                  <a:pt x="7041" y="15843"/>
                  <a:pt x="7000" y="15891"/>
                  <a:pt x="6953" y="15938"/>
                </a:cubicBezTo>
                <a:cubicBezTo>
                  <a:pt x="6905" y="15987"/>
                  <a:pt x="6863" y="16061"/>
                  <a:pt x="6858" y="16129"/>
                </a:cubicBezTo>
                <a:cubicBezTo>
                  <a:pt x="6851" y="16230"/>
                  <a:pt x="6848" y="16308"/>
                  <a:pt x="6953" y="16351"/>
                </a:cubicBezTo>
                <a:cubicBezTo>
                  <a:pt x="6996" y="16369"/>
                  <a:pt x="7088" y="16316"/>
                  <a:pt x="7112" y="16288"/>
                </a:cubicBezTo>
                <a:cubicBezTo>
                  <a:pt x="7136" y="16260"/>
                  <a:pt x="7223" y="16164"/>
                  <a:pt x="7239" y="16129"/>
                </a:cubicBezTo>
                <a:cubicBezTo>
                  <a:pt x="7239" y="16118"/>
                  <a:pt x="7239" y="16108"/>
                  <a:pt x="7239" y="16097"/>
                </a:cubicBezTo>
                <a:cubicBezTo>
                  <a:pt x="7239" y="16031"/>
                  <a:pt x="7183" y="16164"/>
                  <a:pt x="7176" y="16192"/>
                </a:cubicBezTo>
                <a:cubicBezTo>
                  <a:pt x="7156" y="16270"/>
                  <a:pt x="7144" y="16328"/>
                  <a:pt x="7144" y="16415"/>
                </a:cubicBezTo>
                <a:cubicBezTo>
                  <a:pt x="7144" y="16462"/>
                  <a:pt x="7159" y="16597"/>
                  <a:pt x="7239" y="16574"/>
                </a:cubicBezTo>
                <a:cubicBezTo>
                  <a:pt x="7294" y="16546"/>
                  <a:pt x="7309" y="16541"/>
                  <a:pt x="7334" y="16510"/>
                </a:cubicBezTo>
              </a:path>
              <a:path w="6447" h="1335">
                <a:moveTo>
                  <a:pt x="7620" y="15621"/>
                </a:moveTo>
                <a:lnTo>
                  <a:pt x="7620" y="15621"/>
                </a:lnTo>
              </a:path>
              <a:path w="6447" h="1335">
                <a:moveTo>
                  <a:pt x="7620" y="15621"/>
                </a:moveTo>
                <a:cubicBezTo>
                  <a:pt x="7641" y="15610"/>
                  <a:pt x="7663" y="15600"/>
                  <a:pt x="7684" y="15589"/>
                </a:cubicBezTo>
              </a:path>
              <a:path w="6447" h="1335">
                <a:moveTo>
                  <a:pt x="7684" y="15589"/>
                </a:moveTo>
                <a:cubicBezTo>
                  <a:pt x="7730" y="15589"/>
                  <a:pt x="7776" y="15598"/>
                  <a:pt x="7810" y="15621"/>
                </a:cubicBezTo>
                <a:cubicBezTo>
                  <a:pt x="7866" y="15658"/>
                  <a:pt x="7874" y="15648"/>
                  <a:pt x="7874" y="15716"/>
                </a:cubicBezTo>
                <a:cubicBezTo>
                  <a:pt x="7874" y="15750"/>
                  <a:pt x="7820" y="15807"/>
                  <a:pt x="7810" y="15812"/>
                </a:cubicBezTo>
                <a:cubicBezTo>
                  <a:pt x="7787" y="15824"/>
                  <a:pt x="7674" y="15843"/>
                  <a:pt x="7747" y="15843"/>
                </a:cubicBezTo>
                <a:cubicBezTo>
                  <a:pt x="7792" y="15843"/>
                  <a:pt x="7872" y="15908"/>
                  <a:pt x="7874" y="15938"/>
                </a:cubicBezTo>
                <a:cubicBezTo>
                  <a:pt x="7880" y="16018"/>
                  <a:pt x="7862" y="16007"/>
                  <a:pt x="7906" y="16066"/>
                </a:cubicBezTo>
                <a:cubicBezTo>
                  <a:pt x="7858" y="16101"/>
                  <a:pt x="7840" y="16097"/>
                  <a:pt x="7779" y="16097"/>
                </a:cubicBezTo>
                <a:cubicBezTo>
                  <a:pt x="7700" y="16097"/>
                  <a:pt x="7730" y="16075"/>
                  <a:pt x="7684" y="16097"/>
                </a:cubicBezTo>
                <a:cubicBezTo>
                  <a:pt x="7673" y="16097"/>
                  <a:pt x="7663" y="16097"/>
                  <a:pt x="7652" y="16097"/>
                </a:cubicBezTo>
              </a:path>
              <a:path w="6447" h="1335">
                <a:moveTo>
                  <a:pt x="8446" y="15716"/>
                </a:moveTo>
                <a:cubicBezTo>
                  <a:pt x="8397" y="15797"/>
                  <a:pt x="8427" y="15936"/>
                  <a:pt x="8446" y="16034"/>
                </a:cubicBezTo>
                <a:cubicBezTo>
                  <a:pt x="8467" y="16143"/>
                  <a:pt x="8539" y="16372"/>
                  <a:pt x="8509" y="16478"/>
                </a:cubicBezTo>
                <a:cubicBezTo>
                  <a:pt x="8498" y="16489"/>
                  <a:pt x="8488" y="16499"/>
                  <a:pt x="8477" y="16510"/>
                </a:cubicBezTo>
              </a:path>
              <a:path w="6447" h="1335">
                <a:moveTo>
                  <a:pt x="8318" y="15875"/>
                </a:moveTo>
                <a:cubicBezTo>
                  <a:pt x="8391" y="15923"/>
                  <a:pt x="8486" y="15968"/>
                  <a:pt x="8572" y="16002"/>
                </a:cubicBezTo>
                <a:cubicBezTo>
                  <a:pt x="8658" y="16031"/>
                  <a:pt x="8681" y="16037"/>
                  <a:pt x="8731" y="16066"/>
                </a:cubicBezTo>
              </a:path>
              <a:path w="6447" h="1335">
                <a:moveTo>
                  <a:pt x="9271" y="15589"/>
                </a:moveTo>
                <a:cubicBezTo>
                  <a:pt x="9250" y="15508"/>
                  <a:pt x="9235" y="15525"/>
                  <a:pt x="9176" y="15558"/>
                </a:cubicBezTo>
                <a:cubicBezTo>
                  <a:pt x="9060" y="15623"/>
                  <a:pt x="9001" y="15689"/>
                  <a:pt x="8954" y="15812"/>
                </a:cubicBezTo>
                <a:cubicBezTo>
                  <a:pt x="8908" y="15932"/>
                  <a:pt x="8866" y="16061"/>
                  <a:pt x="8890" y="16192"/>
                </a:cubicBezTo>
                <a:cubicBezTo>
                  <a:pt x="8908" y="16289"/>
                  <a:pt x="8952" y="16382"/>
                  <a:pt x="9049" y="16415"/>
                </a:cubicBezTo>
                <a:cubicBezTo>
                  <a:pt x="9134" y="16444"/>
                  <a:pt x="9143" y="16342"/>
                  <a:pt x="9176" y="16288"/>
                </a:cubicBezTo>
                <a:cubicBezTo>
                  <a:pt x="9243" y="16177"/>
                  <a:pt x="9315" y="16039"/>
                  <a:pt x="9334" y="15907"/>
                </a:cubicBezTo>
                <a:cubicBezTo>
                  <a:pt x="9346" y="15823"/>
                  <a:pt x="9348" y="15695"/>
                  <a:pt x="9303" y="15621"/>
                </a:cubicBezTo>
                <a:cubicBezTo>
                  <a:pt x="9285" y="15591"/>
                  <a:pt x="9245" y="15511"/>
                  <a:pt x="9239" y="15589"/>
                </a:cubicBezTo>
                <a:cubicBezTo>
                  <a:pt x="9239" y="15610"/>
                  <a:pt x="9239" y="15632"/>
                  <a:pt x="9239" y="15653"/>
                </a:cubicBezTo>
              </a:path>
              <a:path w="6447" h="1335">
                <a:moveTo>
                  <a:pt x="9684" y="15875"/>
                </a:moveTo>
                <a:cubicBezTo>
                  <a:pt x="9699" y="15815"/>
                  <a:pt x="9755" y="15803"/>
                  <a:pt x="9779" y="15748"/>
                </a:cubicBezTo>
                <a:cubicBezTo>
                  <a:pt x="9803" y="15693"/>
                  <a:pt x="9807" y="15690"/>
                  <a:pt x="9779" y="15653"/>
                </a:cubicBezTo>
                <a:cubicBezTo>
                  <a:pt x="9768" y="15642"/>
                  <a:pt x="9758" y="15632"/>
                  <a:pt x="9747" y="15621"/>
                </a:cubicBezTo>
                <a:cubicBezTo>
                  <a:pt x="9693" y="15635"/>
                  <a:pt x="9633" y="15648"/>
                  <a:pt x="9588" y="15684"/>
                </a:cubicBezTo>
                <a:cubicBezTo>
                  <a:pt x="9522" y="15737"/>
                  <a:pt x="9508" y="15808"/>
                  <a:pt x="9462" y="15875"/>
                </a:cubicBezTo>
                <a:cubicBezTo>
                  <a:pt x="9421" y="15935"/>
                  <a:pt x="9423" y="16001"/>
                  <a:pt x="9462" y="16066"/>
                </a:cubicBezTo>
                <a:cubicBezTo>
                  <a:pt x="9478" y="16093"/>
                  <a:pt x="9595" y="16124"/>
                  <a:pt x="9620" y="16097"/>
                </a:cubicBezTo>
                <a:cubicBezTo>
                  <a:pt x="9665" y="16048"/>
                  <a:pt x="9755" y="15935"/>
                  <a:pt x="9779" y="15875"/>
                </a:cubicBezTo>
                <a:cubicBezTo>
                  <a:pt x="9779" y="15864"/>
                  <a:pt x="9779" y="15854"/>
                  <a:pt x="9779" y="15843"/>
                </a:cubicBezTo>
                <a:cubicBezTo>
                  <a:pt x="9752" y="15879"/>
                  <a:pt x="9695" y="15960"/>
                  <a:pt x="9684" y="16002"/>
                </a:cubicBezTo>
                <a:cubicBezTo>
                  <a:pt x="9672" y="16048"/>
                  <a:pt x="9690" y="16193"/>
                  <a:pt x="9716" y="16224"/>
                </a:cubicBezTo>
                <a:cubicBezTo>
                  <a:pt x="9743" y="16256"/>
                  <a:pt x="9800" y="16224"/>
                  <a:pt x="9842" y="16224"/>
                </a:cubicBezTo>
              </a:path>
              <a:path w="6447" h="1335">
                <a:moveTo>
                  <a:pt x="10033" y="15272"/>
                </a:moveTo>
                <a:cubicBezTo>
                  <a:pt x="10060" y="15263"/>
                  <a:pt x="10082" y="15214"/>
                  <a:pt x="10128" y="15240"/>
                </a:cubicBezTo>
                <a:cubicBezTo>
                  <a:pt x="10181" y="15269"/>
                  <a:pt x="10190" y="15272"/>
                  <a:pt x="10255" y="15272"/>
                </a:cubicBezTo>
                <a:cubicBezTo>
                  <a:pt x="10287" y="15272"/>
                  <a:pt x="10298" y="15272"/>
                  <a:pt x="10319" y="15272"/>
                </a:cubicBezTo>
                <a:cubicBezTo>
                  <a:pt x="10304" y="15331"/>
                  <a:pt x="10288" y="15342"/>
                  <a:pt x="10255" y="15367"/>
                </a:cubicBezTo>
                <a:cubicBezTo>
                  <a:pt x="10195" y="15413"/>
                  <a:pt x="10193" y="15472"/>
                  <a:pt x="10160" y="15526"/>
                </a:cubicBezTo>
                <a:cubicBezTo>
                  <a:pt x="10142" y="15556"/>
                  <a:pt x="10103" y="15608"/>
                  <a:pt x="10128" y="15653"/>
                </a:cubicBezTo>
                <a:cubicBezTo>
                  <a:pt x="10146" y="15685"/>
                  <a:pt x="10223" y="15712"/>
                  <a:pt x="10255" y="15716"/>
                </a:cubicBezTo>
                <a:cubicBezTo>
                  <a:pt x="10314" y="15723"/>
                  <a:pt x="10370" y="15689"/>
                  <a:pt x="10382" y="15653"/>
                </a:cubicBezTo>
              </a:path>
              <a:path w="6447" h="1335">
                <a:moveTo>
                  <a:pt x="10795" y="15494"/>
                </a:moveTo>
                <a:cubicBezTo>
                  <a:pt x="10808" y="15582"/>
                  <a:pt x="10827" y="15648"/>
                  <a:pt x="10827" y="15748"/>
                </a:cubicBezTo>
                <a:cubicBezTo>
                  <a:pt x="10827" y="15855"/>
                  <a:pt x="10811" y="15937"/>
                  <a:pt x="10795" y="16034"/>
                </a:cubicBezTo>
                <a:cubicBezTo>
                  <a:pt x="10795" y="16091"/>
                  <a:pt x="10799" y="16108"/>
                  <a:pt x="10763" y="16129"/>
                </a:cubicBezTo>
              </a:path>
              <a:path w="6447" h="1335">
                <a:moveTo>
                  <a:pt x="10668" y="15812"/>
                </a:moveTo>
                <a:cubicBezTo>
                  <a:pt x="10739" y="15868"/>
                  <a:pt x="10783" y="15881"/>
                  <a:pt x="10858" y="15907"/>
                </a:cubicBezTo>
                <a:cubicBezTo>
                  <a:pt x="10915" y="15927"/>
                  <a:pt x="10959" y="15958"/>
                  <a:pt x="11017" y="15970"/>
                </a:cubicBezTo>
              </a:path>
              <a:path w="6447" h="1335">
                <a:moveTo>
                  <a:pt x="11366" y="15335"/>
                </a:moveTo>
                <a:cubicBezTo>
                  <a:pt x="11366" y="15426"/>
                  <a:pt x="11345" y="15506"/>
                  <a:pt x="11335" y="15589"/>
                </a:cubicBezTo>
                <a:cubicBezTo>
                  <a:pt x="11319" y="15719"/>
                  <a:pt x="11308" y="15843"/>
                  <a:pt x="11271" y="15970"/>
                </a:cubicBezTo>
                <a:cubicBezTo>
                  <a:pt x="11244" y="16062"/>
                  <a:pt x="11217" y="16164"/>
                  <a:pt x="11208" y="16256"/>
                </a:cubicBezTo>
                <a:cubicBezTo>
                  <a:pt x="11208" y="16267"/>
                  <a:pt x="11208" y="16277"/>
                  <a:pt x="11208" y="16288"/>
                </a:cubicBezTo>
              </a:path>
              <a:path w="6447" h="1335">
                <a:moveTo>
                  <a:pt x="11557" y="15462"/>
                </a:moveTo>
                <a:cubicBezTo>
                  <a:pt x="11606" y="15413"/>
                  <a:pt x="11616" y="15399"/>
                  <a:pt x="11684" y="15399"/>
                </a:cubicBezTo>
                <a:cubicBezTo>
                  <a:pt x="11740" y="15399"/>
                  <a:pt x="11773" y="15456"/>
                  <a:pt x="11811" y="15494"/>
                </a:cubicBezTo>
                <a:cubicBezTo>
                  <a:pt x="11861" y="15545"/>
                  <a:pt x="11835" y="15567"/>
                  <a:pt x="11811" y="15621"/>
                </a:cubicBezTo>
                <a:cubicBezTo>
                  <a:pt x="11781" y="15690"/>
                  <a:pt x="11770" y="15755"/>
                  <a:pt x="11716" y="15812"/>
                </a:cubicBezTo>
                <a:cubicBezTo>
                  <a:pt x="11666" y="15865"/>
                  <a:pt x="11595" y="15948"/>
                  <a:pt x="11557" y="16002"/>
                </a:cubicBezTo>
                <a:cubicBezTo>
                  <a:pt x="11539" y="16028"/>
                  <a:pt x="11520" y="16144"/>
                  <a:pt x="11494" y="16161"/>
                </a:cubicBezTo>
                <a:cubicBezTo>
                  <a:pt x="11462" y="16161"/>
                  <a:pt x="11452" y="16161"/>
                  <a:pt x="11462" y="16192"/>
                </a:cubicBezTo>
                <a:cubicBezTo>
                  <a:pt x="11487" y="16267"/>
                  <a:pt x="11504" y="16203"/>
                  <a:pt x="11525" y="16192"/>
                </a:cubicBezTo>
                <a:cubicBezTo>
                  <a:pt x="11595" y="16157"/>
                  <a:pt x="11723" y="16211"/>
                  <a:pt x="11748" y="16224"/>
                </a:cubicBezTo>
                <a:cubicBezTo>
                  <a:pt x="11779" y="16224"/>
                  <a:pt x="11790" y="16224"/>
                  <a:pt x="11779" y="16192"/>
                </a:cubicBezTo>
              </a:path>
              <a:path w="6447" h="1335">
                <a:moveTo>
                  <a:pt x="12192" y="15780"/>
                </a:moveTo>
                <a:cubicBezTo>
                  <a:pt x="12154" y="15729"/>
                  <a:pt x="12186" y="15699"/>
                  <a:pt x="12160" y="15653"/>
                </a:cubicBezTo>
                <a:cubicBezTo>
                  <a:pt x="12126" y="15593"/>
                  <a:pt x="12069" y="15621"/>
                  <a:pt x="12033" y="15653"/>
                </a:cubicBezTo>
                <a:cubicBezTo>
                  <a:pt x="11959" y="15719"/>
                  <a:pt x="11916" y="15790"/>
                  <a:pt x="11874" y="15875"/>
                </a:cubicBezTo>
                <a:cubicBezTo>
                  <a:pt x="11827" y="15970"/>
                  <a:pt x="11829" y="16012"/>
                  <a:pt x="11843" y="16097"/>
                </a:cubicBezTo>
                <a:cubicBezTo>
                  <a:pt x="11852" y="16151"/>
                  <a:pt x="11881" y="16186"/>
                  <a:pt x="11938" y="16192"/>
                </a:cubicBezTo>
                <a:cubicBezTo>
                  <a:pt x="11973" y="16196"/>
                  <a:pt x="12000" y="16130"/>
                  <a:pt x="12033" y="16097"/>
                </a:cubicBezTo>
                <a:cubicBezTo>
                  <a:pt x="12074" y="16057"/>
                  <a:pt x="12091" y="16015"/>
                  <a:pt x="12128" y="16002"/>
                </a:cubicBezTo>
                <a:cubicBezTo>
                  <a:pt x="12093" y="16014"/>
                  <a:pt x="12071" y="16046"/>
                  <a:pt x="12065" y="16097"/>
                </a:cubicBezTo>
                <a:cubicBezTo>
                  <a:pt x="12058" y="16162"/>
                  <a:pt x="12080" y="16173"/>
                  <a:pt x="12097" y="16224"/>
                </a:cubicBezTo>
                <a:cubicBezTo>
                  <a:pt x="12128" y="16316"/>
                  <a:pt x="12156" y="16279"/>
                  <a:pt x="12224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8"/>
          <p:cNvSpPr/>
          <p:nvPr/>
        </p:nvSpPr>
        <p:spPr>
          <a:xfrm>
            <a:off x="4572000" y="5611680"/>
            <a:ext cx="388800" cy="285840"/>
          </a:xfrm>
          <a:custGeom>
            <a:avLst/>
            <a:gdLst/>
            <a:ahLst/>
            <a:rect l="l" t="t" r="r" b="b"/>
            <a:pathLst>
              <a:path w="1081" h="795">
                <a:moveTo>
                  <a:pt x="12890" y="15621"/>
                </a:moveTo>
                <a:cubicBezTo>
                  <a:pt x="12906" y="15700"/>
                  <a:pt x="12922" y="15758"/>
                  <a:pt x="12922" y="15843"/>
                </a:cubicBezTo>
                <a:cubicBezTo>
                  <a:pt x="12922" y="15942"/>
                  <a:pt x="12890" y="16028"/>
                  <a:pt x="12890" y="16129"/>
                </a:cubicBezTo>
                <a:cubicBezTo>
                  <a:pt x="12890" y="16195"/>
                  <a:pt x="12872" y="16201"/>
                  <a:pt x="12859" y="16256"/>
                </a:cubicBezTo>
              </a:path>
              <a:path w="1081" h="795">
                <a:moveTo>
                  <a:pt x="12700" y="15748"/>
                </a:moveTo>
                <a:cubicBezTo>
                  <a:pt x="12775" y="15748"/>
                  <a:pt x="12854" y="15757"/>
                  <a:pt x="12922" y="15780"/>
                </a:cubicBezTo>
                <a:cubicBezTo>
                  <a:pt x="12974" y="15797"/>
                  <a:pt x="13052" y="15838"/>
                  <a:pt x="13113" y="15812"/>
                </a:cubicBezTo>
                <a:cubicBezTo>
                  <a:pt x="13144" y="15780"/>
                  <a:pt x="13155" y="15769"/>
                  <a:pt x="13176" y="15748"/>
                </a:cubicBezTo>
              </a:path>
              <a:path w="1081" h="795">
                <a:moveTo>
                  <a:pt x="13398" y="15589"/>
                </a:moveTo>
                <a:cubicBezTo>
                  <a:pt x="13475" y="15589"/>
                  <a:pt x="13564" y="15570"/>
                  <a:pt x="13621" y="15621"/>
                </a:cubicBezTo>
                <a:cubicBezTo>
                  <a:pt x="13658" y="15655"/>
                  <a:pt x="13724" y="15662"/>
                  <a:pt x="13748" y="15716"/>
                </a:cubicBezTo>
                <a:cubicBezTo>
                  <a:pt x="13775" y="15777"/>
                  <a:pt x="13718" y="15782"/>
                  <a:pt x="13684" y="15812"/>
                </a:cubicBezTo>
                <a:cubicBezTo>
                  <a:pt x="13648" y="15843"/>
                  <a:pt x="13603" y="15870"/>
                  <a:pt x="13557" y="15875"/>
                </a:cubicBezTo>
                <a:cubicBezTo>
                  <a:pt x="13521" y="15875"/>
                  <a:pt x="13508" y="15878"/>
                  <a:pt x="13494" y="15907"/>
                </a:cubicBezTo>
                <a:cubicBezTo>
                  <a:pt x="13565" y="15907"/>
                  <a:pt x="13595" y="15905"/>
                  <a:pt x="13652" y="15938"/>
                </a:cubicBezTo>
                <a:cubicBezTo>
                  <a:pt x="13705" y="15968"/>
                  <a:pt x="13767" y="16005"/>
                  <a:pt x="13780" y="16066"/>
                </a:cubicBezTo>
                <a:cubicBezTo>
                  <a:pt x="13794" y="16128"/>
                  <a:pt x="13788" y="16212"/>
                  <a:pt x="13748" y="16256"/>
                </a:cubicBezTo>
                <a:cubicBezTo>
                  <a:pt x="13702" y="16308"/>
                  <a:pt x="13648" y="16334"/>
                  <a:pt x="13589" y="16351"/>
                </a:cubicBezTo>
                <a:cubicBezTo>
                  <a:pt x="13532" y="16368"/>
                  <a:pt x="13499" y="16383"/>
                  <a:pt x="13430" y="16383"/>
                </a:cubicBezTo>
                <a:cubicBezTo>
                  <a:pt x="13414" y="16383"/>
                  <a:pt x="13349" y="16347"/>
                  <a:pt x="13335" y="16320"/>
                </a:cubicBezTo>
                <a:cubicBezTo>
                  <a:pt x="13335" y="16288"/>
                  <a:pt x="13335" y="16277"/>
                  <a:pt x="13335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9"/>
          <p:cNvSpPr/>
          <p:nvPr/>
        </p:nvSpPr>
        <p:spPr>
          <a:xfrm>
            <a:off x="3051000" y="4160880"/>
            <a:ext cx="3784680" cy="125280"/>
          </a:xfrm>
          <a:custGeom>
            <a:avLst/>
            <a:gdLst/>
            <a:ahLst/>
            <a:rect l="l" t="t" r="r" b="b"/>
            <a:pathLst>
              <a:path w="10510" h="350">
                <a:moveTo>
                  <a:pt x="18986" y="11811"/>
                </a:moveTo>
                <a:cubicBezTo>
                  <a:pt x="18862" y="11816"/>
                  <a:pt x="18720" y="11848"/>
                  <a:pt x="18606" y="11843"/>
                </a:cubicBezTo>
                <a:cubicBezTo>
                  <a:pt x="18503" y="11838"/>
                  <a:pt x="18424" y="11814"/>
                  <a:pt x="18320" y="11811"/>
                </a:cubicBezTo>
                <a:cubicBezTo>
                  <a:pt x="18145" y="11806"/>
                  <a:pt x="17983" y="11804"/>
                  <a:pt x="17812" y="11779"/>
                </a:cubicBezTo>
                <a:cubicBezTo>
                  <a:pt x="17685" y="11761"/>
                  <a:pt x="17560" y="11762"/>
                  <a:pt x="17431" y="11748"/>
                </a:cubicBezTo>
                <a:cubicBezTo>
                  <a:pt x="17297" y="11733"/>
                  <a:pt x="17152" y="11705"/>
                  <a:pt x="17018" y="11684"/>
                </a:cubicBezTo>
                <a:cubicBezTo>
                  <a:pt x="16880" y="11662"/>
                  <a:pt x="16743" y="11642"/>
                  <a:pt x="16605" y="11620"/>
                </a:cubicBezTo>
                <a:cubicBezTo>
                  <a:pt x="16466" y="11598"/>
                  <a:pt x="16334" y="11604"/>
                  <a:pt x="16192" y="11589"/>
                </a:cubicBezTo>
                <a:cubicBezTo>
                  <a:pt x="16064" y="11576"/>
                  <a:pt x="15945" y="11559"/>
                  <a:pt x="15812" y="11557"/>
                </a:cubicBezTo>
                <a:cubicBezTo>
                  <a:pt x="15429" y="11550"/>
                  <a:pt x="15043" y="11571"/>
                  <a:pt x="14668" y="11589"/>
                </a:cubicBezTo>
                <a:cubicBezTo>
                  <a:pt x="14499" y="11597"/>
                  <a:pt x="14324" y="11612"/>
                  <a:pt x="14160" y="11620"/>
                </a:cubicBezTo>
                <a:cubicBezTo>
                  <a:pt x="13970" y="11629"/>
                  <a:pt x="13773" y="11642"/>
                  <a:pt x="13589" y="11652"/>
                </a:cubicBezTo>
                <a:cubicBezTo>
                  <a:pt x="13325" y="11666"/>
                  <a:pt x="13054" y="11672"/>
                  <a:pt x="12795" y="11684"/>
                </a:cubicBezTo>
                <a:cubicBezTo>
                  <a:pt x="12605" y="11693"/>
                  <a:pt x="12408" y="11706"/>
                  <a:pt x="12224" y="11716"/>
                </a:cubicBezTo>
                <a:cubicBezTo>
                  <a:pt x="12035" y="11726"/>
                  <a:pt x="11832" y="11738"/>
                  <a:pt x="11652" y="11748"/>
                </a:cubicBezTo>
                <a:cubicBezTo>
                  <a:pt x="11552" y="11754"/>
                  <a:pt x="11448" y="11742"/>
                  <a:pt x="11335" y="11748"/>
                </a:cubicBezTo>
                <a:cubicBezTo>
                  <a:pt x="11090" y="11760"/>
                  <a:pt x="10839" y="11708"/>
                  <a:pt x="10604" y="11716"/>
                </a:cubicBezTo>
                <a:cubicBezTo>
                  <a:pt x="10502" y="11720"/>
                  <a:pt x="10416" y="11745"/>
                  <a:pt x="10319" y="11748"/>
                </a:cubicBezTo>
                <a:cubicBezTo>
                  <a:pt x="10212" y="11751"/>
                  <a:pt x="10099" y="11773"/>
                  <a:pt x="10001" y="11779"/>
                </a:cubicBezTo>
                <a:cubicBezTo>
                  <a:pt x="9833" y="11788"/>
                  <a:pt x="9655" y="11803"/>
                  <a:pt x="9493" y="11811"/>
                </a:cubicBezTo>
                <a:cubicBezTo>
                  <a:pt x="9366" y="11817"/>
                  <a:pt x="9230" y="11836"/>
                  <a:pt x="9112" y="11843"/>
                </a:cubicBezTo>
                <a:cubicBezTo>
                  <a:pt x="9016" y="11849"/>
                  <a:pt x="8914" y="11867"/>
                  <a:pt x="8826" y="11874"/>
                </a:cubicBezTo>
                <a:cubicBezTo>
                  <a:pt x="8729" y="11881"/>
                  <a:pt x="8621" y="11896"/>
                  <a:pt x="8541" y="11906"/>
                </a:cubicBezTo>
                <a:cubicBezTo>
                  <a:pt x="8509" y="11906"/>
                  <a:pt x="8498" y="11906"/>
                  <a:pt x="8477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0"/>
          <p:cNvSpPr/>
          <p:nvPr/>
        </p:nvSpPr>
        <p:spPr>
          <a:xfrm>
            <a:off x="628560" y="5954760"/>
            <a:ext cx="4550040" cy="274680"/>
          </a:xfrm>
          <a:custGeom>
            <a:avLst/>
            <a:gdLst/>
            <a:ahLst/>
            <a:rect l="l" t="t" r="r" b="b"/>
            <a:pathLst>
              <a:path w="12638" h="763">
                <a:moveTo>
                  <a:pt x="14383" y="16542"/>
                </a:moveTo>
                <a:cubicBezTo>
                  <a:pt x="14330" y="16548"/>
                  <a:pt x="14303" y="16571"/>
                  <a:pt x="14256" y="16574"/>
                </a:cubicBezTo>
                <a:cubicBezTo>
                  <a:pt x="13882" y="16598"/>
                  <a:pt x="13499" y="16563"/>
                  <a:pt x="13144" y="16574"/>
                </a:cubicBezTo>
                <a:cubicBezTo>
                  <a:pt x="12876" y="16582"/>
                  <a:pt x="12609" y="16554"/>
                  <a:pt x="12351" y="16542"/>
                </a:cubicBezTo>
                <a:cubicBezTo>
                  <a:pt x="11992" y="16525"/>
                  <a:pt x="11619" y="16535"/>
                  <a:pt x="11271" y="16574"/>
                </a:cubicBezTo>
                <a:cubicBezTo>
                  <a:pt x="11176" y="16585"/>
                  <a:pt x="11081" y="16593"/>
                  <a:pt x="10986" y="16605"/>
                </a:cubicBezTo>
                <a:cubicBezTo>
                  <a:pt x="10870" y="16620"/>
                  <a:pt x="10749" y="16632"/>
                  <a:pt x="10636" y="16637"/>
                </a:cubicBezTo>
                <a:cubicBezTo>
                  <a:pt x="10313" y="16651"/>
                  <a:pt x="9998" y="16618"/>
                  <a:pt x="9684" y="16605"/>
                </a:cubicBezTo>
                <a:cubicBezTo>
                  <a:pt x="9532" y="16599"/>
                  <a:pt x="9380" y="16631"/>
                  <a:pt x="9239" y="16637"/>
                </a:cubicBezTo>
                <a:cubicBezTo>
                  <a:pt x="9106" y="16643"/>
                  <a:pt x="8982" y="16654"/>
                  <a:pt x="8858" y="16669"/>
                </a:cubicBezTo>
                <a:cubicBezTo>
                  <a:pt x="8748" y="16683"/>
                  <a:pt x="8648" y="16679"/>
                  <a:pt x="8541" y="16700"/>
                </a:cubicBezTo>
                <a:cubicBezTo>
                  <a:pt x="8473" y="16713"/>
                  <a:pt x="8329" y="16760"/>
                  <a:pt x="8287" y="16764"/>
                </a:cubicBezTo>
                <a:cubicBezTo>
                  <a:pt x="8011" y="16793"/>
                  <a:pt x="7733" y="16767"/>
                  <a:pt x="7461" y="16796"/>
                </a:cubicBezTo>
                <a:cubicBezTo>
                  <a:pt x="7365" y="16806"/>
                  <a:pt x="7275" y="16816"/>
                  <a:pt x="7176" y="16828"/>
                </a:cubicBezTo>
                <a:cubicBezTo>
                  <a:pt x="7084" y="16839"/>
                  <a:pt x="6982" y="16840"/>
                  <a:pt x="6890" y="16859"/>
                </a:cubicBezTo>
                <a:cubicBezTo>
                  <a:pt x="6781" y="16881"/>
                  <a:pt x="6684" y="16909"/>
                  <a:pt x="6572" y="16923"/>
                </a:cubicBezTo>
                <a:cubicBezTo>
                  <a:pt x="6424" y="16942"/>
                  <a:pt x="6277" y="16968"/>
                  <a:pt x="6128" y="16986"/>
                </a:cubicBezTo>
                <a:cubicBezTo>
                  <a:pt x="6011" y="17000"/>
                  <a:pt x="5896" y="17003"/>
                  <a:pt x="5778" y="17018"/>
                </a:cubicBezTo>
                <a:cubicBezTo>
                  <a:pt x="5660" y="17033"/>
                  <a:pt x="5547" y="17037"/>
                  <a:pt x="5429" y="17050"/>
                </a:cubicBezTo>
                <a:cubicBezTo>
                  <a:pt x="5321" y="17062"/>
                  <a:pt x="5219" y="17069"/>
                  <a:pt x="5112" y="17082"/>
                </a:cubicBezTo>
                <a:cubicBezTo>
                  <a:pt x="5007" y="17095"/>
                  <a:pt x="4900" y="17099"/>
                  <a:pt x="4794" y="17113"/>
                </a:cubicBezTo>
                <a:cubicBezTo>
                  <a:pt x="4653" y="17132"/>
                  <a:pt x="4494" y="17179"/>
                  <a:pt x="4350" y="17177"/>
                </a:cubicBezTo>
                <a:cubicBezTo>
                  <a:pt x="4256" y="17176"/>
                  <a:pt x="4185" y="17148"/>
                  <a:pt x="4096" y="17145"/>
                </a:cubicBezTo>
                <a:cubicBezTo>
                  <a:pt x="3840" y="17137"/>
                  <a:pt x="3578" y="17166"/>
                  <a:pt x="3334" y="17177"/>
                </a:cubicBezTo>
                <a:cubicBezTo>
                  <a:pt x="3189" y="17184"/>
                  <a:pt x="3057" y="17149"/>
                  <a:pt x="2921" y="17145"/>
                </a:cubicBezTo>
                <a:cubicBezTo>
                  <a:pt x="2625" y="17137"/>
                  <a:pt x="2341" y="17139"/>
                  <a:pt x="2064" y="17208"/>
                </a:cubicBezTo>
                <a:cubicBezTo>
                  <a:pt x="1985" y="17228"/>
                  <a:pt x="1925" y="17247"/>
                  <a:pt x="1842" y="17272"/>
                </a:cubicBezTo>
                <a:cubicBezTo>
                  <a:pt x="1806" y="17308"/>
                  <a:pt x="1789" y="17319"/>
                  <a:pt x="1746" y="17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143000" y="2057400"/>
          <a:ext cx="32767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276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011240" y="2876400"/>
                <a:ext cx="4759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600200" y="5334120"/>
                <a:ext cx="335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1716120" y="4402080"/>
                <a:ext cx="304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942160" y="4686480"/>
                <a:ext cx="1833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Ink 9"/>
          <p:cNvSpPr/>
          <p:nvPr/>
        </p:nvSpPr>
        <p:spPr>
          <a:xfrm>
            <a:off x="1257480" y="1211400"/>
            <a:ext cx="2685960" cy="1784160"/>
          </a:xfrm>
          <a:custGeom>
            <a:avLst/>
            <a:gdLst/>
            <a:ahLst/>
            <a:rect l="l" t="t" r="r" b="b"/>
            <a:pathLst>
              <a:path w="7463" h="4953">
                <a:moveTo>
                  <a:pt x="3715" y="6096"/>
                </a:moveTo>
                <a:cubicBezTo>
                  <a:pt x="3715" y="6039"/>
                  <a:pt x="3724" y="6054"/>
                  <a:pt x="3746" y="6001"/>
                </a:cubicBezTo>
                <a:cubicBezTo>
                  <a:pt x="3766" y="5952"/>
                  <a:pt x="3757" y="5890"/>
                  <a:pt x="3778" y="5842"/>
                </a:cubicBezTo>
                <a:cubicBezTo>
                  <a:pt x="3805" y="5778"/>
                  <a:pt x="3849" y="5712"/>
                  <a:pt x="3874" y="5652"/>
                </a:cubicBezTo>
                <a:cubicBezTo>
                  <a:pt x="3908" y="5571"/>
                  <a:pt x="3958" y="5502"/>
                  <a:pt x="4000" y="5429"/>
                </a:cubicBezTo>
                <a:cubicBezTo>
                  <a:pt x="4050" y="5342"/>
                  <a:pt x="4095" y="5251"/>
                  <a:pt x="4159" y="5175"/>
                </a:cubicBezTo>
                <a:cubicBezTo>
                  <a:pt x="4234" y="5086"/>
                  <a:pt x="4327" y="5024"/>
                  <a:pt x="4413" y="4953"/>
                </a:cubicBezTo>
                <a:cubicBezTo>
                  <a:pt x="4514" y="4869"/>
                  <a:pt x="4572" y="4809"/>
                  <a:pt x="4699" y="4762"/>
                </a:cubicBezTo>
                <a:cubicBezTo>
                  <a:pt x="4803" y="4723"/>
                  <a:pt x="4941" y="4653"/>
                  <a:pt x="5048" y="4636"/>
                </a:cubicBezTo>
                <a:cubicBezTo>
                  <a:pt x="5180" y="4614"/>
                  <a:pt x="5368" y="4619"/>
                  <a:pt x="5493" y="4667"/>
                </a:cubicBezTo>
                <a:cubicBezTo>
                  <a:pt x="5613" y="4713"/>
                  <a:pt x="5670" y="4722"/>
                  <a:pt x="5778" y="4794"/>
                </a:cubicBezTo>
                <a:cubicBezTo>
                  <a:pt x="5874" y="4858"/>
                  <a:pt x="5949" y="4933"/>
                  <a:pt x="6032" y="5016"/>
                </a:cubicBezTo>
                <a:cubicBezTo>
                  <a:pt x="6112" y="5096"/>
                  <a:pt x="6167" y="5203"/>
                  <a:pt x="6223" y="5302"/>
                </a:cubicBezTo>
                <a:cubicBezTo>
                  <a:pt x="6252" y="5352"/>
                  <a:pt x="6306" y="5467"/>
                  <a:pt x="6318" y="5524"/>
                </a:cubicBezTo>
                <a:cubicBezTo>
                  <a:pt x="6336" y="5610"/>
                  <a:pt x="6350" y="5686"/>
                  <a:pt x="6350" y="5778"/>
                </a:cubicBezTo>
                <a:cubicBezTo>
                  <a:pt x="6350" y="5854"/>
                  <a:pt x="6378" y="5888"/>
                  <a:pt x="6382" y="5969"/>
                </a:cubicBezTo>
                <a:cubicBezTo>
                  <a:pt x="6382" y="6011"/>
                  <a:pt x="6382" y="6032"/>
                  <a:pt x="6382" y="6064"/>
                </a:cubicBezTo>
              </a:path>
              <a:path w="7463" h="4953">
                <a:moveTo>
                  <a:pt x="3492" y="6032"/>
                </a:moveTo>
                <a:cubicBezTo>
                  <a:pt x="3517" y="5969"/>
                  <a:pt x="3567" y="5901"/>
                  <a:pt x="3588" y="5842"/>
                </a:cubicBezTo>
                <a:cubicBezTo>
                  <a:pt x="3618" y="5759"/>
                  <a:pt x="3631" y="5700"/>
                  <a:pt x="3683" y="5620"/>
                </a:cubicBezTo>
                <a:cubicBezTo>
                  <a:pt x="3739" y="5533"/>
                  <a:pt x="3809" y="5478"/>
                  <a:pt x="3874" y="5398"/>
                </a:cubicBezTo>
                <a:cubicBezTo>
                  <a:pt x="3944" y="5313"/>
                  <a:pt x="3993" y="5197"/>
                  <a:pt x="4064" y="5112"/>
                </a:cubicBezTo>
                <a:cubicBezTo>
                  <a:pt x="4179" y="4976"/>
                  <a:pt x="4316" y="4846"/>
                  <a:pt x="4445" y="4731"/>
                </a:cubicBezTo>
                <a:cubicBezTo>
                  <a:pt x="4549" y="4639"/>
                  <a:pt x="4674" y="4547"/>
                  <a:pt x="4794" y="4477"/>
                </a:cubicBezTo>
                <a:cubicBezTo>
                  <a:pt x="4918" y="4405"/>
                  <a:pt x="5048" y="4326"/>
                  <a:pt x="5175" y="4254"/>
                </a:cubicBezTo>
                <a:cubicBezTo>
                  <a:pt x="5312" y="4176"/>
                  <a:pt x="5472" y="4116"/>
                  <a:pt x="5620" y="4064"/>
                </a:cubicBezTo>
                <a:cubicBezTo>
                  <a:pt x="5771" y="4010"/>
                  <a:pt x="5940" y="3977"/>
                  <a:pt x="6096" y="3937"/>
                </a:cubicBezTo>
                <a:cubicBezTo>
                  <a:pt x="6250" y="3897"/>
                  <a:pt x="6414" y="3884"/>
                  <a:pt x="6572" y="3874"/>
                </a:cubicBezTo>
                <a:cubicBezTo>
                  <a:pt x="6746" y="3863"/>
                  <a:pt x="6910" y="3878"/>
                  <a:pt x="7080" y="3905"/>
                </a:cubicBezTo>
                <a:cubicBezTo>
                  <a:pt x="7232" y="3929"/>
                  <a:pt x="7374" y="3960"/>
                  <a:pt x="7525" y="4000"/>
                </a:cubicBezTo>
                <a:cubicBezTo>
                  <a:pt x="7671" y="4039"/>
                  <a:pt x="7837" y="4112"/>
                  <a:pt x="7969" y="4191"/>
                </a:cubicBezTo>
                <a:cubicBezTo>
                  <a:pt x="8104" y="4273"/>
                  <a:pt x="8204" y="4370"/>
                  <a:pt x="8318" y="4477"/>
                </a:cubicBezTo>
                <a:cubicBezTo>
                  <a:pt x="8435" y="4587"/>
                  <a:pt x="8534" y="4704"/>
                  <a:pt x="8636" y="4826"/>
                </a:cubicBezTo>
                <a:cubicBezTo>
                  <a:pt x="8753" y="4966"/>
                  <a:pt x="8856" y="5115"/>
                  <a:pt x="8954" y="5270"/>
                </a:cubicBezTo>
                <a:cubicBezTo>
                  <a:pt x="9009" y="5357"/>
                  <a:pt x="9068" y="5458"/>
                  <a:pt x="9112" y="5556"/>
                </a:cubicBezTo>
                <a:cubicBezTo>
                  <a:pt x="9148" y="5636"/>
                  <a:pt x="9208" y="5732"/>
                  <a:pt x="9239" y="5810"/>
                </a:cubicBezTo>
                <a:cubicBezTo>
                  <a:pt x="9258" y="5858"/>
                  <a:pt x="9250" y="5921"/>
                  <a:pt x="9271" y="5969"/>
                </a:cubicBezTo>
                <a:cubicBezTo>
                  <a:pt x="9271" y="6001"/>
                  <a:pt x="9271" y="6012"/>
                  <a:pt x="9303" y="6001"/>
                </a:cubicBezTo>
              </a:path>
              <a:path w="7463" h="4953">
                <a:moveTo>
                  <a:pt x="3683" y="6001"/>
                </a:moveTo>
                <a:cubicBezTo>
                  <a:pt x="3664" y="5954"/>
                  <a:pt x="3635" y="5924"/>
                  <a:pt x="3620" y="5874"/>
                </a:cubicBezTo>
                <a:cubicBezTo>
                  <a:pt x="3605" y="5824"/>
                  <a:pt x="3588" y="5848"/>
                  <a:pt x="3588" y="5778"/>
                </a:cubicBezTo>
                <a:cubicBezTo>
                  <a:pt x="3588" y="5701"/>
                  <a:pt x="3603" y="5684"/>
                  <a:pt x="3620" y="5620"/>
                </a:cubicBezTo>
                <a:cubicBezTo>
                  <a:pt x="3644" y="5531"/>
                  <a:pt x="3679" y="5498"/>
                  <a:pt x="3715" y="5429"/>
                </a:cubicBezTo>
                <a:cubicBezTo>
                  <a:pt x="3754" y="5354"/>
                  <a:pt x="3798" y="5280"/>
                  <a:pt x="3842" y="5207"/>
                </a:cubicBezTo>
                <a:cubicBezTo>
                  <a:pt x="3900" y="5111"/>
                  <a:pt x="3964" y="5013"/>
                  <a:pt x="4032" y="4921"/>
                </a:cubicBezTo>
                <a:cubicBezTo>
                  <a:pt x="4098" y="4830"/>
                  <a:pt x="4174" y="4749"/>
                  <a:pt x="4254" y="4667"/>
                </a:cubicBezTo>
                <a:cubicBezTo>
                  <a:pt x="4386" y="4532"/>
                  <a:pt x="4522" y="4405"/>
                  <a:pt x="4667" y="4286"/>
                </a:cubicBezTo>
                <a:cubicBezTo>
                  <a:pt x="4781" y="4193"/>
                  <a:pt x="4890" y="4113"/>
                  <a:pt x="5016" y="4032"/>
                </a:cubicBezTo>
                <a:cubicBezTo>
                  <a:pt x="5127" y="3960"/>
                  <a:pt x="5248" y="3866"/>
                  <a:pt x="5366" y="3810"/>
                </a:cubicBezTo>
                <a:cubicBezTo>
                  <a:pt x="5491" y="3751"/>
                  <a:pt x="5623" y="3711"/>
                  <a:pt x="5747" y="3651"/>
                </a:cubicBezTo>
                <a:cubicBezTo>
                  <a:pt x="5869" y="3592"/>
                  <a:pt x="5993" y="3524"/>
                  <a:pt x="6128" y="3492"/>
                </a:cubicBezTo>
                <a:cubicBezTo>
                  <a:pt x="6267" y="3459"/>
                  <a:pt x="6401" y="3450"/>
                  <a:pt x="6540" y="3429"/>
                </a:cubicBezTo>
                <a:cubicBezTo>
                  <a:pt x="6679" y="3408"/>
                  <a:pt x="6812" y="3375"/>
                  <a:pt x="6953" y="3366"/>
                </a:cubicBezTo>
                <a:cubicBezTo>
                  <a:pt x="7099" y="3356"/>
                  <a:pt x="7227" y="3377"/>
                  <a:pt x="7366" y="3397"/>
                </a:cubicBezTo>
                <a:cubicBezTo>
                  <a:pt x="7495" y="3416"/>
                  <a:pt x="7619" y="3438"/>
                  <a:pt x="7747" y="3461"/>
                </a:cubicBezTo>
                <a:cubicBezTo>
                  <a:pt x="7867" y="3483"/>
                  <a:pt x="7977" y="3529"/>
                  <a:pt x="8096" y="3556"/>
                </a:cubicBezTo>
                <a:cubicBezTo>
                  <a:pt x="8218" y="3584"/>
                  <a:pt x="8331" y="3596"/>
                  <a:pt x="8446" y="3651"/>
                </a:cubicBezTo>
                <a:cubicBezTo>
                  <a:pt x="8586" y="3718"/>
                  <a:pt x="8723" y="3750"/>
                  <a:pt x="8858" y="3810"/>
                </a:cubicBezTo>
                <a:cubicBezTo>
                  <a:pt x="8970" y="3860"/>
                  <a:pt x="9076" y="3940"/>
                  <a:pt x="9176" y="4000"/>
                </a:cubicBezTo>
                <a:cubicBezTo>
                  <a:pt x="9278" y="4061"/>
                  <a:pt x="9369" y="4120"/>
                  <a:pt x="9462" y="4191"/>
                </a:cubicBezTo>
                <a:cubicBezTo>
                  <a:pt x="9593" y="4291"/>
                  <a:pt x="9722" y="4396"/>
                  <a:pt x="9842" y="4508"/>
                </a:cubicBezTo>
                <a:cubicBezTo>
                  <a:pt x="9947" y="4606"/>
                  <a:pt x="10046" y="4700"/>
                  <a:pt x="10160" y="4794"/>
                </a:cubicBezTo>
                <a:cubicBezTo>
                  <a:pt x="10271" y="4885"/>
                  <a:pt x="10374" y="4978"/>
                  <a:pt x="10478" y="5080"/>
                </a:cubicBezTo>
                <a:cubicBezTo>
                  <a:pt x="10597" y="5197"/>
                  <a:pt x="10737" y="5337"/>
                  <a:pt x="10827" y="5461"/>
                </a:cubicBezTo>
                <a:cubicBezTo>
                  <a:pt x="10881" y="5535"/>
                  <a:pt x="10933" y="5624"/>
                  <a:pt x="10954" y="5715"/>
                </a:cubicBezTo>
                <a:cubicBezTo>
                  <a:pt x="10954" y="5789"/>
                  <a:pt x="10954" y="5821"/>
                  <a:pt x="10954" y="5874"/>
                </a:cubicBezTo>
              </a:path>
              <a:path w="7463" h="4953">
                <a:moveTo>
                  <a:pt x="4699" y="8318"/>
                </a:moveTo>
                <a:cubicBezTo>
                  <a:pt x="4688" y="8308"/>
                  <a:pt x="4678" y="8297"/>
                  <a:pt x="4667" y="8287"/>
                </a:cubicBezTo>
              </a:path>
              <a:path w="7463" h="4953">
                <a:moveTo>
                  <a:pt x="4699" y="8318"/>
                </a:moveTo>
                <a:lnTo>
                  <a:pt x="4699" y="8318"/>
                </a:lnTo>
              </a:path>
              <a:path w="7463" h="4953">
                <a:moveTo>
                  <a:pt x="4636" y="8287"/>
                </a:moveTo>
                <a:lnTo>
                  <a:pt x="4636" y="8287"/>
                </a:lnTo>
              </a:path>
              <a:path w="7463" h="4953">
                <a:moveTo>
                  <a:pt x="4604" y="8318"/>
                </a:moveTo>
                <a:lnTo>
                  <a:pt x="4604" y="8318"/>
                </a:lnTo>
              </a:path>
              <a:path w="7463" h="4953">
                <a:moveTo>
                  <a:pt x="4604" y="8287"/>
                </a:moveTo>
                <a:cubicBezTo>
                  <a:pt x="4626" y="8250"/>
                  <a:pt x="4642" y="8216"/>
                  <a:pt x="4667" y="8160"/>
                </a:cubicBezTo>
                <a:cubicBezTo>
                  <a:pt x="4721" y="8040"/>
                  <a:pt x="4786" y="7964"/>
                  <a:pt x="4858" y="7874"/>
                </a:cubicBezTo>
                <a:cubicBezTo>
                  <a:pt x="4929" y="7786"/>
                  <a:pt x="4997" y="7703"/>
                  <a:pt x="5080" y="7620"/>
                </a:cubicBezTo>
                <a:cubicBezTo>
                  <a:pt x="5161" y="7539"/>
                  <a:pt x="5290" y="7475"/>
                  <a:pt x="5398" y="7430"/>
                </a:cubicBezTo>
                <a:cubicBezTo>
                  <a:pt x="5515" y="7381"/>
                  <a:pt x="5655" y="7348"/>
                  <a:pt x="5778" y="7334"/>
                </a:cubicBezTo>
                <a:cubicBezTo>
                  <a:pt x="5935" y="7316"/>
                  <a:pt x="6105" y="7328"/>
                  <a:pt x="6255" y="7366"/>
                </a:cubicBezTo>
                <a:cubicBezTo>
                  <a:pt x="6408" y="7404"/>
                  <a:pt x="6528" y="7416"/>
                  <a:pt x="6668" y="7493"/>
                </a:cubicBezTo>
                <a:cubicBezTo>
                  <a:pt x="6787" y="7559"/>
                  <a:pt x="6900" y="7639"/>
                  <a:pt x="6985" y="7747"/>
                </a:cubicBezTo>
                <a:cubicBezTo>
                  <a:pt x="7058" y="7840"/>
                  <a:pt x="7142" y="7936"/>
                  <a:pt x="7207" y="8033"/>
                </a:cubicBezTo>
                <a:cubicBezTo>
                  <a:pt x="7238" y="8080"/>
                  <a:pt x="7282" y="8174"/>
                  <a:pt x="7302" y="8223"/>
                </a:cubicBezTo>
                <a:cubicBezTo>
                  <a:pt x="7302" y="8234"/>
                  <a:pt x="7302" y="8244"/>
                  <a:pt x="7302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0"/>
          <p:cNvSpPr/>
          <p:nvPr/>
        </p:nvSpPr>
        <p:spPr>
          <a:xfrm>
            <a:off x="4925880" y="1793880"/>
            <a:ext cx="2413080" cy="903240"/>
          </a:xfrm>
          <a:custGeom>
            <a:avLst/>
            <a:gdLst/>
            <a:ahLst/>
            <a:rect l="l" t="t" r="r" b="b"/>
            <a:pathLst>
              <a:path w="6701" h="2509">
                <a:moveTo>
                  <a:pt x="13716" y="5810"/>
                </a:moveTo>
                <a:cubicBezTo>
                  <a:pt x="13657" y="5869"/>
                  <a:pt x="13724" y="5828"/>
                  <a:pt x="13748" y="5778"/>
                </a:cubicBezTo>
                <a:cubicBezTo>
                  <a:pt x="13798" y="5673"/>
                  <a:pt x="13835" y="5642"/>
                  <a:pt x="13906" y="5556"/>
                </a:cubicBezTo>
                <a:cubicBezTo>
                  <a:pt x="13954" y="5497"/>
                  <a:pt x="14028" y="5465"/>
                  <a:pt x="14097" y="5461"/>
                </a:cubicBezTo>
                <a:cubicBezTo>
                  <a:pt x="14157" y="5457"/>
                  <a:pt x="14179" y="5457"/>
                  <a:pt x="14224" y="5493"/>
                </a:cubicBezTo>
                <a:cubicBezTo>
                  <a:pt x="14283" y="5539"/>
                  <a:pt x="14269" y="5710"/>
                  <a:pt x="14256" y="5778"/>
                </a:cubicBezTo>
                <a:cubicBezTo>
                  <a:pt x="14226" y="5940"/>
                  <a:pt x="14166" y="6107"/>
                  <a:pt x="14097" y="6255"/>
                </a:cubicBezTo>
                <a:cubicBezTo>
                  <a:pt x="14030" y="6397"/>
                  <a:pt x="13994" y="6570"/>
                  <a:pt x="13906" y="6699"/>
                </a:cubicBezTo>
                <a:cubicBezTo>
                  <a:pt x="13843" y="6792"/>
                  <a:pt x="13823" y="6860"/>
                  <a:pt x="13780" y="6953"/>
                </a:cubicBezTo>
                <a:cubicBezTo>
                  <a:pt x="13769" y="6964"/>
                  <a:pt x="13759" y="6974"/>
                  <a:pt x="13748" y="6985"/>
                </a:cubicBezTo>
                <a:cubicBezTo>
                  <a:pt x="13759" y="6940"/>
                  <a:pt x="13747" y="6955"/>
                  <a:pt x="13780" y="6922"/>
                </a:cubicBezTo>
                <a:cubicBezTo>
                  <a:pt x="13830" y="6872"/>
                  <a:pt x="13838" y="6862"/>
                  <a:pt x="13906" y="6858"/>
                </a:cubicBezTo>
                <a:cubicBezTo>
                  <a:pt x="13973" y="6854"/>
                  <a:pt x="14011" y="6861"/>
                  <a:pt x="14065" y="6890"/>
                </a:cubicBezTo>
                <a:cubicBezTo>
                  <a:pt x="14123" y="6921"/>
                  <a:pt x="14115" y="6934"/>
                  <a:pt x="14160" y="6985"/>
                </a:cubicBezTo>
                <a:cubicBezTo>
                  <a:pt x="14220" y="7052"/>
                  <a:pt x="14181" y="7109"/>
                  <a:pt x="14256" y="7017"/>
                </a:cubicBezTo>
              </a:path>
              <a:path w="6701" h="2509">
                <a:moveTo>
                  <a:pt x="14573" y="5556"/>
                </a:moveTo>
                <a:cubicBezTo>
                  <a:pt x="14573" y="5661"/>
                  <a:pt x="14556" y="5741"/>
                  <a:pt x="14542" y="5842"/>
                </a:cubicBezTo>
                <a:cubicBezTo>
                  <a:pt x="14520" y="6000"/>
                  <a:pt x="14534" y="6165"/>
                  <a:pt x="14510" y="6318"/>
                </a:cubicBezTo>
                <a:cubicBezTo>
                  <a:pt x="14499" y="6388"/>
                  <a:pt x="14493" y="6416"/>
                  <a:pt x="14478" y="6477"/>
                </a:cubicBezTo>
                <a:cubicBezTo>
                  <a:pt x="14527" y="6440"/>
                  <a:pt x="14543" y="6445"/>
                  <a:pt x="14605" y="6445"/>
                </a:cubicBezTo>
                <a:cubicBezTo>
                  <a:pt x="14666" y="6445"/>
                  <a:pt x="14706" y="6471"/>
                  <a:pt x="14764" y="6477"/>
                </a:cubicBezTo>
                <a:cubicBezTo>
                  <a:pt x="14819" y="6483"/>
                  <a:pt x="14842" y="6524"/>
                  <a:pt x="14891" y="6540"/>
                </a:cubicBezTo>
                <a:cubicBezTo>
                  <a:pt x="14941" y="6556"/>
                  <a:pt x="14922" y="6505"/>
                  <a:pt x="14922" y="6477"/>
                </a:cubicBezTo>
              </a:path>
              <a:path w="6701" h="2509">
                <a:moveTo>
                  <a:pt x="14954" y="5398"/>
                </a:moveTo>
                <a:cubicBezTo>
                  <a:pt x="14954" y="5477"/>
                  <a:pt x="14925" y="5498"/>
                  <a:pt x="14922" y="5588"/>
                </a:cubicBezTo>
                <a:cubicBezTo>
                  <a:pt x="14916" y="5753"/>
                  <a:pt x="14949" y="5901"/>
                  <a:pt x="14954" y="6064"/>
                </a:cubicBezTo>
                <a:cubicBezTo>
                  <a:pt x="14960" y="6261"/>
                  <a:pt x="14937" y="6443"/>
                  <a:pt x="14922" y="6636"/>
                </a:cubicBezTo>
                <a:cubicBezTo>
                  <a:pt x="14911" y="6776"/>
                  <a:pt x="14906" y="6912"/>
                  <a:pt x="14891" y="7048"/>
                </a:cubicBezTo>
                <a:cubicBezTo>
                  <a:pt x="14881" y="7144"/>
                  <a:pt x="14906" y="7193"/>
                  <a:pt x="14859" y="7271"/>
                </a:cubicBezTo>
              </a:path>
              <a:path w="6701" h="2509">
                <a:moveTo>
                  <a:pt x="15399" y="6001"/>
                </a:moveTo>
                <a:cubicBezTo>
                  <a:pt x="15361" y="6100"/>
                  <a:pt x="15367" y="6178"/>
                  <a:pt x="15367" y="6286"/>
                </a:cubicBezTo>
                <a:cubicBezTo>
                  <a:pt x="15367" y="6416"/>
                  <a:pt x="15399" y="6534"/>
                  <a:pt x="15399" y="6668"/>
                </a:cubicBezTo>
                <a:cubicBezTo>
                  <a:pt x="15399" y="6802"/>
                  <a:pt x="15373" y="6917"/>
                  <a:pt x="15367" y="7048"/>
                </a:cubicBezTo>
                <a:cubicBezTo>
                  <a:pt x="15367" y="7112"/>
                  <a:pt x="15367" y="7133"/>
                  <a:pt x="15367" y="7176"/>
                </a:cubicBezTo>
                <a:cubicBezTo>
                  <a:pt x="15367" y="7043"/>
                  <a:pt x="15387" y="6922"/>
                  <a:pt x="15399" y="6794"/>
                </a:cubicBezTo>
                <a:cubicBezTo>
                  <a:pt x="15414" y="6635"/>
                  <a:pt x="15435" y="6474"/>
                  <a:pt x="15462" y="6318"/>
                </a:cubicBezTo>
                <a:cubicBezTo>
                  <a:pt x="15481" y="6210"/>
                  <a:pt x="15505" y="6030"/>
                  <a:pt x="15558" y="5937"/>
                </a:cubicBezTo>
                <a:cubicBezTo>
                  <a:pt x="15586" y="5909"/>
                  <a:pt x="15593" y="5898"/>
                  <a:pt x="15621" y="5906"/>
                </a:cubicBezTo>
                <a:cubicBezTo>
                  <a:pt x="15667" y="5981"/>
                  <a:pt x="15681" y="6065"/>
                  <a:pt x="15684" y="6160"/>
                </a:cubicBezTo>
                <a:cubicBezTo>
                  <a:pt x="15689" y="6312"/>
                  <a:pt x="15694" y="6485"/>
                  <a:pt x="15716" y="6636"/>
                </a:cubicBezTo>
                <a:cubicBezTo>
                  <a:pt x="15735" y="6769"/>
                  <a:pt x="15748" y="6882"/>
                  <a:pt x="15748" y="7017"/>
                </a:cubicBezTo>
                <a:cubicBezTo>
                  <a:pt x="15748" y="7038"/>
                  <a:pt x="15748" y="7059"/>
                  <a:pt x="15748" y="7080"/>
                </a:cubicBezTo>
                <a:cubicBezTo>
                  <a:pt x="15748" y="6946"/>
                  <a:pt x="15768" y="6827"/>
                  <a:pt x="15780" y="6699"/>
                </a:cubicBezTo>
                <a:cubicBezTo>
                  <a:pt x="15796" y="6528"/>
                  <a:pt x="15806" y="6360"/>
                  <a:pt x="15843" y="6191"/>
                </a:cubicBezTo>
                <a:cubicBezTo>
                  <a:pt x="15864" y="6095"/>
                  <a:pt x="15889" y="5978"/>
                  <a:pt x="15970" y="5937"/>
                </a:cubicBezTo>
                <a:cubicBezTo>
                  <a:pt x="16014" y="5952"/>
                  <a:pt x="16043" y="6036"/>
                  <a:pt x="16066" y="6096"/>
                </a:cubicBezTo>
                <a:cubicBezTo>
                  <a:pt x="16121" y="6238"/>
                  <a:pt x="16104" y="6393"/>
                  <a:pt x="16129" y="6540"/>
                </a:cubicBezTo>
                <a:cubicBezTo>
                  <a:pt x="16154" y="6688"/>
                  <a:pt x="16136" y="6840"/>
                  <a:pt x="16161" y="6985"/>
                </a:cubicBezTo>
                <a:cubicBezTo>
                  <a:pt x="16162" y="6990"/>
                  <a:pt x="16197" y="7211"/>
                  <a:pt x="16224" y="7176"/>
                </a:cubicBezTo>
                <a:cubicBezTo>
                  <a:pt x="16224" y="7165"/>
                  <a:pt x="16224" y="7155"/>
                  <a:pt x="16224" y="7144"/>
                </a:cubicBezTo>
              </a:path>
              <a:path w="6701" h="2509">
                <a:moveTo>
                  <a:pt x="16288" y="5112"/>
                </a:moveTo>
                <a:cubicBezTo>
                  <a:pt x="16334" y="5066"/>
                  <a:pt x="16382" y="4992"/>
                  <a:pt x="16446" y="4985"/>
                </a:cubicBezTo>
                <a:cubicBezTo>
                  <a:pt x="16510" y="4978"/>
                  <a:pt x="16559" y="4975"/>
                  <a:pt x="16605" y="5016"/>
                </a:cubicBezTo>
                <a:cubicBezTo>
                  <a:pt x="16683" y="5085"/>
                  <a:pt x="16680" y="5102"/>
                  <a:pt x="16637" y="5207"/>
                </a:cubicBezTo>
                <a:cubicBezTo>
                  <a:pt x="16618" y="5253"/>
                  <a:pt x="16560" y="5344"/>
                  <a:pt x="16510" y="5366"/>
                </a:cubicBezTo>
                <a:cubicBezTo>
                  <a:pt x="16499" y="5366"/>
                  <a:pt x="16489" y="5366"/>
                  <a:pt x="16478" y="5366"/>
                </a:cubicBezTo>
                <a:cubicBezTo>
                  <a:pt x="16493" y="5307"/>
                  <a:pt x="16529" y="5252"/>
                  <a:pt x="16605" y="5270"/>
                </a:cubicBezTo>
                <a:cubicBezTo>
                  <a:pt x="16715" y="5296"/>
                  <a:pt x="16697" y="5359"/>
                  <a:pt x="16732" y="5429"/>
                </a:cubicBezTo>
                <a:cubicBezTo>
                  <a:pt x="16770" y="5504"/>
                  <a:pt x="16824" y="5553"/>
                  <a:pt x="16796" y="5652"/>
                </a:cubicBezTo>
                <a:cubicBezTo>
                  <a:pt x="16774" y="5732"/>
                  <a:pt x="16704" y="5826"/>
                  <a:pt x="16637" y="5874"/>
                </a:cubicBezTo>
                <a:cubicBezTo>
                  <a:pt x="16588" y="5909"/>
                  <a:pt x="16472" y="5928"/>
                  <a:pt x="16415" y="5906"/>
                </a:cubicBezTo>
                <a:cubicBezTo>
                  <a:pt x="16365" y="5887"/>
                  <a:pt x="16303" y="5799"/>
                  <a:pt x="16320" y="5747"/>
                </a:cubicBezTo>
                <a:cubicBezTo>
                  <a:pt x="16351" y="5715"/>
                  <a:pt x="16362" y="5704"/>
                  <a:pt x="16383" y="5683"/>
                </a:cubicBezTo>
              </a:path>
              <a:path w="6701" h="2509">
                <a:moveTo>
                  <a:pt x="16764" y="6445"/>
                </a:moveTo>
                <a:cubicBezTo>
                  <a:pt x="16780" y="6493"/>
                  <a:pt x="16802" y="6477"/>
                  <a:pt x="16859" y="6477"/>
                </a:cubicBezTo>
                <a:cubicBezTo>
                  <a:pt x="16984" y="6477"/>
                  <a:pt x="17088" y="6462"/>
                  <a:pt x="17208" y="6445"/>
                </a:cubicBezTo>
                <a:cubicBezTo>
                  <a:pt x="17285" y="6434"/>
                  <a:pt x="17366" y="6427"/>
                  <a:pt x="17431" y="6414"/>
                </a:cubicBezTo>
                <a:cubicBezTo>
                  <a:pt x="17490" y="6402"/>
                  <a:pt x="17543" y="6403"/>
                  <a:pt x="17558" y="6445"/>
                </a:cubicBezTo>
              </a:path>
              <a:path w="6701" h="2509">
                <a:moveTo>
                  <a:pt x="18478" y="5683"/>
                </a:moveTo>
                <a:cubicBezTo>
                  <a:pt x="18504" y="5592"/>
                  <a:pt x="18493" y="5601"/>
                  <a:pt x="18447" y="5524"/>
                </a:cubicBezTo>
                <a:cubicBezTo>
                  <a:pt x="18393" y="5433"/>
                  <a:pt x="18380" y="5461"/>
                  <a:pt x="18288" y="5429"/>
                </a:cubicBezTo>
                <a:cubicBezTo>
                  <a:pt x="18188" y="5395"/>
                  <a:pt x="18102" y="5396"/>
                  <a:pt x="18002" y="5429"/>
                </a:cubicBezTo>
                <a:cubicBezTo>
                  <a:pt x="17914" y="5459"/>
                  <a:pt x="17860" y="5474"/>
                  <a:pt x="17812" y="5556"/>
                </a:cubicBezTo>
                <a:cubicBezTo>
                  <a:pt x="17765" y="5635"/>
                  <a:pt x="17701" y="5717"/>
                  <a:pt x="17716" y="5810"/>
                </a:cubicBezTo>
                <a:cubicBezTo>
                  <a:pt x="17728" y="5883"/>
                  <a:pt x="17762" y="5946"/>
                  <a:pt x="17812" y="6001"/>
                </a:cubicBezTo>
                <a:cubicBezTo>
                  <a:pt x="17869" y="6063"/>
                  <a:pt x="17961" y="6120"/>
                  <a:pt x="18034" y="6160"/>
                </a:cubicBezTo>
                <a:cubicBezTo>
                  <a:pt x="18115" y="6205"/>
                  <a:pt x="18156" y="6281"/>
                  <a:pt x="18224" y="6350"/>
                </a:cubicBezTo>
                <a:cubicBezTo>
                  <a:pt x="18287" y="6413"/>
                  <a:pt x="18363" y="6513"/>
                  <a:pt x="18383" y="6604"/>
                </a:cubicBezTo>
                <a:cubicBezTo>
                  <a:pt x="18403" y="6695"/>
                  <a:pt x="18389" y="6808"/>
                  <a:pt x="18352" y="6890"/>
                </a:cubicBezTo>
                <a:cubicBezTo>
                  <a:pt x="18326" y="6948"/>
                  <a:pt x="18284" y="7080"/>
                  <a:pt x="18224" y="7112"/>
                </a:cubicBezTo>
                <a:cubicBezTo>
                  <a:pt x="18190" y="7130"/>
                  <a:pt x="18111" y="7158"/>
                  <a:pt x="18066" y="7144"/>
                </a:cubicBezTo>
                <a:cubicBezTo>
                  <a:pt x="17983" y="7118"/>
                  <a:pt x="17973" y="6988"/>
                  <a:pt x="17970" y="6922"/>
                </a:cubicBezTo>
                <a:cubicBezTo>
                  <a:pt x="17964" y="6789"/>
                  <a:pt x="17964" y="6667"/>
                  <a:pt x="18002" y="6540"/>
                </a:cubicBezTo>
                <a:cubicBezTo>
                  <a:pt x="18043" y="6403"/>
                  <a:pt x="18094" y="6253"/>
                  <a:pt x="18161" y="6128"/>
                </a:cubicBezTo>
                <a:cubicBezTo>
                  <a:pt x="18226" y="6005"/>
                  <a:pt x="18311" y="5891"/>
                  <a:pt x="18383" y="5778"/>
                </a:cubicBezTo>
                <a:cubicBezTo>
                  <a:pt x="18430" y="5704"/>
                  <a:pt x="18456" y="5624"/>
                  <a:pt x="18510" y="5556"/>
                </a:cubicBezTo>
              </a:path>
              <a:path w="6701" h="2509">
                <a:moveTo>
                  <a:pt x="18732" y="6032"/>
                </a:moveTo>
                <a:cubicBezTo>
                  <a:pt x="18768" y="6092"/>
                  <a:pt x="18787" y="6210"/>
                  <a:pt x="18796" y="6286"/>
                </a:cubicBezTo>
                <a:cubicBezTo>
                  <a:pt x="18812" y="6422"/>
                  <a:pt x="18807" y="6563"/>
                  <a:pt x="18828" y="6699"/>
                </a:cubicBezTo>
                <a:cubicBezTo>
                  <a:pt x="18851" y="6852"/>
                  <a:pt x="18860" y="6987"/>
                  <a:pt x="18860" y="7144"/>
                </a:cubicBezTo>
                <a:cubicBezTo>
                  <a:pt x="18860" y="7207"/>
                  <a:pt x="18860" y="7229"/>
                  <a:pt x="18860" y="7271"/>
                </a:cubicBezTo>
                <a:cubicBezTo>
                  <a:pt x="18860" y="7219"/>
                  <a:pt x="18860" y="7228"/>
                  <a:pt x="18860" y="7176"/>
                </a:cubicBezTo>
                <a:cubicBezTo>
                  <a:pt x="18860" y="7058"/>
                  <a:pt x="18828" y="6948"/>
                  <a:pt x="18828" y="6826"/>
                </a:cubicBezTo>
                <a:cubicBezTo>
                  <a:pt x="18828" y="6683"/>
                  <a:pt x="18848" y="6551"/>
                  <a:pt x="18860" y="6414"/>
                </a:cubicBezTo>
                <a:cubicBezTo>
                  <a:pt x="18871" y="6288"/>
                  <a:pt x="18881" y="6204"/>
                  <a:pt x="18955" y="6096"/>
                </a:cubicBezTo>
                <a:cubicBezTo>
                  <a:pt x="18983" y="6067"/>
                  <a:pt x="18989" y="6056"/>
                  <a:pt x="19018" y="6064"/>
                </a:cubicBezTo>
                <a:cubicBezTo>
                  <a:pt x="19069" y="6115"/>
                  <a:pt x="19132" y="6180"/>
                  <a:pt x="19145" y="6255"/>
                </a:cubicBezTo>
                <a:cubicBezTo>
                  <a:pt x="19168" y="6390"/>
                  <a:pt x="19205" y="6529"/>
                  <a:pt x="19209" y="6668"/>
                </a:cubicBezTo>
                <a:cubicBezTo>
                  <a:pt x="19213" y="6812"/>
                  <a:pt x="19220" y="6945"/>
                  <a:pt x="19240" y="7080"/>
                </a:cubicBezTo>
                <a:cubicBezTo>
                  <a:pt x="19249" y="7141"/>
                  <a:pt x="19240" y="7209"/>
                  <a:pt x="19240" y="7271"/>
                </a:cubicBezTo>
                <a:cubicBezTo>
                  <a:pt x="19264" y="7223"/>
                  <a:pt x="19246" y="7241"/>
                  <a:pt x="19240" y="7144"/>
                </a:cubicBezTo>
                <a:cubicBezTo>
                  <a:pt x="19232" y="7006"/>
                  <a:pt x="19201" y="6826"/>
                  <a:pt x="19209" y="6699"/>
                </a:cubicBezTo>
                <a:cubicBezTo>
                  <a:pt x="19216" y="6585"/>
                  <a:pt x="19214" y="6398"/>
                  <a:pt x="19240" y="6286"/>
                </a:cubicBezTo>
                <a:cubicBezTo>
                  <a:pt x="19251" y="6237"/>
                  <a:pt x="19311" y="6171"/>
                  <a:pt x="19336" y="6128"/>
                </a:cubicBezTo>
                <a:cubicBezTo>
                  <a:pt x="19428" y="6141"/>
                  <a:pt x="19405" y="6130"/>
                  <a:pt x="19431" y="6223"/>
                </a:cubicBezTo>
                <a:cubicBezTo>
                  <a:pt x="19469" y="6360"/>
                  <a:pt x="19489" y="6493"/>
                  <a:pt x="19494" y="6636"/>
                </a:cubicBezTo>
                <a:cubicBezTo>
                  <a:pt x="19499" y="6788"/>
                  <a:pt x="19513" y="6934"/>
                  <a:pt x="19526" y="7080"/>
                </a:cubicBezTo>
                <a:cubicBezTo>
                  <a:pt x="19528" y="7097"/>
                  <a:pt x="19553" y="7500"/>
                  <a:pt x="19558" y="7493"/>
                </a:cubicBezTo>
                <a:cubicBezTo>
                  <a:pt x="19558" y="7472"/>
                  <a:pt x="19558" y="7451"/>
                  <a:pt x="19558" y="7430"/>
                </a:cubicBezTo>
              </a:path>
              <a:path w="6701" h="2509">
                <a:moveTo>
                  <a:pt x="19685" y="5556"/>
                </a:moveTo>
                <a:cubicBezTo>
                  <a:pt x="19685" y="5535"/>
                  <a:pt x="19685" y="5514"/>
                  <a:pt x="19685" y="5493"/>
                </a:cubicBezTo>
              </a:path>
              <a:path w="6701" h="2509">
                <a:moveTo>
                  <a:pt x="19748" y="5366"/>
                </a:moveTo>
                <a:cubicBezTo>
                  <a:pt x="19760" y="5318"/>
                  <a:pt x="19797" y="5269"/>
                  <a:pt x="19844" y="5239"/>
                </a:cubicBezTo>
                <a:cubicBezTo>
                  <a:pt x="19885" y="5212"/>
                  <a:pt x="19970" y="5175"/>
                  <a:pt x="20002" y="5239"/>
                </a:cubicBezTo>
                <a:cubicBezTo>
                  <a:pt x="20030" y="5296"/>
                  <a:pt x="20049" y="5394"/>
                  <a:pt x="20034" y="5461"/>
                </a:cubicBezTo>
                <a:cubicBezTo>
                  <a:pt x="20008" y="5580"/>
                  <a:pt x="19978" y="5693"/>
                  <a:pt x="19939" y="5810"/>
                </a:cubicBezTo>
                <a:cubicBezTo>
                  <a:pt x="19903" y="5918"/>
                  <a:pt x="19845" y="6022"/>
                  <a:pt x="19812" y="6128"/>
                </a:cubicBezTo>
                <a:cubicBezTo>
                  <a:pt x="19812" y="6164"/>
                  <a:pt x="19809" y="6178"/>
                  <a:pt x="19780" y="6191"/>
                </a:cubicBezTo>
                <a:cubicBezTo>
                  <a:pt x="19825" y="6133"/>
                  <a:pt x="19809" y="6114"/>
                  <a:pt x="19844" y="6160"/>
                </a:cubicBezTo>
                <a:cubicBezTo>
                  <a:pt x="19875" y="6200"/>
                  <a:pt x="19930" y="6214"/>
                  <a:pt x="19971" y="6255"/>
                </a:cubicBezTo>
                <a:cubicBezTo>
                  <a:pt x="19983" y="6267"/>
                  <a:pt x="20120" y="6320"/>
                  <a:pt x="20130" y="6318"/>
                </a:cubicBezTo>
                <a:cubicBezTo>
                  <a:pt x="20154" y="6313"/>
                  <a:pt x="20272" y="6242"/>
                  <a:pt x="20288" y="6223"/>
                </a:cubicBezTo>
                <a:cubicBezTo>
                  <a:pt x="20336" y="6167"/>
                  <a:pt x="20360" y="6067"/>
                  <a:pt x="20384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1"/>
          <p:cNvSpPr/>
          <p:nvPr/>
        </p:nvSpPr>
        <p:spPr>
          <a:xfrm>
            <a:off x="1577880" y="5840280"/>
            <a:ext cx="525600" cy="366840"/>
          </a:xfrm>
          <a:custGeom>
            <a:avLst/>
            <a:gdLst/>
            <a:ahLst/>
            <a:rect l="l" t="t" r="r" b="b"/>
            <a:pathLst>
              <a:path w="1461" h="1017">
                <a:moveTo>
                  <a:pt x="4604" y="16256"/>
                </a:moveTo>
                <a:cubicBezTo>
                  <a:pt x="4604" y="16243"/>
                  <a:pt x="4568" y="16221"/>
                  <a:pt x="4540" y="16256"/>
                </a:cubicBezTo>
                <a:cubicBezTo>
                  <a:pt x="4515" y="16287"/>
                  <a:pt x="4516" y="16307"/>
                  <a:pt x="4477" y="16351"/>
                </a:cubicBezTo>
                <a:cubicBezTo>
                  <a:pt x="4436" y="16397"/>
                  <a:pt x="4435" y="16453"/>
                  <a:pt x="4413" y="16510"/>
                </a:cubicBezTo>
                <a:cubicBezTo>
                  <a:pt x="4387" y="16577"/>
                  <a:pt x="4358" y="16689"/>
                  <a:pt x="4382" y="16764"/>
                </a:cubicBezTo>
                <a:cubicBezTo>
                  <a:pt x="4394" y="16800"/>
                  <a:pt x="4426" y="16893"/>
                  <a:pt x="4445" y="16923"/>
                </a:cubicBezTo>
                <a:cubicBezTo>
                  <a:pt x="4474" y="16970"/>
                  <a:pt x="4556" y="16982"/>
                  <a:pt x="4604" y="16986"/>
                </a:cubicBezTo>
                <a:cubicBezTo>
                  <a:pt x="4661" y="16991"/>
                  <a:pt x="4689" y="16991"/>
                  <a:pt x="4731" y="16954"/>
                </a:cubicBezTo>
                <a:cubicBezTo>
                  <a:pt x="4776" y="16914"/>
                  <a:pt x="4832" y="16894"/>
                  <a:pt x="4858" y="16828"/>
                </a:cubicBezTo>
                <a:cubicBezTo>
                  <a:pt x="4882" y="16769"/>
                  <a:pt x="4858" y="16681"/>
                  <a:pt x="4826" y="16637"/>
                </a:cubicBezTo>
                <a:cubicBezTo>
                  <a:pt x="4805" y="16608"/>
                  <a:pt x="4735" y="16585"/>
                  <a:pt x="4699" y="16605"/>
                </a:cubicBezTo>
                <a:cubicBezTo>
                  <a:pt x="4638" y="16639"/>
                  <a:pt x="4610" y="16714"/>
                  <a:pt x="4572" y="16764"/>
                </a:cubicBezTo>
                <a:cubicBezTo>
                  <a:pt x="4535" y="16813"/>
                  <a:pt x="4540" y="16829"/>
                  <a:pt x="4540" y="16891"/>
                </a:cubicBezTo>
                <a:cubicBezTo>
                  <a:pt x="4540" y="16923"/>
                  <a:pt x="4540" y="16933"/>
                  <a:pt x="4540" y="16954"/>
                </a:cubicBezTo>
              </a:path>
              <a:path w="1461" h="1017">
                <a:moveTo>
                  <a:pt x="5112" y="16478"/>
                </a:moveTo>
                <a:cubicBezTo>
                  <a:pt x="5154" y="16534"/>
                  <a:pt x="5144" y="16563"/>
                  <a:pt x="5144" y="16637"/>
                </a:cubicBezTo>
                <a:cubicBezTo>
                  <a:pt x="5144" y="16816"/>
                  <a:pt x="5123" y="17018"/>
                  <a:pt x="5175" y="17177"/>
                </a:cubicBezTo>
                <a:cubicBezTo>
                  <a:pt x="5193" y="17232"/>
                  <a:pt x="5149" y="17221"/>
                  <a:pt x="5207" y="17240"/>
                </a:cubicBezTo>
              </a:path>
              <a:path w="1461" h="1017">
                <a:moveTo>
                  <a:pt x="5334" y="16700"/>
                </a:moveTo>
                <a:cubicBezTo>
                  <a:pt x="5292" y="16760"/>
                  <a:pt x="5241" y="16817"/>
                  <a:pt x="5175" y="16859"/>
                </a:cubicBezTo>
                <a:cubicBezTo>
                  <a:pt x="5104" y="16905"/>
                  <a:pt x="5050" y="16959"/>
                  <a:pt x="4985" y="17018"/>
                </a:cubicBezTo>
                <a:cubicBezTo>
                  <a:pt x="4957" y="17043"/>
                  <a:pt x="4904" y="17136"/>
                  <a:pt x="4890" y="17145"/>
                </a:cubicBezTo>
                <a:cubicBezTo>
                  <a:pt x="4879" y="17145"/>
                  <a:pt x="4869" y="17145"/>
                  <a:pt x="4858" y="17145"/>
                </a:cubicBezTo>
              </a:path>
              <a:path w="1461" h="1017">
                <a:moveTo>
                  <a:pt x="5652" y="16542"/>
                </a:moveTo>
                <a:cubicBezTo>
                  <a:pt x="5674" y="16611"/>
                  <a:pt x="5692" y="16544"/>
                  <a:pt x="5747" y="16574"/>
                </a:cubicBezTo>
                <a:cubicBezTo>
                  <a:pt x="5775" y="16602"/>
                  <a:pt x="5782" y="16613"/>
                  <a:pt x="5810" y="16605"/>
                </a:cubicBezTo>
                <a:cubicBezTo>
                  <a:pt x="5801" y="16640"/>
                  <a:pt x="5745" y="16741"/>
                  <a:pt x="5715" y="16764"/>
                </a:cubicBezTo>
                <a:cubicBezTo>
                  <a:pt x="5693" y="16781"/>
                  <a:pt x="5641" y="16786"/>
                  <a:pt x="5620" y="16828"/>
                </a:cubicBezTo>
                <a:cubicBezTo>
                  <a:pt x="5620" y="16838"/>
                  <a:pt x="5620" y="16849"/>
                  <a:pt x="5620" y="16859"/>
                </a:cubicBezTo>
                <a:cubicBezTo>
                  <a:pt x="5692" y="16859"/>
                  <a:pt x="5662" y="16884"/>
                  <a:pt x="5715" y="16891"/>
                </a:cubicBezTo>
                <a:cubicBezTo>
                  <a:pt x="5767" y="16898"/>
                  <a:pt x="5783" y="16923"/>
                  <a:pt x="5842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2"/>
          <p:cNvSpPr/>
          <p:nvPr/>
        </p:nvSpPr>
        <p:spPr>
          <a:xfrm>
            <a:off x="3017880" y="4937040"/>
            <a:ext cx="1496880" cy="424080"/>
          </a:xfrm>
          <a:custGeom>
            <a:avLst/>
            <a:gdLst/>
            <a:ahLst/>
            <a:rect l="l" t="t" r="r" b="b"/>
            <a:pathLst>
              <a:path w="4160" h="1176">
                <a:moveTo>
                  <a:pt x="8382" y="14891"/>
                </a:moveTo>
                <a:cubicBezTo>
                  <a:pt x="8421" y="14847"/>
                  <a:pt x="8421" y="14827"/>
                  <a:pt x="8446" y="14796"/>
                </a:cubicBezTo>
                <a:cubicBezTo>
                  <a:pt x="8503" y="14726"/>
                  <a:pt x="8572" y="14631"/>
                  <a:pt x="8636" y="14573"/>
                </a:cubicBezTo>
                <a:cubicBezTo>
                  <a:pt x="8694" y="14521"/>
                  <a:pt x="8762" y="14489"/>
                  <a:pt x="8826" y="14446"/>
                </a:cubicBezTo>
                <a:cubicBezTo>
                  <a:pt x="8897" y="14399"/>
                  <a:pt x="8971" y="14359"/>
                  <a:pt x="9049" y="14319"/>
                </a:cubicBezTo>
                <a:cubicBezTo>
                  <a:pt x="9342" y="14169"/>
                  <a:pt x="9638" y="14038"/>
                  <a:pt x="9938" y="13906"/>
                </a:cubicBezTo>
                <a:cubicBezTo>
                  <a:pt x="10038" y="13862"/>
                  <a:pt x="10122" y="13841"/>
                  <a:pt x="10224" y="13811"/>
                </a:cubicBezTo>
                <a:cubicBezTo>
                  <a:pt x="10341" y="13777"/>
                  <a:pt x="10457" y="13774"/>
                  <a:pt x="10573" y="13748"/>
                </a:cubicBezTo>
                <a:cubicBezTo>
                  <a:pt x="10694" y="13721"/>
                  <a:pt x="10796" y="13716"/>
                  <a:pt x="10922" y="13716"/>
                </a:cubicBezTo>
                <a:cubicBezTo>
                  <a:pt x="11067" y="13716"/>
                  <a:pt x="11166" y="13735"/>
                  <a:pt x="11303" y="13780"/>
                </a:cubicBezTo>
                <a:cubicBezTo>
                  <a:pt x="11448" y="13828"/>
                  <a:pt x="11585" y="13862"/>
                  <a:pt x="11716" y="13938"/>
                </a:cubicBezTo>
                <a:cubicBezTo>
                  <a:pt x="11813" y="13994"/>
                  <a:pt x="11953" y="14049"/>
                  <a:pt x="12033" y="14129"/>
                </a:cubicBezTo>
                <a:cubicBezTo>
                  <a:pt x="12127" y="14223"/>
                  <a:pt x="12194" y="14348"/>
                  <a:pt x="12287" y="14446"/>
                </a:cubicBezTo>
                <a:cubicBezTo>
                  <a:pt x="12368" y="14531"/>
                  <a:pt x="12453" y="14610"/>
                  <a:pt x="12510" y="14700"/>
                </a:cubicBezTo>
                <a:cubicBezTo>
                  <a:pt x="12518" y="14713"/>
                  <a:pt x="12526" y="14736"/>
                  <a:pt x="1254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3"/>
          <p:cNvSpPr/>
          <p:nvPr/>
        </p:nvSpPr>
        <p:spPr>
          <a:xfrm>
            <a:off x="5875200" y="2835360"/>
            <a:ext cx="1303560" cy="1176120"/>
          </a:xfrm>
          <a:custGeom>
            <a:avLst/>
            <a:gdLst/>
            <a:ahLst/>
            <a:rect l="l" t="t" r="r" b="b"/>
            <a:pathLst>
              <a:path w="3620" h="3271">
                <a:moveTo>
                  <a:pt x="16320" y="8572"/>
                </a:moveTo>
                <a:cubicBezTo>
                  <a:pt x="16443" y="8572"/>
                  <a:pt x="16553" y="8560"/>
                  <a:pt x="16669" y="8541"/>
                </a:cubicBezTo>
                <a:cubicBezTo>
                  <a:pt x="16736" y="8530"/>
                  <a:pt x="16801" y="8516"/>
                  <a:pt x="16859" y="8509"/>
                </a:cubicBezTo>
                <a:cubicBezTo>
                  <a:pt x="16890" y="8506"/>
                  <a:pt x="16923" y="8509"/>
                  <a:pt x="16954" y="8509"/>
                </a:cubicBezTo>
              </a:path>
              <a:path w="3620" h="3271">
                <a:moveTo>
                  <a:pt x="17240" y="8096"/>
                </a:moveTo>
                <a:cubicBezTo>
                  <a:pt x="17251" y="8096"/>
                  <a:pt x="17261" y="8096"/>
                  <a:pt x="17272" y="8096"/>
                </a:cubicBezTo>
              </a:path>
              <a:path w="3620" h="3271">
                <a:moveTo>
                  <a:pt x="17240" y="8096"/>
                </a:moveTo>
                <a:cubicBezTo>
                  <a:pt x="17251" y="8128"/>
                  <a:pt x="17261" y="8160"/>
                  <a:pt x="17272" y="8192"/>
                </a:cubicBezTo>
              </a:path>
              <a:path w="3620" h="3271">
                <a:moveTo>
                  <a:pt x="17272" y="8192"/>
                </a:moveTo>
                <a:cubicBezTo>
                  <a:pt x="17272" y="8307"/>
                  <a:pt x="17225" y="8367"/>
                  <a:pt x="17208" y="8477"/>
                </a:cubicBezTo>
                <a:cubicBezTo>
                  <a:pt x="17188" y="8606"/>
                  <a:pt x="17132" y="8730"/>
                  <a:pt x="17113" y="8858"/>
                </a:cubicBezTo>
                <a:cubicBezTo>
                  <a:pt x="17096" y="8975"/>
                  <a:pt x="17082" y="9088"/>
                  <a:pt x="17082" y="9208"/>
                </a:cubicBezTo>
                <a:cubicBezTo>
                  <a:pt x="17082" y="9312"/>
                  <a:pt x="17074" y="9319"/>
                  <a:pt x="17145" y="9366"/>
                </a:cubicBezTo>
                <a:cubicBezTo>
                  <a:pt x="17229" y="9422"/>
                  <a:pt x="17185" y="9462"/>
                  <a:pt x="17304" y="9462"/>
                </a:cubicBezTo>
                <a:cubicBezTo>
                  <a:pt x="17436" y="9462"/>
                  <a:pt x="17442" y="9398"/>
                  <a:pt x="17558" y="9366"/>
                </a:cubicBezTo>
                <a:cubicBezTo>
                  <a:pt x="17652" y="9340"/>
                  <a:pt x="17681" y="9288"/>
                  <a:pt x="17748" y="9208"/>
                </a:cubicBezTo>
                <a:cubicBezTo>
                  <a:pt x="17808" y="9136"/>
                  <a:pt x="17812" y="9074"/>
                  <a:pt x="17812" y="8985"/>
                </a:cubicBezTo>
                <a:cubicBezTo>
                  <a:pt x="17812" y="8948"/>
                  <a:pt x="17763" y="8847"/>
                  <a:pt x="17716" y="8858"/>
                </a:cubicBezTo>
                <a:cubicBezTo>
                  <a:pt x="17643" y="8875"/>
                  <a:pt x="17587" y="8934"/>
                  <a:pt x="17526" y="8985"/>
                </a:cubicBezTo>
                <a:cubicBezTo>
                  <a:pt x="17450" y="9048"/>
                  <a:pt x="17457" y="9129"/>
                  <a:pt x="17431" y="9208"/>
                </a:cubicBezTo>
                <a:cubicBezTo>
                  <a:pt x="17407" y="9279"/>
                  <a:pt x="17399" y="9323"/>
                  <a:pt x="17399" y="9398"/>
                </a:cubicBezTo>
                <a:cubicBezTo>
                  <a:pt x="17399" y="9451"/>
                  <a:pt x="17399" y="9461"/>
                  <a:pt x="17399" y="9493"/>
                </a:cubicBezTo>
              </a:path>
              <a:path w="3620" h="3271">
                <a:moveTo>
                  <a:pt x="17939" y="8446"/>
                </a:moveTo>
                <a:cubicBezTo>
                  <a:pt x="17939" y="8524"/>
                  <a:pt x="17989" y="8564"/>
                  <a:pt x="18002" y="8636"/>
                </a:cubicBezTo>
                <a:cubicBezTo>
                  <a:pt x="18024" y="8763"/>
                  <a:pt x="18055" y="8861"/>
                  <a:pt x="18098" y="8985"/>
                </a:cubicBezTo>
                <a:cubicBezTo>
                  <a:pt x="18136" y="9096"/>
                  <a:pt x="18166" y="9231"/>
                  <a:pt x="18224" y="9334"/>
                </a:cubicBezTo>
                <a:cubicBezTo>
                  <a:pt x="18257" y="9394"/>
                  <a:pt x="18280" y="9483"/>
                  <a:pt x="18288" y="9557"/>
                </a:cubicBezTo>
                <a:cubicBezTo>
                  <a:pt x="18288" y="9588"/>
                  <a:pt x="18288" y="9599"/>
                  <a:pt x="18288" y="9620"/>
                </a:cubicBezTo>
              </a:path>
              <a:path w="3620" h="3271">
                <a:moveTo>
                  <a:pt x="18383" y="8350"/>
                </a:moveTo>
                <a:cubicBezTo>
                  <a:pt x="18336" y="8431"/>
                  <a:pt x="18330" y="8541"/>
                  <a:pt x="18288" y="8636"/>
                </a:cubicBezTo>
                <a:cubicBezTo>
                  <a:pt x="18210" y="8812"/>
                  <a:pt x="18127" y="8993"/>
                  <a:pt x="18066" y="9176"/>
                </a:cubicBezTo>
                <a:cubicBezTo>
                  <a:pt x="18013" y="9335"/>
                  <a:pt x="17972" y="9496"/>
                  <a:pt x="17907" y="9652"/>
                </a:cubicBezTo>
                <a:cubicBezTo>
                  <a:pt x="17881" y="9715"/>
                  <a:pt x="17875" y="9758"/>
                  <a:pt x="17844" y="9811"/>
                </a:cubicBezTo>
              </a:path>
              <a:path w="3620" h="3271">
                <a:moveTo>
                  <a:pt x="18478" y="8064"/>
                </a:moveTo>
                <a:cubicBezTo>
                  <a:pt x="18478" y="8005"/>
                  <a:pt x="18477" y="8099"/>
                  <a:pt x="18510" y="8001"/>
                </a:cubicBezTo>
                <a:cubicBezTo>
                  <a:pt x="18526" y="7955"/>
                  <a:pt x="18565" y="7879"/>
                  <a:pt x="18606" y="7874"/>
                </a:cubicBezTo>
                <a:cubicBezTo>
                  <a:pt x="18637" y="7874"/>
                  <a:pt x="18648" y="7874"/>
                  <a:pt x="18669" y="7874"/>
                </a:cubicBezTo>
                <a:cubicBezTo>
                  <a:pt x="18669" y="7942"/>
                  <a:pt x="18676" y="7952"/>
                  <a:pt x="18669" y="8001"/>
                </a:cubicBezTo>
                <a:cubicBezTo>
                  <a:pt x="18656" y="8092"/>
                  <a:pt x="18655" y="8110"/>
                  <a:pt x="18606" y="8192"/>
                </a:cubicBezTo>
                <a:cubicBezTo>
                  <a:pt x="18584" y="8228"/>
                  <a:pt x="18516" y="8306"/>
                  <a:pt x="18510" y="8318"/>
                </a:cubicBezTo>
                <a:cubicBezTo>
                  <a:pt x="18479" y="8381"/>
                  <a:pt x="18521" y="8248"/>
                  <a:pt x="18542" y="8223"/>
                </a:cubicBezTo>
                <a:cubicBezTo>
                  <a:pt x="18576" y="8181"/>
                  <a:pt x="18618" y="8134"/>
                  <a:pt x="18669" y="8128"/>
                </a:cubicBezTo>
                <a:cubicBezTo>
                  <a:pt x="18715" y="8123"/>
                  <a:pt x="18752" y="8187"/>
                  <a:pt x="18764" y="8223"/>
                </a:cubicBezTo>
                <a:cubicBezTo>
                  <a:pt x="18791" y="8302"/>
                  <a:pt x="18785" y="8543"/>
                  <a:pt x="18732" y="8604"/>
                </a:cubicBezTo>
                <a:cubicBezTo>
                  <a:pt x="18694" y="8648"/>
                  <a:pt x="18660" y="8636"/>
                  <a:pt x="18606" y="8636"/>
                </a:cubicBezTo>
                <a:cubicBezTo>
                  <a:pt x="18551" y="8636"/>
                  <a:pt x="18557" y="8649"/>
                  <a:pt x="18542" y="8604"/>
                </a:cubicBezTo>
              </a:path>
              <a:path w="3620" h="3271">
                <a:moveTo>
                  <a:pt x="18955" y="8636"/>
                </a:moveTo>
                <a:cubicBezTo>
                  <a:pt x="18955" y="8740"/>
                  <a:pt x="18936" y="8826"/>
                  <a:pt x="18923" y="8922"/>
                </a:cubicBezTo>
                <a:cubicBezTo>
                  <a:pt x="18892" y="9157"/>
                  <a:pt x="18923" y="9414"/>
                  <a:pt x="18923" y="9652"/>
                </a:cubicBezTo>
                <a:cubicBezTo>
                  <a:pt x="19005" y="9621"/>
                  <a:pt x="18993" y="9654"/>
                  <a:pt x="19050" y="9557"/>
                </a:cubicBezTo>
                <a:cubicBezTo>
                  <a:pt x="19110" y="9456"/>
                  <a:pt x="19147" y="9320"/>
                  <a:pt x="19177" y="9208"/>
                </a:cubicBezTo>
                <a:cubicBezTo>
                  <a:pt x="19215" y="9069"/>
                  <a:pt x="19215" y="8962"/>
                  <a:pt x="19240" y="8826"/>
                </a:cubicBezTo>
                <a:cubicBezTo>
                  <a:pt x="19263" y="8703"/>
                  <a:pt x="19269" y="8678"/>
                  <a:pt x="19240" y="8572"/>
                </a:cubicBezTo>
                <a:cubicBezTo>
                  <a:pt x="19240" y="8820"/>
                  <a:pt x="19250" y="9058"/>
                  <a:pt x="19272" y="9303"/>
                </a:cubicBezTo>
                <a:cubicBezTo>
                  <a:pt x="19288" y="9485"/>
                  <a:pt x="19304" y="9658"/>
                  <a:pt x="19304" y="9842"/>
                </a:cubicBezTo>
                <a:cubicBezTo>
                  <a:pt x="19304" y="10097"/>
                  <a:pt x="19322" y="10354"/>
                  <a:pt x="19272" y="10604"/>
                </a:cubicBezTo>
                <a:cubicBezTo>
                  <a:pt x="19239" y="10767"/>
                  <a:pt x="19181" y="10901"/>
                  <a:pt x="19114" y="11049"/>
                </a:cubicBezTo>
                <a:cubicBezTo>
                  <a:pt x="19075" y="11134"/>
                  <a:pt x="19053" y="11110"/>
                  <a:pt x="18986" y="11144"/>
                </a:cubicBezTo>
                <a:cubicBezTo>
                  <a:pt x="18924" y="11038"/>
                  <a:pt x="18892" y="10952"/>
                  <a:pt x="18860" y="10827"/>
                </a:cubicBezTo>
                <a:cubicBezTo>
                  <a:pt x="18826" y="10691"/>
                  <a:pt x="18815" y="10639"/>
                  <a:pt x="18828" y="10541"/>
                </a:cubicBezTo>
              </a:path>
              <a:path w="3620" h="3271">
                <a:moveTo>
                  <a:pt x="19526" y="8255"/>
                </a:moveTo>
                <a:cubicBezTo>
                  <a:pt x="19526" y="8180"/>
                  <a:pt x="19556" y="8132"/>
                  <a:pt x="19590" y="8064"/>
                </a:cubicBezTo>
                <a:cubicBezTo>
                  <a:pt x="19624" y="7998"/>
                  <a:pt x="19648" y="7955"/>
                  <a:pt x="19717" y="7938"/>
                </a:cubicBezTo>
                <a:cubicBezTo>
                  <a:pt x="19758" y="8007"/>
                  <a:pt x="19741" y="8109"/>
                  <a:pt x="19717" y="8192"/>
                </a:cubicBezTo>
                <a:cubicBezTo>
                  <a:pt x="19686" y="8299"/>
                  <a:pt x="19668" y="8402"/>
                  <a:pt x="19622" y="8509"/>
                </a:cubicBezTo>
                <a:cubicBezTo>
                  <a:pt x="19590" y="8583"/>
                  <a:pt x="19590" y="8667"/>
                  <a:pt x="19558" y="8731"/>
                </a:cubicBezTo>
                <a:cubicBezTo>
                  <a:pt x="19547" y="8742"/>
                  <a:pt x="19537" y="8752"/>
                  <a:pt x="19526" y="8763"/>
                </a:cubicBezTo>
                <a:cubicBezTo>
                  <a:pt x="19526" y="8711"/>
                  <a:pt x="19534" y="8661"/>
                  <a:pt x="19590" y="8636"/>
                </a:cubicBezTo>
                <a:cubicBezTo>
                  <a:pt x="19651" y="8609"/>
                  <a:pt x="19655" y="8666"/>
                  <a:pt x="19685" y="8700"/>
                </a:cubicBezTo>
                <a:cubicBezTo>
                  <a:pt x="19732" y="8752"/>
                  <a:pt x="19778" y="8763"/>
                  <a:pt x="19844" y="8763"/>
                </a:cubicBezTo>
                <a:cubicBezTo>
                  <a:pt x="19866" y="8763"/>
                  <a:pt x="19924" y="8702"/>
                  <a:pt x="19939" y="8668"/>
                </a:cubicBezTo>
                <a:cubicBezTo>
                  <a:pt x="19939" y="8657"/>
                  <a:pt x="19939" y="8647"/>
                  <a:pt x="19939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4"/>
          <p:cNvSpPr/>
          <p:nvPr/>
        </p:nvSpPr>
        <p:spPr>
          <a:xfrm>
            <a:off x="7418520" y="1965240"/>
            <a:ext cx="1257120" cy="630360"/>
          </a:xfrm>
          <a:custGeom>
            <a:avLst/>
            <a:gdLst/>
            <a:ahLst/>
            <a:rect l="l" t="t" r="r" b="b"/>
            <a:pathLst>
              <a:path w="3493" h="1747">
                <a:moveTo>
                  <a:pt x="20860" y="6032"/>
                </a:moveTo>
                <a:cubicBezTo>
                  <a:pt x="20877" y="6100"/>
                  <a:pt x="20892" y="6142"/>
                  <a:pt x="20892" y="6223"/>
                </a:cubicBezTo>
                <a:cubicBezTo>
                  <a:pt x="20892" y="6349"/>
                  <a:pt x="20900" y="6511"/>
                  <a:pt x="20923" y="6636"/>
                </a:cubicBezTo>
                <a:cubicBezTo>
                  <a:pt x="20935" y="6699"/>
                  <a:pt x="20996" y="6863"/>
                  <a:pt x="20987" y="6922"/>
                </a:cubicBezTo>
                <a:cubicBezTo>
                  <a:pt x="20958" y="6950"/>
                  <a:pt x="20947" y="6956"/>
                  <a:pt x="20955" y="6985"/>
                </a:cubicBezTo>
              </a:path>
              <a:path w="3493" h="1747">
                <a:moveTo>
                  <a:pt x="20606" y="6509"/>
                </a:moveTo>
                <a:cubicBezTo>
                  <a:pt x="20662" y="6467"/>
                  <a:pt x="20690" y="6477"/>
                  <a:pt x="20764" y="6477"/>
                </a:cubicBezTo>
                <a:cubicBezTo>
                  <a:pt x="20870" y="6477"/>
                  <a:pt x="20953" y="6461"/>
                  <a:pt x="21050" y="6445"/>
                </a:cubicBezTo>
                <a:cubicBezTo>
                  <a:pt x="21071" y="6445"/>
                  <a:pt x="21093" y="6445"/>
                  <a:pt x="21114" y="6445"/>
                </a:cubicBezTo>
              </a:path>
              <a:path w="3493" h="1747">
                <a:moveTo>
                  <a:pt x="21844" y="5620"/>
                </a:moveTo>
                <a:cubicBezTo>
                  <a:pt x="21811" y="5653"/>
                  <a:pt x="21822" y="5631"/>
                  <a:pt x="21780" y="5652"/>
                </a:cubicBezTo>
                <a:cubicBezTo>
                  <a:pt x="21692" y="5695"/>
                  <a:pt x="21644" y="5693"/>
                  <a:pt x="21558" y="5715"/>
                </a:cubicBezTo>
                <a:cubicBezTo>
                  <a:pt x="21503" y="5729"/>
                  <a:pt x="21458" y="5744"/>
                  <a:pt x="21400" y="5747"/>
                </a:cubicBezTo>
                <a:cubicBezTo>
                  <a:pt x="21368" y="5747"/>
                  <a:pt x="21357" y="5747"/>
                  <a:pt x="21336" y="5747"/>
                </a:cubicBezTo>
                <a:cubicBezTo>
                  <a:pt x="21361" y="5845"/>
                  <a:pt x="21368" y="5900"/>
                  <a:pt x="21368" y="6001"/>
                </a:cubicBezTo>
                <a:cubicBezTo>
                  <a:pt x="21368" y="6109"/>
                  <a:pt x="21357" y="6187"/>
                  <a:pt x="21336" y="6286"/>
                </a:cubicBezTo>
                <a:cubicBezTo>
                  <a:pt x="21336" y="6297"/>
                  <a:pt x="21336" y="6307"/>
                  <a:pt x="21336" y="6318"/>
                </a:cubicBezTo>
                <a:cubicBezTo>
                  <a:pt x="21385" y="6210"/>
                  <a:pt x="21412" y="6148"/>
                  <a:pt x="21495" y="6064"/>
                </a:cubicBezTo>
                <a:cubicBezTo>
                  <a:pt x="21544" y="6014"/>
                  <a:pt x="21575" y="5955"/>
                  <a:pt x="21654" y="5969"/>
                </a:cubicBezTo>
                <a:cubicBezTo>
                  <a:pt x="21716" y="5980"/>
                  <a:pt x="21775" y="6007"/>
                  <a:pt x="21812" y="6064"/>
                </a:cubicBezTo>
                <a:cubicBezTo>
                  <a:pt x="21865" y="6147"/>
                  <a:pt x="21896" y="6259"/>
                  <a:pt x="21908" y="6350"/>
                </a:cubicBezTo>
                <a:cubicBezTo>
                  <a:pt x="21925" y="6489"/>
                  <a:pt x="21881" y="6572"/>
                  <a:pt x="21844" y="6699"/>
                </a:cubicBezTo>
                <a:cubicBezTo>
                  <a:pt x="21797" y="6860"/>
                  <a:pt x="21738" y="6932"/>
                  <a:pt x="21622" y="7048"/>
                </a:cubicBezTo>
                <a:cubicBezTo>
                  <a:pt x="21571" y="7099"/>
                  <a:pt x="21481" y="7195"/>
                  <a:pt x="21400" y="7176"/>
                </a:cubicBezTo>
                <a:cubicBezTo>
                  <a:pt x="21325" y="7158"/>
                  <a:pt x="21339" y="7117"/>
                  <a:pt x="21304" y="7048"/>
                </a:cubicBezTo>
              </a:path>
              <a:path w="3493" h="1747">
                <a:moveTo>
                  <a:pt x="22130" y="5493"/>
                </a:moveTo>
                <a:cubicBezTo>
                  <a:pt x="22130" y="5482"/>
                  <a:pt x="22130" y="5472"/>
                  <a:pt x="22130" y="5461"/>
                </a:cubicBezTo>
                <a:cubicBezTo>
                  <a:pt x="22148" y="5491"/>
                  <a:pt x="22184" y="5541"/>
                  <a:pt x="22162" y="5620"/>
                </a:cubicBezTo>
                <a:cubicBezTo>
                  <a:pt x="22134" y="5721"/>
                  <a:pt x="22102" y="5797"/>
                  <a:pt x="22098" y="5906"/>
                </a:cubicBezTo>
                <a:cubicBezTo>
                  <a:pt x="22092" y="6056"/>
                  <a:pt x="22066" y="6195"/>
                  <a:pt x="22066" y="6350"/>
                </a:cubicBezTo>
                <a:cubicBezTo>
                  <a:pt x="22066" y="6545"/>
                  <a:pt x="22018" y="6807"/>
                  <a:pt x="22098" y="6985"/>
                </a:cubicBezTo>
                <a:cubicBezTo>
                  <a:pt x="22122" y="7039"/>
                  <a:pt x="22154" y="7104"/>
                  <a:pt x="22225" y="7080"/>
                </a:cubicBezTo>
                <a:cubicBezTo>
                  <a:pt x="22310" y="7051"/>
                  <a:pt x="22346" y="6965"/>
                  <a:pt x="22384" y="6890"/>
                </a:cubicBezTo>
                <a:cubicBezTo>
                  <a:pt x="22428" y="6803"/>
                  <a:pt x="22491" y="6698"/>
                  <a:pt x="22511" y="6604"/>
                </a:cubicBezTo>
                <a:cubicBezTo>
                  <a:pt x="22526" y="6531"/>
                  <a:pt x="22503" y="6446"/>
                  <a:pt x="22479" y="6382"/>
                </a:cubicBezTo>
                <a:cubicBezTo>
                  <a:pt x="22444" y="6291"/>
                  <a:pt x="22439" y="6341"/>
                  <a:pt x="22384" y="6286"/>
                </a:cubicBezTo>
                <a:cubicBezTo>
                  <a:pt x="22335" y="6327"/>
                  <a:pt x="22316" y="6343"/>
                  <a:pt x="22288" y="6414"/>
                </a:cubicBezTo>
                <a:cubicBezTo>
                  <a:pt x="22244" y="6526"/>
                  <a:pt x="22206" y="6644"/>
                  <a:pt x="22193" y="6763"/>
                </a:cubicBezTo>
                <a:cubicBezTo>
                  <a:pt x="22180" y="6878"/>
                  <a:pt x="22208" y="6975"/>
                  <a:pt x="22225" y="7080"/>
                </a:cubicBezTo>
                <a:cubicBezTo>
                  <a:pt x="22236" y="7148"/>
                  <a:pt x="22235" y="7154"/>
                  <a:pt x="22288" y="7207"/>
                </a:cubicBezTo>
              </a:path>
              <a:path w="3493" h="1747">
                <a:moveTo>
                  <a:pt x="22765" y="6032"/>
                </a:moveTo>
                <a:cubicBezTo>
                  <a:pt x="22765" y="6064"/>
                  <a:pt x="22765" y="6075"/>
                  <a:pt x="22765" y="6096"/>
                </a:cubicBezTo>
              </a:path>
              <a:path w="3493" h="1747">
                <a:moveTo>
                  <a:pt x="22765" y="6032"/>
                </a:moveTo>
                <a:cubicBezTo>
                  <a:pt x="22775" y="6096"/>
                  <a:pt x="22786" y="6159"/>
                  <a:pt x="22796" y="6223"/>
                </a:cubicBezTo>
              </a:path>
              <a:path w="3493" h="1747">
                <a:moveTo>
                  <a:pt x="22796" y="6223"/>
                </a:moveTo>
                <a:cubicBezTo>
                  <a:pt x="22807" y="6255"/>
                  <a:pt x="22817" y="6286"/>
                  <a:pt x="22828" y="6318"/>
                </a:cubicBezTo>
              </a:path>
              <a:path w="3493" h="1747">
                <a:moveTo>
                  <a:pt x="22828" y="6699"/>
                </a:moveTo>
                <a:cubicBezTo>
                  <a:pt x="22819" y="6806"/>
                  <a:pt x="22823" y="6944"/>
                  <a:pt x="22796" y="7048"/>
                </a:cubicBezTo>
                <a:cubicBezTo>
                  <a:pt x="22786" y="7069"/>
                  <a:pt x="22775" y="7091"/>
                  <a:pt x="22765" y="7112"/>
                </a:cubicBezTo>
                <a:cubicBezTo>
                  <a:pt x="22749" y="7049"/>
                  <a:pt x="22716" y="7000"/>
                  <a:pt x="22733" y="6922"/>
                </a:cubicBezTo>
                <a:cubicBezTo>
                  <a:pt x="22766" y="6772"/>
                  <a:pt x="22786" y="6630"/>
                  <a:pt x="22796" y="6477"/>
                </a:cubicBezTo>
              </a:path>
              <a:path w="3493" h="1747">
                <a:moveTo>
                  <a:pt x="22828" y="6382"/>
                </a:moveTo>
                <a:cubicBezTo>
                  <a:pt x="22863" y="6286"/>
                  <a:pt x="22884" y="6231"/>
                  <a:pt x="22955" y="6160"/>
                </a:cubicBezTo>
                <a:cubicBezTo>
                  <a:pt x="22966" y="6149"/>
                  <a:pt x="22976" y="6139"/>
                  <a:pt x="22987" y="6128"/>
                </a:cubicBezTo>
                <a:cubicBezTo>
                  <a:pt x="23048" y="6172"/>
                  <a:pt x="23072" y="6203"/>
                  <a:pt x="23114" y="6286"/>
                </a:cubicBezTo>
                <a:cubicBezTo>
                  <a:pt x="23164" y="6386"/>
                  <a:pt x="23146" y="6494"/>
                  <a:pt x="23146" y="6604"/>
                </a:cubicBezTo>
                <a:cubicBezTo>
                  <a:pt x="23146" y="6689"/>
                  <a:pt x="23146" y="6773"/>
                  <a:pt x="23146" y="6858"/>
                </a:cubicBezTo>
                <a:cubicBezTo>
                  <a:pt x="23146" y="6794"/>
                  <a:pt x="23131" y="6793"/>
                  <a:pt x="23146" y="6731"/>
                </a:cubicBezTo>
                <a:cubicBezTo>
                  <a:pt x="23176" y="6606"/>
                  <a:pt x="23175" y="6479"/>
                  <a:pt x="23209" y="6350"/>
                </a:cubicBezTo>
                <a:cubicBezTo>
                  <a:pt x="23236" y="6247"/>
                  <a:pt x="23274" y="6121"/>
                  <a:pt x="23336" y="6032"/>
                </a:cubicBezTo>
                <a:cubicBezTo>
                  <a:pt x="23376" y="5975"/>
                  <a:pt x="23426" y="5955"/>
                  <a:pt x="23495" y="5969"/>
                </a:cubicBezTo>
                <a:cubicBezTo>
                  <a:pt x="23558" y="5982"/>
                  <a:pt x="23610" y="6060"/>
                  <a:pt x="23622" y="6128"/>
                </a:cubicBezTo>
                <a:cubicBezTo>
                  <a:pt x="23671" y="6408"/>
                  <a:pt x="23566" y="6714"/>
                  <a:pt x="23654" y="6985"/>
                </a:cubicBezTo>
                <a:cubicBezTo>
                  <a:pt x="23678" y="7058"/>
                  <a:pt x="23710" y="7168"/>
                  <a:pt x="23812" y="7144"/>
                </a:cubicBezTo>
                <a:cubicBezTo>
                  <a:pt x="23912" y="7120"/>
                  <a:pt x="23983" y="6997"/>
                  <a:pt x="24035" y="6922"/>
                </a:cubicBezTo>
                <a:cubicBezTo>
                  <a:pt x="24056" y="6890"/>
                  <a:pt x="24077" y="6858"/>
                  <a:pt x="24098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5"/>
          <p:cNvSpPr/>
          <p:nvPr/>
        </p:nvSpPr>
        <p:spPr>
          <a:xfrm>
            <a:off x="7578720" y="4525920"/>
            <a:ext cx="1074600" cy="663480"/>
          </a:xfrm>
          <a:custGeom>
            <a:avLst/>
            <a:gdLst/>
            <a:ahLst/>
            <a:rect l="l" t="t" r="r" b="b"/>
            <a:pathLst>
              <a:path w="2986" h="1842">
                <a:moveTo>
                  <a:pt x="21082" y="14383"/>
                </a:moveTo>
                <a:cubicBezTo>
                  <a:pt x="21071" y="14393"/>
                  <a:pt x="21061" y="14404"/>
                  <a:pt x="21050" y="14414"/>
                </a:cubicBezTo>
                <a:cubicBezTo>
                  <a:pt x="21055" y="14346"/>
                  <a:pt x="21065" y="14323"/>
                  <a:pt x="21082" y="14256"/>
                </a:cubicBezTo>
                <a:cubicBezTo>
                  <a:pt x="21105" y="14169"/>
                  <a:pt x="21113" y="14088"/>
                  <a:pt x="21146" y="14002"/>
                </a:cubicBezTo>
                <a:cubicBezTo>
                  <a:pt x="21184" y="13905"/>
                  <a:pt x="21235" y="13813"/>
                  <a:pt x="21272" y="13716"/>
                </a:cubicBezTo>
                <a:cubicBezTo>
                  <a:pt x="21322" y="13586"/>
                  <a:pt x="21399" y="13542"/>
                  <a:pt x="21463" y="13430"/>
                </a:cubicBezTo>
                <a:cubicBezTo>
                  <a:pt x="21523" y="13325"/>
                  <a:pt x="21621" y="13201"/>
                  <a:pt x="21717" y="13113"/>
                </a:cubicBezTo>
                <a:cubicBezTo>
                  <a:pt x="21824" y="13015"/>
                  <a:pt x="21974" y="12868"/>
                  <a:pt x="22098" y="12795"/>
                </a:cubicBezTo>
                <a:cubicBezTo>
                  <a:pt x="22231" y="12717"/>
                  <a:pt x="22397" y="12653"/>
                  <a:pt x="22542" y="12605"/>
                </a:cubicBezTo>
                <a:cubicBezTo>
                  <a:pt x="22674" y="12561"/>
                  <a:pt x="22848" y="12552"/>
                  <a:pt x="22987" y="12573"/>
                </a:cubicBezTo>
                <a:cubicBezTo>
                  <a:pt x="23140" y="12596"/>
                  <a:pt x="23282" y="12664"/>
                  <a:pt x="23400" y="12764"/>
                </a:cubicBezTo>
                <a:cubicBezTo>
                  <a:pt x="23519" y="12865"/>
                  <a:pt x="23628" y="12987"/>
                  <a:pt x="23717" y="13113"/>
                </a:cubicBezTo>
                <a:cubicBezTo>
                  <a:pt x="23814" y="13251"/>
                  <a:pt x="23857" y="13367"/>
                  <a:pt x="23908" y="13526"/>
                </a:cubicBezTo>
                <a:cubicBezTo>
                  <a:pt x="23946" y="13643"/>
                  <a:pt x="23975" y="13759"/>
                  <a:pt x="24003" y="13875"/>
                </a:cubicBezTo>
                <a:cubicBezTo>
                  <a:pt x="24034" y="13936"/>
                  <a:pt x="24045" y="13955"/>
                  <a:pt x="24035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6"/>
          <p:cNvSpPr/>
          <p:nvPr/>
        </p:nvSpPr>
        <p:spPr>
          <a:xfrm>
            <a:off x="8400960" y="2685960"/>
            <a:ext cx="639720" cy="1200240"/>
          </a:xfrm>
          <a:custGeom>
            <a:avLst/>
            <a:gdLst/>
            <a:ahLst/>
            <a:rect l="l" t="t" r="r" b="b"/>
            <a:pathLst>
              <a:path w="1779" h="3335">
                <a:moveTo>
                  <a:pt x="23463" y="8604"/>
                </a:moveTo>
                <a:cubicBezTo>
                  <a:pt x="23463" y="8816"/>
                  <a:pt x="23463" y="9027"/>
                  <a:pt x="23463" y="9239"/>
                </a:cubicBezTo>
              </a:path>
              <a:path w="1779" h="3335">
                <a:moveTo>
                  <a:pt x="23336" y="8985"/>
                </a:moveTo>
                <a:cubicBezTo>
                  <a:pt x="23347" y="8985"/>
                  <a:pt x="23357" y="8985"/>
                  <a:pt x="23368" y="8985"/>
                </a:cubicBezTo>
                <a:cubicBezTo>
                  <a:pt x="23391" y="8918"/>
                  <a:pt x="23409" y="8984"/>
                  <a:pt x="23463" y="8954"/>
                </a:cubicBezTo>
                <a:cubicBezTo>
                  <a:pt x="23492" y="8925"/>
                  <a:pt x="23498" y="8914"/>
                  <a:pt x="23527" y="8922"/>
                </a:cubicBezTo>
              </a:path>
              <a:path w="1779" h="3335">
                <a:moveTo>
                  <a:pt x="23686" y="8636"/>
                </a:moveTo>
                <a:cubicBezTo>
                  <a:pt x="23686" y="8564"/>
                  <a:pt x="23698" y="8536"/>
                  <a:pt x="23717" y="8477"/>
                </a:cubicBezTo>
                <a:cubicBezTo>
                  <a:pt x="23743" y="8398"/>
                  <a:pt x="23715" y="8384"/>
                  <a:pt x="23781" y="8318"/>
                </a:cubicBezTo>
                <a:cubicBezTo>
                  <a:pt x="23791" y="8308"/>
                  <a:pt x="23802" y="8297"/>
                  <a:pt x="23812" y="8287"/>
                </a:cubicBezTo>
                <a:cubicBezTo>
                  <a:pt x="23853" y="8340"/>
                  <a:pt x="23862" y="8403"/>
                  <a:pt x="23844" y="8477"/>
                </a:cubicBezTo>
                <a:cubicBezTo>
                  <a:pt x="23814" y="8600"/>
                  <a:pt x="23786" y="8732"/>
                  <a:pt x="23781" y="8858"/>
                </a:cubicBezTo>
                <a:cubicBezTo>
                  <a:pt x="23777" y="8968"/>
                  <a:pt x="23741" y="9042"/>
                  <a:pt x="23717" y="9144"/>
                </a:cubicBezTo>
                <a:cubicBezTo>
                  <a:pt x="23705" y="9195"/>
                  <a:pt x="23709" y="9318"/>
                  <a:pt x="23686" y="9271"/>
                </a:cubicBezTo>
                <a:cubicBezTo>
                  <a:pt x="23668" y="9234"/>
                  <a:pt x="23734" y="9219"/>
                  <a:pt x="23749" y="9208"/>
                </a:cubicBezTo>
                <a:cubicBezTo>
                  <a:pt x="23800" y="9170"/>
                  <a:pt x="23806" y="9208"/>
                  <a:pt x="23876" y="9208"/>
                </a:cubicBezTo>
                <a:cubicBezTo>
                  <a:pt x="23929" y="9208"/>
                  <a:pt x="23996" y="9230"/>
                  <a:pt x="24003" y="9176"/>
                </a:cubicBezTo>
                <a:cubicBezTo>
                  <a:pt x="24003" y="9165"/>
                  <a:pt x="24003" y="9155"/>
                  <a:pt x="24003" y="9144"/>
                </a:cubicBezTo>
              </a:path>
              <a:path w="1779" h="3335">
                <a:moveTo>
                  <a:pt x="24066" y="8287"/>
                </a:moveTo>
                <a:cubicBezTo>
                  <a:pt x="24066" y="8482"/>
                  <a:pt x="24079" y="8667"/>
                  <a:pt x="24098" y="8858"/>
                </a:cubicBezTo>
                <a:cubicBezTo>
                  <a:pt x="24113" y="9013"/>
                  <a:pt x="24098" y="9178"/>
                  <a:pt x="24098" y="9334"/>
                </a:cubicBezTo>
              </a:path>
              <a:path w="1779" h="3335">
                <a:moveTo>
                  <a:pt x="24352" y="8668"/>
                </a:moveTo>
                <a:cubicBezTo>
                  <a:pt x="24320" y="8668"/>
                  <a:pt x="24309" y="8668"/>
                  <a:pt x="24320" y="8636"/>
                </a:cubicBezTo>
                <a:cubicBezTo>
                  <a:pt x="24320" y="8704"/>
                  <a:pt x="24346" y="8725"/>
                  <a:pt x="24352" y="8795"/>
                </a:cubicBezTo>
                <a:cubicBezTo>
                  <a:pt x="24356" y="8842"/>
                  <a:pt x="24397" y="8947"/>
                  <a:pt x="24416" y="8985"/>
                </a:cubicBezTo>
                <a:cubicBezTo>
                  <a:pt x="24442" y="9037"/>
                  <a:pt x="24455" y="9095"/>
                  <a:pt x="24479" y="9144"/>
                </a:cubicBezTo>
                <a:cubicBezTo>
                  <a:pt x="24502" y="9190"/>
                  <a:pt x="24553" y="9224"/>
                  <a:pt x="24574" y="9271"/>
                </a:cubicBezTo>
                <a:cubicBezTo>
                  <a:pt x="24574" y="9282"/>
                  <a:pt x="24574" y="9292"/>
                  <a:pt x="24574" y="9303"/>
                </a:cubicBezTo>
              </a:path>
              <a:path w="1779" h="3335">
                <a:moveTo>
                  <a:pt x="24670" y="8477"/>
                </a:moveTo>
                <a:cubicBezTo>
                  <a:pt x="24654" y="8619"/>
                  <a:pt x="24599" y="8726"/>
                  <a:pt x="24543" y="8858"/>
                </a:cubicBezTo>
                <a:cubicBezTo>
                  <a:pt x="24467" y="9038"/>
                  <a:pt x="24383" y="9213"/>
                  <a:pt x="24320" y="9398"/>
                </a:cubicBezTo>
                <a:cubicBezTo>
                  <a:pt x="24261" y="9576"/>
                  <a:pt x="24242" y="9627"/>
                  <a:pt x="24225" y="9747"/>
                </a:cubicBezTo>
              </a:path>
              <a:path w="1779" h="3335">
                <a:moveTo>
                  <a:pt x="24670" y="8604"/>
                </a:moveTo>
                <a:cubicBezTo>
                  <a:pt x="24670" y="8689"/>
                  <a:pt x="24683" y="8746"/>
                  <a:pt x="24702" y="8826"/>
                </a:cubicBezTo>
                <a:cubicBezTo>
                  <a:pt x="24721" y="8908"/>
                  <a:pt x="24753" y="8995"/>
                  <a:pt x="24765" y="9080"/>
                </a:cubicBezTo>
                <a:cubicBezTo>
                  <a:pt x="24777" y="9162"/>
                  <a:pt x="24797" y="9212"/>
                  <a:pt x="24797" y="9303"/>
                </a:cubicBezTo>
                <a:cubicBezTo>
                  <a:pt x="24797" y="9349"/>
                  <a:pt x="24840" y="9416"/>
                  <a:pt x="24860" y="9462"/>
                </a:cubicBezTo>
              </a:path>
              <a:path w="1779" h="3335">
                <a:moveTo>
                  <a:pt x="24956" y="8477"/>
                </a:moveTo>
                <a:cubicBezTo>
                  <a:pt x="24941" y="8521"/>
                  <a:pt x="24909" y="8677"/>
                  <a:pt x="24892" y="8763"/>
                </a:cubicBezTo>
                <a:cubicBezTo>
                  <a:pt x="24850" y="8972"/>
                  <a:pt x="24809" y="9187"/>
                  <a:pt x="24797" y="9398"/>
                </a:cubicBezTo>
                <a:cubicBezTo>
                  <a:pt x="24782" y="9664"/>
                  <a:pt x="24749" y="9927"/>
                  <a:pt x="24733" y="10192"/>
                </a:cubicBezTo>
                <a:cubicBezTo>
                  <a:pt x="24722" y="10376"/>
                  <a:pt x="24694" y="10553"/>
                  <a:pt x="24670" y="10732"/>
                </a:cubicBezTo>
                <a:cubicBezTo>
                  <a:pt x="24670" y="10753"/>
                  <a:pt x="24670" y="10774"/>
                  <a:pt x="24670" y="10795"/>
                </a:cubicBezTo>
              </a:path>
              <a:path w="1779" h="3335">
                <a:moveTo>
                  <a:pt x="24860" y="7525"/>
                </a:moveTo>
                <a:cubicBezTo>
                  <a:pt x="24868" y="7517"/>
                  <a:pt x="24969" y="7414"/>
                  <a:pt x="24987" y="7461"/>
                </a:cubicBezTo>
                <a:cubicBezTo>
                  <a:pt x="25020" y="7545"/>
                  <a:pt x="25001" y="7553"/>
                  <a:pt x="24987" y="7620"/>
                </a:cubicBezTo>
                <a:cubicBezTo>
                  <a:pt x="24976" y="7673"/>
                  <a:pt x="24961" y="7732"/>
                  <a:pt x="24956" y="7779"/>
                </a:cubicBezTo>
                <a:cubicBezTo>
                  <a:pt x="24950" y="7835"/>
                  <a:pt x="24896" y="7855"/>
                  <a:pt x="24956" y="7810"/>
                </a:cubicBezTo>
                <a:cubicBezTo>
                  <a:pt x="24966" y="7800"/>
                  <a:pt x="24977" y="7789"/>
                  <a:pt x="24987" y="7779"/>
                </a:cubicBezTo>
                <a:cubicBezTo>
                  <a:pt x="23608" y="7779"/>
                  <a:pt x="25018" y="7712"/>
                  <a:pt x="25082" y="7810"/>
                </a:cubicBezTo>
                <a:cubicBezTo>
                  <a:pt x="25187" y="7970"/>
                  <a:pt x="24764" y="7890"/>
                  <a:pt x="24574" y="7906"/>
                </a:cubicBezTo>
                <a:cubicBezTo>
                  <a:pt x="25252" y="7998"/>
                  <a:pt x="25162" y="7827"/>
                  <a:pt x="25082" y="8064"/>
                </a:cubicBezTo>
                <a:cubicBezTo>
                  <a:pt x="25066" y="8111"/>
                  <a:pt x="25039" y="8142"/>
                  <a:pt x="24987" y="8160"/>
                </a:cubicBezTo>
                <a:cubicBezTo>
                  <a:pt x="24926" y="8181"/>
                  <a:pt x="24947" y="8187"/>
                  <a:pt x="24892" y="8160"/>
                </a:cubicBezTo>
              </a:path>
              <a:path w="1779" h="3335">
                <a:moveTo>
                  <a:pt x="24797" y="7588"/>
                </a:moveTo>
                <a:lnTo>
                  <a:pt x="24797" y="7588"/>
                </a:lnTo>
              </a:path>
              <a:path w="1779" h="3335">
                <a:moveTo>
                  <a:pt x="24797" y="7588"/>
                </a:moveTo>
                <a:cubicBezTo>
                  <a:pt x="24797" y="7567"/>
                  <a:pt x="24797" y="7546"/>
                  <a:pt x="24797" y="7525"/>
                </a:cubicBezTo>
              </a:path>
              <a:path w="1779" h="3335">
                <a:moveTo>
                  <a:pt x="24797" y="7525"/>
                </a:moveTo>
                <a:cubicBezTo>
                  <a:pt x="24837" y="7511"/>
                  <a:pt x="24845" y="7496"/>
                  <a:pt x="24892" y="7461"/>
                </a:cubicBezTo>
                <a:cubicBezTo>
                  <a:pt x="24940" y="7509"/>
                  <a:pt x="24956" y="7520"/>
                  <a:pt x="24956" y="7588"/>
                </a:cubicBezTo>
                <a:cubicBezTo>
                  <a:pt x="24956" y="7660"/>
                  <a:pt x="24931" y="7631"/>
                  <a:pt x="24924" y="7684"/>
                </a:cubicBezTo>
                <a:cubicBezTo>
                  <a:pt x="24920" y="7717"/>
                  <a:pt x="24917" y="7794"/>
                  <a:pt x="24892" y="7810"/>
                </a:cubicBezTo>
                <a:cubicBezTo>
                  <a:pt x="24881" y="7810"/>
                  <a:pt x="24871" y="7810"/>
                  <a:pt x="24860" y="7810"/>
                </a:cubicBezTo>
                <a:cubicBezTo>
                  <a:pt x="24872" y="7774"/>
                  <a:pt x="24905" y="7753"/>
                  <a:pt x="24956" y="7747"/>
                </a:cubicBezTo>
                <a:cubicBezTo>
                  <a:pt x="24987" y="7747"/>
                  <a:pt x="24998" y="7747"/>
                  <a:pt x="25019" y="7747"/>
                </a:cubicBezTo>
                <a:cubicBezTo>
                  <a:pt x="24449" y="7890"/>
                  <a:pt x="24237" y="7673"/>
                  <a:pt x="25051" y="7906"/>
                </a:cubicBezTo>
                <a:cubicBezTo>
                  <a:pt x="25039" y="7966"/>
                  <a:pt x="25026" y="8020"/>
                  <a:pt x="24987" y="8064"/>
                </a:cubicBezTo>
                <a:cubicBezTo>
                  <a:pt x="24956" y="8100"/>
                  <a:pt x="24899" y="8196"/>
                  <a:pt x="24860" y="8128"/>
                </a:cubicBezTo>
                <a:cubicBezTo>
                  <a:pt x="24845" y="8102"/>
                  <a:pt x="24836" y="8063"/>
                  <a:pt x="24828" y="8033"/>
                </a:cubicBezTo>
                <a:cubicBezTo>
                  <a:pt x="24883" y="8033"/>
                  <a:pt x="24879" y="8031"/>
                  <a:pt x="24924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7"/>
          <p:cNvSpPr/>
          <p:nvPr/>
        </p:nvSpPr>
        <p:spPr>
          <a:xfrm>
            <a:off x="7189920" y="2800440"/>
            <a:ext cx="1199880" cy="1109520"/>
          </a:xfrm>
          <a:custGeom>
            <a:avLst/>
            <a:gdLst/>
            <a:ahLst/>
            <a:rect l="l" t="t" r="r" b="b"/>
            <a:pathLst>
              <a:path w="3334" h="3080">
                <a:moveTo>
                  <a:pt x="19971" y="9049"/>
                </a:moveTo>
                <a:cubicBezTo>
                  <a:pt x="19982" y="9016"/>
                  <a:pt x="19994" y="8988"/>
                  <a:pt x="20034" y="8985"/>
                </a:cubicBezTo>
                <a:cubicBezTo>
                  <a:pt x="20196" y="8973"/>
                  <a:pt x="20358" y="8991"/>
                  <a:pt x="20510" y="9017"/>
                </a:cubicBezTo>
                <a:cubicBezTo>
                  <a:pt x="20590" y="9030"/>
                  <a:pt x="20658" y="9043"/>
                  <a:pt x="20733" y="9049"/>
                </a:cubicBezTo>
                <a:cubicBezTo>
                  <a:pt x="20764" y="9049"/>
                  <a:pt x="20775" y="9049"/>
                  <a:pt x="20796" y="9049"/>
                </a:cubicBezTo>
              </a:path>
              <a:path w="3334" h="3080">
                <a:moveTo>
                  <a:pt x="21431" y="8572"/>
                </a:moveTo>
                <a:cubicBezTo>
                  <a:pt x="21439" y="8496"/>
                  <a:pt x="21459" y="8454"/>
                  <a:pt x="21463" y="8382"/>
                </a:cubicBezTo>
                <a:cubicBezTo>
                  <a:pt x="21468" y="8298"/>
                  <a:pt x="21457" y="8255"/>
                  <a:pt x="21400" y="8192"/>
                </a:cubicBezTo>
                <a:cubicBezTo>
                  <a:pt x="21372" y="8161"/>
                  <a:pt x="21253" y="8113"/>
                  <a:pt x="21209" y="8128"/>
                </a:cubicBezTo>
                <a:cubicBezTo>
                  <a:pt x="21130" y="8155"/>
                  <a:pt x="21067" y="8231"/>
                  <a:pt x="21018" y="8287"/>
                </a:cubicBezTo>
                <a:cubicBezTo>
                  <a:pt x="20954" y="8360"/>
                  <a:pt x="20882" y="8499"/>
                  <a:pt x="20892" y="8604"/>
                </a:cubicBezTo>
                <a:cubicBezTo>
                  <a:pt x="20899" y="8679"/>
                  <a:pt x="20942" y="8793"/>
                  <a:pt x="20987" y="8858"/>
                </a:cubicBezTo>
                <a:cubicBezTo>
                  <a:pt x="21034" y="8927"/>
                  <a:pt x="21120" y="8885"/>
                  <a:pt x="21177" y="8858"/>
                </a:cubicBezTo>
                <a:cubicBezTo>
                  <a:pt x="21270" y="8814"/>
                  <a:pt x="21291" y="8725"/>
                  <a:pt x="21336" y="8636"/>
                </a:cubicBezTo>
                <a:cubicBezTo>
                  <a:pt x="21375" y="8559"/>
                  <a:pt x="21392" y="8480"/>
                  <a:pt x="21431" y="8414"/>
                </a:cubicBezTo>
                <a:cubicBezTo>
                  <a:pt x="21445" y="8471"/>
                  <a:pt x="21479" y="8500"/>
                  <a:pt x="21463" y="8572"/>
                </a:cubicBezTo>
                <a:cubicBezTo>
                  <a:pt x="21430" y="8716"/>
                  <a:pt x="21407" y="8869"/>
                  <a:pt x="21400" y="9017"/>
                </a:cubicBezTo>
                <a:cubicBezTo>
                  <a:pt x="21395" y="9136"/>
                  <a:pt x="21368" y="9245"/>
                  <a:pt x="21368" y="9366"/>
                </a:cubicBezTo>
                <a:cubicBezTo>
                  <a:pt x="21368" y="9461"/>
                  <a:pt x="21368" y="9557"/>
                  <a:pt x="21368" y="9652"/>
                </a:cubicBezTo>
              </a:path>
              <a:path w="3334" h="3080">
                <a:moveTo>
                  <a:pt x="21622" y="8509"/>
                </a:moveTo>
                <a:cubicBezTo>
                  <a:pt x="21638" y="8557"/>
                  <a:pt x="21671" y="8556"/>
                  <a:pt x="21685" y="8636"/>
                </a:cubicBezTo>
                <a:cubicBezTo>
                  <a:pt x="21698" y="8713"/>
                  <a:pt x="21736" y="8793"/>
                  <a:pt x="21749" y="8858"/>
                </a:cubicBezTo>
                <a:cubicBezTo>
                  <a:pt x="21768" y="8951"/>
                  <a:pt x="21807" y="8998"/>
                  <a:pt x="21844" y="9080"/>
                </a:cubicBezTo>
                <a:cubicBezTo>
                  <a:pt x="21882" y="9163"/>
                  <a:pt x="21864" y="9299"/>
                  <a:pt x="21939" y="9366"/>
                </a:cubicBezTo>
                <a:cubicBezTo>
                  <a:pt x="21972" y="9395"/>
                  <a:pt x="21972" y="9441"/>
                  <a:pt x="22003" y="9493"/>
                </a:cubicBezTo>
                <a:cubicBezTo>
                  <a:pt x="22022" y="9525"/>
                  <a:pt x="22034" y="9583"/>
                  <a:pt x="22034" y="9525"/>
                </a:cubicBezTo>
              </a:path>
              <a:path w="3334" h="3080">
                <a:moveTo>
                  <a:pt x="22034" y="8446"/>
                </a:moveTo>
                <a:cubicBezTo>
                  <a:pt x="22034" y="8522"/>
                  <a:pt x="22022" y="8596"/>
                  <a:pt x="22003" y="8668"/>
                </a:cubicBezTo>
                <a:cubicBezTo>
                  <a:pt x="21967" y="8806"/>
                  <a:pt x="21952" y="8941"/>
                  <a:pt x="21908" y="9080"/>
                </a:cubicBezTo>
                <a:cubicBezTo>
                  <a:pt x="21861" y="9226"/>
                  <a:pt x="21824" y="9383"/>
                  <a:pt x="21780" y="9525"/>
                </a:cubicBezTo>
                <a:cubicBezTo>
                  <a:pt x="21760" y="9590"/>
                  <a:pt x="21723" y="9666"/>
                  <a:pt x="21685" y="9716"/>
                </a:cubicBezTo>
              </a:path>
              <a:path w="3334" h="3080">
                <a:moveTo>
                  <a:pt x="22225" y="8033"/>
                </a:moveTo>
                <a:cubicBezTo>
                  <a:pt x="22225" y="7967"/>
                  <a:pt x="22241" y="7928"/>
                  <a:pt x="22257" y="7874"/>
                </a:cubicBezTo>
                <a:cubicBezTo>
                  <a:pt x="22257" y="7838"/>
                  <a:pt x="22260" y="7824"/>
                  <a:pt x="22288" y="7810"/>
                </a:cubicBezTo>
                <a:cubicBezTo>
                  <a:pt x="22331" y="7821"/>
                  <a:pt x="22374" y="7859"/>
                  <a:pt x="22384" y="7906"/>
                </a:cubicBezTo>
                <a:cubicBezTo>
                  <a:pt x="22404" y="7999"/>
                  <a:pt x="22366" y="8076"/>
                  <a:pt x="22352" y="8160"/>
                </a:cubicBezTo>
                <a:cubicBezTo>
                  <a:pt x="22339" y="8237"/>
                  <a:pt x="22301" y="8317"/>
                  <a:pt x="22288" y="8382"/>
                </a:cubicBezTo>
                <a:cubicBezTo>
                  <a:pt x="22288" y="8435"/>
                  <a:pt x="22288" y="8445"/>
                  <a:pt x="22288" y="8477"/>
                </a:cubicBezTo>
                <a:cubicBezTo>
                  <a:pt x="22308" y="8462"/>
                  <a:pt x="22411" y="8453"/>
                  <a:pt x="22416" y="8446"/>
                </a:cubicBezTo>
                <a:cubicBezTo>
                  <a:pt x="22442" y="8413"/>
                  <a:pt x="22405" y="8414"/>
                  <a:pt x="22447" y="8414"/>
                </a:cubicBezTo>
                <a:cubicBezTo>
                  <a:pt x="22458" y="8414"/>
                  <a:pt x="22468" y="8414"/>
                  <a:pt x="22479" y="8414"/>
                </a:cubicBezTo>
              </a:path>
              <a:path w="3334" h="3080">
                <a:moveTo>
                  <a:pt x="22606" y="8541"/>
                </a:moveTo>
                <a:cubicBezTo>
                  <a:pt x="22606" y="8775"/>
                  <a:pt x="22544" y="9123"/>
                  <a:pt x="22638" y="9334"/>
                </a:cubicBezTo>
                <a:cubicBezTo>
                  <a:pt x="22659" y="9381"/>
                  <a:pt x="22662" y="9406"/>
                  <a:pt x="22670" y="9462"/>
                </a:cubicBezTo>
                <a:cubicBezTo>
                  <a:pt x="22746" y="9440"/>
                  <a:pt x="22736" y="9430"/>
                  <a:pt x="22796" y="9366"/>
                </a:cubicBezTo>
                <a:cubicBezTo>
                  <a:pt x="22868" y="9289"/>
                  <a:pt x="22859" y="9258"/>
                  <a:pt x="22892" y="9144"/>
                </a:cubicBezTo>
                <a:cubicBezTo>
                  <a:pt x="22925" y="9030"/>
                  <a:pt x="22950" y="8918"/>
                  <a:pt x="22955" y="8795"/>
                </a:cubicBezTo>
                <a:cubicBezTo>
                  <a:pt x="22959" y="8701"/>
                  <a:pt x="22935" y="8630"/>
                  <a:pt x="22924" y="8541"/>
                </a:cubicBezTo>
                <a:cubicBezTo>
                  <a:pt x="22884" y="8647"/>
                  <a:pt x="22892" y="8742"/>
                  <a:pt x="22892" y="8858"/>
                </a:cubicBezTo>
                <a:cubicBezTo>
                  <a:pt x="22892" y="9019"/>
                  <a:pt x="22924" y="9169"/>
                  <a:pt x="22924" y="9334"/>
                </a:cubicBezTo>
                <a:cubicBezTo>
                  <a:pt x="22924" y="9613"/>
                  <a:pt x="22914" y="9886"/>
                  <a:pt x="22892" y="10160"/>
                </a:cubicBezTo>
                <a:cubicBezTo>
                  <a:pt x="22879" y="10325"/>
                  <a:pt x="22857" y="10479"/>
                  <a:pt x="22796" y="10636"/>
                </a:cubicBezTo>
                <a:cubicBezTo>
                  <a:pt x="22763" y="10723"/>
                  <a:pt x="22744" y="10834"/>
                  <a:pt x="22638" y="10858"/>
                </a:cubicBezTo>
                <a:cubicBezTo>
                  <a:pt x="22553" y="10878"/>
                  <a:pt x="22509" y="10800"/>
                  <a:pt x="22479" y="10732"/>
                </a:cubicBezTo>
                <a:cubicBezTo>
                  <a:pt x="22468" y="10700"/>
                  <a:pt x="22458" y="10668"/>
                  <a:pt x="22447" y="10636"/>
                </a:cubicBezTo>
              </a:path>
              <a:path w="3334" h="3080">
                <a:moveTo>
                  <a:pt x="23019" y="7874"/>
                </a:moveTo>
                <a:cubicBezTo>
                  <a:pt x="23033" y="7830"/>
                  <a:pt x="23068" y="7836"/>
                  <a:pt x="23082" y="7810"/>
                </a:cubicBezTo>
                <a:cubicBezTo>
                  <a:pt x="23087" y="7799"/>
                  <a:pt x="23146" y="7740"/>
                  <a:pt x="23178" y="7779"/>
                </a:cubicBezTo>
                <a:cubicBezTo>
                  <a:pt x="23199" y="7804"/>
                  <a:pt x="23227" y="7850"/>
                  <a:pt x="23209" y="7906"/>
                </a:cubicBezTo>
                <a:cubicBezTo>
                  <a:pt x="23194" y="7951"/>
                  <a:pt x="23169" y="8030"/>
                  <a:pt x="23146" y="8064"/>
                </a:cubicBezTo>
                <a:cubicBezTo>
                  <a:pt x="23097" y="8137"/>
                  <a:pt x="23130" y="8127"/>
                  <a:pt x="23146" y="8096"/>
                </a:cubicBezTo>
                <a:cubicBezTo>
                  <a:pt x="23168" y="8052"/>
                  <a:pt x="23179" y="8064"/>
                  <a:pt x="23241" y="8064"/>
                </a:cubicBezTo>
                <a:cubicBezTo>
                  <a:pt x="23295" y="8064"/>
                  <a:pt x="23300" y="8141"/>
                  <a:pt x="23304" y="8192"/>
                </a:cubicBezTo>
                <a:cubicBezTo>
                  <a:pt x="23309" y="8248"/>
                  <a:pt x="23296" y="8336"/>
                  <a:pt x="23273" y="8382"/>
                </a:cubicBezTo>
                <a:cubicBezTo>
                  <a:pt x="23255" y="8419"/>
                  <a:pt x="23180" y="8466"/>
                  <a:pt x="23146" y="8477"/>
                </a:cubicBezTo>
                <a:cubicBezTo>
                  <a:pt x="23110" y="8477"/>
                  <a:pt x="23096" y="8474"/>
                  <a:pt x="23082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8"/>
          <p:cNvSpPr/>
          <p:nvPr/>
        </p:nvSpPr>
        <p:spPr>
          <a:xfrm>
            <a:off x="2057400" y="3817800"/>
            <a:ext cx="1566720" cy="560520"/>
          </a:xfrm>
          <a:custGeom>
            <a:avLst/>
            <a:gdLst/>
            <a:ahLst/>
            <a:rect l="l" t="t" r="r" b="b"/>
            <a:pathLst>
              <a:path w="4351" h="1557">
                <a:moveTo>
                  <a:pt x="5715" y="12033"/>
                </a:moveTo>
                <a:cubicBezTo>
                  <a:pt x="5721" y="11972"/>
                  <a:pt x="5736" y="11963"/>
                  <a:pt x="5747" y="11938"/>
                </a:cubicBezTo>
                <a:cubicBezTo>
                  <a:pt x="5768" y="11893"/>
                  <a:pt x="5764" y="11879"/>
                  <a:pt x="5778" y="11843"/>
                </a:cubicBezTo>
                <a:cubicBezTo>
                  <a:pt x="5796" y="11796"/>
                  <a:pt x="5821" y="11762"/>
                  <a:pt x="5842" y="11716"/>
                </a:cubicBezTo>
                <a:cubicBezTo>
                  <a:pt x="5859" y="11680"/>
                  <a:pt x="5856" y="11623"/>
                  <a:pt x="5874" y="11589"/>
                </a:cubicBezTo>
                <a:cubicBezTo>
                  <a:pt x="5900" y="11539"/>
                  <a:pt x="5933" y="11510"/>
                  <a:pt x="5969" y="11462"/>
                </a:cubicBezTo>
                <a:cubicBezTo>
                  <a:pt x="6004" y="11416"/>
                  <a:pt x="6046" y="11355"/>
                  <a:pt x="6096" y="11303"/>
                </a:cubicBezTo>
                <a:cubicBezTo>
                  <a:pt x="6162" y="11234"/>
                  <a:pt x="6216" y="11168"/>
                  <a:pt x="6286" y="11112"/>
                </a:cubicBezTo>
                <a:cubicBezTo>
                  <a:pt x="6346" y="11063"/>
                  <a:pt x="6409" y="11024"/>
                  <a:pt x="6477" y="10986"/>
                </a:cubicBezTo>
                <a:cubicBezTo>
                  <a:pt x="6551" y="10944"/>
                  <a:pt x="6624" y="10924"/>
                  <a:pt x="6699" y="10890"/>
                </a:cubicBezTo>
                <a:cubicBezTo>
                  <a:pt x="6804" y="10842"/>
                  <a:pt x="6918" y="10804"/>
                  <a:pt x="7017" y="10763"/>
                </a:cubicBezTo>
                <a:cubicBezTo>
                  <a:pt x="7105" y="10726"/>
                  <a:pt x="7181" y="10693"/>
                  <a:pt x="7271" y="10668"/>
                </a:cubicBezTo>
                <a:cubicBezTo>
                  <a:pt x="7355" y="10644"/>
                  <a:pt x="7437" y="10649"/>
                  <a:pt x="7525" y="10636"/>
                </a:cubicBezTo>
                <a:cubicBezTo>
                  <a:pt x="7620" y="10622"/>
                  <a:pt x="7707" y="10604"/>
                  <a:pt x="7810" y="10604"/>
                </a:cubicBezTo>
                <a:cubicBezTo>
                  <a:pt x="7921" y="10604"/>
                  <a:pt x="8027" y="10629"/>
                  <a:pt x="8128" y="10636"/>
                </a:cubicBezTo>
                <a:cubicBezTo>
                  <a:pt x="8229" y="10643"/>
                  <a:pt x="8318" y="10646"/>
                  <a:pt x="8414" y="10668"/>
                </a:cubicBezTo>
                <a:cubicBezTo>
                  <a:pt x="8503" y="10688"/>
                  <a:pt x="8583" y="10723"/>
                  <a:pt x="8668" y="10763"/>
                </a:cubicBezTo>
                <a:cubicBezTo>
                  <a:pt x="8762" y="10808"/>
                  <a:pt x="8862" y="10841"/>
                  <a:pt x="8954" y="10890"/>
                </a:cubicBezTo>
                <a:cubicBezTo>
                  <a:pt x="9019" y="10925"/>
                  <a:pt x="9115" y="10972"/>
                  <a:pt x="9176" y="11017"/>
                </a:cubicBezTo>
                <a:cubicBezTo>
                  <a:pt x="9254" y="11073"/>
                  <a:pt x="9328" y="11171"/>
                  <a:pt x="9398" y="11240"/>
                </a:cubicBezTo>
                <a:cubicBezTo>
                  <a:pt x="9480" y="11321"/>
                  <a:pt x="9547" y="11411"/>
                  <a:pt x="9620" y="11494"/>
                </a:cubicBezTo>
                <a:cubicBezTo>
                  <a:pt x="9685" y="11567"/>
                  <a:pt x="9722" y="11625"/>
                  <a:pt x="9779" y="11716"/>
                </a:cubicBezTo>
                <a:cubicBezTo>
                  <a:pt x="9811" y="11767"/>
                  <a:pt x="9857" y="11846"/>
                  <a:pt x="9906" y="11906"/>
                </a:cubicBezTo>
                <a:cubicBezTo>
                  <a:pt x="9953" y="11964"/>
                  <a:pt x="9976" y="12000"/>
                  <a:pt x="10001" y="12065"/>
                </a:cubicBezTo>
                <a:cubicBezTo>
                  <a:pt x="10017" y="12106"/>
                  <a:pt x="10055" y="12144"/>
                  <a:pt x="10065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9"/>
          <p:cNvSpPr/>
          <p:nvPr/>
        </p:nvSpPr>
        <p:spPr>
          <a:xfrm>
            <a:off x="5052960" y="3794040"/>
            <a:ext cx="936720" cy="331920"/>
          </a:xfrm>
          <a:custGeom>
            <a:avLst/>
            <a:gdLst/>
            <a:ahLst/>
            <a:rect l="l" t="t" r="r" b="b"/>
            <a:pathLst>
              <a:path w="2604" h="922">
                <a:moveTo>
                  <a:pt x="14065" y="10668"/>
                </a:moveTo>
                <a:cubicBezTo>
                  <a:pt x="14065" y="10902"/>
                  <a:pt x="14076" y="11152"/>
                  <a:pt x="14034" y="11366"/>
                </a:cubicBezTo>
                <a:cubicBezTo>
                  <a:pt x="14034" y="11419"/>
                  <a:pt x="14034" y="11430"/>
                  <a:pt x="14034" y="11462"/>
                </a:cubicBezTo>
              </a:path>
              <a:path w="2604" h="922">
                <a:moveTo>
                  <a:pt x="14160" y="10604"/>
                </a:moveTo>
                <a:cubicBezTo>
                  <a:pt x="14177" y="10553"/>
                  <a:pt x="14222" y="10547"/>
                  <a:pt x="14288" y="10541"/>
                </a:cubicBezTo>
                <a:cubicBezTo>
                  <a:pt x="14455" y="10527"/>
                  <a:pt x="14628" y="10541"/>
                  <a:pt x="14796" y="10541"/>
                </a:cubicBezTo>
              </a:path>
              <a:path w="2604" h="922">
                <a:moveTo>
                  <a:pt x="14224" y="10858"/>
                </a:moveTo>
                <a:cubicBezTo>
                  <a:pt x="14240" y="10906"/>
                  <a:pt x="14262" y="10890"/>
                  <a:pt x="14319" y="10890"/>
                </a:cubicBezTo>
                <a:cubicBezTo>
                  <a:pt x="14446" y="10890"/>
                  <a:pt x="14573" y="10890"/>
                  <a:pt x="14700" y="10890"/>
                </a:cubicBezTo>
              </a:path>
              <a:path w="2604" h="922">
                <a:moveTo>
                  <a:pt x="15272" y="10668"/>
                </a:moveTo>
                <a:cubicBezTo>
                  <a:pt x="15227" y="10679"/>
                  <a:pt x="15115" y="10726"/>
                  <a:pt x="15081" y="10763"/>
                </a:cubicBezTo>
                <a:cubicBezTo>
                  <a:pt x="15018" y="10831"/>
                  <a:pt x="14957" y="10960"/>
                  <a:pt x="14922" y="11049"/>
                </a:cubicBezTo>
                <a:cubicBezTo>
                  <a:pt x="14886" y="11141"/>
                  <a:pt x="14867" y="11246"/>
                  <a:pt x="14922" y="11335"/>
                </a:cubicBezTo>
                <a:cubicBezTo>
                  <a:pt x="14959" y="11395"/>
                  <a:pt x="15043" y="11446"/>
                  <a:pt x="15113" y="11430"/>
                </a:cubicBezTo>
                <a:cubicBezTo>
                  <a:pt x="15216" y="11407"/>
                  <a:pt x="15315" y="11359"/>
                  <a:pt x="15367" y="11271"/>
                </a:cubicBezTo>
                <a:cubicBezTo>
                  <a:pt x="15435" y="11157"/>
                  <a:pt x="15384" y="11070"/>
                  <a:pt x="15367" y="10954"/>
                </a:cubicBezTo>
                <a:cubicBezTo>
                  <a:pt x="15355" y="10870"/>
                  <a:pt x="15341" y="10732"/>
                  <a:pt x="15272" y="10668"/>
                </a:cubicBezTo>
                <a:cubicBezTo>
                  <a:pt x="15213" y="10613"/>
                  <a:pt x="15196" y="10621"/>
                  <a:pt x="15176" y="10541"/>
                </a:cubicBezTo>
              </a:path>
              <a:path w="2604" h="922">
                <a:moveTo>
                  <a:pt x="15621" y="10604"/>
                </a:moveTo>
                <a:cubicBezTo>
                  <a:pt x="15621" y="10864"/>
                  <a:pt x="15654" y="11162"/>
                  <a:pt x="15589" y="11398"/>
                </a:cubicBezTo>
                <a:cubicBezTo>
                  <a:pt x="15589" y="11430"/>
                  <a:pt x="15589" y="11441"/>
                  <a:pt x="15621" y="11430"/>
                </a:cubicBezTo>
              </a:path>
              <a:path w="2604" h="922">
                <a:moveTo>
                  <a:pt x="16066" y="10573"/>
                </a:moveTo>
                <a:cubicBezTo>
                  <a:pt x="16123" y="10649"/>
                  <a:pt x="16080" y="10676"/>
                  <a:pt x="16066" y="10763"/>
                </a:cubicBezTo>
                <a:cubicBezTo>
                  <a:pt x="16049" y="10869"/>
                  <a:pt x="16017" y="10975"/>
                  <a:pt x="16002" y="11081"/>
                </a:cubicBezTo>
                <a:cubicBezTo>
                  <a:pt x="15989" y="11170"/>
                  <a:pt x="15970" y="11241"/>
                  <a:pt x="15970" y="11335"/>
                </a:cubicBezTo>
                <a:cubicBezTo>
                  <a:pt x="15970" y="11345"/>
                  <a:pt x="15970" y="11356"/>
                  <a:pt x="15970" y="11366"/>
                </a:cubicBezTo>
                <a:cubicBezTo>
                  <a:pt x="16086" y="11366"/>
                  <a:pt x="16180" y="11371"/>
                  <a:pt x="16288" y="11398"/>
                </a:cubicBezTo>
                <a:cubicBezTo>
                  <a:pt x="16380" y="11421"/>
                  <a:pt x="16460" y="11386"/>
                  <a:pt x="16542" y="11366"/>
                </a:cubicBezTo>
                <a:cubicBezTo>
                  <a:pt x="16587" y="11366"/>
                  <a:pt x="16609" y="11360"/>
                  <a:pt x="16637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20"/>
          <p:cNvSpPr/>
          <p:nvPr/>
        </p:nvSpPr>
        <p:spPr>
          <a:xfrm>
            <a:off x="1736640" y="4800600"/>
            <a:ext cx="538200" cy="399960"/>
          </a:xfrm>
          <a:custGeom>
            <a:avLst/>
            <a:gdLst/>
            <a:ahLst/>
            <a:rect l="l" t="t" r="r" b="b"/>
            <a:pathLst>
              <a:path w="1493" h="1112">
                <a:moveTo>
                  <a:pt x="4858" y="13748"/>
                </a:moveTo>
                <a:cubicBezTo>
                  <a:pt x="4847" y="13737"/>
                  <a:pt x="4837" y="13727"/>
                  <a:pt x="4826" y="13716"/>
                </a:cubicBezTo>
                <a:cubicBezTo>
                  <a:pt x="4891" y="13716"/>
                  <a:pt x="4901" y="13730"/>
                  <a:pt x="4953" y="13748"/>
                </a:cubicBezTo>
                <a:cubicBezTo>
                  <a:pt x="4992" y="13761"/>
                  <a:pt x="5048" y="13789"/>
                  <a:pt x="5080" y="13811"/>
                </a:cubicBezTo>
                <a:cubicBezTo>
                  <a:pt x="5123" y="13840"/>
                  <a:pt x="5126" y="13862"/>
                  <a:pt x="5175" y="13875"/>
                </a:cubicBezTo>
              </a:path>
              <a:path w="1493" h="1112">
                <a:moveTo>
                  <a:pt x="5398" y="13335"/>
                </a:moveTo>
                <a:cubicBezTo>
                  <a:pt x="5398" y="13408"/>
                  <a:pt x="5409" y="13463"/>
                  <a:pt x="5366" y="13526"/>
                </a:cubicBezTo>
                <a:cubicBezTo>
                  <a:pt x="5319" y="13595"/>
                  <a:pt x="5310" y="13695"/>
                  <a:pt x="5270" y="13780"/>
                </a:cubicBezTo>
                <a:cubicBezTo>
                  <a:pt x="5230" y="13865"/>
                  <a:pt x="5196" y="13945"/>
                  <a:pt x="5175" y="14034"/>
                </a:cubicBezTo>
                <a:cubicBezTo>
                  <a:pt x="5173" y="14044"/>
                  <a:pt x="5175" y="14151"/>
                  <a:pt x="5175" y="14065"/>
                </a:cubicBezTo>
              </a:path>
              <a:path w="1493" h="1112">
                <a:moveTo>
                  <a:pt x="5620" y="13430"/>
                </a:moveTo>
                <a:cubicBezTo>
                  <a:pt x="5620" y="13296"/>
                  <a:pt x="5613" y="13450"/>
                  <a:pt x="5588" y="13494"/>
                </a:cubicBezTo>
                <a:cubicBezTo>
                  <a:pt x="5538" y="13581"/>
                  <a:pt x="5532" y="13661"/>
                  <a:pt x="5493" y="13748"/>
                </a:cubicBezTo>
                <a:cubicBezTo>
                  <a:pt x="5451" y="13842"/>
                  <a:pt x="5439" y="13939"/>
                  <a:pt x="5493" y="14034"/>
                </a:cubicBezTo>
                <a:cubicBezTo>
                  <a:pt x="5541" y="14119"/>
                  <a:pt x="5597" y="14129"/>
                  <a:pt x="5683" y="14129"/>
                </a:cubicBezTo>
                <a:cubicBezTo>
                  <a:pt x="5790" y="14129"/>
                  <a:pt x="5797" y="14059"/>
                  <a:pt x="5842" y="13970"/>
                </a:cubicBezTo>
                <a:cubicBezTo>
                  <a:pt x="5888" y="13879"/>
                  <a:pt x="5872" y="13779"/>
                  <a:pt x="5842" y="13684"/>
                </a:cubicBezTo>
                <a:cubicBezTo>
                  <a:pt x="5818" y="13609"/>
                  <a:pt x="5767" y="13520"/>
                  <a:pt x="5715" y="13462"/>
                </a:cubicBezTo>
                <a:cubicBezTo>
                  <a:pt x="5687" y="13431"/>
                  <a:pt x="5637" y="13391"/>
                  <a:pt x="5683" y="13462"/>
                </a:cubicBezTo>
              </a:path>
              <a:path w="1493" h="1112">
                <a:moveTo>
                  <a:pt x="5969" y="13684"/>
                </a:moveTo>
                <a:cubicBezTo>
                  <a:pt x="6008" y="13750"/>
                  <a:pt x="6025" y="13829"/>
                  <a:pt x="6064" y="13906"/>
                </a:cubicBezTo>
                <a:cubicBezTo>
                  <a:pt x="6116" y="14009"/>
                  <a:pt x="6146" y="14119"/>
                  <a:pt x="6191" y="14224"/>
                </a:cubicBezTo>
                <a:cubicBezTo>
                  <a:pt x="6231" y="14317"/>
                  <a:pt x="6214" y="14373"/>
                  <a:pt x="6286" y="14446"/>
                </a:cubicBezTo>
              </a:path>
              <a:path w="1493" h="1112">
                <a:moveTo>
                  <a:pt x="6318" y="13748"/>
                </a:moveTo>
                <a:cubicBezTo>
                  <a:pt x="6259" y="13807"/>
                  <a:pt x="6192" y="13825"/>
                  <a:pt x="6128" y="13875"/>
                </a:cubicBezTo>
                <a:cubicBezTo>
                  <a:pt x="6040" y="13943"/>
                  <a:pt x="5964" y="14032"/>
                  <a:pt x="5874" y="14097"/>
                </a:cubicBezTo>
                <a:cubicBezTo>
                  <a:pt x="5810" y="14129"/>
                  <a:pt x="5789" y="14139"/>
                  <a:pt x="5747" y="14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1"/>
          <p:cNvSpPr/>
          <p:nvPr/>
        </p:nvSpPr>
        <p:spPr>
          <a:xfrm>
            <a:off x="2822400" y="3851280"/>
            <a:ext cx="1590840" cy="630360"/>
          </a:xfrm>
          <a:custGeom>
            <a:avLst/>
            <a:gdLst/>
            <a:ahLst/>
            <a:rect l="l" t="t" r="r" b="b"/>
            <a:pathLst>
              <a:path w="4415" h="1747">
                <a:moveTo>
                  <a:pt x="7842" y="12128"/>
                </a:moveTo>
                <a:cubicBezTo>
                  <a:pt x="7881" y="12103"/>
                  <a:pt x="7859" y="12171"/>
                  <a:pt x="7874" y="12128"/>
                </a:cubicBezTo>
                <a:cubicBezTo>
                  <a:pt x="7891" y="12078"/>
                  <a:pt x="7853" y="12156"/>
                  <a:pt x="7906" y="12065"/>
                </a:cubicBezTo>
                <a:cubicBezTo>
                  <a:pt x="7926" y="12030"/>
                  <a:pt x="7927" y="12000"/>
                  <a:pt x="7938" y="11970"/>
                </a:cubicBezTo>
                <a:cubicBezTo>
                  <a:pt x="7957" y="11920"/>
                  <a:pt x="7971" y="11889"/>
                  <a:pt x="8001" y="11843"/>
                </a:cubicBezTo>
                <a:cubicBezTo>
                  <a:pt x="8032" y="11795"/>
                  <a:pt x="8062" y="11734"/>
                  <a:pt x="8096" y="11684"/>
                </a:cubicBezTo>
                <a:cubicBezTo>
                  <a:pt x="8144" y="11613"/>
                  <a:pt x="8205" y="11583"/>
                  <a:pt x="8255" y="11525"/>
                </a:cubicBezTo>
                <a:cubicBezTo>
                  <a:pt x="8312" y="11460"/>
                  <a:pt x="8353" y="11423"/>
                  <a:pt x="8414" y="11366"/>
                </a:cubicBezTo>
                <a:cubicBezTo>
                  <a:pt x="8484" y="11301"/>
                  <a:pt x="8554" y="11239"/>
                  <a:pt x="8636" y="11176"/>
                </a:cubicBezTo>
                <a:cubicBezTo>
                  <a:pt x="8711" y="11118"/>
                  <a:pt x="8807" y="11030"/>
                  <a:pt x="8890" y="10986"/>
                </a:cubicBezTo>
                <a:cubicBezTo>
                  <a:pt x="8991" y="10933"/>
                  <a:pt x="9102" y="10899"/>
                  <a:pt x="9208" y="10858"/>
                </a:cubicBezTo>
                <a:cubicBezTo>
                  <a:pt x="9329" y="10811"/>
                  <a:pt x="9434" y="10790"/>
                  <a:pt x="9557" y="10763"/>
                </a:cubicBezTo>
                <a:cubicBezTo>
                  <a:pt x="9694" y="10733"/>
                  <a:pt x="9828" y="10705"/>
                  <a:pt x="9970" y="10700"/>
                </a:cubicBezTo>
                <a:cubicBezTo>
                  <a:pt x="10111" y="10695"/>
                  <a:pt x="10278" y="10727"/>
                  <a:pt x="10414" y="10763"/>
                </a:cubicBezTo>
                <a:cubicBezTo>
                  <a:pt x="10572" y="10805"/>
                  <a:pt x="10712" y="10859"/>
                  <a:pt x="10858" y="10922"/>
                </a:cubicBezTo>
                <a:cubicBezTo>
                  <a:pt x="11056" y="11007"/>
                  <a:pt x="11210" y="11090"/>
                  <a:pt x="11366" y="11240"/>
                </a:cubicBezTo>
                <a:cubicBezTo>
                  <a:pt x="11507" y="11376"/>
                  <a:pt x="11681" y="11510"/>
                  <a:pt x="11811" y="11652"/>
                </a:cubicBezTo>
                <a:cubicBezTo>
                  <a:pt x="11913" y="11763"/>
                  <a:pt x="11950" y="11911"/>
                  <a:pt x="12033" y="12033"/>
                </a:cubicBezTo>
                <a:cubicBezTo>
                  <a:pt x="12090" y="12117"/>
                  <a:pt x="12149" y="12193"/>
                  <a:pt x="12192" y="12287"/>
                </a:cubicBezTo>
                <a:cubicBezTo>
                  <a:pt x="12211" y="12330"/>
                  <a:pt x="12244" y="12337"/>
                  <a:pt x="12256" y="12382"/>
                </a:cubicBezTo>
                <a:cubicBezTo>
                  <a:pt x="12256" y="12414"/>
                  <a:pt x="12256" y="12425"/>
                  <a:pt x="1225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22"/>
          <p:cNvSpPr/>
          <p:nvPr/>
        </p:nvSpPr>
        <p:spPr>
          <a:xfrm>
            <a:off x="492120" y="4560840"/>
            <a:ext cx="3772080" cy="479520"/>
          </a:xfrm>
          <a:custGeom>
            <a:avLst/>
            <a:gdLst/>
            <a:ahLst/>
            <a:rect l="l" t="t" r="r" b="b"/>
            <a:pathLst>
              <a:path w="10479" h="1335">
                <a:moveTo>
                  <a:pt x="1524" y="12764"/>
                </a:moveTo>
                <a:cubicBezTo>
                  <a:pt x="1537" y="12712"/>
                  <a:pt x="1560" y="12675"/>
                  <a:pt x="1619" y="12668"/>
                </a:cubicBezTo>
                <a:cubicBezTo>
                  <a:pt x="1699" y="12659"/>
                  <a:pt x="1746" y="12679"/>
                  <a:pt x="1810" y="12700"/>
                </a:cubicBezTo>
                <a:cubicBezTo>
                  <a:pt x="1861" y="12717"/>
                  <a:pt x="1868" y="12761"/>
                  <a:pt x="1873" y="12827"/>
                </a:cubicBezTo>
                <a:cubicBezTo>
                  <a:pt x="1880" y="12917"/>
                  <a:pt x="1850" y="12970"/>
                  <a:pt x="1810" y="13049"/>
                </a:cubicBezTo>
                <a:cubicBezTo>
                  <a:pt x="1764" y="13141"/>
                  <a:pt x="1715" y="13199"/>
                  <a:pt x="1651" y="13272"/>
                </a:cubicBezTo>
                <a:cubicBezTo>
                  <a:pt x="1583" y="13350"/>
                  <a:pt x="1518" y="13439"/>
                  <a:pt x="1460" y="13526"/>
                </a:cubicBezTo>
                <a:cubicBezTo>
                  <a:pt x="1427" y="13576"/>
                  <a:pt x="1378" y="13632"/>
                  <a:pt x="1365" y="13684"/>
                </a:cubicBezTo>
                <a:cubicBezTo>
                  <a:pt x="1432" y="13634"/>
                  <a:pt x="1426" y="13657"/>
                  <a:pt x="1492" y="13621"/>
                </a:cubicBezTo>
                <a:cubicBezTo>
                  <a:pt x="1545" y="13592"/>
                  <a:pt x="1554" y="13589"/>
                  <a:pt x="1619" y="13589"/>
                </a:cubicBezTo>
                <a:cubicBezTo>
                  <a:pt x="1671" y="13589"/>
                  <a:pt x="1656" y="13638"/>
                  <a:pt x="1683" y="13652"/>
                </a:cubicBezTo>
                <a:cubicBezTo>
                  <a:pt x="1724" y="13673"/>
                  <a:pt x="1714" y="13684"/>
                  <a:pt x="1778" y="13684"/>
                </a:cubicBezTo>
                <a:cubicBezTo>
                  <a:pt x="1828" y="13684"/>
                  <a:pt x="1892" y="13615"/>
                  <a:pt x="1937" y="13589"/>
                </a:cubicBezTo>
              </a:path>
              <a:path w="10479" h="1335">
                <a:moveTo>
                  <a:pt x="2413" y="12764"/>
                </a:moveTo>
                <a:cubicBezTo>
                  <a:pt x="2299" y="12764"/>
                  <a:pt x="2164" y="12762"/>
                  <a:pt x="2096" y="12795"/>
                </a:cubicBezTo>
                <a:cubicBezTo>
                  <a:pt x="2051" y="12817"/>
                  <a:pt x="2063" y="12844"/>
                  <a:pt x="2032" y="12890"/>
                </a:cubicBezTo>
                <a:cubicBezTo>
                  <a:pt x="2001" y="12936"/>
                  <a:pt x="1988" y="12970"/>
                  <a:pt x="1968" y="13018"/>
                </a:cubicBezTo>
                <a:cubicBezTo>
                  <a:pt x="1948" y="13066"/>
                  <a:pt x="1914" y="13126"/>
                  <a:pt x="1905" y="13144"/>
                </a:cubicBezTo>
                <a:cubicBezTo>
                  <a:pt x="1905" y="13155"/>
                  <a:pt x="1905" y="13165"/>
                  <a:pt x="1905" y="13176"/>
                </a:cubicBezTo>
                <a:cubicBezTo>
                  <a:pt x="1949" y="13161"/>
                  <a:pt x="1943" y="13131"/>
                  <a:pt x="2000" y="13113"/>
                </a:cubicBezTo>
                <a:cubicBezTo>
                  <a:pt x="2032" y="13102"/>
                  <a:pt x="2098" y="13097"/>
                  <a:pt x="2127" y="13081"/>
                </a:cubicBezTo>
                <a:cubicBezTo>
                  <a:pt x="2206" y="13037"/>
                  <a:pt x="2177" y="13055"/>
                  <a:pt x="2254" y="13081"/>
                </a:cubicBezTo>
                <a:cubicBezTo>
                  <a:pt x="2295" y="13095"/>
                  <a:pt x="2390" y="13098"/>
                  <a:pt x="2413" y="13144"/>
                </a:cubicBezTo>
                <a:cubicBezTo>
                  <a:pt x="2441" y="13200"/>
                  <a:pt x="2473" y="13272"/>
                  <a:pt x="2476" y="13335"/>
                </a:cubicBezTo>
                <a:cubicBezTo>
                  <a:pt x="2481" y="13448"/>
                  <a:pt x="2494" y="13590"/>
                  <a:pt x="2445" y="13684"/>
                </a:cubicBezTo>
                <a:cubicBezTo>
                  <a:pt x="2403" y="13764"/>
                  <a:pt x="2379" y="13770"/>
                  <a:pt x="2318" y="13811"/>
                </a:cubicBezTo>
                <a:cubicBezTo>
                  <a:pt x="2263" y="13848"/>
                  <a:pt x="2209" y="13824"/>
                  <a:pt x="2159" y="13780"/>
                </a:cubicBezTo>
                <a:cubicBezTo>
                  <a:pt x="2121" y="13747"/>
                  <a:pt x="2056" y="13738"/>
                  <a:pt x="2032" y="13684"/>
                </a:cubicBezTo>
                <a:cubicBezTo>
                  <a:pt x="2032" y="13652"/>
                  <a:pt x="2032" y="13641"/>
                  <a:pt x="2032" y="13684"/>
                </a:cubicBezTo>
              </a:path>
              <a:path w="10479" h="1335">
                <a:moveTo>
                  <a:pt x="2604" y="13018"/>
                </a:moveTo>
                <a:cubicBezTo>
                  <a:pt x="2540" y="13039"/>
                  <a:pt x="2600" y="13105"/>
                  <a:pt x="2604" y="13176"/>
                </a:cubicBezTo>
                <a:cubicBezTo>
                  <a:pt x="2609" y="13258"/>
                  <a:pt x="2631" y="13429"/>
                  <a:pt x="2667" y="13494"/>
                </a:cubicBezTo>
                <a:cubicBezTo>
                  <a:pt x="2718" y="13587"/>
                  <a:pt x="2776" y="13680"/>
                  <a:pt x="2826" y="13780"/>
                </a:cubicBezTo>
                <a:cubicBezTo>
                  <a:pt x="2859" y="13846"/>
                  <a:pt x="2880" y="13916"/>
                  <a:pt x="2921" y="13970"/>
                </a:cubicBezTo>
              </a:path>
              <a:path w="10479" h="1335">
                <a:moveTo>
                  <a:pt x="2921" y="13970"/>
                </a:moveTo>
                <a:cubicBezTo>
                  <a:pt x="2910" y="13959"/>
                  <a:pt x="2900" y="13949"/>
                  <a:pt x="2889" y="13938"/>
                </a:cubicBezTo>
              </a:path>
              <a:path w="10479" h="1335">
                <a:moveTo>
                  <a:pt x="2889" y="13081"/>
                </a:moveTo>
                <a:cubicBezTo>
                  <a:pt x="2846" y="13156"/>
                  <a:pt x="2801" y="13224"/>
                  <a:pt x="2762" y="13303"/>
                </a:cubicBezTo>
                <a:cubicBezTo>
                  <a:pt x="2697" y="13434"/>
                  <a:pt x="2634" y="13570"/>
                  <a:pt x="2540" y="13684"/>
                </a:cubicBezTo>
                <a:cubicBezTo>
                  <a:pt x="2477" y="13761"/>
                  <a:pt x="2362" y="13850"/>
                  <a:pt x="2318" y="13938"/>
                </a:cubicBezTo>
                <a:cubicBezTo>
                  <a:pt x="2318" y="13949"/>
                  <a:pt x="2318" y="13959"/>
                  <a:pt x="2318" y="13970"/>
                </a:cubicBezTo>
              </a:path>
              <a:path w="10479" h="1335">
                <a:moveTo>
                  <a:pt x="3080" y="12827"/>
                </a:moveTo>
                <a:cubicBezTo>
                  <a:pt x="3123" y="12784"/>
                  <a:pt x="3166" y="12760"/>
                  <a:pt x="3207" y="12732"/>
                </a:cubicBezTo>
                <a:cubicBezTo>
                  <a:pt x="3257" y="12698"/>
                  <a:pt x="3270" y="12700"/>
                  <a:pt x="3334" y="12700"/>
                </a:cubicBezTo>
                <a:cubicBezTo>
                  <a:pt x="3345" y="12700"/>
                  <a:pt x="3355" y="12700"/>
                  <a:pt x="3366" y="12700"/>
                </a:cubicBezTo>
                <a:cubicBezTo>
                  <a:pt x="3366" y="12775"/>
                  <a:pt x="3341" y="12768"/>
                  <a:pt x="3302" y="12827"/>
                </a:cubicBezTo>
                <a:cubicBezTo>
                  <a:pt x="3252" y="12903"/>
                  <a:pt x="3209" y="12952"/>
                  <a:pt x="3143" y="13018"/>
                </a:cubicBezTo>
                <a:cubicBezTo>
                  <a:pt x="3093" y="13068"/>
                  <a:pt x="3080" y="13109"/>
                  <a:pt x="3080" y="13176"/>
                </a:cubicBezTo>
                <a:cubicBezTo>
                  <a:pt x="3146" y="13176"/>
                  <a:pt x="3185" y="13192"/>
                  <a:pt x="3238" y="13208"/>
                </a:cubicBezTo>
                <a:cubicBezTo>
                  <a:pt x="3273" y="13219"/>
                  <a:pt x="3329" y="13208"/>
                  <a:pt x="3366" y="13208"/>
                </a:cubicBezTo>
              </a:path>
              <a:path w="10479" h="1335">
                <a:moveTo>
                  <a:pt x="5906" y="13208"/>
                </a:moveTo>
                <a:cubicBezTo>
                  <a:pt x="5941" y="13231"/>
                  <a:pt x="5953" y="13237"/>
                  <a:pt x="6001" y="13272"/>
                </a:cubicBezTo>
                <a:cubicBezTo>
                  <a:pt x="6043" y="13303"/>
                  <a:pt x="6076" y="13348"/>
                  <a:pt x="6096" y="13367"/>
                </a:cubicBezTo>
                <a:cubicBezTo>
                  <a:pt x="6126" y="13396"/>
                  <a:pt x="6177" y="13434"/>
                  <a:pt x="6223" y="13462"/>
                </a:cubicBezTo>
                <a:cubicBezTo>
                  <a:pt x="6253" y="13480"/>
                  <a:pt x="6316" y="13513"/>
                  <a:pt x="6350" y="13526"/>
                </a:cubicBezTo>
                <a:cubicBezTo>
                  <a:pt x="6382" y="13538"/>
                  <a:pt x="6448" y="13549"/>
                  <a:pt x="6477" y="13557"/>
                </a:cubicBezTo>
                <a:cubicBezTo>
                  <a:pt x="6519" y="13569"/>
                  <a:pt x="6567" y="13579"/>
                  <a:pt x="6604" y="13589"/>
                </a:cubicBezTo>
                <a:cubicBezTo>
                  <a:pt x="6630" y="13596"/>
                  <a:pt x="6716" y="13619"/>
                  <a:pt x="6731" y="13621"/>
                </a:cubicBezTo>
                <a:cubicBezTo>
                  <a:pt x="6800" y="13630"/>
                  <a:pt x="6900" y="13647"/>
                  <a:pt x="6953" y="13652"/>
                </a:cubicBezTo>
                <a:cubicBezTo>
                  <a:pt x="7058" y="13661"/>
                  <a:pt x="7174" y="13676"/>
                  <a:pt x="7271" y="13684"/>
                </a:cubicBezTo>
                <a:cubicBezTo>
                  <a:pt x="7356" y="13691"/>
                  <a:pt x="7448" y="13710"/>
                  <a:pt x="7525" y="13716"/>
                </a:cubicBezTo>
                <a:cubicBezTo>
                  <a:pt x="7755" y="13734"/>
                  <a:pt x="8001" y="13732"/>
                  <a:pt x="8223" y="13748"/>
                </a:cubicBezTo>
                <a:cubicBezTo>
                  <a:pt x="8361" y="13758"/>
                  <a:pt x="8506" y="13769"/>
                  <a:pt x="8636" y="13780"/>
                </a:cubicBezTo>
                <a:cubicBezTo>
                  <a:pt x="9035" y="13813"/>
                  <a:pt x="9447" y="13781"/>
                  <a:pt x="9842" y="13811"/>
                </a:cubicBezTo>
                <a:cubicBezTo>
                  <a:pt x="10078" y="13829"/>
                  <a:pt x="10348" y="13826"/>
                  <a:pt x="10573" y="13780"/>
                </a:cubicBezTo>
                <a:cubicBezTo>
                  <a:pt x="10670" y="13760"/>
                  <a:pt x="10759" y="13743"/>
                  <a:pt x="10858" y="13716"/>
                </a:cubicBezTo>
                <a:cubicBezTo>
                  <a:pt x="10940" y="13693"/>
                  <a:pt x="11029" y="13673"/>
                  <a:pt x="11112" y="13652"/>
                </a:cubicBezTo>
                <a:cubicBezTo>
                  <a:pt x="11204" y="13629"/>
                  <a:pt x="11306" y="13571"/>
                  <a:pt x="11398" y="13557"/>
                </a:cubicBezTo>
                <a:cubicBezTo>
                  <a:pt x="11482" y="13544"/>
                  <a:pt x="11543" y="13548"/>
                  <a:pt x="11620" y="13526"/>
                </a:cubicBezTo>
                <a:cubicBezTo>
                  <a:pt x="11654" y="13516"/>
                  <a:pt x="11716" y="13510"/>
                  <a:pt x="11748" y="13494"/>
                </a:cubicBezTo>
                <a:cubicBezTo>
                  <a:pt x="11832" y="13452"/>
                  <a:pt x="11801" y="13436"/>
                  <a:pt x="11843" y="13367"/>
                </a:cubicBezTo>
              </a:path>
              <a:path w="10479" h="1335">
                <a:moveTo>
                  <a:pt x="3524" y="13303"/>
                </a:moveTo>
                <a:cubicBezTo>
                  <a:pt x="3524" y="13378"/>
                  <a:pt x="3508" y="13424"/>
                  <a:pt x="3492" y="13494"/>
                </a:cubicBezTo>
                <a:cubicBezTo>
                  <a:pt x="3476" y="13562"/>
                  <a:pt x="3490" y="13653"/>
                  <a:pt x="3461" y="13716"/>
                </a:cubicBezTo>
                <a:cubicBezTo>
                  <a:pt x="3435" y="13773"/>
                  <a:pt x="3429" y="13807"/>
                  <a:pt x="3429" y="13875"/>
                </a:cubicBezTo>
              </a:path>
              <a:path w="10479" h="1335">
                <a:moveTo>
                  <a:pt x="3366" y="13526"/>
                </a:moveTo>
                <a:cubicBezTo>
                  <a:pt x="3431" y="13564"/>
                  <a:pt x="3507" y="13583"/>
                  <a:pt x="3588" y="13589"/>
                </a:cubicBezTo>
                <a:cubicBezTo>
                  <a:pt x="3599" y="13589"/>
                  <a:pt x="3609" y="13589"/>
                  <a:pt x="3620" y="13589"/>
                </a:cubicBezTo>
              </a:path>
              <a:path w="10479" h="1335">
                <a:moveTo>
                  <a:pt x="3905" y="12890"/>
                </a:moveTo>
                <a:cubicBezTo>
                  <a:pt x="3905" y="12982"/>
                  <a:pt x="3887" y="13054"/>
                  <a:pt x="3874" y="13144"/>
                </a:cubicBezTo>
                <a:cubicBezTo>
                  <a:pt x="3857" y="13268"/>
                  <a:pt x="3836" y="13404"/>
                  <a:pt x="3810" y="13526"/>
                </a:cubicBezTo>
                <a:cubicBezTo>
                  <a:pt x="3788" y="13627"/>
                  <a:pt x="3747" y="13749"/>
                  <a:pt x="3715" y="13843"/>
                </a:cubicBezTo>
                <a:cubicBezTo>
                  <a:pt x="3691" y="13913"/>
                  <a:pt x="3653" y="13917"/>
                  <a:pt x="3715" y="13938"/>
                </a:cubicBezTo>
              </a:path>
              <a:path w="10479" h="1335">
                <a:moveTo>
                  <a:pt x="4096" y="13049"/>
                </a:moveTo>
                <a:cubicBezTo>
                  <a:pt x="4186" y="12991"/>
                  <a:pt x="4080" y="13105"/>
                  <a:pt x="4064" y="13144"/>
                </a:cubicBezTo>
                <a:cubicBezTo>
                  <a:pt x="4009" y="13278"/>
                  <a:pt x="3990" y="13423"/>
                  <a:pt x="3937" y="13557"/>
                </a:cubicBezTo>
                <a:cubicBezTo>
                  <a:pt x="3900" y="13651"/>
                  <a:pt x="3880" y="13751"/>
                  <a:pt x="3937" y="13843"/>
                </a:cubicBezTo>
                <a:cubicBezTo>
                  <a:pt x="3977" y="13908"/>
                  <a:pt x="4037" y="13946"/>
                  <a:pt x="4096" y="13906"/>
                </a:cubicBezTo>
                <a:cubicBezTo>
                  <a:pt x="4195" y="13838"/>
                  <a:pt x="4214" y="13801"/>
                  <a:pt x="4254" y="13684"/>
                </a:cubicBezTo>
                <a:cubicBezTo>
                  <a:pt x="4297" y="13560"/>
                  <a:pt x="4313" y="13432"/>
                  <a:pt x="4318" y="13303"/>
                </a:cubicBezTo>
                <a:cubicBezTo>
                  <a:pt x="4320" y="13245"/>
                  <a:pt x="4304" y="13093"/>
                  <a:pt x="4254" y="13049"/>
                </a:cubicBezTo>
                <a:cubicBezTo>
                  <a:pt x="4217" y="13016"/>
                  <a:pt x="4174" y="13005"/>
                  <a:pt x="4159" y="13049"/>
                </a:cubicBezTo>
              </a:path>
              <a:path w="10479" h="1335">
                <a:moveTo>
                  <a:pt x="4382" y="13144"/>
                </a:moveTo>
                <a:cubicBezTo>
                  <a:pt x="4325" y="13173"/>
                  <a:pt x="4404" y="13180"/>
                  <a:pt x="4413" y="13240"/>
                </a:cubicBezTo>
                <a:cubicBezTo>
                  <a:pt x="4434" y="13374"/>
                  <a:pt x="4464" y="13490"/>
                  <a:pt x="4508" y="13621"/>
                </a:cubicBezTo>
                <a:cubicBezTo>
                  <a:pt x="4540" y="13718"/>
                  <a:pt x="4533" y="13849"/>
                  <a:pt x="4572" y="13938"/>
                </a:cubicBezTo>
                <a:cubicBezTo>
                  <a:pt x="4601" y="13967"/>
                  <a:pt x="4612" y="13973"/>
                  <a:pt x="4604" y="14002"/>
                </a:cubicBezTo>
              </a:path>
              <a:path w="10479" h="1335">
                <a:moveTo>
                  <a:pt x="4699" y="13367"/>
                </a:moveTo>
                <a:cubicBezTo>
                  <a:pt x="4663" y="13391"/>
                  <a:pt x="4654" y="13444"/>
                  <a:pt x="4604" y="13494"/>
                </a:cubicBezTo>
                <a:cubicBezTo>
                  <a:pt x="4521" y="13576"/>
                  <a:pt x="4422" y="13656"/>
                  <a:pt x="4350" y="13748"/>
                </a:cubicBezTo>
                <a:cubicBezTo>
                  <a:pt x="4280" y="13837"/>
                  <a:pt x="4240" y="13921"/>
                  <a:pt x="4159" y="14002"/>
                </a:cubicBezTo>
              </a:path>
              <a:path w="10479" h="1335">
                <a:moveTo>
                  <a:pt x="8096" y="13272"/>
                </a:moveTo>
                <a:lnTo>
                  <a:pt x="8096" y="13272"/>
                </a:lnTo>
              </a:path>
              <a:path w="10479" h="1335">
                <a:moveTo>
                  <a:pt x="8096" y="13272"/>
                </a:moveTo>
                <a:cubicBezTo>
                  <a:pt x="8096" y="13282"/>
                  <a:pt x="8096" y="13293"/>
                  <a:pt x="8096" y="13303"/>
                </a:cubicBezTo>
              </a:path>
              <a:path w="10479" h="1335">
                <a:moveTo>
                  <a:pt x="8096" y="13303"/>
                </a:moveTo>
                <a:cubicBezTo>
                  <a:pt x="8110" y="13359"/>
                  <a:pt x="8131" y="13405"/>
                  <a:pt x="8160" y="13430"/>
                </a:cubicBezTo>
                <a:cubicBezTo>
                  <a:pt x="8225" y="13487"/>
                  <a:pt x="8282" y="13538"/>
                  <a:pt x="8350" y="13589"/>
                </a:cubicBezTo>
                <a:cubicBezTo>
                  <a:pt x="8388" y="13618"/>
                  <a:pt x="8428" y="13649"/>
                  <a:pt x="8477" y="13652"/>
                </a:cubicBezTo>
                <a:cubicBezTo>
                  <a:pt x="8552" y="13657"/>
                  <a:pt x="8587" y="13684"/>
                  <a:pt x="8668" y="13684"/>
                </a:cubicBezTo>
                <a:cubicBezTo>
                  <a:pt x="8784" y="13684"/>
                  <a:pt x="8876" y="13677"/>
                  <a:pt x="8985" y="13652"/>
                </a:cubicBezTo>
                <a:cubicBezTo>
                  <a:pt x="9044" y="13638"/>
                  <a:pt x="9126" y="13631"/>
                  <a:pt x="9176" y="13621"/>
                </a:cubicBezTo>
                <a:cubicBezTo>
                  <a:pt x="9253" y="13606"/>
                  <a:pt x="9325" y="13595"/>
                  <a:pt x="9398" y="13589"/>
                </a:cubicBezTo>
                <a:cubicBezTo>
                  <a:pt x="9429" y="13586"/>
                  <a:pt x="9543" y="13547"/>
                  <a:pt x="9557" y="13526"/>
                </a:cubicBezTo>
                <a:cubicBezTo>
                  <a:pt x="9576" y="13497"/>
                  <a:pt x="9618" y="13455"/>
                  <a:pt x="9620" y="13430"/>
                </a:cubicBezTo>
                <a:cubicBezTo>
                  <a:pt x="9620" y="13409"/>
                  <a:pt x="9620" y="13388"/>
                  <a:pt x="9620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3"/>
          <p:cNvSpPr/>
          <p:nvPr/>
        </p:nvSpPr>
        <p:spPr>
          <a:xfrm>
            <a:off x="171360" y="4903920"/>
            <a:ext cx="3440160" cy="811080"/>
          </a:xfrm>
          <a:custGeom>
            <a:avLst/>
            <a:gdLst/>
            <a:ahLst/>
            <a:rect l="l" t="t" r="r" b="b"/>
            <a:pathLst>
              <a:path w="9558" h="2255">
                <a:moveTo>
                  <a:pt x="6255" y="13970"/>
                </a:moveTo>
                <a:cubicBezTo>
                  <a:pt x="6327" y="13915"/>
                  <a:pt x="6342" y="13955"/>
                  <a:pt x="6414" y="13970"/>
                </a:cubicBezTo>
                <a:cubicBezTo>
                  <a:pt x="6484" y="13984"/>
                  <a:pt x="6534" y="13985"/>
                  <a:pt x="6604" y="14002"/>
                </a:cubicBezTo>
                <a:cubicBezTo>
                  <a:pt x="6640" y="14002"/>
                  <a:pt x="6654" y="13999"/>
                  <a:pt x="6668" y="13970"/>
                </a:cubicBezTo>
              </a:path>
              <a:path w="9558" h="2255">
                <a:moveTo>
                  <a:pt x="6922" y="13684"/>
                </a:moveTo>
                <a:cubicBezTo>
                  <a:pt x="6957" y="13696"/>
                  <a:pt x="6975" y="13757"/>
                  <a:pt x="6953" y="13811"/>
                </a:cubicBezTo>
                <a:cubicBezTo>
                  <a:pt x="6927" y="13874"/>
                  <a:pt x="6919" y="13972"/>
                  <a:pt x="6890" y="14034"/>
                </a:cubicBezTo>
                <a:cubicBezTo>
                  <a:pt x="6876" y="14063"/>
                  <a:pt x="6812" y="14160"/>
                  <a:pt x="6826" y="14192"/>
                </a:cubicBezTo>
                <a:cubicBezTo>
                  <a:pt x="6837" y="14203"/>
                  <a:pt x="6847" y="14213"/>
                  <a:pt x="6858" y="14224"/>
                </a:cubicBezTo>
                <a:cubicBezTo>
                  <a:pt x="6907" y="14187"/>
                  <a:pt x="6923" y="14192"/>
                  <a:pt x="6985" y="14192"/>
                </a:cubicBezTo>
                <a:cubicBezTo>
                  <a:pt x="7051" y="14192"/>
                  <a:pt x="7091" y="14208"/>
                  <a:pt x="7144" y="14224"/>
                </a:cubicBezTo>
                <a:cubicBezTo>
                  <a:pt x="7205" y="14242"/>
                  <a:pt x="7259" y="14233"/>
                  <a:pt x="7302" y="14224"/>
                </a:cubicBezTo>
                <a:cubicBezTo>
                  <a:pt x="7313" y="14224"/>
                  <a:pt x="7323" y="14224"/>
                  <a:pt x="7334" y="14224"/>
                </a:cubicBezTo>
              </a:path>
              <a:path w="9558" h="2255">
                <a:moveTo>
                  <a:pt x="7302" y="13621"/>
                </a:moveTo>
                <a:cubicBezTo>
                  <a:pt x="7302" y="13742"/>
                  <a:pt x="7272" y="13823"/>
                  <a:pt x="7239" y="13938"/>
                </a:cubicBezTo>
                <a:cubicBezTo>
                  <a:pt x="7184" y="14132"/>
                  <a:pt x="7151" y="14322"/>
                  <a:pt x="7080" y="14510"/>
                </a:cubicBezTo>
                <a:cubicBezTo>
                  <a:pt x="7059" y="14563"/>
                  <a:pt x="7038" y="14615"/>
                  <a:pt x="7017" y="14668"/>
                </a:cubicBezTo>
              </a:path>
              <a:path w="9558" h="2255">
                <a:moveTo>
                  <a:pt x="3207" y="14034"/>
                </a:moveTo>
                <a:cubicBezTo>
                  <a:pt x="3383" y="14034"/>
                  <a:pt x="3583" y="14009"/>
                  <a:pt x="3746" y="14065"/>
                </a:cubicBezTo>
                <a:cubicBezTo>
                  <a:pt x="3819" y="14090"/>
                  <a:pt x="3897" y="14077"/>
                  <a:pt x="3969" y="14097"/>
                </a:cubicBezTo>
                <a:cubicBezTo>
                  <a:pt x="4050" y="14120"/>
                  <a:pt x="4145" y="14134"/>
                  <a:pt x="4223" y="14160"/>
                </a:cubicBezTo>
                <a:cubicBezTo>
                  <a:pt x="4315" y="14191"/>
                  <a:pt x="4411" y="14219"/>
                  <a:pt x="4508" y="14224"/>
                </a:cubicBezTo>
                <a:cubicBezTo>
                  <a:pt x="4592" y="14229"/>
                  <a:pt x="4712" y="14234"/>
                  <a:pt x="4794" y="14256"/>
                </a:cubicBezTo>
                <a:cubicBezTo>
                  <a:pt x="4890" y="14281"/>
                  <a:pt x="4977" y="14314"/>
                  <a:pt x="5080" y="14319"/>
                </a:cubicBezTo>
                <a:cubicBezTo>
                  <a:pt x="5183" y="14324"/>
                  <a:pt x="5301" y="14346"/>
                  <a:pt x="5398" y="14383"/>
                </a:cubicBezTo>
                <a:cubicBezTo>
                  <a:pt x="5497" y="14420"/>
                  <a:pt x="5589" y="14438"/>
                  <a:pt x="5683" y="14478"/>
                </a:cubicBezTo>
                <a:cubicBezTo>
                  <a:pt x="5754" y="14508"/>
                  <a:pt x="5831" y="14531"/>
                  <a:pt x="5906" y="14542"/>
                </a:cubicBezTo>
                <a:cubicBezTo>
                  <a:pt x="5957" y="14549"/>
                  <a:pt x="6012" y="14588"/>
                  <a:pt x="6064" y="14573"/>
                </a:cubicBezTo>
                <a:cubicBezTo>
                  <a:pt x="6135" y="14553"/>
                  <a:pt x="6078" y="14549"/>
                  <a:pt x="6128" y="14573"/>
                </a:cubicBezTo>
              </a:path>
              <a:path w="9558" h="2255">
                <a:moveTo>
                  <a:pt x="1111" y="14192"/>
                </a:moveTo>
                <a:cubicBezTo>
                  <a:pt x="1141" y="14182"/>
                  <a:pt x="1171" y="14152"/>
                  <a:pt x="1206" y="14129"/>
                </a:cubicBezTo>
                <a:cubicBezTo>
                  <a:pt x="1257" y="14095"/>
                  <a:pt x="1270" y="14097"/>
                  <a:pt x="1334" y="14097"/>
                </a:cubicBezTo>
                <a:cubicBezTo>
                  <a:pt x="1379" y="14097"/>
                  <a:pt x="1425" y="14126"/>
                  <a:pt x="1429" y="14160"/>
                </a:cubicBezTo>
                <a:cubicBezTo>
                  <a:pt x="1434" y="14201"/>
                  <a:pt x="1391" y="14259"/>
                  <a:pt x="1365" y="14288"/>
                </a:cubicBezTo>
                <a:cubicBezTo>
                  <a:pt x="1309" y="14351"/>
                  <a:pt x="1267" y="14416"/>
                  <a:pt x="1206" y="14478"/>
                </a:cubicBezTo>
                <a:cubicBezTo>
                  <a:pt x="1137" y="14548"/>
                  <a:pt x="1063" y="14620"/>
                  <a:pt x="1016" y="14700"/>
                </a:cubicBezTo>
                <a:cubicBezTo>
                  <a:pt x="973" y="14772"/>
                  <a:pt x="949" y="14832"/>
                  <a:pt x="889" y="14891"/>
                </a:cubicBezTo>
                <a:cubicBezTo>
                  <a:pt x="839" y="14940"/>
                  <a:pt x="845" y="14959"/>
                  <a:pt x="857" y="14954"/>
                </a:cubicBezTo>
                <a:cubicBezTo>
                  <a:pt x="897" y="14938"/>
                  <a:pt x="898" y="14909"/>
                  <a:pt x="952" y="14891"/>
                </a:cubicBezTo>
                <a:cubicBezTo>
                  <a:pt x="1008" y="14873"/>
                  <a:pt x="1005" y="14873"/>
                  <a:pt x="1048" y="14859"/>
                </a:cubicBezTo>
                <a:cubicBezTo>
                  <a:pt x="1085" y="14871"/>
                  <a:pt x="1105" y="14902"/>
                  <a:pt x="1111" y="14954"/>
                </a:cubicBezTo>
                <a:cubicBezTo>
                  <a:pt x="1117" y="15006"/>
                  <a:pt x="1161" y="14989"/>
                  <a:pt x="1175" y="15018"/>
                </a:cubicBezTo>
                <a:cubicBezTo>
                  <a:pt x="1198" y="15064"/>
                  <a:pt x="1200" y="15052"/>
                  <a:pt x="1238" y="15081"/>
                </a:cubicBezTo>
                <a:cubicBezTo>
                  <a:pt x="1291" y="15120"/>
                  <a:pt x="1274" y="15096"/>
                  <a:pt x="1334" y="15081"/>
                </a:cubicBezTo>
              </a:path>
              <a:path w="9558" h="2255">
                <a:moveTo>
                  <a:pt x="1429" y="14383"/>
                </a:moveTo>
                <a:cubicBezTo>
                  <a:pt x="1429" y="14430"/>
                  <a:pt x="1441" y="14505"/>
                  <a:pt x="1460" y="14542"/>
                </a:cubicBezTo>
                <a:cubicBezTo>
                  <a:pt x="1498" y="14618"/>
                  <a:pt x="1520" y="14685"/>
                  <a:pt x="1556" y="14764"/>
                </a:cubicBezTo>
                <a:cubicBezTo>
                  <a:pt x="1596" y="14854"/>
                  <a:pt x="1613" y="14969"/>
                  <a:pt x="1651" y="15050"/>
                </a:cubicBezTo>
                <a:cubicBezTo>
                  <a:pt x="1675" y="15102"/>
                  <a:pt x="1721" y="15192"/>
                  <a:pt x="1746" y="15208"/>
                </a:cubicBezTo>
              </a:path>
              <a:path w="9558" h="2255">
                <a:moveTo>
                  <a:pt x="1842" y="14256"/>
                </a:moveTo>
                <a:cubicBezTo>
                  <a:pt x="1792" y="14243"/>
                  <a:pt x="1771" y="14224"/>
                  <a:pt x="1714" y="14224"/>
                </a:cubicBezTo>
                <a:cubicBezTo>
                  <a:pt x="1642" y="14224"/>
                  <a:pt x="1620" y="14240"/>
                  <a:pt x="1588" y="14256"/>
                </a:cubicBezTo>
                <a:cubicBezTo>
                  <a:pt x="1566" y="14267"/>
                  <a:pt x="1511" y="14309"/>
                  <a:pt x="1492" y="14351"/>
                </a:cubicBezTo>
                <a:cubicBezTo>
                  <a:pt x="1473" y="14394"/>
                  <a:pt x="1460" y="14425"/>
                  <a:pt x="1460" y="14478"/>
                </a:cubicBezTo>
                <a:cubicBezTo>
                  <a:pt x="1460" y="14528"/>
                  <a:pt x="1429" y="14548"/>
                  <a:pt x="1429" y="14605"/>
                </a:cubicBezTo>
                <a:cubicBezTo>
                  <a:pt x="1511" y="14584"/>
                  <a:pt x="1481" y="14580"/>
                  <a:pt x="1556" y="14605"/>
                </a:cubicBezTo>
                <a:cubicBezTo>
                  <a:pt x="1611" y="14623"/>
                  <a:pt x="1613" y="14609"/>
                  <a:pt x="1651" y="14637"/>
                </a:cubicBezTo>
                <a:cubicBezTo>
                  <a:pt x="1694" y="14668"/>
                  <a:pt x="1740" y="14714"/>
                  <a:pt x="1746" y="14764"/>
                </a:cubicBezTo>
                <a:cubicBezTo>
                  <a:pt x="1752" y="14817"/>
                  <a:pt x="1778" y="14787"/>
                  <a:pt x="1778" y="14859"/>
                </a:cubicBezTo>
                <a:cubicBezTo>
                  <a:pt x="1778" y="14895"/>
                  <a:pt x="1781" y="14909"/>
                  <a:pt x="1810" y="14922"/>
                </a:cubicBezTo>
                <a:cubicBezTo>
                  <a:pt x="1773" y="14971"/>
                  <a:pt x="1778" y="14988"/>
                  <a:pt x="1778" y="15050"/>
                </a:cubicBezTo>
                <a:cubicBezTo>
                  <a:pt x="1778" y="15107"/>
                  <a:pt x="1779" y="15162"/>
                  <a:pt x="1746" y="15208"/>
                </a:cubicBezTo>
                <a:cubicBezTo>
                  <a:pt x="1729" y="15231"/>
                  <a:pt x="1654" y="15240"/>
                  <a:pt x="1619" y="15240"/>
                </a:cubicBezTo>
                <a:cubicBezTo>
                  <a:pt x="1574" y="15240"/>
                  <a:pt x="1541" y="15231"/>
                  <a:pt x="1524" y="15208"/>
                </a:cubicBezTo>
                <a:cubicBezTo>
                  <a:pt x="1482" y="15152"/>
                  <a:pt x="1474" y="15156"/>
                  <a:pt x="1460" y="15113"/>
                </a:cubicBezTo>
              </a:path>
              <a:path w="9558" h="2255">
                <a:moveTo>
                  <a:pt x="2000" y="14414"/>
                </a:moveTo>
                <a:cubicBezTo>
                  <a:pt x="2046" y="14460"/>
                  <a:pt x="2085" y="14517"/>
                  <a:pt x="2096" y="14573"/>
                </a:cubicBezTo>
                <a:cubicBezTo>
                  <a:pt x="2113" y="14657"/>
                  <a:pt x="2145" y="14744"/>
                  <a:pt x="2159" y="14827"/>
                </a:cubicBezTo>
                <a:cubicBezTo>
                  <a:pt x="2176" y="14927"/>
                  <a:pt x="2195" y="15048"/>
                  <a:pt x="2222" y="15145"/>
                </a:cubicBezTo>
                <a:cubicBezTo>
                  <a:pt x="2239" y="15206"/>
                  <a:pt x="2279" y="15246"/>
                  <a:pt x="2286" y="15304"/>
                </a:cubicBezTo>
                <a:cubicBezTo>
                  <a:pt x="2292" y="15353"/>
                  <a:pt x="2288" y="15279"/>
                  <a:pt x="2318" y="15240"/>
                </a:cubicBezTo>
              </a:path>
              <a:path w="9558" h="2255">
                <a:moveTo>
                  <a:pt x="2318" y="14478"/>
                </a:moveTo>
                <a:cubicBezTo>
                  <a:pt x="2305" y="14544"/>
                  <a:pt x="2283" y="14606"/>
                  <a:pt x="2254" y="14668"/>
                </a:cubicBezTo>
                <a:cubicBezTo>
                  <a:pt x="2198" y="14786"/>
                  <a:pt x="2134" y="14881"/>
                  <a:pt x="2064" y="14986"/>
                </a:cubicBezTo>
                <a:cubicBezTo>
                  <a:pt x="2006" y="15074"/>
                  <a:pt x="1978" y="15189"/>
                  <a:pt x="1937" y="15272"/>
                </a:cubicBezTo>
                <a:cubicBezTo>
                  <a:pt x="1915" y="15317"/>
                  <a:pt x="1886" y="15317"/>
                  <a:pt x="1873" y="15367"/>
                </a:cubicBezTo>
              </a:path>
              <a:path w="9558" h="2255">
                <a:moveTo>
                  <a:pt x="2604" y="14288"/>
                </a:moveTo>
                <a:cubicBezTo>
                  <a:pt x="2635" y="14288"/>
                  <a:pt x="2646" y="14288"/>
                  <a:pt x="2635" y="14256"/>
                </a:cubicBezTo>
                <a:cubicBezTo>
                  <a:pt x="2683" y="14272"/>
                  <a:pt x="2662" y="14288"/>
                  <a:pt x="2730" y="14288"/>
                </a:cubicBezTo>
                <a:cubicBezTo>
                  <a:pt x="2762" y="14288"/>
                  <a:pt x="2794" y="14288"/>
                  <a:pt x="2826" y="14288"/>
                </a:cubicBezTo>
                <a:cubicBezTo>
                  <a:pt x="2826" y="14334"/>
                  <a:pt x="2817" y="14380"/>
                  <a:pt x="2794" y="14414"/>
                </a:cubicBezTo>
                <a:cubicBezTo>
                  <a:pt x="2768" y="14453"/>
                  <a:pt x="2718" y="14498"/>
                  <a:pt x="2699" y="14542"/>
                </a:cubicBezTo>
                <a:cubicBezTo>
                  <a:pt x="2691" y="14561"/>
                  <a:pt x="2643" y="14693"/>
                  <a:pt x="2635" y="14700"/>
                </a:cubicBezTo>
                <a:cubicBezTo>
                  <a:pt x="2603" y="14726"/>
                  <a:pt x="2645" y="14700"/>
                  <a:pt x="2699" y="14700"/>
                </a:cubicBezTo>
                <a:cubicBezTo>
                  <a:pt x="2735" y="14700"/>
                  <a:pt x="2748" y="14703"/>
                  <a:pt x="2762" y="14732"/>
                </a:cubicBezTo>
                <a:cubicBezTo>
                  <a:pt x="2810" y="14716"/>
                  <a:pt x="2789" y="14700"/>
                  <a:pt x="2858" y="14700"/>
                </a:cubicBezTo>
              </a:path>
              <a:path w="9558" h="2255">
                <a:moveTo>
                  <a:pt x="3016" y="14859"/>
                </a:moveTo>
                <a:cubicBezTo>
                  <a:pt x="3085" y="14859"/>
                  <a:pt x="3118" y="14885"/>
                  <a:pt x="3175" y="14891"/>
                </a:cubicBezTo>
                <a:cubicBezTo>
                  <a:pt x="3233" y="14897"/>
                  <a:pt x="3274" y="14922"/>
                  <a:pt x="3334" y="14922"/>
                </a:cubicBezTo>
                <a:cubicBezTo>
                  <a:pt x="3366" y="14922"/>
                  <a:pt x="3376" y="14922"/>
                  <a:pt x="3397" y="14922"/>
                </a:cubicBezTo>
              </a:path>
              <a:path w="9558" h="2255">
                <a:moveTo>
                  <a:pt x="3620" y="14383"/>
                </a:moveTo>
                <a:cubicBezTo>
                  <a:pt x="3620" y="14478"/>
                  <a:pt x="3599" y="14550"/>
                  <a:pt x="3588" y="14637"/>
                </a:cubicBezTo>
                <a:cubicBezTo>
                  <a:pt x="3574" y="14742"/>
                  <a:pt x="3547" y="14822"/>
                  <a:pt x="3524" y="14922"/>
                </a:cubicBezTo>
                <a:cubicBezTo>
                  <a:pt x="3515" y="14960"/>
                  <a:pt x="3524" y="15011"/>
                  <a:pt x="3524" y="15050"/>
                </a:cubicBezTo>
                <a:cubicBezTo>
                  <a:pt x="3590" y="15050"/>
                  <a:pt x="3593" y="15032"/>
                  <a:pt x="3620" y="15018"/>
                </a:cubicBezTo>
                <a:cubicBezTo>
                  <a:pt x="3671" y="14992"/>
                  <a:pt x="3712" y="15038"/>
                  <a:pt x="3746" y="15050"/>
                </a:cubicBezTo>
                <a:cubicBezTo>
                  <a:pt x="3791" y="15065"/>
                  <a:pt x="3778" y="15106"/>
                  <a:pt x="3842" y="15113"/>
                </a:cubicBezTo>
                <a:cubicBezTo>
                  <a:pt x="3914" y="15121"/>
                  <a:pt x="3896" y="15131"/>
                  <a:pt x="3969" y="15113"/>
                </a:cubicBezTo>
              </a:path>
              <a:path w="9558" h="2255">
                <a:moveTo>
                  <a:pt x="4064" y="14414"/>
                </a:moveTo>
                <a:cubicBezTo>
                  <a:pt x="4051" y="14521"/>
                  <a:pt x="4031" y="14625"/>
                  <a:pt x="4000" y="14732"/>
                </a:cubicBezTo>
                <a:cubicBezTo>
                  <a:pt x="3960" y="14870"/>
                  <a:pt x="3907" y="15005"/>
                  <a:pt x="3874" y="15145"/>
                </a:cubicBezTo>
                <a:cubicBezTo>
                  <a:pt x="3839" y="15292"/>
                  <a:pt x="3776" y="15445"/>
                  <a:pt x="3746" y="15589"/>
                </a:cubicBezTo>
                <a:cubicBezTo>
                  <a:pt x="3746" y="15655"/>
                  <a:pt x="3745" y="15678"/>
                  <a:pt x="3715" y="15716"/>
                </a:cubicBezTo>
              </a:path>
              <a:path w="9558" h="2255">
                <a:moveTo>
                  <a:pt x="4350" y="14542"/>
                </a:moveTo>
                <a:cubicBezTo>
                  <a:pt x="4322" y="14508"/>
                  <a:pt x="4306" y="14445"/>
                  <a:pt x="4254" y="14414"/>
                </a:cubicBezTo>
                <a:cubicBezTo>
                  <a:pt x="4197" y="14381"/>
                  <a:pt x="4151" y="14350"/>
                  <a:pt x="4096" y="14319"/>
                </a:cubicBezTo>
                <a:cubicBezTo>
                  <a:pt x="4020" y="14276"/>
                  <a:pt x="3949" y="14233"/>
                  <a:pt x="3874" y="14192"/>
                </a:cubicBezTo>
                <a:cubicBezTo>
                  <a:pt x="3787" y="14145"/>
                  <a:pt x="3708" y="14133"/>
                  <a:pt x="3620" y="14097"/>
                </a:cubicBezTo>
                <a:cubicBezTo>
                  <a:pt x="3532" y="14061"/>
                  <a:pt x="3452" y="14030"/>
                  <a:pt x="3366" y="14002"/>
                </a:cubicBezTo>
                <a:cubicBezTo>
                  <a:pt x="3259" y="13967"/>
                  <a:pt x="3155" y="13921"/>
                  <a:pt x="3048" y="13906"/>
                </a:cubicBezTo>
                <a:cubicBezTo>
                  <a:pt x="2942" y="13891"/>
                  <a:pt x="2835" y="13870"/>
                  <a:pt x="2730" y="13843"/>
                </a:cubicBezTo>
                <a:cubicBezTo>
                  <a:pt x="2593" y="13808"/>
                  <a:pt x="2454" y="13813"/>
                  <a:pt x="2318" y="13780"/>
                </a:cubicBezTo>
                <a:cubicBezTo>
                  <a:pt x="2204" y="13753"/>
                  <a:pt x="2118" y="13751"/>
                  <a:pt x="2000" y="13748"/>
                </a:cubicBezTo>
                <a:cubicBezTo>
                  <a:pt x="1795" y="13742"/>
                  <a:pt x="1591" y="13762"/>
                  <a:pt x="1397" y="13780"/>
                </a:cubicBezTo>
                <a:cubicBezTo>
                  <a:pt x="1293" y="13790"/>
                  <a:pt x="1178" y="13778"/>
                  <a:pt x="1080" y="13811"/>
                </a:cubicBezTo>
                <a:cubicBezTo>
                  <a:pt x="926" y="13862"/>
                  <a:pt x="756" y="13963"/>
                  <a:pt x="635" y="14065"/>
                </a:cubicBezTo>
                <a:cubicBezTo>
                  <a:pt x="555" y="14132"/>
                  <a:pt x="538" y="14194"/>
                  <a:pt x="508" y="14288"/>
                </a:cubicBezTo>
                <a:cubicBezTo>
                  <a:pt x="483" y="14366"/>
                  <a:pt x="454" y="14455"/>
                  <a:pt x="476" y="14542"/>
                </a:cubicBezTo>
                <a:cubicBezTo>
                  <a:pt x="509" y="14673"/>
                  <a:pt x="614" y="14823"/>
                  <a:pt x="698" y="14922"/>
                </a:cubicBezTo>
                <a:cubicBezTo>
                  <a:pt x="762" y="14998"/>
                  <a:pt x="825" y="15062"/>
                  <a:pt x="889" y="15145"/>
                </a:cubicBezTo>
                <a:cubicBezTo>
                  <a:pt x="958" y="15235"/>
                  <a:pt x="1019" y="15297"/>
                  <a:pt x="1111" y="15367"/>
                </a:cubicBezTo>
                <a:cubicBezTo>
                  <a:pt x="1178" y="15418"/>
                  <a:pt x="1259" y="15455"/>
                  <a:pt x="1334" y="15494"/>
                </a:cubicBezTo>
                <a:cubicBezTo>
                  <a:pt x="1427" y="15542"/>
                  <a:pt x="1521" y="15621"/>
                  <a:pt x="1619" y="15653"/>
                </a:cubicBezTo>
                <a:cubicBezTo>
                  <a:pt x="1706" y="15681"/>
                  <a:pt x="1845" y="15729"/>
                  <a:pt x="1937" y="15748"/>
                </a:cubicBezTo>
                <a:cubicBezTo>
                  <a:pt x="2048" y="15770"/>
                  <a:pt x="2174" y="15796"/>
                  <a:pt x="2286" y="15812"/>
                </a:cubicBezTo>
                <a:cubicBezTo>
                  <a:pt x="2399" y="15828"/>
                  <a:pt x="2524" y="15831"/>
                  <a:pt x="2635" y="15843"/>
                </a:cubicBezTo>
                <a:cubicBezTo>
                  <a:pt x="2748" y="15855"/>
                  <a:pt x="2878" y="15865"/>
                  <a:pt x="2984" y="15875"/>
                </a:cubicBezTo>
                <a:cubicBezTo>
                  <a:pt x="3108" y="15886"/>
                  <a:pt x="3215" y="15854"/>
                  <a:pt x="3334" y="15843"/>
                </a:cubicBezTo>
                <a:cubicBezTo>
                  <a:pt x="3445" y="15833"/>
                  <a:pt x="3545" y="15831"/>
                  <a:pt x="3651" y="15812"/>
                </a:cubicBezTo>
                <a:cubicBezTo>
                  <a:pt x="3751" y="15794"/>
                  <a:pt x="3842" y="15777"/>
                  <a:pt x="3937" y="15748"/>
                </a:cubicBezTo>
                <a:cubicBezTo>
                  <a:pt x="4052" y="15713"/>
                  <a:pt x="4110" y="15675"/>
                  <a:pt x="4191" y="15589"/>
                </a:cubicBezTo>
                <a:cubicBezTo>
                  <a:pt x="4268" y="15507"/>
                  <a:pt x="4324" y="15417"/>
                  <a:pt x="4350" y="15304"/>
                </a:cubicBezTo>
                <a:cubicBezTo>
                  <a:pt x="4377" y="15187"/>
                  <a:pt x="4382" y="15079"/>
                  <a:pt x="4382" y="14954"/>
                </a:cubicBezTo>
                <a:cubicBezTo>
                  <a:pt x="4382" y="14846"/>
                  <a:pt x="4346" y="14768"/>
                  <a:pt x="4318" y="14668"/>
                </a:cubicBezTo>
                <a:cubicBezTo>
                  <a:pt x="4284" y="14548"/>
                  <a:pt x="4232" y="14482"/>
                  <a:pt x="4128" y="14414"/>
                </a:cubicBezTo>
                <a:cubicBezTo>
                  <a:pt x="4071" y="14377"/>
                  <a:pt x="4004" y="14373"/>
                  <a:pt x="3937" y="14351"/>
                </a:cubicBezTo>
              </a:path>
              <a:path w="9558" h="2255">
                <a:moveTo>
                  <a:pt x="5810" y="15081"/>
                </a:moveTo>
                <a:cubicBezTo>
                  <a:pt x="5827" y="15062"/>
                  <a:pt x="5871" y="15021"/>
                  <a:pt x="5906" y="14986"/>
                </a:cubicBezTo>
                <a:cubicBezTo>
                  <a:pt x="5927" y="14965"/>
                  <a:pt x="5953" y="14908"/>
                  <a:pt x="5969" y="14891"/>
                </a:cubicBezTo>
                <a:cubicBezTo>
                  <a:pt x="6012" y="14845"/>
                  <a:pt x="6031" y="14812"/>
                  <a:pt x="6064" y="14764"/>
                </a:cubicBezTo>
                <a:cubicBezTo>
                  <a:pt x="6102" y="14710"/>
                  <a:pt x="6115" y="14647"/>
                  <a:pt x="6160" y="14605"/>
                </a:cubicBezTo>
                <a:cubicBezTo>
                  <a:pt x="6207" y="14560"/>
                  <a:pt x="6265" y="14518"/>
                  <a:pt x="6318" y="14478"/>
                </a:cubicBezTo>
                <a:cubicBezTo>
                  <a:pt x="6374" y="14436"/>
                  <a:pt x="6449" y="14385"/>
                  <a:pt x="6509" y="14351"/>
                </a:cubicBezTo>
                <a:cubicBezTo>
                  <a:pt x="6585" y="14308"/>
                  <a:pt x="6656" y="14265"/>
                  <a:pt x="6731" y="14224"/>
                </a:cubicBezTo>
                <a:cubicBezTo>
                  <a:pt x="6817" y="14177"/>
                  <a:pt x="6896" y="14158"/>
                  <a:pt x="6985" y="14129"/>
                </a:cubicBezTo>
                <a:cubicBezTo>
                  <a:pt x="7092" y="14095"/>
                  <a:pt x="7202" y="14066"/>
                  <a:pt x="7302" y="14034"/>
                </a:cubicBezTo>
                <a:cubicBezTo>
                  <a:pt x="7409" y="14000"/>
                  <a:pt x="7508" y="13954"/>
                  <a:pt x="7620" y="13938"/>
                </a:cubicBezTo>
                <a:cubicBezTo>
                  <a:pt x="7742" y="13921"/>
                  <a:pt x="7879" y="13909"/>
                  <a:pt x="8001" y="13906"/>
                </a:cubicBezTo>
                <a:cubicBezTo>
                  <a:pt x="8125" y="13903"/>
                  <a:pt x="8231" y="13925"/>
                  <a:pt x="8350" y="13938"/>
                </a:cubicBezTo>
                <a:cubicBezTo>
                  <a:pt x="8456" y="13950"/>
                  <a:pt x="8562" y="13952"/>
                  <a:pt x="8668" y="13970"/>
                </a:cubicBezTo>
                <a:cubicBezTo>
                  <a:pt x="8774" y="13988"/>
                  <a:pt x="8921" y="14047"/>
                  <a:pt x="9017" y="14097"/>
                </a:cubicBezTo>
                <a:cubicBezTo>
                  <a:pt x="9182" y="14182"/>
                  <a:pt x="9331" y="14282"/>
                  <a:pt x="9462" y="14414"/>
                </a:cubicBezTo>
                <a:cubicBezTo>
                  <a:pt x="9539" y="14491"/>
                  <a:pt x="9614" y="14567"/>
                  <a:pt x="9684" y="14637"/>
                </a:cubicBezTo>
                <a:cubicBezTo>
                  <a:pt x="9744" y="14697"/>
                  <a:pt x="9782" y="14772"/>
                  <a:pt x="9842" y="14827"/>
                </a:cubicBezTo>
                <a:cubicBezTo>
                  <a:pt x="9862" y="14845"/>
                  <a:pt x="9965" y="14919"/>
                  <a:pt x="9970" y="14922"/>
                </a:cubicBezTo>
                <a:cubicBezTo>
                  <a:pt x="10071" y="14980"/>
                  <a:pt x="9961" y="14872"/>
                  <a:pt x="10001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4"/>
          <p:cNvSpPr/>
          <p:nvPr/>
        </p:nvSpPr>
        <p:spPr>
          <a:xfrm>
            <a:off x="7143840" y="4492800"/>
            <a:ext cx="1063440" cy="731520"/>
          </a:xfrm>
          <a:custGeom>
            <a:avLst/>
            <a:gdLst/>
            <a:ahLst/>
            <a:rect l="l" t="t" r="r" b="b"/>
            <a:pathLst>
              <a:path w="2953" h="2033">
                <a:moveTo>
                  <a:pt x="19844" y="14510"/>
                </a:moveTo>
                <a:cubicBezTo>
                  <a:pt x="19862" y="14455"/>
                  <a:pt x="19864" y="14413"/>
                  <a:pt x="19876" y="14351"/>
                </a:cubicBezTo>
                <a:cubicBezTo>
                  <a:pt x="19893" y="14261"/>
                  <a:pt x="19941" y="14212"/>
                  <a:pt x="19971" y="14129"/>
                </a:cubicBezTo>
                <a:cubicBezTo>
                  <a:pt x="19996" y="14059"/>
                  <a:pt x="20049" y="13950"/>
                  <a:pt x="20066" y="13875"/>
                </a:cubicBezTo>
                <a:cubicBezTo>
                  <a:pt x="20096" y="13745"/>
                  <a:pt x="20134" y="13681"/>
                  <a:pt x="20193" y="13557"/>
                </a:cubicBezTo>
                <a:cubicBezTo>
                  <a:pt x="20259" y="13420"/>
                  <a:pt x="20326" y="13295"/>
                  <a:pt x="20415" y="13176"/>
                </a:cubicBezTo>
                <a:cubicBezTo>
                  <a:pt x="20484" y="13084"/>
                  <a:pt x="20555" y="13005"/>
                  <a:pt x="20638" y="12922"/>
                </a:cubicBezTo>
                <a:cubicBezTo>
                  <a:pt x="20709" y="12851"/>
                  <a:pt x="20788" y="12796"/>
                  <a:pt x="20860" y="12732"/>
                </a:cubicBezTo>
                <a:cubicBezTo>
                  <a:pt x="20940" y="12661"/>
                  <a:pt x="21016" y="12618"/>
                  <a:pt x="21114" y="12573"/>
                </a:cubicBezTo>
                <a:cubicBezTo>
                  <a:pt x="21199" y="12535"/>
                  <a:pt x="21310" y="12518"/>
                  <a:pt x="21400" y="12510"/>
                </a:cubicBezTo>
                <a:cubicBezTo>
                  <a:pt x="21493" y="12501"/>
                  <a:pt x="21597" y="12473"/>
                  <a:pt x="21685" y="12478"/>
                </a:cubicBezTo>
                <a:cubicBezTo>
                  <a:pt x="21784" y="12484"/>
                  <a:pt x="21875" y="12519"/>
                  <a:pt x="21971" y="12541"/>
                </a:cubicBezTo>
                <a:cubicBezTo>
                  <a:pt x="22076" y="12565"/>
                  <a:pt x="22131" y="12616"/>
                  <a:pt x="22225" y="12668"/>
                </a:cubicBezTo>
                <a:cubicBezTo>
                  <a:pt x="22332" y="12728"/>
                  <a:pt x="22367" y="12776"/>
                  <a:pt x="22447" y="12859"/>
                </a:cubicBezTo>
                <a:cubicBezTo>
                  <a:pt x="22523" y="12937"/>
                  <a:pt x="22555" y="13017"/>
                  <a:pt x="22606" y="13113"/>
                </a:cubicBezTo>
                <a:cubicBezTo>
                  <a:pt x="22653" y="13201"/>
                  <a:pt x="22673" y="13279"/>
                  <a:pt x="22701" y="13367"/>
                </a:cubicBezTo>
                <a:cubicBezTo>
                  <a:pt x="22732" y="13463"/>
                  <a:pt x="22755" y="13589"/>
                  <a:pt x="22765" y="13684"/>
                </a:cubicBezTo>
                <a:cubicBezTo>
                  <a:pt x="22774" y="13775"/>
                  <a:pt x="22780" y="13852"/>
                  <a:pt x="22796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5"/>
          <p:cNvSpPr/>
          <p:nvPr/>
        </p:nvSpPr>
        <p:spPr>
          <a:xfrm>
            <a:off x="6811920" y="4789440"/>
            <a:ext cx="2127240" cy="914400"/>
          </a:xfrm>
          <a:custGeom>
            <a:avLst/>
            <a:gdLst/>
            <a:ahLst/>
            <a:rect l="l" t="t" r="r" b="b"/>
            <a:pathLst>
              <a:path w="5906" h="2541">
                <a:moveTo>
                  <a:pt x="19272" y="14446"/>
                </a:moveTo>
                <a:cubicBezTo>
                  <a:pt x="19247" y="14471"/>
                  <a:pt x="19154" y="14529"/>
                  <a:pt x="19145" y="14542"/>
                </a:cubicBezTo>
                <a:cubicBezTo>
                  <a:pt x="19121" y="14576"/>
                  <a:pt x="19088" y="14671"/>
                  <a:pt x="19050" y="14700"/>
                </a:cubicBezTo>
                <a:cubicBezTo>
                  <a:pt x="19012" y="14729"/>
                  <a:pt x="19018" y="14773"/>
                  <a:pt x="18986" y="14827"/>
                </a:cubicBezTo>
                <a:cubicBezTo>
                  <a:pt x="18959" y="14873"/>
                  <a:pt x="18933" y="14960"/>
                  <a:pt x="18923" y="15018"/>
                </a:cubicBezTo>
                <a:cubicBezTo>
                  <a:pt x="18895" y="15175"/>
                  <a:pt x="18930" y="15347"/>
                  <a:pt x="18955" y="15494"/>
                </a:cubicBezTo>
                <a:cubicBezTo>
                  <a:pt x="18968" y="15571"/>
                  <a:pt x="18970" y="15656"/>
                  <a:pt x="19018" y="15716"/>
                </a:cubicBezTo>
                <a:cubicBezTo>
                  <a:pt x="19060" y="15768"/>
                  <a:pt x="19063" y="15778"/>
                  <a:pt x="19114" y="15812"/>
                </a:cubicBezTo>
                <a:cubicBezTo>
                  <a:pt x="19141" y="15830"/>
                  <a:pt x="19218" y="15883"/>
                  <a:pt x="19240" y="15812"/>
                </a:cubicBezTo>
                <a:cubicBezTo>
                  <a:pt x="19240" y="15791"/>
                  <a:pt x="19240" y="15769"/>
                  <a:pt x="19240" y="15748"/>
                </a:cubicBezTo>
              </a:path>
              <a:path w="5906" h="2541">
                <a:moveTo>
                  <a:pt x="19304" y="14954"/>
                </a:moveTo>
                <a:cubicBezTo>
                  <a:pt x="19281" y="14920"/>
                  <a:pt x="19289" y="14896"/>
                  <a:pt x="19336" y="14827"/>
                </a:cubicBezTo>
                <a:cubicBezTo>
                  <a:pt x="19372" y="14773"/>
                  <a:pt x="19420" y="14771"/>
                  <a:pt x="19463" y="14732"/>
                </a:cubicBezTo>
                <a:cubicBezTo>
                  <a:pt x="19508" y="14692"/>
                  <a:pt x="19531" y="14700"/>
                  <a:pt x="19590" y="14700"/>
                </a:cubicBezTo>
                <a:cubicBezTo>
                  <a:pt x="19669" y="14700"/>
                  <a:pt x="19670" y="14797"/>
                  <a:pt x="19653" y="14859"/>
                </a:cubicBezTo>
                <a:cubicBezTo>
                  <a:pt x="19634" y="14929"/>
                  <a:pt x="19586" y="15052"/>
                  <a:pt x="19558" y="15113"/>
                </a:cubicBezTo>
                <a:cubicBezTo>
                  <a:pt x="19537" y="15157"/>
                  <a:pt x="19497" y="15191"/>
                  <a:pt x="19463" y="15208"/>
                </a:cubicBezTo>
                <a:cubicBezTo>
                  <a:pt x="19473" y="15134"/>
                  <a:pt x="19521" y="15050"/>
                  <a:pt x="19558" y="15018"/>
                </a:cubicBezTo>
                <a:cubicBezTo>
                  <a:pt x="19594" y="14987"/>
                  <a:pt x="19667" y="14960"/>
                  <a:pt x="19717" y="14986"/>
                </a:cubicBezTo>
                <a:cubicBezTo>
                  <a:pt x="19743" y="14999"/>
                  <a:pt x="19806" y="15119"/>
                  <a:pt x="19812" y="15145"/>
                </a:cubicBezTo>
                <a:cubicBezTo>
                  <a:pt x="19830" y="15222"/>
                  <a:pt x="19821" y="15364"/>
                  <a:pt x="19780" y="15430"/>
                </a:cubicBezTo>
                <a:cubicBezTo>
                  <a:pt x="19741" y="15493"/>
                  <a:pt x="19704" y="15524"/>
                  <a:pt x="19653" y="15558"/>
                </a:cubicBezTo>
                <a:cubicBezTo>
                  <a:pt x="19599" y="15594"/>
                  <a:pt x="19581" y="15606"/>
                  <a:pt x="19526" y="15558"/>
                </a:cubicBezTo>
                <a:cubicBezTo>
                  <a:pt x="19515" y="15547"/>
                  <a:pt x="19505" y="15537"/>
                  <a:pt x="19494" y="15526"/>
                </a:cubicBezTo>
              </a:path>
              <a:path w="5906" h="2541">
                <a:moveTo>
                  <a:pt x="19780" y="14954"/>
                </a:moveTo>
                <a:cubicBezTo>
                  <a:pt x="19839" y="14969"/>
                  <a:pt x="19852" y="14984"/>
                  <a:pt x="19876" y="15018"/>
                </a:cubicBezTo>
                <a:cubicBezTo>
                  <a:pt x="19913" y="15069"/>
                  <a:pt x="19924" y="15144"/>
                  <a:pt x="19939" y="15208"/>
                </a:cubicBezTo>
                <a:cubicBezTo>
                  <a:pt x="19952" y="15266"/>
                  <a:pt x="19971" y="15298"/>
                  <a:pt x="19971" y="15367"/>
                </a:cubicBezTo>
                <a:cubicBezTo>
                  <a:pt x="19971" y="15377"/>
                  <a:pt x="19971" y="15482"/>
                  <a:pt x="19971" y="15399"/>
                </a:cubicBezTo>
                <a:cubicBezTo>
                  <a:pt x="19971" y="15214"/>
                  <a:pt x="19975" y="15035"/>
                  <a:pt x="20002" y="14859"/>
                </a:cubicBezTo>
                <a:cubicBezTo>
                  <a:pt x="20013" y="14790"/>
                  <a:pt x="20019" y="14761"/>
                  <a:pt x="20034" y="14700"/>
                </a:cubicBezTo>
                <a:cubicBezTo>
                  <a:pt x="20086" y="14700"/>
                  <a:pt x="20136" y="14707"/>
                  <a:pt x="20161" y="14764"/>
                </a:cubicBezTo>
                <a:cubicBezTo>
                  <a:pt x="20182" y="14813"/>
                  <a:pt x="20216" y="14909"/>
                  <a:pt x="20225" y="14954"/>
                </a:cubicBezTo>
                <a:cubicBezTo>
                  <a:pt x="20240" y="15028"/>
                  <a:pt x="20225" y="15133"/>
                  <a:pt x="20225" y="15208"/>
                </a:cubicBezTo>
                <a:cubicBezTo>
                  <a:pt x="20225" y="15066"/>
                  <a:pt x="20232" y="14921"/>
                  <a:pt x="20256" y="14796"/>
                </a:cubicBezTo>
                <a:cubicBezTo>
                  <a:pt x="20270" y="14724"/>
                  <a:pt x="20304" y="14669"/>
                  <a:pt x="20320" y="14637"/>
                </a:cubicBezTo>
                <a:cubicBezTo>
                  <a:pt x="20320" y="14626"/>
                  <a:pt x="20320" y="14616"/>
                  <a:pt x="20320" y="14605"/>
                </a:cubicBezTo>
                <a:cubicBezTo>
                  <a:pt x="20414" y="14628"/>
                  <a:pt x="20380" y="14662"/>
                  <a:pt x="20415" y="14732"/>
                </a:cubicBezTo>
                <a:cubicBezTo>
                  <a:pt x="20454" y="14810"/>
                  <a:pt x="20451" y="14900"/>
                  <a:pt x="20479" y="14986"/>
                </a:cubicBezTo>
                <a:cubicBezTo>
                  <a:pt x="20517" y="15103"/>
                  <a:pt x="20533" y="15244"/>
                  <a:pt x="20542" y="15367"/>
                </a:cubicBezTo>
                <a:cubicBezTo>
                  <a:pt x="20546" y="15421"/>
                  <a:pt x="20536" y="15512"/>
                  <a:pt x="20574" y="15430"/>
                </a:cubicBezTo>
                <a:cubicBezTo>
                  <a:pt x="20585" y="15409"/>
                  <a:pt x="20595" y="15388"/>
                  <a:pt x="20606" y="15367"/>
                </a:cubicBezTo>
              </a:path>
              <a:path w="5906" h="2541">
                <a:moveTo>
                  <a:pt x="20733" y="14891"/>
                </a:moveTo>
                <a:cubicBezTo>
                  <a:pt x="20733" y="14901"/>
                  <a:pt x="20733" y="14912"/>
                  <a:pt x="20733" y="14922"/>
                </a:cubicBezTo>
                <a:cubicBezTo>
                  <a:pt x="20778" y="14922"/>
                  <a:pt x="20826" y="14913"/>
                  <a:pt x="20860" y="14891"/>
                </a:cubicBezTo>
                <a:cubicBezTo>
                  <a:pt x="20908" y="14859"/>
                  <a:pt x="20942" y="14840"/>
                  <a:pt x="20987" y="14796"/>
                </a:cubicBezTo>
              </a:path>
              <a:path w="5906" h="2541">
                <a:moveTo>
                  <a:pt x="21082" y="14414"/>
                </a:moveTo>
                <a:cubicBezTo>
                  <a:pt x="21120" y="14339"/>
                  <a:pt x="21114" y="14477"/>
                  <a:pt x="21114" y="14510"/>
                </a:cubicBezTo>
                <a:cubicBezTo>
                  <a:pt x="21114" y="14605"/>
                  <a:pt x="21087" y="14674"/>
                  <a:pt x="21082" y="14764"/>
                </a:cubicBezTo>
                <a:cubicBezTo>
                  <a:pt x="21078" y="14835"/>
                  <a:pt x="21050" y="14884"/>
                  <a:pt x="21050" y="14954"/>
                </a:cubicBezTo>
                <a:cubicBezTo>
                  <a:pt x="21098" y="14906"/>
                  <a:pt x="21110" y="14891"/>
                  <a:pt x="21177" y="14891"/>
                </a:cubicBezTo>
                <a:cubicBezTo>
                  <a:pt x="21249" y="14891"/>
                  <a:pt x="21277" y="14903"/>
                  <a:pt x="21336" y="14922"/>
                </a:cubicBezTo>
                <a:cubicBezTo>
                  <a:pt x="21380" y="14936"/>
                  <a:pt x="21426" y="14931"/>
                  <a:pt x="21431" y="14891"/>
                </a:cubicBezTo>
                <a:cubicBezTo>
                  <a:pt x="21431" y="14880"/>
                  <a:pt x="21431" y="14870"/>
                  <a:pt x="21431" y="14859"/>
                </a:cubicBezTo>
              </a:path>
              <a:path w="5906" h="2541">
                <a:moveTo>
                  <a:pt x="21431" y="14256"/>
                </a:moveTo>
                <a:cubicBezTo>
                  <a:pt x="21431" y="14410"/>
                  <a:pt x="21446" y="14552"/>
                  <a:pt x="21463" y="14700"/>
                </a:cubicBezTo>
                <a:cubicBezTo>
                  <a:pt x="21480" y="14848"/>
                  <a:pt x="21477" y="15003"/>
                  <a:pt x="21495" y="15145"/>
                </a:cubicBezTo>
                <a:cubicBezTo>
                  <a:pt x="21504" y="15216"/>
                  <a:pt x="21463" y="15345"/>
                  <a:pt x="21526" y="15367"/>
                </a:cubicBezTo>
              </a:path>
              <a:path w="5906" h="2541">
                <a:moveTo>
                  <a:pt x="21463" y="13748"/>
                </a:moveTo>
                <a:cubicBezTo>
                  <a:pt x="21514" y="13780"/>
                  <a:pt x="21580" y="13813"/>
                  <a:pt x="21622" y="13875"/>
                </a:cubicBezTo>
                <a:cubicBezTo>
                  <a:pt x="21690" y="13976"/>
                  <a:pt x="21744" y="14098"/>
                  <a:pt x="21812" y="14192"/>
                </a:cubicBezTo>
                <a:cubicBezTo>
                  <a:pt x="21907" y="14325"/>
                  <a:pt x="21905" y="14415"/>
                  <a:pt x="21939" y="14573"/>
                </a:cubicBezTo>
                <a:cubicBezTo>
                  <a:pt x="21973" y="14732"/>
                  <a:pt x="21970" y="14887"/>
                  <a:pt x="21939" y="15050"/>
                </a:cubicBezTo>
                <a:cubicBezTo>
                  <a:pt x="21913" y="15186"/>
                  <a:pt x="21845" y="15369"/>
                  <a:pt x="21780" y="15494"/>
                </a:cubicBezTo>
                <a:cubicBezTo>
                  <a:pt x="21758" y="15536"/>
                  <a:pt x="21658" y="15723"/>
                  <a:pt x="21590" y="15716"/>
                </a:cubicBezTo>
                <a:cubicBezTo>
                  <a:pt x="21579" y="15705"/>
                  <a:pt x="21569" y="15695"/>
                  <a:pt x="21558" y="15684"/>
                </a:cubicBezTo>
              </a:path>
              <a:path w="5906" h="2541">
                <a:moveTo>
                  <a:pt x="22352" y="13335"/>
                </a:moveTo>
                <a:cubicBezTo>
                  <a:pt x="22344" y="13445"/>
                  <a:pt x="22338" y="13548"/>
                  <a:pt x="22288" y="13652"/>
                </a:cubicBezTo>
                <a:cubicBezTo>
                  <a:pt x="22207" y="13820"/>
                  <a:pt x="22145" y="13977"/>
                  <a:pt x="22098" y="14160"/>
                </a:cubicBezTo>
                <a:cubicBezTo>
                  <a:pt x="22043" y="14373"/>
                  <a:pt x="22012" y="14585"/>
                  <a:pt x="21971" y="14796"/>
                </a:cubicBezTo>
                <a:cubicBezTo>
                  <a:pt x="21945" y="14928"/>
                  <a:pt x="21924" y="15076"/>
                  <a:pt x="21971" y="15208"/>
                </a:cubicBezTo>
                <a:cubicBezTo>
                  <a:pt x="21995" y="15274"/>
                  <a:pt x="22059" y="15303"/>
                  <a:pt x="22098" y="15335"/>
                </a:cubicBezTo>
                <a:cubicBezTo>
                  <a:pt x="22130" y="15361"/>
                  <a:pt x="22182" y="15402"/>
                  <a:pt x="22225" y="15399"/>
                </a:cubicBezTo>
                <a:cubicBezTo>
                  <a:pt x="22236" y="15388"/>
                  <a:pt x="22246" y="15378"/>
                  <a:pt x="22257" y="15367"/>
                </a:cubicBezTo>
              </a:path>
              <a:path w="5906" h="2541">
                <a:moveTo>
                  <a:pt x="22288" y="14383"/>
                </a:moveTo>
                <a:cubicBezTo>
                  <a:pt x="22320" y="14320"/>
                  <a:pt x="22305" y="14204"/>
                  <a:pt x="22384" y="14160"/>
                </a:cubicBezTo>
                <a:cubicBezTo>
                  <a:pt x="22423" y="14139"/>
                  <a:pt x="22419" y="14129"/>
                  <a:pt x="22479" y="14129"/>
                </a:cubicBezTo>
                <a:cubicBezTo>
                  <a:pt x="22559" y="14129"/>
                  <a:pt x="22559" y="14226"/>
                  <a:pt x="22542" y="14288"/>
                </a:cubicBezTo>
                <a:cubicBezTo>
                  <a:pt x="22522" y="14361"/>
                  <a:pt x="22485" y="14480"/>
                  <a:pt x="22447" y="14542"/>
                </a:cubicBezTo>
                <a:cubicBezTo>
                  <a:pt x="22419" y="14570"/>
                  <a:pt x="22408" y="14577"/>
                  <a:pt x="22416" y="14605"/>
                </a:cubicBezTo>
                <a:cubicBezTo>
                  <a:pt x="22452" y="14569"/>
                  <a:pt x="22497" y="14525"/>
                  <a:pt x="22542" y="14510"/>
                </a:cubicBezTo>
                <a:cubicBezTo>
                  <a:pt x="22574" y="14499"/>
                  <a:pt x="22656" y="14525"/>
                  <a:pt x="22670" y="14542"/>
                </a:cubicBezTo>
                <a:cubicBezTo>
                  <a:pt x="22739" y="14626"/>
                  <a:pt x="22680" y="14711"/>
                  <a:pt x="22670" y="14796"/>
                </a:cubicBezTo>
                <a:cubicBezTo>
                  <a:pt x="22655" y="14918"/>
                  <a:pt x="22623" y="15027"/>
                  <a:pt x="22574" y="15145"/>
                </a:cubicBezTo>
                <a:cubicBezTo>
                  <a:pt x="22551" y="15201"/>
                  <a:pt x="22518" y="15259"/>
                  <a:pt x="22479" y="15272"/>
                </a:cubicBezTo>
                <a:cubicBezTo>
                  <a:pt x="22427" y="15255"/>
                  <a:pt x="22447" y="15210"/>
                  <a:pt x="22447" y="15145"/>
                </a:cubicBezTo>
              </a:path>
              <a:path w="5906" h="2541">
                <a:moveTo>
                  <a:pt x="22796" y="14573"/>
                </a:moveTo>
                <a:cubicBezTo>
                  <a:pt x="22855" y="14593"/>
                  <a:pt x="22828" y="14694"/>
                  <a:pt x="22828" y="14764"/>
                </a:cubicBezTo>
                <a:cubicBezTo>
                  <a:pt x="22828" y="14881"/>
                  <a:pt x="22796" y="14991"/>
                  <a:pt x="22796" y="15113"/>
                </a:cubicBezTo>
                <a:cubicBezTo>
                  <a:pt x="22796" y="15257"/>
                  <a:pt x="22796" y="15177"/>
                  <a:pt x="22796" y="15081"/>
                </a:cubicBezTo>
                <a:cubicBezTo>
                  <a:pt x="22796" y="14977"/>
                  <a:pt x="22808" y="14836"/>
                  <a:pt x="22828" y="14732"/>
                </a:cubicBezTo>
                <a:cubicBezTo>
                  <a:pt x="22845" y="14643"/>
                  <a:pt x="22858" y="14493"/>
                  <a:pt x="22892" y="14414"/>
                </a:cubicBezTo>
                <a:cubicBezTo>
                  <a:pt x="22921" y="14386"/>
                  <a:pt x="22932" y="14380"/>
                  <a:pt x="22924" y="14351"/>
                </a:cubicBezTo>
                <a:cubicBezTo>
                  <a:pt x="22991" y="14351"/>
                  <a:pt x="23006" y="14383"/>
                  <a:pt x="23019" y="14446"/>
                </a:cubicBezTo>
                <a:cubicBezTo>
                  <a:pt x="23037" y="14533"/>
                  <a:pt x="23040" y="14648"/>
                  <a:pt x="23050" y="14732"/>
                </a:cubicBezTo>
                <a:cubicBezTo>
                  <a:pt x="23059" y="14803"/>
                  <a:pt x="23050" y="14882"/>
                  <a:pt x="23050" y="14954"/>
                </a:cubicBezTo>
                <a:cubicBezTo>
                  <a:pt x="23050" y="14843"/>
                  <a:pt x="23069" y="14740"/>
                  <a:pt x="23082" y="14637"/>
                </a:cubicBezTo>
                <a:cubicBezTo>
                  <a:pt x="23093" y="14550"/>
                  <a:pt x="23103" y="14429"/>
                  <a:pt x="23146" y="14351"/>
                </a:cubicBezTo>
                <a:cubicBezTo>
                  <a:pt x="23175" y="14322"/>
                  <a:pt x="23181" y="14312"/>
                  <a:pt x="23209" y="14319"/>
                </a:cubicBezTo>
                <a:cubicBezTo>
                  <a:pt x="23278" y="14336"/>
                  <a:pt x="23292" y="14405"/>
                  <a:pt x="23304" y="14478"/>
                </a:cubicBezTo>
                <a:cubicBezTo>
                  <a:pt x="23321" y="14581"/>
                  <a:pt x="23321" y="14693"/>
                  <a:pt x="23336" y="14796"/>
                </a:cubicBezTo>
                <a:cubicBezTo>
                  <a:pt x="23347" y="14871"/>
                  <a:pt x="23295" y="15036"/>
                  <a:pt x="23368" y="15081"/>
                </a:cubicBezTo>
                <a:cubicBezTo>
                  <a:pt x="23379" y="15081"/>
                  <a:pt x="23389" y="15081"/>
                  <a:pt x="23400" y="15081"/>
                </a:cubicBezTo>
              </a:path>
              <a:path w="5906" h="2541">
                <a:moveTo>
                  <a:pt x="23558" y="14764"/>
                </a:moveTo>
                <a:cubicBezTo>
                  <a:pt x="23558" y="14753"/>
                  <a:pt x="23558" y="14743"/>
                  <a:pt x="23558" y="14732"/>
                </a:cubicBezTo>
                <a:cubicBezTo>
                  <a:pt x="23617" y="14732"/>
                  <a:pt x="23782" y="14761"/>
                  <a:pt x="23812" y="14700"/>
                </a:cubicBezTo>
                <a:cubicBezTo>
                  <a:pt x="23812" y="14689"/>
                  <a:pt x="23812" y="14679"/>
                  <a:pt x="23812" y="14668"/>
                </a:cubicBezTo>
              </a:path>
              <a:path w="5906" h="2541">
                <a:moveTo>
                  <a:pt x="23940" y="14097"/>
                </a:moveTo>
                <a:cubicBezTo>
                  <a:pt x="23950" y="14097"/>
                  <a:pt x="23961" y="14097"/>
                  <a:pt x="23971" y="14097"/>
                </a:cubicBezTo>
                <a:cubicBezTo>
                  <a:pt x="23971" y="14201"/>
                  <a:pt x="23957" y="14295"/>
                  <a:pt x="23940" y="14383"/>
                </a:cubicBezTo>
                <a:cubicBezTo>
                  <a:pt x="23926" y="14454"/>
                  <a:pt x="23928" y="14482"/>
                  <a:pt x="23908" y="14542"/>
                </a:cubicBezTo>
                <a:cubicBezTo>
                  <a:pt x="23908" y="14573"/>
                  <a:pt x="23908" y="14584"/>
                  <a:pt x="23908" y="14605"/>
                </a:cubicBezTo>
                <a:cubicBezTo>
                  <a:pt x="23946" y="14595"/>
                  <a:pt x="23965" y="14583"/>
                  <a:pt x="24003" y="14573"/>
                </a:cubicBezTo>
                <a:cubicBezTo>
                  <a:pt x="24019" y="14526"/>
                  <a:pt x="24042" y="14542"/>
                  <a:pt x="24098" y="14542"/>
                </a:cubicBezTo>
                <a:cubicBezTo>
                  <a:pt x="24161" y="14542"/>
                  <a:pt x="24174" y="14556"/>
                  <a:pt x="24225" y="14573"/>
                </a:cubicBezTo>
                <a:cubicBezTo>
                  <a:pt x="24257" y="14573"/>
                  <a:pt x="24268" y="14573"/>
                  <a:pt x="24289" y="14573"/>
                </a:cubicBezTo>
              </a:path>
              <a:path w="5906" h="2541">
                <a:moveTo>
                  <a:pt x="24257" y="14002"/>
                </a:moveTo>
                <a:cubicBezTo>
                  <a:pt x="24277" y="14101"/>
                  <a:pt x="24289" y="14181"/>
                  <a:pt x="24289" y="14288"/>
                </a:cubicBezTo>
                <a:cubicBezTo>
                  <a:pt x="24289" y="14545"/>
                  <a:pt x="24282" y="14804"/>
                  <a:pt x="24320" y="15050"/>
                </a:cubicBezTo>
                <a:cubicBezTo>
                  <a:pt x="24320" y="15103"/>
                  <a:pt x="24320" y="15113"/>
                  <a:pt x="24320" y="15145"/>
                </a:cubicBezTo>
              </a:path>
              <a:path w="5906" h="2541">
                <a:moveTo>
                  <a:pt x="24162" y="13303"/>
                </a:moveTo>
                <a:cubicBezTo>
                  <a:pt x="24217" y="13358"/>
                  <a:pt x="24299" y="13401"/>
                  <a:pt x="24352" y="13462"/>
                </a:cubicBezTo>
                <a:cubicBezTo>
                  <a:pt x="24430" y="13553"/>
                  <a:pt x="24511" y="13679"/>
                  <a:pt x="24574" y="13780"/>
                </a:cubicBezTo>
                <a:cubicBezTo>
                  <a:pt x="24637" y="13882"/>
                  <a:pt x="24691" y="13985"/>
                  <a:pt x="24733" y="14097"/>
                </a:cubicBezTo>
                <a:cubicBezTo>
                  <a:pt x="24774" y="14205"/>
                  <a:pt x="24815" y="14332"/>
                  <a:pt x="24828" y="14446"/>
                </a:cubicBezTo>
                <a:cubicBezTo>
                  <a:pt x="24843" y="14580"/>
                  <a:pt x="24814" y="14699"/>
                  <a:pt x="24797" y="14827"/>
                </a:cubicBezTo>
                <a:cubicBezTo>
                  <a:pt x="24783" y="14930"/>
                  <a:pt x="24739" y="15014"/>
                  <a:pt x="24702" y="15113"/>
                </a:cubicBezTo>
                <a:cubicBezTo>
                  <a:pt x="24673" y="15192"/>
                  <a:pt x="24644" y="15260"/>
                  <a:pt x="24606" y="15335"/>
                </a:cubicBezTo>
              </a:path>
              <a:path w="5906" h="2541">
                <a:moveTo>
                  <a:pt x="19812" y="14605"/>
                </a:moveTo>
                <a:lnTo>
                  <a:pt x="19812" y="14605"/>
                </a:lnTo>
              </a:path>
              <a:path w="5906" h="2541">
                <a:moveTo>
                  <a:pt x="19812" y="14605"/>
                </a:moveTo>
                <a:lnTo>
                  <a:pt x="19812" y="146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6"/>
          <p:cNvSpPr/>
          <p:nvPr/>
        </p:nvSpPr>
        <p:spPr>
          <a:xfrm>
            <a:off x="2079720" y="5680080"/>
            <a:ext cx="2423880" cy="230040"/>
          </a:xfrm>
          <a:custGeom>
            <a:avLst/>
            <a:gdLst/>
            <a:ahLst/>
            <a:rect l="l" t="t" r="r" b="b"/>
            <a:pathLst>
              <a:path w="6733" h="636">
                <a:moveTo>
                  <a:pt x="5778" y="15843"/>
                </a:moveTo>
                <a:cubicBezTo>
                  <a:pt x="5810" y="15843"/>
                  <a:pt x="5821" y="15843"/>
                  <a:pt x="5810" y="15875"/>
                </a:cubicBezTo>
                <a:cubicBezTo>
                  <a:pt x="5852" y="15880"/>
                  <a:pt x="5833" y="15865"/>
                  <a:pt x="5874" y="15875"/>
                </a:cubicBezTo>
                <a:cubicBezTo>
                  <a:pt x="5935" y="15890"/>
                  <a:pt x="5924" y="15885"/>
                  <a:pt x="5969" y="15907"/>
                </a:cubicBezTo>
                <a:cubicBezTo>
                  <a:pt x="6010" y="15927"/>
                  <a:pt x="6012" y="15937"/>
                  <a:pt x="6064" y="15970"/>
                </a:cubicBezTo>
                <a:cubicBezTo>
                  <a:pt x="6113" y="16001"/>
                  <a:pt x="6146" y="16036"/>
                  <a:pt x="6191" y="16066"/>
                </a:cubicBezTo>
                <a:cubicBezTo>
                  <a:pt x="6237" y="16096"/>
                  <a:pt x="6300" y="16133"/>
                  <a:pt x="6350" y="16161"/>
                </a:cubicBezTo>
                <a:cubicBezTo>
                  <a:pt x="6394" y="16186"/>
                  <a:pt x="6459" y="16206"/>
                  <a:pt x="6509" y="16224"/>
                </a:cubicBezTo>
                <a:cubicBezTo>
                  <a:pt x="6570" y="16246"/>
                  <a:pt x="6634" y="16272"/>
                  <a:pt x="6699" y="16288"/>
                </a:cubicBezTo>
                <a:cubicBezTo>
                  <a:pt x="6779" y="16307"/>
                  <a:pt x="6838" y="16308"/>
                  <a:pt x="6922" y="16320"/>
                </a:cubicBezTo>
                <a:cubicBezTo>
                  <a:pt x="6986" y="16329"/>
                  <a:pt x="7063" y="16349"/>
                  <a:pt x="7144" y="16351"/>
                </a:cubicBezTo>
                <a:cubicBezTo>
                  <a:pt x="7307" y="16355"/>
                  <a:pt x="7466" y="16332"/>
                  <a:pt x="7620" y="16320"/>
                </a:cubicBezTo>
                <a:cubicBezTo>
                  <a:pt x="7705" y="16313"/>
                  <a:pt x="7797" y="16295"/>
                  <a:pt x="7874" y="16288"/>
                </a:cubicBezTo>
                <a:cubicBezTo>
                  <a:pt x="7999" y="16277"/>
                  <a:pt x="8138" y="16265"/>
                  <a:pt x="8255" y="16256"/>
                </a:cubicBezTo>
                <a:cubicBezTo>
                  <a:pt x="8562" y="16233"/>
                  <a:pt x="8877" y="16265"/>
                  <a:pt x="9176" y="16288"/>
                </a:cubicBezTo>
                <a:cubicBezTo>
                  <a:pt x="9291" y="16297"/>
                  <a:pt x="9418" y="16312"/>
                  <a:pt x="9525" y="16320"/>
                </a:cubicBezTo>
                <a:cubicBezTo>
                  <a:pt x="9609" y="16327"/>
                  <a:pt x="9702" y="16346"/>
                  <a:pt x="9779" y="16351"/>
                </a:cubicBezTo>
                <a:cubicBezTo>
                  <a:pt x="9874" y="16358"/>
                  <a:pt x="9978" y="16377"/>
                  <a:pt x="10065" y="16383"/>
                </a:cubicBezTo>
                <a:cubicBezTo>
                  <a:pt x="10170" y="16391"/>
                  <a:pt x="10281" y="16408"/>
                  <a:pt x="10382" y="16415"/>
                </a:cubicBezTo>
                <a:cubicBezTo>
                  <a:pt x="10498" y="16423"/>
                  <a:pt x="10592" y="16390"/>
                  <a:pt x="10700" y="16383"/>
                </a:cubicBezTo>
                <a:cubicBezTo>
                  <a:pt x="10833" y="16374"/>
                  <a:pt x="10955" y="16371"/>
                  <a:pt x="11081" y="16351"/>
                </a:cubicBezTo>
                <a:cubicBezTo>
                  <a:pt x="11200" y="16332"/>
                  <a:pt x="11312" y="16311"/>
                  <a:pt x="11430" y="16288"/>
                </a:cubicBezTo>
                <a:cubicBezTo>
                  <a:pt x="11537" y="16267"/>
                  <a:pt x="11641" y="16221"/>
                  <a:pt x="11748" y="16192"/>
                </a:cubicBezTo>
                <a:cubicBezTo>
                  <a:pt x="11858" y="16163"/>
                  <a:pt x="11953" y="16144"/>
                  <a:pt x="12065" y="16097"/>
                </a:cubicBezTo>
                <a:cubicBezTo>
                  <a:pt x="12146" y="16063"/>
                  <a:pt x="12216" y="16016"/>
                  <a:pt x="12287" y="15970"/>
                </a:cubicBezTo>
                <a:cubicBezTo>
                  <a:pt x="12363" y="15921"/>
                  <a:pt x="12443" y="15858"/>
                  <a:pt x="12510" y="15812"/>
                </a:cubicBezTo>
                <a:cubicBezTo>
                  <a:pt x="12510" y="15780"/>
                  <a:pt x="12510" y="15769"/>
                  <a:pt x="12510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7"/>
          <p:cNvSpPr/>
          <p:nvPr/>
        </p:nvSpPr>
        <p:spPr>
          <a:xfrm>
            <a:off x="2171880" y="5657760"/>
            <a:ext cx="4195440" cy="1017720"/>
          </a:xfrm>
          <a:custGeom>
            <a:avLst/>
            <a:gdLst/>
            <a:ahLst/>
            <a:rect l="l" t="t" r="r" b="b"/>
            <a:pathLst>
              <a:path w="11654" h="2827">
                <a:moveTo>
                  <a:pt x="6223" y="16764"/>
                </a:moveTo>
                <a:cubicBezTo>
                  <a:pt x="6223" y="16837"/>
                  <a:pt x="6211" y="16864"/>
                  <a:pt x="6191" y="16923"/>
                </a:cubicBezTo>
                <a:cubicBezTo>
                  <a:pt x="6175" y="16972"/>
                  <a:pt x="6137" y="17036"/>
                  <a:pt x="6128" y="17082"/>
                </a:cubicBezTo>
                <a:cubicBezTo>
                  <a:pt x="6112" y="17164"/>
                  <a:pt x="6105" y="17236"/>
                  <a:pt x="6064" y="17304"/>
                </a:cubicBezTo>
              </a:path>
              <a:path w="11654" h="2827">
                <a:moveTo>
                  <a:pt x="6032" y="16891"/>
                </a:moveTo>
                <a:cubicBezTo>
                  <a:pt x="6032" y="16902"/>
                  <a:pt x="6032" y="16912"/>
                  <a:pt x="6032" y="16923"/>
                </a:cubicBezTo>
                <a:cubicBezTo>
                  <a:pt x="6110" y="16923"/>
                  <a:pt x="6116" y="16961"/>
                  <a:pt x="6191" y="16986"/>
                </a:cubicBezTo>
                <a:cubicBezTo>
                  <a:pt x="6226" y="16998"/>
                  <a:pt x="6250" y="17009"/>
                  <a:pt x="6286" y="17018"/>
                </a:cubicBezTo>
              </a:path>
              <a:path w="11654" h="2827">
                <a:moveTo>
                  <a:pt x="6699" y="16574"/>
                </a:moveTo>
                <a:cubicBezTo>
                  <a:pt x="6699" y="16653"/>
                  <a:pt x="6702" y="16692"/>
                  <a:pt x="6668" y="16764"/>
                </a:cubicBezTo>
                <a:cubicBezTo>
                  <a:pt x="6629" y="16848"/>
                  <a:pt x="6616" y="16903"/>
                  <a:pt x="6572" y="16986"/>
                </a:cubicBezTo>
                <a:cubicBezTo>
                  <a:pt x="6534" y="17057"/>
                  <a:pt x="6497" y="17142"/>
                  <a:pt x="6477" y="17208"/>
                </a:cubicBezTo>
                <a:cubicBezTo>
                  <a:pt x="6460" y="17264"/>
                  <a:pt x="6485" y="17251"/>
                  <a:pt x="6445" y="17304"/>
                </a:cubicBezTo>
              </a:path>
              <a:path w="11654" h="2827">
                <a:moveTo>
                  <a:pt x="6826" y="16637"/>
                </a:moveTo>
                <a:cubicBezTo>
                  <a:pt x="6839" y="16584"/>
                  <a:pt x="6863" y="16549"/>
                  <a:pt x="6922" y="16542"/>
                </a:cubicBezTo>
                <a:cubicBezTo>
                  <a:pt x="6986" y="16535"/>
                  <a:pt x="6998" y="16557"/>
                  <a:pt x="7048" y="16574"/>
                </a:cubicBezTo>
                <a:cubicBezTo>
                  <a:pt x="7084" y="16586"/>
                  <a:pt x="7145" y="16610"/>
                  <a:pt x="7112" y="16669"/>
                </a:cubicBezTo>
                <a:cubicBezTo>
                  <a:pt x="7076" y="16733"/>
                  <a:pt x="7073" y="16797"/>
                  <a:pt x="7017" y="16859"/>
                </a:cubicBezTo>
                <a:cubicBezTo>
                  <a:pt x="6964" y="16917"/>
                  <a:pt x="6912" y="16958"/>
                  <a:pt x="6858" y="17018"/>
                </a:cubicBezTo>
                <a:cubicBezTo>
                  <a:pt x="6809" y="17072"/>
                  <a:pt x="6766" y="17125"/>
                  <a:pt x="6731" y="17177"/>
                </a:cubicBezTo>
                <a:cubicBezTo>
                  <a:pt x="6701" y="17221"/>
                  <a:pt x="6706" y="17227"/>
                  <a:pt x="6668" y="17240"/>
                </a:cubicBezTo>
                <a:cubicBezTo>
                  <a:pt x="6717" y="17227"/>
                  <a:pt x="6737" y="17208"/>
                  <a:pt x="6794" y="17208"/>
                </a:cubicBezTo>
                <a:cubicBezTo>
                  <a:pt x="6859" y="17208"/>
                  <a:pt x="6904" y="17196"/>
                  <a:pt x="6953" y="17240"/>
                </a:cubicBezTo>
                <a:cubicBezTo>
                  <a:pt x="6978" y="17263"/>
                  <a:pt x="7035" y="17309"/>
                  <a:pt x="7048" y="17336"/>
                </a:cubicBezTo>
                <a:cubicBezTo>
                  <a:pt x="7076" y="17393"/>
                  <a:pt x="7072" y="17399"/>
                  <a:pt x="7144" y="17399"/>
                </a:cubicBezTo>
              </a:path>
              <a:path w="11654" h="2827">
                <a:moveTo>
                  <a:pt x="7398" y="16700"/>
                </a:moveTo>
                <a:cubicBezTo>
                  <a:pt x="7441" y="16700"/>
                  <a:pt x="7451" y="16711"/>
                  <a:pt x="7430" y="16764"/>
                </a:cubicBezTo>
              </a:path>
              <a:path w="11654" h="2827">
                <a:moveTo>
                  <a:pt x="7398" y="16700"/>
                </a:moveTo>
                <a:cubicBezTo>
                  <a:pt x="7419" y="16743"/>
                  <a:pt x="7440" y="16785"/>
                  <a:pt x="7461" y="16828"/>
                </a:cubicBezTo>
              </a:path>
              <a:path w="11654" h="2827">
                <a:moveTo>
                  <a:pt x="7461" y="16828"/>
                </a:moveTo>
                <a:cubicBezTo>
                  <a:pt x="7498" y="16889"/>
                  <a:pt x="7519" y="16944"/>
                  <a:pt x="7525" y="17018"/>
                </a:cubicBezTo>
                <a:cubicBezTo>
                  <a:pt x="7530" y="17075"/>
                  <a:pt x="7556" y="17109"/>
                  <a:pt x="7556" y="17177"/>
                </a:cubicBezTo>
                <a:cubicBezTo>
                  <a:pt x="7556" y="17212"/>
                  <a:pt x="7570" y="17305"/>
                  <a:pt x="7588" y="17336"/>
                </a:cubicBezTo>
                <a:cubicBezTo>
                  <a:pt x="7616" y="17386"/>
                  <a:pt x="7628" y="17417"/>
                  <a:pt x="7684" y="17431"/>
                </a:cubicBezTo>
              </a:path>
              <a:path w="11654" h="2827">
                <a:moveTo>
                  <a:pt x="7652" y="16859"/>
                </a:moveTo>
                <a:cubicBezTo>
                  <a:pt x="7610" y="16901"/>
                  <a:pt x="7567" y="16944"/>
                  <a:pt x="7525" y="16986"/>
                </a:cubicBezTo>
                <a:cubicBezTo>
                  <a:pt x="7486" y="17025"/>
                  <a:pt x="7428" y="17067"/>
                  <a:pt x="7398" y="17113"/>
                </a:cubicBezTo>
                <a:cubicBezTo>
                  <a:pt x="7356" y="17178"/>
                  <a:pt x="7323" y="17246"/>
                  <a:pt x="7271" y="17304"/>
                </a:cubicBezTo>
                <a:cubicBezTo>
                  <a:pt x="7234" y="17345"/>
                  <a:pt x="7239" y="17346"/>
                  <a:pt x="7239" y="17399"/>
                </a:cubicBezTo>
              </a:path>
              <a:path w="11654" h="2827">
                <a:moveTo>
                  <a:pt x="7779" y="16764"/>
                </a:moveTo>
                <a:cubicBezTo>
                  <a:pt x="7779" y="16869"/>
                  <a:pt x="7740" y="17066"/>
                  <a:pt x="7810" y="17145"/>
                </a:cubicBezTo>
                <a:cubicBezTo>
                  <a:pt x="7857" y="17198"/>
                  <a:pt x="7831" y="17208"/>
                  <a:pt x="7906" y="17208"/>
                </a:cubicBezTo>
                <a:cubicBezTo>
                  <a:pt x="7961" y="17208"/>
                  <a:pt x="8023" y="17150"/>
                  <a:pt x="8064" y="17113"/>
                </a:cubicBezTo>
                <a:cubicBezTo>
                  <a:pt x="8116" y="17066"/>
                  <a:pt x="8142" y="17013"/>
                  <a:pt x="8160" y="16954"/>
                </a:cubicBezTo>
                <a:cubicBezTo>
                  <a:pt x="8168" y="16928"/>
                  <a:pt x="8192" y="16820"/>
                  <a:pt x="8192" y="16891"/>
                </a:cubicBezTo>
                <a:cubicBezTo>
                  <a:pt x="8192" y="16944"/>
                  <a:pt x="8179" y="16974"/>
                  <a:pt x="8160" y="17018"/>
                </a:cubicBezTo>
                <a:cubicBezTo>
                  <a:pt x="8125" y="17099"/>
                  <a:pt x="8101" y="17184"/>
                  <a:pt x="8096" y="17272"/>
                </a:cubicBezTo>
                <a:cubicBezTo>
                  <a:pt x="8090" y="17374"/>
                  <a:pt x="8072" y="17460"/>
                  <a:pt x="8064" y="17558"/>
                </a:cubicBezTo>
                <a:cubicBezTo>
                  <a:pt x="8059" y="17622"/>
                  <a:pt x="8039" y="17661"/>
                  <a:pt x="8033" y="17716"/>
                </a:cubicBezTo>
                <a:cubicBezTo>
                  <a:pt x="8028" y="17763"/>
                  <a:pt x="8026" y="17808"/>
                  <a:pt x="8001" y="17844"/>
                </a:cubicBezTo>
                <a:cubicBezTo>
                  <a:pt x="7967" y="17894"/>
                  <a:pt x="7952" y="17896"/>
                  <a:pt x="7938" y="17939"/>
                </a:cubicBezTo>
                <a:cubicBezTo>
                  <a:pt x="7904" y="17939"/>
                  <a:pt x="7825" y="17930"/>
                  <a:pt x="7810" y="17907"/>
                </a:cubicBezTo>
                <a:cubicBezTo>
                  <a:pt x="7790" y="17877"/>
                  <a:pt x="7750" y="17839"/>
                  <a:pt x="7747" y="17812"/>
                </a:cubicBezTo>
                <a:cubicBezTo>
                  <a:pt x="7739" y="17745"/>
                  <a:pt x="7718" y="17752"/>
                  <a:pt x="7747" y="17685"/>
                </a:cubicBezTo>
                <a:cubicBezTo>
                  <a:pt x="7777" y="17616"/>
                  <a:pt x="7822" y="17578"/>
                  <a:pt x="7874" y="17526"/>
                </a:cubicBezTo>
                <a:cubicBezTo>
                  <a:pt x="7947" y="17453"/>
                  <a:pt x="8017" y="17397"/>
                  <a:pt x="8096" y="17336"/>
                </a:cubicBezTo>
                <a:cubicBezTo>
                  <a:pt x="8164" y="17284"/>
                  <a:pt x="8202" y="17243"/>
                  <a:pt x="8255" y="17177"/>
                </a:cubicBezTo>
              </a:path>
              <a:path w="11654" h="2827">
                <a:moveTo>
                  <a:pt x="8096" y="15716"/>
                </a:moveTo>
                <a:cubicBezTo>
                  <a:pt x="8107" y="15716"/>
                  <a:pt x="8117" y="15716"/>
                  <a:pt x="8128" y="15716"/>
                </a:cubicBezTo>
                <a:cubicBezTo>
                  <a:pt x="8148" y="15742"/>
                  <a:pt x="8140" y="15754"/>
                  <a:pt x="8160" y="15780"/>
                </a:cubicBezTo>
                <a:cubicBezTo>
                  <a:pt x="8176" y="15796"/>
                  <a:pt x="8236" y="15832"/>
                  <a:pt x="8255" y="15875"/>
                </a:cubicBezTo>
                <a:cubicBezTo>
                  <a:pt x="8255" y="15886"/>
                  <a:pt x="8255" y="15896"/>
                  <a:pt x="8255" y="15907"/>
                </a:cubicBezTo>
                <a:cubicBezTo>
                  <a:pt x="8298" y="15931"/>
                  <a:pt x="8335" y="15972"/>
                  <a:pt x="8382" y="16002"/>
                </a:cubicBezTo>
                <a:cubicBezTo>
                  <a:pt x="8403" y="16015"/>
                  <a:pt x="8484" y="16059"/>
                  <a:pt x="8509" y="16066"/>
                </a:cubicBezTo>
                <a:cubicBezTo>
                  <a:pt x="8556" y="16079"/>
                  <a:pt x="8591" y="16082"/>
                  <a:pt x="8636" y="16097"/>
                </a:cubicBezTo>
                <a:cubicBezTo>
                  <a:pt x="8683" y="16113"/>
                  <a:pt x="8752" y="16150"/>
                  <a:pt x="8795" y="16161"/>
                </a:cubicBezTo>
                <a:cubicBezTo>
                  <a:pt x="8849" y="16175"/>
                  <a:pt x="8940" y="16183"/>
                  <a:pt x="8985" y="16192"/>
                </a:cubicBezTo>
                <a:cubicBezTo>
                  <a:pt x="9126" y="16220"/>
                  <a:pt x="9332" y="16204"/>
                  <a:pt x="9462" y="16161"/>
                </a:cubicBezTo>
                <a:cubicBezTo>
                  <a:pt x="9523" y="16141"/>
                  <a:pt x="9595" y="16133"/>
                  <a:pt x="9652" y="16097"/>
                </a:cubicBezTo>
                <a:cubicBezTo>
                  <a:pt x="9705" y="16064"/>
                  <a:pt x="9765" y="16012"/>
                  <a:pt x="9811" y="15970"/>
                </a:cubicBezTo>
                <a:cubicBezTo>
                  <a:pt x="9857" y="15927"/>
                  <a:pt x="9895" y="15913"/>
                  <a:pt x="9938" y="15875"/>
                </a:cubicBezTo>
                <a:cubicBezTo>
                  <a:pt x="9967" y="15846"/>
                  <a:pt x="9973" y="15836"/>
                  <a:pt x="10001" y="15843"/>
                </a:cubicBezTo>
              </a:path>
              <a:path w="11654" h="2827">
                <a:moveTo>
                  <a:pt x="8414" y="17018"/>
                </a:moveTo>
                <a:cubicBezTo>
                  <a:pt x="8464" y="17031"/>
                  <a:pt x="8484" y="17050"/>
                  <a:pt x="8541" y="17050"/>
                </a:cubicBezTo>
                <a:cubicBezTo>
                  <a:pt x="8614" y="17050"/>
                  <a:pt x="8641" y="17038"/>
                  <a:pt x="8700" y="17018"/>
                </a:cubicBezTo>
                <a:cubicBezTo>
                  <a:pt x="8749" y="17001"/>
                  <a:pt x="8752" y="17018"/>
                  <a:pt x="8763" y="17050"/>
                </a:cubicBezTo>
              </a:path>
              <a:path w="11654" h="2827">
                <a:moveTo>
                  <a:pt x="9017" y="16542"/>
                </a:moveTo>
                <a:cubicBezTo>
                  <a:pt x="9033" y="16494"/>
                  <a:pt x="9055" y="16510"/>
                  <a:pt x="9112" y="16510"/>
                </a:cubicBezTo>
                <a:cubicBezTo>
                  <a:pt x="9250" y="16510"/>
                  <a:pt x="9387" y="16510"/>
                  <a:pt x="9525" y="16510"/>
                </a:cubicBezTo>
                <a:cubicBezTo>
                  <a:pt x="9525" y="16575"/>
                  <a:pt x="9511" y="16585"/>
                  <a:pt x="9493" y="16637"/>
                </a:cubicBezTo>
                <a:cubicBezTo>
                  <a:pt x="9470" y="16707"/>
                  <a:pt x="9433" y="16785"/>
                  <a:pt x="9398" y="16859"/>
                </a:cubicBezTo>
                <a:cubicBezTo>
                  <a:pt x="9357" y="16944"/>
                  <a:pt x="9313" y="17028"/>
                  <a:pt x="9271" y="17113"/>
                </a:cubicBezTo>
                <a:cubicBezTo>
                  <a:pt x="9225" y="17205"/>
                  <a:pt x="9148" y="17308"/>
                  <a:pt x="9112" y="17399"/>
                </a:cubicBezTo>
                <a:cubicBezTo>
                  <a:pt x="9112" y="17435"/>
                  <a:pt x="9109" y="17449"/>
                  <a:pt x="9080" y="17462"/>
                </a:cubicBezTo>
              </a:path>
              <a:path w="11654" h="2827">
                <a:moveTo>
                  <a:pt x="9652" y="16700"/>
                </a:moveTo>
                <a:cubicBezTo>
                  <a:pt x="9679" y="16763"/>
                  <a:pt x="9689" y="16837"/>
                  <a:pt x="9716" y="16891"/>
                </a:cubicBezTo>
                <a:cubicBezTo>
                  <a:pt x="9750" y="16961"/>
                  <a:pt x="9754" y="17037"/>
                  <a:pt x="9779" y="17113"/>
                </a:cubicBezTo>
                <a:cubicBezTo>
                  <a:pt x="9799" y="17172"/>
                  <a:pt x="9811" y="17257"/>
                  <a:pt x="9842" y="17304"/>
                </a:cubicBezTo>
                <a:cubicBezTo>
                  <a:pt x="9878" y="17358"/>
                  <a:pt x="9924" y="17346"/>
                  <a:pt x="9938" y="17304"/>
                </a:cubicBezTo>
              </a:path>
              <a:path w="11654" h="2827">
                <a:moveTo>
                  <a:pt x="9970" y="16700"/>
                </a:moveTo>
                <a:cubicBezTo>
                  <a:pt x="9926" y="16765"/>
                  <a:pt x="9894" y="16790"/>
                  <a:pt x="9842" y="16859"/>
                </a:cubicBezTo>
                <a:cubicBezTo>
                  <a:pt x="9814" y="16897"/>
                  <a:pt x="9747" y="16992"/>
                  <a:pt x="9716" y="17018"/>
                </a:cubicBezTo>
                <a:cubicBezTo>
                  <a:pt x="9635" y="17087"/>
                  <a:pt x="9648" y="17102"/>
                  <a:pt x="9588" y="17177"/>
                </a:cubicBezTo>
                <a:cubicBezTo>
                  <a:pt x="9571" y="17199"/>
                  <a:pt x="9501" y="17298"/>
                  <a:pt x="9493" y="17304"/>
                </a:cubicBezTo>
                <a:cubicBezTo>
                  <a:pt x="9483" y="17304"/>
                  <a:pt x="9472" y="17304"/>
                  <a:pt x="9462" y="17304"/>
                </a:cubicBezTo>
              </a:path>
              <a:path w="11654" h="2827">
                <a:moveTo>
                  <a:pt x="10128" y="16637"/>
                </a:moveTo>
                <a:cubicBezTo>
                  <a:pt x="10128" y="16714"/>
                  <a:pt x="10122" y="16766"/>
                  <a:pt x="10096" y="16828"/>
                </a:cubicBezTo>
                <a:cubicBezTo>
                  <a:pt x="10065" y="16902"/>
                  <a:pt x="10020" y="16973"/>
                  <a:pt x="10001" y="17050"/>
                </a:cubicBezTo>
                <a:cubicBezTo>
                  <a:pt x="9989" y="17097"/>
                  <a:pt x="10001" y="17159"/>
                  <a:pt x="10001" y="17208"/>
                </a:cubicBezTo>
                <a:cubicBezTo>
                  <a:pt x="10063" y="17208"/>
                  <a:pt x="10103" y="17214"/>
                  <a:pt x="10160" y="17177"/>
                </a:cubicBezTo>
                <a:cubicBezTo>
                  <a:pt x="10226" y="17133"/>
                  <a:pt x="10272" y="17075"/>
                  <a:pt x="10319" y="17018"/>
                </a:cubicBezTo>
                <a:cubicBezTo>
                  <a:pt x="10353" y="16977"/>
                  <a:pt x="10398" y="16939"/>
                  <a:pt x="10414" y="16891"/>
                </a:cubicBezTo>
                <a:cubicBezTo>
                  <a:pt x="10414" y="16855"/>
                  <a:pt x="10417" y="16841"/>
                  <a:pt x="10446" y="16828"/>
                </a:cubicBezTo>
                <a:cubicBezTo>
                  <a:pt x="10432" y="16868"/>
                  <a:pt x="10434" y="16895"/>
                  <a:pt x="10414" y="16954"/>
                </a:cubicBezTo>
                <a:cubicBezTo>
                  <a:pt x="10387" y="17034"/>
                  <a:pt x="10376" y="17103"/>
                  <a:pt x="10350" y="17177"/>
                </a:cubicBezTo>
                <a:cubicBezTo>
                  <a:pt x="10325" y="17250"/>
                  <a:pt x="10315" y="17329"/>
                  <a:pt x="10287" y="17399"/>
                </a:cubicBezTo>
                <a:cubicBezTo>
                  <a:pt x="10260" y="17465"/>
                  <a:pt x="10218" y="17500"/>
                  <a:pt x="10192" y="17558"/>
                </a:cubicBezTo>
                <a:cubicBezTo>
                  <a:pt x="10173" y="17601"/>
                  <a:pt x="10172" y="17668"/>
                  <a:pt x="10128" y="17653"/>
                </a:cubicBezTo>
                <a:cubicBezTo>
                  <a:pt x="10071" y="17634"/>
                  <a:pt x="10065" y="17612"/>
                  <a:pt x="10065" y="17558"/>
                </a:cubicBezTo>
                <a:cubicBezTo>
                  <a:pt x="10065" y="17522"/>
                  <a:pt x="10097" y="17453"/>
                  <a:pt x="10128" y="17431"/>
                </a:cubicBezTo>
                <a:cubicBezTo>
                  <a:pt x="10202" y="17380"/>
                  <a:pt x="10274" y="17318"/>
                  <a:pt x="10350" y="17272"/>
                </a:cubicBezTo>
                <a:cubicBezTo>
                  <a:pt x="10430" y="17224"/>
                  <a:pt x="10472" y="17170"/>
                  <a:pt x="10541" y="17113"/>
                </a:cubicBezTo>
                <a:cubicBezTo>
                  <a:pt x="10604" y="17061"/>
                  <a:pt x="10632" y="16995"/>
                  <a:pt x="10668" y="16923"/>
                </a:cubicBezTo>
              </a:path>
              <a:path w="11654" h="2827">
                <a:moveTo>
                  <a:pt x="10890" y="17240"/>
                </a:moveTo>
                <a:cubicBezTo>
                  <a:pt x="10890" y="17251"/>
                  <a:pt x="10890" y="17261"/>
                  <a:pt x="10890" y="17272"/>
                </a:cubicBezTo>
                <a:cubicBezTo>
                  <a:pt x="10940" y="17284"/>
                  <a:pt x="10960" y="17304"/>
                  <a:pt x="11017" y="17304"/>
                </a:cubicBezTo>
                <a:cubicBezTo>
                  <a:pt x="11028" y="17304"/>
                  <a:pt x="11038" y="17304"/>
                  <a:pt x="11049" y="17304"/>
                </a:cubicBezTo>
                <a:cubicBezTo>
                  <a:pt x="11074" y="17378"/>
                  <a:pt x="11108" y="17292"/>
                  <a:pt x="11144" y="17336"/>
                </a:cubicBezTo>
                <a:cubicBezTo>
                  <a:pt x="11144" y="17346"/>
                  <a:pt x="11144" y="17357"/>
                  <a:pt x="11144" y="17367"/>
                </a:cubicBezTo>
              </a:path>
              <a:path w="11654" h="2827">
                <a:moveTo>
                  <a:pt x="11303" y="16828"/>
                </a:moveTo>
                <a:cubicBezTo>
                  <a:pt x="11360" y="16846"/>
                  <a:pt x="11335" y="16918"/>
                  <a:pt x="11335" y="16986"/>
                </a:cubicBezTo>
                <a:cubicBezTo>
                  <a:pt x="11335" y="17094"/>
                  <a:pt x="11366" y="17192"/>
                  <a:pt x="11366" y="17304"/>
                </a:cubicBezTo>
                <a:cubicBezTo>
                  <a:pt x="11366" y="17419"/>
                  <a:pt x="11377" y="17571"/>
                  <a:pt x="11398" y="17685"/>
                </a:cubicBezTo>
                <a:cubicBezTo>
                  <a:pt x="11416" y="17781"/>
                  <a:pt x="11428" y="17880"/>
                  <a:pt x="11462" y="17970"/>
                </a:cubicBezTo>
              </a:path>
              <a:path w="11654" h="2827">
                <a:moveTo>
                  <a:pt x="11557" y="16923"/>
                </a:moveTo>
                <a:cubicBezTo>
                  <a:pt x="11557" y="17008"/>
                  <a:pt x="11575" y="17067"/>
                  <a:pt x="11589" y="17145"/>
                </a:cubicBezTo>
                <a:cubicBezTo>
                  <a:pt x="11605" y="17234"/>
                  <a:pt x="11599" y="17312"/>
                  <a:pt x="11620" y="17399"/>
                </a:cubicBezTo>
                <a:cubicBezTo>
                  <a:pt x="11620" y="17410"/>
                  <a:pt x="11620" y="17420"/>
                  <a:pt x="11620" y="17431"/>
                </a:cubicBezTo>
                <a:cubicBezTo>
                  <a:pt x="11705" y="17431"/>
                  <a:pt x="11789" y="17431"/>
                  <a:pt x="11874" y="17431"/>
                </a:cubicBezTo>
                <a:cubicBezTo>
                  <a:pt x="11874" y="17399"/>
                  <a:pt x="11874" y="17388"/>
                  <a:pt x="11906" y="17399"/>
                </a:cubicBezTo>
              </a:path>
              <a:path w="11654" h="2827">
                <a:moveTo>
                  <a:pt x="11779" y="16669"/>
                </a:moveTo>
                <a:cubicBezTo>
                  <a:pt x="11779" y="16815"/>
                  <a:pt x="11792" y="16941"/>
                  <a:pt x="11811" y="17082"/>
                </a:cubicBezTo>
                <a:cubicBezTo>
                  <a:pt x="11826" y="17192"/>
                  <a:pt x="11819" y="17323"/>
                  <a:pt x="11843" y="17431"/>
                </a:cubicBezTo>
                <a:cubicBezTo>
                  <a:pt x="11860" y="17505"/>
                  <a:pt x="11901" y="17577"/>
                  <a:pt x="11906" y="17653"/>
                </a:cubicBezTo>
                <a:cubicBezTo>
                  <a:pt x="11913" y="17760"/>
                  <a:pt x="11915" y="17679"/>
                  <a:pt x="11938" y="17748"/>
                </a:cubicBezTo>
              </a:path>
              <a:path w="11654" h="2827">
                <a:moveTo>
                  <a:pt x="11970" y="17082"/>
                </a:moveTo>
                <a:cubicBezTo>
                  <a:pt x="11970" y="17135"/>
                  <a:pt x="11984" y="17164"/>
                  <a:pt x="12002" y="17208"/>
                </a:cubicBezTo>
                <a:cubicBezTo>
                  <a:pt x="12038" y="17293"/>
                  <a:pt x="12113" y="17354"/>
                  <a:pt x="12160" y="17431"/>
                </a:cubicBezTo>
                <a:cubicBezTo>
                  <a:pt x="12199" y="17495"/>
                  <a:pt x="12235" y="17536"/>
                  <a:pt x="12287" y="17590"/>
                </a:cubicBezTo>
              </a:path>
              <a:path w="11654" h="2827">
                <a:moveTo>
                  <a:pt x="12319" y="16923"/>
                </a:moveTo>
                <a:cubicBezTo>
                  <a:pt x="12319" y="17160"/>
                  <a:pt x="12327" y="17388"/>
                  <a:pt x="12351" y="17621"/>
                </a:cubicBezTo>
                <a:cubicBezTo>
                  <a:pt x="12366" y="17769"/>
                  <a:pt x="12355" y="17919"/>
                  <a:pt x="12382" y="18066"/>
                </a:cubicBezTo>
                <a:cubicBezTo>
                  <a:pt x="12405" y="18194"/>
                  <a:pt x="12437" y="18319"/>
                  <a:pt x="12446" y="18447"/>
                </a:cubicBezTo>
                <a:cubicBezTo>
                  <a:pt x="12446" y="18457"/>
                  <a:pt x="12446" y="18468"/>
                  <a:pt x="12446" y="18478"/>
                </a:cubicBezTo>
              </a:path>
              <a:path w="11654" h="2827">
                <a:moveTo>
                  <a:pt x="12319" y="16478"/>
                </a:moveTo>
                <a:cubicBezTo>
                  <a:pt x="12249" y="16455"/>
                  <a:pt x="12302" y="16433"/>
                  <a:pt x="12319" y="16383"/>
                </a:cubicBezTo>
                <a:cubicBezTo>
                  <a:pt x="12330" y="16351"/>
                  <a:pt x="12323" y="16275"/>
                  <a:pt x="12351" y="16256"/>
                </a:cubicBezTo>
                <a:cubicBezTo>
                  <a:pt x="12361" y="16249"/>
                  <a:pt x="12459" y="16200"/>
                  <a:pt x="12478" y="16224"/>
                </a:cubicBezTo>
                <a:cubicBezTo>
                  <a:pt x="12509" y="16263"/>
                  <a:pt x="12510" y="16329"/>
                  <a:pt x="12510" y="16383"/>
                </a:cubicBezTo>
                <a:cubicBezTo>
                  <a:pt x="12510" y="16519"/>
                  <a:pt x="12507" y="16636"/>
                  <a:pt x="12478" y="16764"/>
                </a:cubicBezTo>
                <a:cubicBezTo>
                  <a:pt x="12478" y="16775"/>
                  <a:pt x="12478" y="16785"/>
                  <a:pt x="12478" y="16796"/>
                </a:cubicBezTo>
                <a:cubicBezTo>
                  <a:pt x="12520" y="16744"/>
                  <a:pt x="12535" y="16677"/>
                  <a:pt x="12605" y="16669"/>
                </a:cubicBezTo>
                <a:cubicBezTo>
                  <a:pt x="12670" y="16662"/>
                  <a:pt x="12712" y="16670"/>
                  <a:pt x="12764" y="16700"/>
                </a:cubicBezTo>
              </a:path>
              <a:path w="11654" h="2827">
                <a:moveTo>
                  <a:pt x="12954" y="16954"/>
                </a:moveTo>
                <a:cubicBezTo>
                  <a:pt x="13062" y="16954"/>
                  <a:pt x="13149" y="16956"/>
                  <a:pt x="13240" y="16986"/>
                </a:cubicBezTo>
                <a:cubicBezTo>
                  <a:pt x="13282" y="17000"/>
                  <a:pt x="13354" y="16986"/>
                  <a:pt x="13398" y="16986"/>
                </a:cubicBezTo>
              </a:path>
              <a:path w="11654" h="2827">
                <a:moveTo>
                  <a:pt x="13049" y="17431"/>
                </a:moveTo>
                <a:cubicBezTo>
                  <a:pt x="13039" y="17431"/>
                  <a:pt x="13028" y="17431"/>
                  <a:pt x="13018" y="17431"/>
                </a:cubicBezTo>
                <a:cubicBezTo>
                  <a:pt x="13060" y="17416"/>
                  <a:pt x="13057" y="17386"/>
                  <a:pt x="13113" y="17367"/>
                </a:cubicBezTo>
                <a:cubicBezTo>
                  <a:pt x="13200" y="17337"/>
                  <a:pt x="13329" y="17376"/>
                  <a:pt x="13398" y="17399"/>
                </a:cubicBezTo>
                <a:cubicBezTo>
                  <a:pt x="13409" y="17399"/>
                  <a:pt x="13419" y="17399"/>
                  <a:pt x="13430" y="17399"/>
                </a:cubicBezTo>
              </a:path>
              <a:path w="11654" h="2827">
                <a:moveTo>
                  <a:pt x="6223" y="17685"/>
                </a:moveTo>
                <a:cubicBezTo>
                  <a:pt x="6171" y="17685"/>
                  <a:pt x="6207" y="17700"/>
                  <a:pt x="6160" y="17716"/>
                </a:cubicBezTo>
              </a:path>
              <a:path w="11654" h="2827">
                <a:moveTo>
                  <a:pt x="6223" y="17685"/>
                </a:moveTo>
                <a:lnTo>
                  <a:pt x="6223" y="17685"/>
                </a:lnTo>
              </a:path>
              <a:path w="11654" h="2827">
                <a:moveTo>
                  <a:pt x="6255" y="17685"/>
                </a:moveTo>
                <a:cubicBezTo>
                  <a:pt x="6348" y="17685"/>
                  <a:pt x="6434" y="17662"/>
                  <a:pt x="6509" y="17653"/>
                </a:cubicBezTo>
                <a:cubicBezTo>
                  <a:pt x="6624" y="17639"/>
                  <a:pt x="6721" y="17667"/>
                  <a:pt x="6826" y="17685"/>
                </a:cubicBezTo>
                <a:cubicBezTo>
                  <a:pt x="6906" y="17698"/>
                  <a:pt x="7003" y="17706"/>
                  <a:pt x="7080" y="17716"/>
                </a:cubicBezTo>
                <a:cubicBezTo>
                  <a:pt x="7153" y="17725"/>
                  <a:pt x="7234" y="17740"/>
                  <a:pt x="7302" y="17748"/>
                </a:cubicBezTo>
                <a:cubicBezTo>
                  <a:pt x="7376" y="17757"/>
                  <a:pt x="7424" y="17762"/>
                  <a:pt x="7493" y="17780"/>
                </a:cubicBezTo>
                <a:cubicBezTo>
                  <a:pt x="7543" y="17793"/>
                  <a:pt x="7602" y="17807"/>
                  <a:pt x="7652" y="17812"/>
                </a:cubicBezTo>
                <a:cubicBezTo>
                  <a:pt x="7728" y="17820"/>
                  <a:pt x="7804" y="17835"/>
                  <a:pt x="7874" y="17844"/>
                </a:cubicBezTo>
                <a:cubicBezTo>
                  <a:pt x="7941" y="17852"/>
                  <a:pt x="8000" y="17866"/>
                  <a:pt x="8064" y="17875"/>
                </a:cubicBezTo>
                <a:cubicBezTo>
                  <a:pt x="8614" y="17948"/>
                  <a:pt x="9212" y="17830"/>
                  <a:pt x="9747" y="17907"/>
                </a:cubicBezTo>
                <a:cubicBezTo>
                  <a:pt x="9836" y="17920"/>
                  <a:pt x="9885" y="17911"/>
                  <a:pt x="9970" y="17939"/>
                </a:cubicBezTo>
                <a:cubicBezTo>
                  <a:pt x="10011" y="17952"/>
                  <a:pt x="10056" y="17962"/>
                  <a:pt x="10096" y="17970"/>
                </a:cubicBezTo>
                <a:cubicBezTo>
                  <a:pt x="10127" y="17976"/>
                  <a:pt x="10161" y="17967"/>
                  <a:pt x="10192" y="17970"/>
                </a:cubicBezTo>
              </a:path>
              <a:path w="11654" h="2827">
                <a:moveTo>
                  <a:pt x="13684" y="16161"/>
                </a:moveTo>
                <a:cubicBezTo>
                  <a:pt x="13652" y="16161"/>
                  <a:pt x="13641" y="16161"/>
                  <a:pt x="13684" y="16161"/>
                </a:cubicBezTo>
              </a:path>
              <a:path w="11654" h="2827">
                <a:moveTo>
                  <a:pt x="13684" y="16161"/>
                </a:moveTo>
                <a:cubicBezTo>
                  <a:pt x="13684" y="16171"/>
                  <a:pt x="13684" y="16182"/>
                  <a:pt x="13684" y="16192"/>
                </a:cubicBezTo>
              </a:path>
              <a:path w="11654" h="2827">
                <a:moveTo>
                  <a:pt x="13684" y="16192"/>
                </a:moveTo>
                <a:cubicBezTo>
                  <a:pt x="13684" y="16260"/>
                  <a:pt x="13656" y="16295"/>
                  <a:pt x="13652" y="16351"/>
                </a:cubicBezTo>
                <a:cubicBezTo>
                  <a:pt x="13646" y="16441"/>
                  <a:pt x="13626" y="16518"/>
                  <a:pt x="13621" y="16605"/>
                </a:cubicBezTo>
                <a:cubicBezTo>
                  <a:pt x="13615" y="16718"/>
                  <a:pt x="13594" y="16813"/>
                  <a:pt x="13589" y="16923"/>
                </a:cubicBezTo>
                <a:cubicBezTo>
                  <a:pt x="13581" y="17098"/>
                  <a:pt x="13592" y="17266"/>
                  <a:pt x="13621" y="17431"/>
                </a:cubicBezTo>
                <a:cubicBezTo>
                  <a:pt x="13632" y="17492"/>
                  <a:pt x="13619" y="17541"/>
                  <a:pt x="13652" y="17590"/>
                </a:cubicBezTo>
                <a:cubicBezTo>
                  <a:pt x="13670" y="17616"/>
                  <a:pt x="13706" y="17680"/>
                  <a:pt x="13716" y="17685"/>
                </a:cubicBezTo>
                <a:cubicBezTo>
                  <a:pt x="13772" y="17713"/>
                  <a:pt x="13799" y="17659"/>
                  <a:pt x="13811" y="17653"/>
                </a:cubicBezTo>
                <a:cubicBezTo>
                  <a:pt x="13844" y="17637"/>
                  <a:pt x="13918" y="17631"/>
                  <a:pt x="13938" y="17590"/>
                </a:cubicBezTo>
                <a:cubicBezTo>
                  <a:pt x="13968" y="17530"/>
                  <a:pt x="13981" y="17458"/>
                  <a:pt x="14002" y="17399"/>
                </a:cubicBezTo>
                <a:cubicBezTo>
                  <a:pt x="14032" y="17315"/>
                  <a:pt x="14034" y="17269"/>
                  <a:pt x="14034" y="17177"/>
                </a:cubicBezTo>
                <a:cubicBezTo>
                  <a:pt x="14034" y="17103"/>
                  <a:pt x="14034" y="17028"/>
                  <a:pt x="14034" y="16954"/>
                </a:cubicBezTo>
                <a:cubicBezTo>
                  <a:pt x="13990" y="16954"/>
                  <a:pt x="13930" y="16937"/>
                  <a:pt x="13906" y="16986"/>
                </a:cubicBezTo>
                <a:cubicBezTo>
                  <a:pt x="13894" y="17011"/>
                  <a:pt x="13877" y="17087"/>
                  <a:pt x="13875" y="17113"/>
                </a:cubicBezTo>
                <a:cubicBezTo>
                  <a:pt x="13870" y="17184"/>
                  <a:pt x="13831" y="17520"/>
                  <a:pt x="13906" y="17558"/>
                </a:cubicBezTo>
                <a:cubicBezTo>
                  <a:pt x="13917" y="17558"/>
                  <a:pt x="13927" y="17558"/>
                  <a:pt x="13938" y="17558"/>
                </a:cubicBezTo>
              </a:path>
              <a:path w="11654" h="2827">
                <a:moveTo>
                  <a:pt x="14097" y="16764"/>
                </a:moveTo>
                <a:cubicBezTo>
                  <a:pt x="14132" y="16810"/>
                  <a:pt x="14179" y="16893"/>
                  <a:pt x="14192" y="16954"/>
                </a:cubicBezTo>
                <a:cubicBezTo>
                  <a:pt x="14209" y="17033"/>
                  <a:pt x="14231" y="17106"/>
                  <a:pt x="14256" y="17177"/>
                </a:cubicBezTo>
                <a:cubicBezTo>
                  <a:pt x="14280" y="17245"/>
                  <a:pt x="14314" y="17339"/>
                  <a:pt x="14351" y="17399"/>
                </a:cubicBezTo>
                <a:cubicBezTo>
                  <a:pt x="14375" y="17438"/>
                  <a:pt x="14386" y="17456"/>
                  <a:pt x="14414" y="17494"/>
                </a:cubicBezTo>
              </a:path>
              <a:path w="11654" h="2827">
                <a:moveTo>
                  <a:pt x="14288" y="16574"/>
                </a:moveTo>
                <a:cubicBezTo>
                  <a:pt x="14274" y="16682"/>
                  <a:pt x="14256" y="16776"/>
                  <a:pt x="14256" y="16891"/>
                </a:cubicBezTo>
                <a:cubicBezTo>
                  <a:pt x="14256" y="17027"/>
                  <a:pt x="14251" y="17172"/>
                  <a:pt x="14224" y="17304"/>
                </a:cubicBezTo>
                <a:cubicBezTo>
                  <a:pt x="14199" y="17428"/>
                  <a:pt x="14175" y="17564"/>
                  <a:pt x="14160" y="17685"/>
                </a:cubicBezTo>
                <a:cubicBezTo>
                  <a:pt x="14149" y="17774"/>
                  <a:pt x="14146" y="17776"/>
                  <a:pt x="14129" y="17844"/>
                </a:cubicBezTo>
              </a:path>
              <a:path w="11654" h="2827">
                <a:moveTo>
                  <a:pt x="14319" y="16224"/>
                </a:moveTo>
                <a:cubicBezTo>
                  <a:pt x="14336" y="16201"/>
                  <a:pt x="14370" y="16106"/>
                  <a:pt x="14383" y="16097"/>
                </a:cubicBezTo>
                <a:cubicBezTo>
                  <a:pt x="14416" y="16074"/>
                  <a:pt x="14464" y="16066"/>
                  <a:pt x="14510" y="16066"/>
                </a:cubicBezTo>
                <a:cubicBezTo>
                  <a:pt x="14510" y="16172"/>
                  <a:pt x="14501" y="16252"/>
                  <a:pt x="14478" y="16351"/>
                </a:cubicBezTo>
                <a:cubicBezTo>
                  <a:pt x="14472" y="16375"/>
                  <a:pt x="14458" y="16525"/>
                  <a:pt x="14446" y="16542"/>
                </a:cubicBezTo>
                <a:cubicBezTo>
                  <a:pt x="14434" y="16558"/>
                  <a:pt x="14408" y="16597"/>
                  <a:pt x="14383" y="16605"/>
                </a:cubicBezTo>
                <a:cubicBezTo>
                  <a:pt x="14424" y="16591"/>
                  <a:pt x="14421" y="16555"/>
                  <a:pt x="14446" y="16542"/>
                </a:cubicBezTo>
                <a:cubicBezTo>
                  <a:pt x="14482" y="16524"/>
                  <a:pt x="14538" y="16534"/>
                  <a:pt x="14573" y="16510"/>
                </a:cubicBezTo>
                <a:cubicBezTo>
                  <a:pt x="14616" y="16481"/>
                  <a:pt x="14619" y="16459"/>
                  <a:pt x="14668" y="16446"/>
                </a:cubicBezTo>
              </a:path>
              <a:path w="11654" h="2827">
                <a:moveTo>
                  <a:pt x="14732" y="16764"/>
                </a:moveTo>
                <a:cubicBezTo>
                  <a:pt x="14689" y="16778"/>
                  <a:pt x="14678" y="16866"/>
                  <a:pt x="14700" y="16923"/>
                </a:cubicBezTo>
                <a:cubicBezTo>
                  <a:pt x="14729" y="16997"/>
                  <a:pt x="14732" y="17055"/>
                  <a:pt x="14732" y="17145"/>
                </a:cubicBezTo>
                <a:cubicBezTo>
                  <a:pt x="14732" y="17187"/>
                  <a:pt x="14732" y="17230"/>
                  <a:pt x="14732" y="17272"/>
                </a:cubicBezTo>
              </a:path>
              <a:path w="11654" h="2827">
                <a:moveTo>
                  <a:pt x="14573" y="17050"/>
                </a:moveTo>
                <a:cubicBezTo>
                  <a:pt x="14563" y="17050"/>
                  <a:pt x="14552" y="17050"/>
                  <a:pt x="14542" y="17050"/>
                </a:cubicBezTo>
                <a:cubicBezTo>
                  <a:pt x="14606" y="17050"/>
                  <a:pt x="14617" y="17035"/>
                  <a:pt x="14668" y="17018"/>
                </a:cubicBezTo>
                <a:cubicBezTo>
                  <a:pt x="14713" y="17003"/>
                  <a:pt x="14726" y="16992"/>
                  <a:pt x="14764" y="16954"/>
                </a:cubicBezTo>
              </a:path>
              <a:path w="11654" h="2827">
                <a:moveTo>
                  <a:pt x="15208" y="16066"/>
                </a:moveTo>
                <a:cubicBezTo>
                  <a:pt x="15201" y="16085"/>
                  <a:pt x="15178" y="16144"/>
                  <a:pt x="15145" y="16161"/>
                </a:cubicBezTo>
                <a:cubicBezTo>
                  <a:pt x="15110" y="16179"/>
                  <a:pt x="15101" y="16233"/>
                  <a:pt x="15050" y="16256"/>
                </a:cubicBezTo>
                <a:cubicBezTo>
                  <a:pt x="15003" y="16277"/>
                  <a:pt x="14968" y="16233"/>
                  <a:pt x="14922" y="16256"/>
                </a:cubicBezTo>
                <a:cubicBezTo>
                  <a:pt x="14922" y="16267"/>
                  <a:pt x="14922" y="16277"/>
                  <a:pt x="14922" y="16288"/>
                </a:cubicBezTo>
                <a:cubicBezTo>
                  <a:pt x="14936" y="16344"/>
                  <a:pt x="14970" y="16383"/>
                  <a:pt x="14986" y="16446"/>
                </a:cubicBezTo>
                <a:cubicBezTo>
                  <a:pt x="15002" y="16511"/>
                  <a:pt x="15001" y="16579"/>
                  <a:pt x="15018" y="16637"/>
                </a:cubicBezTo>
                <a:cubicBezTo>
                  <a:pt x="15027" y="16667"/>
                  <a:pt x="15018" y="16738"/>
                  <a:pt x="15018" y="16764"/>
                </a:cubicBezTo>
                <a:cubicBezTo>
                  <a:pt x="15044" y="16704"/>
                  <a:pt x="15076" y="16676"/>
                  <a:pt x="15081" y="16637"/>
                </a:cubicBezTo>
                <a:cubicBezTo>
                  <a:pt x="15085" y="16602"/>
                  <a:pt x="15110" y="16578"/>
                  <a:pt x="15145" y="16574"/>
                </a:cubicBezTo>
                <a:cubicBezTo>
                  <a:pt x="15195" y="16568"/>
                  <a:pt x="15249" y="16586"/>
                  <a:pt x="15272" y="16637"/>
                </a:cubicBezTo>
                <a:cubicBezTo>
                  <a:pt x="15301" y="16702"/>
                  <a:pt x="15304" y="16786"/>
                  <a:pt x="15304" y="16859"/>
                </a:cubicBezTo>
                <a:cubicBezTo>
                  <a:pt x="15304" y="16967"/>
                  <a:pt x="15290" y="17047"/>
                  <a:pt x="15272" y="17145"/>
                </a:cubicBezTo>
                <a:cubicBezTo>
                  <a:pt x="15256" y="17233"/>
                  <a:pt x="15231" y="17292"/>
                  <a:pt x="15176" y="17367"/>
                </a:cubicBezTo>
                <a:cubicBezTo>
                  <a:pt x="15139" y="17417"/>
                  <a:pt x="15078" y="17474"/>
                  <a:pt x="15018" y="17494"/>
                </a:cubicBezTo>
                <a:cubicBezTo>
                  <a:pt x="14966" y="17511"/>
                  <a:pt x="14962" y="17463"/>
                  <a:pt x="14954" y="17431"/>
                </a:cubicBezTo>
              </a:path>
              <a:path w="11654" h="2827">
                <a:moveTo>
                  <a:pt x="15367" y="16764"/>
                </a:moveTo>
                <a:cubicBezTo>
                  <a:pt x="15381" y="16820"/>
                  <a:pt x="15448" y="16870"/>
                  <a:pt x="15462" y="16923"/>
                </a:cubicBezTo>
                <a:cubicBezTo>
                  <a:pt x="15483" y="17003"/>
                  <a:pt x="15512" y="17101"/>
                  <a:pt x="15558" y="17177"/>
                </a:cubicBezTo>
                <a:cubicBezTo>
                  <a:pt x="15588" y="17227"/>
                  <a:pt x="15614" y="17272"/>
                  <a:pt x="15621" y="17336"/>
                </a:cubicBezTo>
                <a:cubicBezTo>
                  <a:pt x="15621" y="17372"/>
                  <a:pt x="15624" y="17385"/>
                  <a:pt x="15653" y="17399"/>
                </a:cubicBezTo>
              </a:path>
              <a:path w="11654" h="2827">
                <a:moveTo>
                  <a:pt x="15558" y="16542"/>
                </a:moveTo>
                <a:cubicBezTo>
                  <a:pt x="15558" y="16510"/>
                  <a:pt x="15558" y="16499"/>
                  <a:pt x="15526" y="16510"/>
                </a:cubicBezTo>
                <a:cubicBezTo>
                  <a:pt x="15526" y="16695"/>
                  <a:pt x="15514" y="16871"/>
                  <a:pt x="15494" y="17050"/>
                </a:cubicBezTo>
                <a:cubicBezTo>
                  <a:pt x="15480" y="17176"/>
                  <a:pt x="15468" y="17305"/>
                  <a:pt x="15462" y="17431"/>
                </a:cubicBezTo>
                <a:cubicBezTo>
                  <a:pt x="15458" y="17515"/>
                  <a:pt x="15462" y="17601"/>
                  <a:pt x="15462" y="17685"/>
                </a:cubicBezTo>
              </a:path>
              <a:path w="11654" h="2827">
                <a:moveTo>
                  <a:pt x="15716" y="16796"/>
                </a:moveTo>
                <a:cubicBezTo>
                  <a:pt x="15728" y="16844"/>
                  <a:pt x="15745" y="16885"/>
                  <a:pt x="15780" y="16923"/>
                </a:cubicBezTo>
                <a:cubicBezTo>
                  <a:pt x="15842" y="16992"/>
                  <a:pt x="15846" y="17001"/>
                  <a:pt x="15875" y="17082"/>
                </a:cubicBezTo>
                <a:cubicBezTo>
                  <a:pt x="15893" y="17134"/>
                  <a:pt x="15940" y="17227"/>
                  <a:pt x="15970" y="17272"/>
                </a:cubicBezTo>
                <a:cubicBezTo>
                  <a:pt x="15981" y="17283"/>
                  <a:pt x="15991" y="17293"/>
                  <a:pt x="16002" y="17304"/>
                </a:cubicBezTo>
              </a:path>
              <a:path w="11654" h="2827">
                <a:moveTo>
                  <a:pt x="15970" y="16510"/>
                </a:moveTo>
                <a:cubicBezTo>
                  <a:pt x="15903" y="16488"/>
                  <a:pt x="15938" y="16504"/>
                  <a:pt x="15938" y="16605"/>
                </a:cubicBezTo>
                <a:cubicBezTo>
                  <a:pt x="15938" y="16801"/>
                  <a:pt x="15956" y="16986"/>
                  <a:pt x="15970" y="17177"/>
                </a:cubicBezTo>
                <a:cubicBezTo>
                  <a:pt x="15988" y="17420"/>
                  <a:pt x="15983" y="17665"/>
                  <a:pt x="16002" y="17907"/>
                </a:cubicBezTo>
                <a:cubicBezTo>
                  <a:pt x="16014" y="18066"/>
                  <a:pt x="16027" y="18225"/>
                  <a:pt x="16034" y="18383"/>
                </a:cubicBezTo>
                <a:cubicBezTo>
                  <a:pt x="16034" y="18436"/>
                  <a:pt x="16023" y="18458"/>
                  <a:pt x="16066" y="18447"/>
                </a:cubicBezTo>
              </a:path>
              <a:path w="11654" h="2827">
                <a:moveTo>
                  <a:pt x="16097" y="16891"/>
                </a:moveTo>
                <a:cubicBezTo>
                  <a:pt x="16156" y="16891"/>
                  <a:pt x="16172" y="16865"/>
                  <a:pt x="16224" y="16859"/>
                </a:cubicBezTo>
                <a:cubicBezTo>
                  <a:pt x="16278" y="16853"/>
                  <a:pt x="16302" y="16840"/>
                  <a:pt x="16351" y="16828"/>
                </a:cubicBezTo>
              </a:path>
              <a:path w="11654" h="2827">
                <a:moveTo>
                  <a:pt x="16383" y="15970"/>
                </a:moveTo>
                <a:lnTo>
                  <a:pt x="16383" y="15970"/>
                </a:lnTo>
              </a:path>
              <a:path w="11654" h="2827">
                <a:moveTo>
                  <a:pt x="16383" y="15970"/>
                </a:moveTo>
                <a:cubicBezTo>
                  <a:pt x="16394" y="15981"/>
                  <a:pt x="16404" y="15991"/>
                  <a:pt x="16415" y="16002"/>
                </a:cubicBezTo>
              </a:path>
              <a:path w="11654" h="2827">
                <a:moveTo>
                  <a:pt x="16415" y="16002"/>
                </a:moveTo>
                <a:cubicBezTo>
                  <a:pt x="16415" y="16107"/>
                  <a:pt x="16442" y="16185"/>
                  <a:pt x="16446" y="16288"/>
                </a:cubicBezTo>
                <a:cubicBezTo>
                  <a:pt x="16456" y="16555"/>
                  <a:pt x="16454" y="16821"/>
                  <a:pt x="16478" y="17082"/>
                </a:cubicBezTo>
                <a:cubicBezTo>
                  <a:pt x="16491" y="17227"/>
                  <a:pt x="16472" y="17366"/>
                  <a:pt x="16510" y="17494"/>
                </a:cubicBezTo>
                <a:cubicBezTo>
                  <a:pt x="16510" y="17505"/>
                  <a:pt x="16510" y="17515"/>
                  <a:pt x="16510" y="17526"/>
                </a:cubicBezTo>
              </a:path>
              <a:path w="11654" h="2827">
                <a:moveTo>
                  <a:pt x="16574" y="16161"/>
                </a:moveTo>
                <a:cubicBezTo>
                  <a:pt x="16574" y="16306"/>
                  <a:pt x="16583" y="16437"/>
                  <a:pt x="16605" y="16574"/>
                </a:cubicBezTo>
                <a:cubicBezTo>
                  <a:pt x="16622" y="16679"/>
                  <a:pt x="16618" y="16799"/>
                  <a:pt x="16637" y="16891"/>
                </a:cubicBezTo>
                <a:cubicBezTo>
                  <a:pt x="16649" y="16952"/>
                  <a:pt x="16637" y="17026"/>
                  <a:pt x="16637" y="16923"/>
                </a:cubicBezTo>
                <a:cubicBezTo>
                  <a:pt x="16637" y="16917"/>
                  <a:pt x="16667" y="16797"/>
                  <a:pt x="16669" y="16796"/>
                </a:cubicBezTo>
                <a:cubicBezTo>
                  <a:pt x="16699" y="16772"/>
                  <a:pt x="16709" y="16764"/>
                  <a:pt x="16764" y="16764"/>
                </a:cubicBezTo>
                <a:cubicBezTo>
                  <a:pt x="16769" y="16764"/>
                  <a:pt x="16890" y="16795"/>
                  <a:pt x="16891" y="16796"/>
                </a:cubicBezTo>
                <a:cubicBezTo>
                  <a:pt x="16916" y="16828"/>
                  <a:pt x="16927" y="16845"/>
                  <a:pt x="16986" y="16859"/>
                </a:cubicBezTo>
              </a:path>
              <a:path w="11654" h="2827">
                <a:moveTo>
                  <a:pt x="16796" y="15907"/>
                </a:moveTo>
                <a:cubicBezTo>
                  <a:pt x="16796" y="15998"/>
                  <a:pt x="16819" y="16079"/>
                  <a:pt x="16828" y="16161"/>
                </a:cubicBezTo>
                <a:cubicBezTo>
                  <a:pt x="16844" y="16317"/>
                  <a:pt x="16855" y="16481"/>
                  <a:pt x="16859" y="16637"/>
                </a:cubicBezTo>
                <a:cubicBezTo>
                  <a:pt x="16864" y="16832"/>
                  <a:pt x="16907" y="17016"/>
                  <a:pt x="16923" y="17208"/>
                </a:cubicBezTo>
                <a:cubicBezTo>
                  <a:pt x="16932" y="17319"/>
                  <a:pt x="16945" y="17416"/>
                  <a:pt x="16954" y="17526"/>
                </a:cubicBezTo>
              </a:path>
              <a:path w="11654" h="2827">
                <a:moveTo>
                  <a:pt x="16986" y="16605"/>
                </a:moveTo>
                <a:cubicBezTo>
                  <a:pt x="17002" y="16671"/>
                  <a:pt x="17038" y="16716"/>
                  <a:pt x="17050" y="16796"/>
                </a:cubicBezTo>
                <a:cubicBezTo>
                  <a:pt x="17064" y="16889"/>
                  <a:pt x="17084" y="16995"/>
                  <a:pt x="17113" y="17082"/>
                </a:cubicBezTo>
                <a:cubicBezTo>
                  <a:pt x="17145" y="17179"/>
                  <a:pt x="17210" y="17270"/>
                  <a:pt x="17240" y="17367"/>
                </a:cubicBezTo>
                <a:cubicBezTo>
                  <a:pt x="17259" y="17427"/>
                  <a:pt x="17255" y="17478"/>
                  <a:pt x="17304" y="17494"/>
                </a:cubicBezTo>
              </a:path>
              <a:path w="11654" h="2827">
                <a:moveTo>
                  <a:pt x="17272" y="16510"/>
                </a:moveTo>
                <a:cubicBezTo>
                  <a:pt x="17261" y="16561"/>
                  <a:pt x="17269" y="16692"/>
                  <a:pt x="17272" y="16796"/>
                </a:cubicBezTo>
                <a:cubicBezTo>
                  <a:pt x="17280" y="17032"/>
                  <a:pt x="17285" y="17262"/>
                  <a:pt x="17304" y="17494"/>
                </a:cubicBezTo>
                <a:cubicBezTo>
                  <a:pt x="17320" y="17684"/>
                  <a:pt x="17321" y="17878"/>
                  <a:pt x="17336" y="18066"/>
                </a:cubicBezTo>
                <a:cubicBezTo>
                  <a:pt x="17348" y="18208"/>
                  <a:pt x="17378" y="18344"/>
                  <a:pt x="17399" y="18478"/>
                </a:cubicBezTo>
                <a:cubicBezTo>
                  <a:pt x="17399" y="18510"/>
                  <a:pt x="17399" y="18521"/>
                  <a:pt x="17399" y="18542"/>
                </a:cubicBezTo>
              </a:path>
              <a:path w="11654" h="2827">
                <a:moveTo>
                  <a:pt x="17304" y="16097"/>
                </a:moveTo>
                <a:cubicBezTo>
                  <a:pt x="17304" y="16013"/>
                  <a:pt x="17328" y="16059"/>
                  <a:pt x="17336" y="15970"/>
                </a:cubicBezTo>
                <a:cubicBezTo>
                  <a:pt x="17341" y="15914"/>
                  <a:pt x="17392" y="15856"/>
                  <a:pt x="17431" y="15812"/>
                </a:cubicBezTo>
                <a:cubicBezTo>
                  <a:pt x="17441" y="15801"/>
                  <a:pt x="17452" y="15791"/>
                  <a:pt x="17462" y="15780"/>
                </a:cubicBezTo>
                <a:cubicBezTo>
                  <a:pt x="17482" y="15787"/>
                  <a:pt x="17545" y="15831"/>
                  <a:pt x="17526" y="15875"/>
                </a:cubicBezTo>
                <a:cubicBezTo>
                  <a:pt x="17497" y="15940"/>
                  <a:pt x="17480" y="16021"/>
                  <a:pt x="17462" y="16097"/>
                </a:cubicBezTo>
                <a:cubicBezTo>
                  <a:pt x="17446" y="16164"/>
                  <a:pt x="17416" y="16230"/>
                  <a:pt x="17399" y="16288"/>
                </a:cubicBezTo>
                <a:cubicBezTo>
                  <a:pt x="17386" y="16332"/>
                  <a:pt x="17399" y="16400"/>
                  <a:pt x="17399" y="16446"/>
                </a:cubicBezTo>
                <a:cubicBezTo>
                  <a:pt x="17440" y="16416"/>
                  <a:pt x="17489" y="16408"/>
                  <a:pt x="17526" y="16383"/>
                </a:cubicBezTo>
                <a:cubicBezTo>
                  <a:pt x="17574" y="16351"/>
                  <a:pt x="17608" y="16333"/>
                  <a:pt x="17653" y="16288"/>
                </a:cubicBezTo>
                <a:cubicBezTo>
                  <a:pt x="17664" y="16277"/>
                  <a:pt x="17674" y="16267"/>
                  <a:pt x="17685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8"/>
          <p:cNvSpPr/>
          <p:nvPr/>
        </p:nvSpPr>
        <p:spPr>
          <a:xfrm>
            <a:off x="7007400" y="5349960"/>
            <a:ext cx="2057400" cy="892080"/>
          </a:xfrm>
          <a:custGeom>
            <a:avLst/>
            <a:gdLst/>
            <a:ahLst/>
            <a:rect l="l" t="t" r="r" b="b"/>
            <a:pathLst>
              <a:path w="5716" h="2478">
                <a:moveTo>
                  <a:pt x="19907" y="16034"/>
                </a:moveTo>
                <a:cubicBezTo>
                  <a:pt x="19907" y="16023"/>
                  <a:pt x="19907" y="16013"/>
                  <a:pt x="19907" y="16002"/>
                </a:cubicBezTo>
              </a:path>
              <a:path w="5716" h="2478">
                <a:moveTo>
                  <a:pt x="19907" y="16034"/>
                </a:moveTo>
                <a:lnTo>
                  <a:pt x="19907" y="16034"/>
                </a:lnTo>
              </a:path>
              <a:path w="5716" h="2478">
                <a:moveTo>
                  <a:pt x="19907" y="15970"/>
                </a:moveTo>
                <a:cubicBezTo>
                  <a:pt x="19867" y="15956"/>
                  <a:pt x="19868" y="15919"/>
                  <a:pt x="19844" y="15907"/>
                </a:cubicBezTo>
                <a:cubicBezTo>
                  <a:pt x="19795" y="15883"/>
                  <a:pt x="19687" y="15907"/>
                  <a:pt x="19653" y="15938"/>
                </a:cubicBezTo>
                <a:cubicBezTo>
                  <a:pt x="19596" y="15989"/>
                  <a:pt x="19519" y="16055"/>
                  <a:pt x="19494" y="16129"/>
                </a:cubicBezTo>
                <a:cubicBezTo>
                  <a:pt x="19478" y="16176"/>
                  <a:pt x="19463" y="16201"/>
                  <a:pt x="19463" y="16256"/>
                </a:cubicBezTo>
                <a:cubicBezTo>
                  <a:pt x="19463" y="16315"/>
                  <a:pt x="19486" y="16363"/>
                  <a:pt x="19494" y="16383"/>
                </a:cubicBezTo>
                <a:cubicBezTo>
                  <a:pt x="19499" y="16396"/>
                  <a:pt x="19558" y="16454"/>
                  <a:pt x="19590" y="16415"/>
                </a:cubicBezTo>
                <a:cubicBezTo>
                  <a:pt x="19612" y="16387"/>
                  <a:pt x="19670" y="16293"/>
                  <a:pt x="19685" y="16256"/>
                </a:cubicBezTo>
                <a:cubicBezTo>
                  <a:pt x="19708" y="16197"/>
                  <a:pt x="19744" y="16156"/>
                  <a:pt x="19780" y="16129"/>
                </a:cubicBezTo>
                <a:cubicBezTo>
                  <a:pt x="19829" y="16092"/>
                  <a:pt x="19845" y="16097"/>
                  <a:pt x="19907" y="16097"/>
                </a:cubicBezTo>
                <a:cubicBezTo>
                  <a:pt x="19907" y="16261"/>
                  <a:pt x="19896" y="16419"/>
                  <a:pt x="19876" y="16574"/>
                </a:cubicBezTo>
                <a:cubicBezTo>
                  <a:pt x="19853" y="16758"/>
                  <a:pt x="19876" y="16959"/>
                  <a:pt x="19876" y="17145"/>
                </a:cubicBezTo>
              </a:path>
              <a:path w="5716" h="2478">
                <a:moveTo>
                  <a:pt x="20002" y="16383"/>
                </a:moveTo>
                <a:cubicBezTo>
                  <a:pt x="20041" y="16447"/>
                  <a:pt x="20034" y="16495"/>
                  <a:pt x="20034" y="16574"/>
                </a:cubicBezTo>
                <a:cubicBezTo>
                  <a:pt x="20034" y="16660"/>
                  <a:pt x="20066" y="16730"/>
                  <a:pt x="20066" y="16828"/>
                </a:cubicBezTo>
                <a:cubicBezTo>
                  <a:pt x="20066" y="16885"/>
                  <a:pt x="20098" y="17043"/>
                  <a:pt x="20098" y="16986"/>
                </a:cubicBezTo>
                <a:cubicBezTo>
                  <a:pt x="20098" y="16975"/>
                  <a:pt x="20098" y="16965"/>
                  <a:pt x="20098" y="16954"/>
                </a:cubicBezTo>
                <a:cubicBezTo>
                  <a:pt x="20098" y="16763"/>
                  <a:pt x="20079" y="16553"/>
                  <a:pt x="20130" y="16383"/>
                </a:cubicBezTo>
                <a:cubicBezTo>
                  <a:pt x="20130" y="16372"/>
                  <a:pt x="20130" y="16362"/>
                  <a:pt x="20130" y="16351"/>
                </a:cubicBezTo>
                <a:cubicBezTo>
                  <a:pt x="20182" y="16351"/>
                  <a:pt x="20231" y="16358"/>
                  <a:pt x="20256" y="16415"/>
                </a:cubicBezTo>
                <a:cubicBezTo>
                  <a:pt x="20284" y="16478"/>
                  <a:pt x="20269" y="16536"/>
                  <a:pt x="20288" y="16605"/>
                </a:cubicBezTo>
                <a:cubicBezTo>
                  <a:pt x="20313" y="16694"/>
                  <a:pt x="20320" y="16764"/>
                  <a:pt x="20320" y="16859"/>
                </a:cubicBezTo>
                <a:cubicBezTo>
                  <a:pt x="20320" y="16891"/>
                  <a:pt x="20320" y="16902"/>
                  <a:pt x="20320" y="16859"/>
                </a:cubicBezTo>
                <a:cubicBezTo>
                  <a:pt x="20350" y="16769"/>
                  <a:pt x="20320" y="16657"/>
                  <a:pt x="20352" y="16574"/>
                </a:cubicBezTo>
                <a:cubicBezTo>
                  <a:pt x="20371" y="16524"/>
                  <a:pt x="20399" y="16465"/>
                  <a:pt x="20415" y="16415"/>
                </a:cubicBezTo>
                <a:cubicBezTo>
                  <a:pt x="20415" y="16404"/>
                  <a:pt x="20415" y="16394"/>
                  <a:pt x="20415" y="16383"/>
                </a:cubicBezTo>
                <a:cubicBezTo>
                  <a:pt x="20443" y="16383"/>
                  <a:pt x="20535" y="16396"/>
                  <a:pt x="20542" y="16415"/>
                </a:cubicBezTo>
                <a:cubicBezTo>
                  <a:pt x="20566" y="16480"/>
                  <a:pt x="20554" y="16538"/>
                  <a:pt x="20574" y="16605"/>
                </a:cubicBezTo>
                <a:cubicBezTo>
                  <a:pt x="20601" y="16696"/>
                  <a:pt x="20622" y="16798"/>
                  <a:pt x="20638" y="16891"/>
                </a:cubicBezTo>
                <a:cubicBezTo>
                  <a:pt x="20649" y="16958"/>
                  <a:pt x="20663" y="17023"/>
                  <a:pt x="20669" y="17082"/>
                </a:cubicBezTo>
                <a:cubicBezTo>
                  <a:pt x="20669" y="17113"/>
                  <a:pt x="20669" y="17124"/>
                  <a:pt x="20701" y="17113"/>
                </a:cubicBezTo>
              </a:path>
              <a:path w="5716" h="2478">
                <a:moveTo>
                  <a:pt x="20733" y="16192"/>
                </a:moveTo>
                <a:cubicBezTo>
                  <a:pt x="20747" y="16134"/>
                  <a:pt x="20763" y="16121"/>
                  <a:pt x="20796" y="16097"/>
                </a:cubicBezTo>
                <a:cubicBezTo>
                  <a:pt x="20841" y="16064"/>
                  <a:pt x="20837" y="16066"/>
                  <a:pt x="20892" y="16066"/>
                </a:cubicBezTo>
                <a:cubicBezTo>
                  <a:pt x="20892" y="16151"/>
                  <a:pt x="20878" y="16208"/>
                  <a:pt x="20860" y="16288"/>
                </a:cubicBezTo>
                <a:cubicBezTo>
                  <a:pt x="20847" y="16345"/>
                  <a:pt x="20859" y="16364"/>
                  <a:pt x="20828" y="16415"/>
                </a:cubicBezTo>
                <a:cubicBezTo>
                  <a:pt x="20852" y="16391"/>
                  <a:pt x="20915" y="16324"/>
                  <a:pt x="20923" y="16320"/>
                </a:cubicBezTo>
                <a:cubicBezTo>
                  <a:pt x="20948" y="16308"/>
                  <a:pt x="21010" y="16351"/>
                  <a:pt x="21050" y="16351"/>
                </a:cubicBezTo>
              </a:path>
              <a:path w="5716" h="2478">
                <a:moveTo>
                  <a:pt x="19939" y="15589"/>
                </a:moveTo>
                <a:cubicBezTo>
                  <a:pt x="19928" y="15589"/>
                  <a:pt x="19918" y="15589"/>
                  <a:pt x="19907" y="15589"/>
                </a:cubicBezTo>
              </a:path>
              <a:path w="5716" h="2478">
                <a:moveTo>
                  <a:pt x="19939" y="15589"/>
                </a:moveTo>
                <a:lnTo>
                  <a:pt x="19939" y="15589"/>
                </a:lnTo>
              </a:path>
              <a:path w="5716" h="2478">
                <a:moveTo>
                  <a:pt x="19971" y="15589"/>
                </a:moveTo>
                <a:cubicBezTo>
                  <a:pt x="20000" y="15624"/>
                  <a:pt x="19994" y="15627"/>
                  <a:pt x="20034" y="15653"/>
                </a:cubicBezTo>
                <a:cubicBezTo>
                  <a:pt x="20075" y="15680"/>
                  <a:pt x="20116" y="15725"/>
                  <a:pt x="20161" y="15748"/>
                </a:cubicBezTo>
                <a:cubicBezTo>
                  <a:pt x="20204" y="15770"/>
                  <a:pt x="20238" y="15771"/>
                  <a:pt x="20288" y="15780"/>
                </a:cubicBezTo>
                <a:cubicBezTo>
                  <a:pt x="20353" y="15792"/>
                  <a:pt x="20458" y="15806"/>
                  <a:pt x="20510" y="15812"/>
                </a:cubicBezTo>
                <a:cubicBezTo>
                  <a:pt x="20644" y="15827"/>
                  <a:pt x="20804" y="15830"/>
                  <a:pt x="20923" y="15843"/>
                </a:cubicBezTo>
                <a:cubicBezTo>
                  <a:pt x="21018" y="15853"/>
                  <a:pt x="21087" y="15852"/>
                  <a:pt x="21177" y="15875"/>
                </a:cubicBezTo>
                <a:cubicBezTo>
                  <a:pt x="21228" y="15888"/>
                  <a:pt x="21285" y="15900"/>
                  <a:pt x="21336" y="15907"/>
                </a:cubicBezTo>
                <a:cubicBezTo>
                  <a:pt x="21427" y="15920"/>
                  <a:pt x="21535" y="15929"/>
                  <a:pt x="21622" y="15938"/>
                </a:cubicBezTo>
                <a:cubicBezTo>
                  <a:pt x="21699" y="15946"/>
                  <a:pt x="21740" y="15915"/>
                  <a:pt x="21812" y="15907"/>
                </a:cubicBezTo>
                <a:cubicBezTo>
                  <a:pt x="21923" y="15895"/>
                  <a:pt x="22068" y="15883"/>
                  <a:pt x="22162" y="15875"/>
                </a:cubicBezTo>
                <a:cubicBezTo>
                  <a:pt x="22250" y="15867"/>
                  <a:pt x="22304" y="15852"/>
                  <a:pt x="22384" y="15843"/>
                </a:cubicBezTo>
                <a:cubicBezTo>
                  <a:pt x="22446" y="15836"/>
                  <a:pt x="22527" y="15817"/>
                  <a:pt x="22574" y="15812"/>
                </a:cubicBezTo>
                <a:cubicBezTo>
                  <a:pt x="22652" y="15804"/>
                  <a:pt x="22721" y="15800"/>
                  <a:pt x="22796" y="15780"/>
                </a:cubicBezTo>
                <a:cubicBezTo>
                  <a:pt x="22856" y="15764"/>
                  <a:pt x="22969" y="15739"/>
                  <a:pt x="23019" y="15716"/>
                </a:cubicBezTo>
                <a:cubicBezTo>
                  <a:pt x="23094" y="15681"/>
                  <a:pt x="23170" y="15632"/>
                  <a:pt x="23241" y="15589"/>
                </a:cubicBezTo>
                <a:cubicBezTo>
                  <a:pt x="23340" y="15530"/>
                  <a:pt x="23428" y="15461"/>
                  <a:pt x="23527" y="15399"/>
                </a:cubicBezTo>
                <a:cubicBezTo>
                  <a:pt x="23598" y="15355"/>
                  <a:pt x="23652" y="15293"/>
                  <a:pt x="23717" y="15240"/>
                </a:cubicBezTo>
                <a:cubicBezTo>
                  <a:pt x="23809" y="15165"/>
                  <a:pt x="23913" y="15096"/>
                  <a:pt x="24003" y="15018"/>
                </a:cubicBezTo>
                <a:cubicBezTo>
                  <a:pt x="24047" y="14980"/>
                  <a:pt x="24070" y="14926"/>
                  <a:pt x="24098" y="14891"/>
                </a:cubicBezTo>
                <a:cubicBezTo>
                  <a:pt x="24109" y="14880"/>
                  <a:pt x="24119" y="14870"/>
                  <a:pt x="24130" y="14859"/>
                </a:cubicBezTo>
              </a:path>
              <a:path w="5716" h="2478">
                <a:moveTo>
                  <a:pt x="20987" y="16796"/>
                </a:moveTo>
                <a:cubicBezTo>
                  <a:pt x="21022" y="16751"/>
                  <a:pt x="21040" y="16721"/>
                  <a:pt x="21082" y="16700"/>
                </a:cubicBezTo>
                <a:cubicBezTo>
                  <a:pt x="21098" y="16653"/>
                  <a:pt x="21121" y="16669"/>
                  <a:pt x="21177" y="16669"/>
                </a:cubicBezTo>
                <a:cubicBezTo>
                  <a:pt x="21188" y="16669"/>
                  <a:pt x="21198" y="16669"/>
                  <a:pt x="21209" y="16669"/>
                </a:cubicBezTo>
              </a:path>
              <a:path w="5716" h="2478">
                <a:moveTo>
                  <a:pt x="21368" y="16129"/>
                </a:moveTo>
                <a:cubicBezTo>
                  <a:pt x="21420" y="16146"/>
                  <a:pt x="21400" y="16191"/>
                  <a:pt x="21400" y="16256"/>
                </a:cubicBezTo>
                <a:cubicBezTo>
                  <a:pt x="21400" y="16355"/>
                  <a:pt x="21431" y="16437"/>
                  <a:pt x="21431" y="16542"/>
                </a:cubicBezTo>
                <a:cubicBezTo>
                  <a:pt x="21431" y="16646"/>
                  <a:pt x="21442" y="16789"/>
                  <a:pt x="21463" y="16891"/>
                </a:cubicBezTo>
                <a:cubicBezTo>
                  <a:pt x="21481" y="16978"/>
                  <a:pt x="21504" y="17070"/>
                  <a:pt x="21526" y="17145"/>
                </a:cubicBezTo>
                <a:cubicBezTo>
                  <a:pt x="21526" y="17177"/>
                  <a:pt x="21526" y="17188"/>
                  <a:pt x="21526" y="17145"/>
                </a:cubicBezTo>
              </a:path>
              <a:path w="5716" h="2478">
                <a:moveTo>
                  <a:pt x="21558" y="16192"/>
                </a:moveTo>
                <a:cubicBezTo>
                  <a:pt x="21572" y="16151"/>
                  <a:pt x="21609" y="16154"/>
                  <a:pt x="21622" y="16129"/>
                </a:cubicBezTo>
                <a:cubicBezTo>
                  <a:pt x="21634" y="16106"/>
                  <a:pt x="21669" y="16070"/>
                  <a:pt x="21717" y="16097"/>
                </a:cubicBezTo>
                <a:cubicBezTo>
                  <a:pt x="21756" y="16119"/>
                  <a:pt x="21775" y="16251"/>
                  <a:pt x="21780" y="16288"/>
                </a:cubicBezTo>
                <a:cubicBezTo>
                  <a:pt x="21795" y="16405"/>
                  <a:pt x="21749" y="16544"/>
                  <a:pt x="21749" y="16669"/>
                </a:cubicBezTo>
                <a:cubicBezTo>
                  <a:pt x="21749" y="16756"/>
                  <a:pt x="21717" y="17010"/>
                  <a:pt x="21717" y="16923"/>
                </a:cubicBezTo>
                <a:cubicBezTo>
                  <a:pt x="21717" y="16868"/>
                  <a:pt x="21762" y="16833"/>
                  <a:pt x="21812" y="16828"/>
                </a:cubicBezTo>
                <a:cubicBezTo>
                  <a:pt x="21887" y="16820"/>
                  <a:pt x="21878" y="16902"/>
                  <a:pt x="21908" y="16923"/>
                </a:cubicBezTo>
                <a:cubicBezTo>
                  <a:pt x="21918" y="16923"/>
                  <a:pt x="21929" y="16923"/>
                  <a:pt x="21939" y="16923"/>
                </a:cubicBezTo>
              </a:path>
              <a:path w="5716" h="2478">
                <a:moveTo>
                  <a:pt x="22003" y="16383"/>
                </a:moveTo>
                <a:cubicBezTo>
                  <a:pt x="22043" y="16437"/>
                  <a:pt x="22034" y="16471"/>
                  <a:pt x="22034" y="16542"/>
                </a:cubicBezTo>
                <a:cubicBezTo>
                  <a:pt x="22034" y="16623"/>
                  <a:pt x="22066" y="16674"/>
                  <a:pt x="22066" y="16764"/>
                </a:cubicBezTo>
                <a:cubicBezTo>
                  <a:pt x="22066" y="16796"/>
                  <a:pt x="22066" y="16807"/>
                  <a:pt x="22066" y="16828"/>
                </a:cubicBezTo>
                <a:cubicBezTo>
                  <a:pt x="22129" y="16807"/>
                  <a:pt x="22098" y="16711"/>
                  <a:pt x="22098" y="16637"/>
                </a:cubicBezTo>
                <a:cubicBezTo>
                  <a:pt x="22098" y="16519"/>
                  <a:pt x="22097" y="16418"/>
                  <a:pt x="22130" y="16320"/>
                </a:cubicBezTo>
                <a:cubicBezTo>
                  <a:pt x="22130" y="16288"/>
                  <a:pt x="22130" y="16277"/>
                  <a:pt x="22162" y="16288"/>
                </a:cubicBezTo>
                <a:cubicBezTo>
                  <a:pt x="22176" y="16332"/>
                  <a:pt x="22206" y="16327"/>
                  <a:pt x="22225" y="16383"/>
                </a:cubicBezTo>
                <a:cubicBezTo>
                  <a:pt x="22240" y="16428"/>
                  <a:pt x="22252" y="16499"/>
                  <a:pt x="22257" y="16542"/>
                </a:cubicBezTo>
                <a:cubicBezTo>
                  <a:pt x="22257" y="16574"/>
                  <a:pt x="22257" y="16584"/>
                  <a:pt x="22288" y="16574"/>
                </a:cubicBezTo>
                <a:cubicBezTo>
                  <a:pt x="22288" y="16444"/>
                  <a:pt x="22278" y="16274"/>
                  <a:pt x="22320" y="16192"/>
                </a:cubicBezTo>
                <a:cubicBezTo>
                  <a:pt x="22320" y="16182"/>
                  <a:pt x="22320" y="16171"/>
                  <a:pt x="22320" y="16161"/>
                </a:cubicBezTo>
                <a:cubicBezTo>
                  <a:pt x="22339" y="16167"/>
                  <a:pt x="22406" y="16220"/>
                  <a:pt x="22416" y="16256"/>
                </a:cubicBezTo>
                <a:cubicBezTo>
                  <a:pt x="22438" y="16332"/>
                  <a:pt x="22466" y="16432"/>
                  <a:pt x="22479" y="16510"/>
                </a:cubicBezTo>
                <a:cubicBezTo>
                  <a:pt x="22489" y="16570"/>
                  <a:pt x="22505" y="16617"/>
                  <a:pt x="22511" y="16669"/>
                </a:cubicBezTo>
                <a:cubicBezTo>
                  <a:pt x="22511" y="16700"/>
                  <a:pt x="22511" y="16710"/>
                  <a:pt x="22542" y="16700"/>
                </a:cubicBezTo>
              </a:path>
              <a:path w="5716" h="2478">
                <a:moveTo>
                  <a:pt x="21272" y="15335"/>
                </a:moveTo>
                <a:cubicBezTo>
                  <a:pt x="21262" y="15335"/>
                  <a:pt x="21251" y="15335"/>
                  <a:pt x="21241" y="15335"/>
                </a:cubicBezTo>
              </a:path>
              <a:path w="5716" h="2478">
                <a:moveTo>
                  <a:pt x="21272" y="15335"/>
                </a:moveTo>
                <a:lnTo>
                  <a:pt x="21272" y="15335"/>
                </a:lnTo>
              </a:path>
              <a:path w="5716" h="2478">
                <a:moveTo>
                  <a:pt x="21209" y="15367"/>
                </a:moveTo>
                <a:cubicBezTo>
                  <a:pt x="21232" y="15396"/>
                  <a:pt x="21242" y="15416"/>
                  <a:pt x="21272" y="15462"/>
                </a:cubicBezTo>
                <a:cubicBezTo>
                  <a:pt x="21307" y="15516"/>
                  <a:pt x="21327" y="15595"/>
                  <a:pt x="21368" y="15653"/>
                </a:cubicBezTo>
                <a:cubicBezTo>
                  <a:pt x="21400" y="15698"/>
                  <a:pt x="21429" y="15742"/>
                  <a:pt x="21463" y="15780"/>
                </a:cubicBezTo>
                <a:cubicBezTo>
                  <a:pt x="21517" y="15840"/>
                  <a:pt x="21560" y="15822"/>
                  <a:pt x="21622" y="15843"/>
                </a:cubicBezTo>
                <a:cubicBezTo>
                  <a:pt x="21714" y="15874"/>
                  <a:pt x="21717" y="15873"/>
                  <a:pt x="21812" y="15843"/>
                </a:cubicBezTo>
                <a:cubicBezTo>
                  <a:pt x="21902" y="15815"/>
                  <a:pt x="21979" y="15792"/>
                  <a:pt x="22066" y="15748"/>
                </a:cubicBezTo>
                <a:cubicBezTo>
                  <a:pt x="22156" y="15703"/>
                  <a:pt x="22200" y="15616"/>
                  <a:pt x="22288" y="15558"/>
                </a:cubicBezTo>
                <a:cubicBezTo>
                  <a:pt x="22365" y="15507"/>
                  <a:pt x="22457" y="15435"/>
                  <a:pt x="22511" y="15367"/>
                </a:cubicBezTo>
                <a:cubicBezTo>
                  <a:pt x="22542" y="15329"/>
                  <a:pt x="22581" y="15225"/>
                  <a:pt x="22638" y="15208"/>
                </a:cubicBezTo>
                <a:cubicBezTo>
                  <a:pt x="22670" y="15208"/>
                  <a:pt x="22680" y="15208"/>
                  <a:pt x="22701" y="15208"/>
                </a:cubicBezTo>
              </a:path>
              <a:path w="5716" h="2478">
                <a:moveTo>
                  <a:pt x="22765" y="16415"/>
                </a:moveTo>
                <a:cubicBezTo>
                  <a:pt x="22765" y="16425"/>
                  <a:pt x="22765" y="16436"/>
                  <a:pt x="22765" y="16446"/>
                </a:cubicBezTo>
                <a:cubicBezTo>
                  <a:pt x="22818" y="16446"/>
                  <a:pt x="22813" y="16459"/>
                  <a:pt x="22828" y="16415"/>
                </a:cubicBezTo>
                <a:cubicBezTo>
                  <a:pt x="22883" y="16415"/>
                  <a:pt x="22877" y="16428"/>
                  <a:pt x="22892" y="16383"/>
                </a:cubicBezTo>
                <a:cubicBezTo>
                  <a:pt x="22930" y="16373"/>
                  <a:pt x="22949" y="16361"/>
                  <a:pt x="22987" y="16351"/>
                </a:cubicBezTo>
              </a:path>
              <a:path w="5716" h="2478">
                <a:moveTo>
                  <a:pt x="23050" y="15812"/>
                </a:moveTo>
                <a:cubicBezTo>
                  <a:pt x="23067" y="15862"/>
                  <a:pt x="23060" y="15863"/>
                  <a:pt x="23082" y="15938"/>
                </a:cubicBezTo>
                <a:cubicBezTo>
                  <a:pt x="23117" y="16057"/>
                  <a:pt x="23091" y="16166"/>
                  <a:pt x="23114" y="16288"/>
                </a:cubicBezTo>
                <a:cubicBezTo>
                  <a:pt x="23136" y="16405"/>
                  <a:pt x="23172" y="16518"/>
                  <a:pt x="23178" y="16637"/>
                </a:cubicBezTo>
                <a:cubicBezTo>
                  <a:pt x="23178" y="16703"/>
                  <a:pt x="23179" y="16726"/>
                  <a:pt x="23209" y="16764"/>
                </a:cubicBezTo>
              </a:path>
              <a:path w="5716" h="2478">
                <a:moveTo>
                  <a:pt x="23241" y="15843"/>
                </a:moveTo>
                <a:cubicBezTo>
                  <a:pt x="23241" y="15812"/>
                  <a:pt x="23241" y="15801"/>
                  <a:pt x="23241" y="15780"/>
                </a:cubicBezTo>
                <a:cubicBezTo>
                  <a:pt x="23261" y="15787"/>
                  <a:pt x="23319" y="15810"/>
                  <a:pt x="23336" y="15843"/>
                </a:cubicBezTo>
                <a:cubicBezTo>
                  <a:pt x="23367" y="15906"/>
                  <a:pt x="23348" y="15964"/>
                  <a:pt x="23368" y="16034"/>
                </a:cubicBezTo>
                <a:cubicBezTo>
                  <a:pt x="23397" y="16136"/>
                  <a:pt x="23400" y="16209"/>
                  <a:pt x="23400" y="16320"/>
                </a:cubicBezTo>
                <a:cubicBezTo>
                  <a:pt x="23400" y="16436"/>
                  <a:pt x="23400" y="16553"/>
                  <a:pt x="23400" y="16669"/>
                </a:cubicBezTo>
                <a:cubicBezTo>
                  <a:pt x="23400" y="16628"/>
                  <a:pt x="23410" y="16585"/>
                  <a:pt x="23432" y="16574"/>
                </a:cubicBezTo>
                <a:cubicBezTo>
                  <a:pt x="23465" y="16558"/>
                  <a:pt x="23542" y="16572"/>
                  <a:pt x="23558" y="16605"/>
                </a:cubicBezTo>
                <a:cubicBezTo>
                  <a:pt x="23570" y="16629"/>
                  <a:pt x="23590" y="16693"/>
                  <a:pt x="23590" y="16637"/>
                </a:cubicBezTo>
              </a:path>
              <a:path w="5716" h="2478">
                <a:moveTo>
                  <a:pt x="23622" y="16161"/>
                </a:moveTo>
                <a:cubicBezTo>
                  <a:pt x="23673" y="16177"/>
                  <a:pt x="23683" y="16221"/>
                  <a:pt x="23686" y="16288"/>
                </a:cubicBezTo>
                <a:cubicBezTo>
                  <a:pt x="23690" y="16371"/>
                  <a:pt x="23694" y="16493"/>
                  <a:pt x="23717" y="16574"/>
                </a:cubicBezTo>
                <a:cubicBezTo>
                  <a:pt x="23729" y="16616"/>
                  <a:pt x="23749" y="16772"/>
                  <a:pt x="23749" y="16637"/>
                </a:cubicBezTo>
                <a:cubicBezTo>
                  <a:pt x="23749" y="16548"/>
                  <a:pt x="23709" y="16394"/>
                  <a:pt x="23717" y="16320"/>
                </a:cubicBezTo>
                <a:cubicBezTo>
                  <a:pt x="23724" y="16256"/>
                  <a:pt x="23749" y="16200"/>
                  <a:pt x="23749" y="16129"/>
                </a:cubicBezTo>
                <a:cubicBezTo>
                  <a:pt x="23749" y="16118"/>
                  <a:pt x="23749" y="16108"/>
                  <a:pt x="23749" y="16097"/>
                </a:cubicBezTo>
                <a:cubicBezTo>
                  <a:pt x="23795" y="16112"/>
                  <a:pt x="23791" y="16142"/>
                  <a:pt x="23812" y="16192"/>
                </a:cubicBezTo>
                <a:cubicBezTo>
                  <a:pt x="23845" y="16270"/>
                  <a:pt x="23846" y="16336"/>
                  <a:pt x="23876" y="16415"/>
                </a:cubicBezTo>
                <a:cubicBezTo>
                  <a:pt x="23876" y="16507"/>
                  <a:pt x="23876" y="16257"/>
                  <a:pt x="23876" y="16256"/>
                </a:cubicBezTo>
                <a:cubicBezTo>
                  <a:pt x="23876" y="16159"/>
                  <a:pt x="23918" y="16090"/>
                  <a:pt x="23940" y="16002"/>
                </a:cubicBezTo>
                <a:cubicBezTo>
                  <a:pt x="23953" y="15949"/>
                  <a:pt x="23975" y="15914"/>
                  <a:pt x="24035" y="15907"/>
                </a:cubicBezTo>
                <a:cubicBezTo>
                  <a:pt x="24045" y="15907"/>
                  <a:pt x="24056" y="15907"/>
                  <a:pt x="24066" y="15907"/>
                </a:cubicBezTo>
                <a:cubicBezTo>
                  <a:pt x="24082" y="15968"/>
                  <a:pt x="24119" y="16029"/>
                  <a:pt x="24130" y="16097"/>
                </a:cubicBezTo>
                <a:cubicBezTo>
                  <a:pt x="24147" y="16196"/>
                  <a:pt x="24172" y="16288"/>
                  <a:pt x="24194" y="16383"/>
                </a:cubicBezTo>
                <a:cubicBezTo>
                  <a:pt x="24194" y="16394"/>
                  <a:pt x="24194" y="16404"/>
                  <a:pt x="24194" y="16415"/>
                </a:cubicBezTo>
              </a:path>
              <a:path w="5716" h="2478">
                <a:moveTo>
                  <a:pt x="24511" y="15748"/>
                </a:moveTo>
                <a:cubicBezTo>
                  <a:pt x="24511" y="15821"/>
                  <a:pt x="24532" y="15871"/>
                  <a:pt x="24543" y="15938"/>
                </a:cubicBezTo>
                <a:cubicBezTo>
                  <a:pt x="24572" y="16108"/>
                  <a:pt x="24543" y="16305"/>
                  <a:pt x="24543" y="16478"/>
                </a:cubicBezTo>
              </a:path>
              <a:path w="5716" h="2478">
                <a:moveTo>
                  <a:pt x="24384" y="16129"/>
                </a:moveTo>
                <a:cubicBezTo>
                  <a:pt x="24384" y="16140"/>
                  <a:pt x="24384" y="16150"/>
                  <a:pt x="24384" y="16161"/>
                </a:cubicBezTo>
                <a:cubicBezTo>
                  <a:pt x="24473" y="16161"/>
                  <a:pt x="24569" y="16181"/>
                  <a:pt x="24638" y="16129"/>
                </a:cubicBezTo>
              </a:path>
              <a:path w="5716" h="2478">
                <a:moveTo>
                  <a:pt x="24828" y="15462"/>
                </a:moveTo>
                <a:cubicBezTo>
                  <a:pt x="24828" y="15744"/>
                  <a:pt x="24782" y="16094"/>
                  <a:pt x="24860" y="16351"/>
                </a:cubicBezTo>
                <a:cubicBezTo>
                  <a:pt x="24860" y="16362"/>
                  <a:pt x="24860" y="16372"/>
                  <a:pt x="24860" y="16383"/>
                </a:cubicBezTo>
              </a:path>
              <a:path w="5716" h="2478">
                <a:moveTo>
                  <a:pt x="24924" y="15494"/>
                </a:moveTo>
                <a:cubicBezTo>
                  <a:pt x="24947" y="15424"/>
                  <a:pt x="24956" y="15477"/>
                  <a:pt x="24956" y="15526"/>
                </a:cubicBezTo>
                <a:cubicBezTo>
                  <a:pt x="24956" y="15823"/>
                  <a:pt x="24943" y="16128"/>
                  <a:pt x="24987" y="16415"/>
                </a:cubicBezTo>
                <a:cubicBezTo>
                  <a:pt x="24998" y="16488"/>
                  <a:pt x="25008" y="16517"/>
                  <a:pt x="25051" y="16574"/>
                </a:cubicBezTo>
                <a:cubicBezTo>
                  <a:pt x="25114" y="16525"/>
                  <a:pt x="25113" y="16535"/>
                  <a:pt x="25146" y="16446"/>
                </a:cubicBezTo>
                <a:cubicBezTo>
                  <a:pt x="25204" y="16288"/>
                  <a:pt x="25163" y="16080"/>
                  <a:pt x="25114" y="15970"/>
                </a:cubicBezTo>
                <a:cubicBezTo>
                  <a:pt x="25114" y="16041"/>
                  <a:pt x="25086" y="16090"/>
                  <a:pt x="25082" y="16161"/>
                </a:cubicBezTo>
                <a:cubicBezTo>
                  <a:pt x="25075" y="16277"/>
                  <a:pt x="25082" y="16394"/>
                  <a:pt x="25082" y="16510"/>
                </a:cubicBezTo>
              </a:path>
              <a:path w="5716" h="2478">
                <a:moveTo>
                  <a:pt x="21463" y="17336"/>
                </a:moveTo>
                <a:lnTo>
                  <a:pt x="21463" y="17336"/>
                </a:lnTo>
              </a:path>
              <a:path w="5716" h="2478">
                <a:moveTo>
                  <a:pt x="21463" y="17336"/>
                </a:moveTo>
                <a:cubicBezTo>
                  <a:pt x="21484" y="17325"/>
                  <a:pt x="21505" y="17315"/>
                  <a:pt x="21526" y="17304"/>
                </a:cubicBezTo>
              </a:path>
              <a:path w="5716" h="2478">
                <a:moveTo>
                  <a:pt x="21526" y="17304"/>
                </a:moveTo>
                <a:cubicBezTo>
                  <a:pt x="21577" y="17253"/>
                  <a:pt x="21585" y="17244"/>
                  <a:pt x="21654" y="17240"/>
                </a:cubicBezTo>
                <a:cubicBezTo>
                  <a:pt x="21712" y="17237"/>
                  <a:pt x="21769" y="17214"/>
                  <a:pt x="21812" y="17208"/>
                </a:cubicBezTo>
                <a:cubicBezTo>
                  <a:pt x="21883" y="17197"/>
                  <a:pt x="21967" y="17186"/>
                  <a:pt x="22034" y="17177"/>
                </a:cubicBezTo>
                <a:cubicBezTo>
                  <a:pt x="22102" y="17168"/>
                  <a:pt x="22162" y="17169"/>
                  <a:pt x="22225" y="17145"/>
                </a:cubicBezTo>
                <a:cubicBezTo>
                  <a:pt x="22292" y="17119"/>
                  <a:pt x="22384" y="17067"/>
                  <a:pt x="22447" y="17050"/>
                </a:cubicBezTo>
                <a:cubicBezTo>
                  <a:pt x="22524" y="17030"/>
                  <a:pt x="22599" y="17011"/>
                  <a:pt x="22670" y="16986"/>
                </a:cubicBezTo>
                <a:cubicBezTo>
                  <a:pt x="22743" y="16960"/>
                  <a:pt x="22815" y="16934"/>
                  <a:pt x="22892" y="16923"/>
                </a:cubicBezTo>
                <a:cubicBezTo>
                  <a:pt x="22971" y="16912"/>
                  <a:pt x="23047" y="16872"/>
                  <a:pt x="23114" y="16859"/>
                </a:cubicBezTo>
                <a:cubicBezTo>
                  <a:pt x="23190" y="16844"/>
                  <a:pt x="23257" y="16809"/>
                  <a:pt x="23336" y="16796"/>
                </a:cubicBezTo>
                <a:cubicBezTo>
                  <a:pt x="23424" y="16781"/>
                  <a:pt x="23491" y="16814"/>
                  <a:pt x="23558" y="16828"/>
                </a:cubicBezTo>
                <a:cubicBezTo>
                  <a:pt x="23615" y="16839"/>
                  <a:pt x="23602" y="16829"/>
                  <a:pt x="23654" y="16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29"/>
          <p:cNvSpPr/>
          <p:nvPr/>
        </p:nvSpPr>
        <p:spPr>
          <a:xfrm>
            <a:off x="7418520" y="6251400"/>
            <a:ext cx="1566720" cy="492480"/>
          </a:xfrm>
          <a:custGeom>
            <a:avLst/>
            <a:gdLst/>
            <a:ahLst/>
            <a:rect l="l" t="t" r="r" b="b"/>
            <a:pathLst>
              <a:path w="4351" h="1366">
                <a:moveTo>
                  <a:pt x="20955" y="17685"/>
                </a:moveTo>
                <a:cubicBezTo>
                  <a:pt x="20941" y="17629"/>
                  <a:pt x="20903" y="17601"/>
                  <a:pt x="20860" y="17558"/>
                </a:cubicBezTo>
                <a:cubicBezTo>
                  <a:pt x="20818" y="17516"/>
                  <a:pt x="20790" y="17526"/>
                  <a:pt x="20733" y="17526"/>
                </a:cubicBezTo>
                <a:cubicBezTo>
                  <a:pt x="20665" y="17526"/>
                  <a:pt x="20642" y="17593"/>
                  <a:pt x="20638" y="17653"/>
                </a:cubicBezTo>
                <a:cubicBezTo>
                  <a:pt x="20633" y="17733"/>
                  <a:pt x="20606" y="17792"/>
                  <a:pt x="20606" y="17875"/>
                </a:cubicBezTo>
                <a:cubicBezTo>
                  <a:pt x="20606" y="17888"/>
                  <a:pt x="20627" y="18025"/>
                  <a:pt x="20638" y="18034"/>
                </a:cubicBezTo>
                <a:cubicBezTo>
                  <a:pt x="20669" y="18034"/>
                  <a:pt x="20680" y="18034"/>
                  <a:pt x="20669" y="18066"/>
                </a:cubicBezTo>
                <a:cubicBezTo>
                  <a:pt x="20690" y="18059"/>
                  <a:pt x="20747" y="18037"/>
                  <a:pt x="20764" y="18002"/>
                </a:cubicBezTo>
                <a:cubicBezTo>
                  <a:pt x="20784" y="17961"/>
                  <a:pt x="20820" y="17885"/>
                  <a:pt x="20828" y="17844"/>
                </a:cubicBezTo>
                <a:cubicBezTo>
                  <a:pt x="20843" y="17770"/>
                  <a:pt x="20871" y="17716"/>
                  <a:pt x="20892" y="17653"/>
                </a:cubicBezTo>
                <a:cubicBezTo>
                  <a:pt x="20904" y="17617"/>
                  <a:pt x="20907" y="17667"/>
                  <a:pt x="20923" y="17716"/>
                </a:cubicBezTo>
                <a:cubicBezTo>
                  <a:pt x="20947" y="17789"/>
                  <a:pt x="20945" y="17926"/>
                  <a:pt x="20955" y="18002"/>
                </a:cubicBezTo>
                <a:cubicBezTo>
                  <a:pt x="20970" y="18109"/>
                  <a:pt x="20971" y="18218"/>
                  <a:pt x="20987" y="18320"/>
                </a:cubicBezTo>
                <a:cubicBezTo>
                  <a:pt x="21000" y="18400"/>
                  <a:pt x="21001" y="18428"/>
                  <a:pt x="21018" y="18478"/>
                </a:cubicBezTo>
              </a:path>
              <a:path w="4351" h="1366">
                <a:moveTo>
                  <a:pt x="21082" y="17939"/>
                </a:moveTo>
                <a:cubicBezTo>
                  <a:pt x="21111" y="17948"/>
                  <a:pt x="21132" y="17993"/>
                  <a:pt x="21146" y="18034"/>
                </a:cubicBezTo>
                <a:cubicBezTo>
                  <a:pt x="21161" y="18078"/>
                  <a:pt x="21168" y="18111"/>
                  <a:pt x="21177" y="18129"/>
                </a:cubicBezTo>
                <a:cubicBezTo>
                  <a:pt x="21196" y="18169"/>
                  <a:pt x="21205" y="18245"/>
                  <a:pt x="21209" y="18288"/>
                </a:cubicBezTo>
                <a:cubicBezTo>
                  <a:pt x="21209" y="18320"/>
                  <a:pt x="21209" y="18331"/>
                  <a:pt x="21209" y="18352"/>
                </a:cubicBezTo>
                <a:cubicBezTo>
                  <a:pt x="21209" y="18217"/>
                  <a:pt x="21202" y="18086"/>
                  <a:pt x="21241" y="17970"/>
                </a:cubicBezTo>
                <a:cubicBezTo>
                  <a:pt x="21254" y="17932"/>
                  <a:pt x="21244" y="17889"/>
                  <a:pt x="21272" y="17875"/>
                </a:cubicBezTo>
                <a:cubicBezTo>
                  <a:pt x="21283" y="17875"/>
                  <a:pt x="21293" y="17875"/>
                  <a:pt x="21304" y="17875"/>
                </a:cubicBezTo>
                <a:cubicBezTo>
                  <a:pt x="21369" y="17897"/>
                  <a:pt x="21337" y="17940"/>
                  <a:pt x="21368" y="18002"/>
                </a:cubicBezTo>
                <a:cubicBezTo>
                  <a:pt x="21404" y="18073"/>
                  <a:pt x="21378" y="18117"/>
                  <a:pt x="21400" y="18193"/>
                </a:cubicBezTo>
                <a:cubicBezTo>
                  <a:pt x="21420" y="18261"/>
                  <a:pt x="21431" y="18282"/>
                  <a:pt x="21431" y="18352"/>
                </a:cubicBezTo>
                <a:cubicBezTo>
                  <a:pt x="21401" y="18306"/>
                  <a:pt x="21431" y="18318"/>
                  <a:pt x="21431" y="18224"/>
                </a:cubicBezTo>
                <a:cubicBezTo>
                  <a:pt x="21431" y="18153"/>
                  <a:pt x="21416" y="18087"/>
                  <a:pt x="21463" y="18034"/>
                </a:cubicBezTo>
                <a:cubicBezTo>
                  <a:pt x="21479" y="18016"/>
                  <a:pt x="21556" y="17928"/>
                  <a:pt x="21590" y="17970"/>
                </a:cubicBezTo>
                <a:cubicBezTo>
                  <a:pt x="21599" y="17981"/>
                  <a:pt x="21650" y="18081"/>
                  <a:pt x="21654" y="18098"/>
                </a:cubicBezTo>
                <a:cubicBezTo>
                  <a:pt x="21671" y="18177"/>
                  <a:pt x="21679" y="18273"/>
                  <a:pt x="21685" y="18352"/>
                </a:cubicBezTo>
                <a:cubicBezTo>
                  <a:pt x="21691" y="18429"/>
                  <a:pt x="21717" y="18490"/>
                  <a:pt x="21717" y="18574"/>
                </a:cubicBezTo>
                <a:cubicBezTo>
                  <a:pt x="21717" y="18643"/>
                  <a:pt x="21734" y="18675"/>
                  <a:pt x="21749" y="18732"/>
                </a:cubicBezTo>
              </a:path>
              <a:path w="4351" h="1366">
                <a:moveTo>
                  <a:pt x="21749" y="17748"/>
                </a:moveTo>
                <a:cubicBezTo>
                  <a:pt x="21749" y="17703"/>
                  <a:pt x="21758" y="17654"/>
                  <a:pt x="21780" y="17621"/>
                </a:cubicBezTo>
                <a:cubicBezTo>
                  <a:pt x="21808" y="17579"/>
                  <a:pt x="21871" y="17518"/>
                  <a:pt x="21908" y="17590"/>
                </a:cubicBezTo>
                <a:cubicBezTo>
                  <a:pt x="21947" y="17666"/>
                  <a:pt x="21896" y="17814"/>
                  <a:pt x="21876" y="17875"/>
                </a:cubicBezTo>
                <a:cubicBezTo>
                  <a:pt x="21876" y="17911"/>
                  <a:pt x="21873" y="17925"/>
                  <a:pt x="21844" y="17939"/>
                </a:cubicBezTo>
                <a:cubicBezTo>
                  <a:pt x="21917" y="17884"/>
                  <a:pt x="21900" y="17919"/>
                  <a:pt x="21939" y="17939"/>
                </a:cubicBezTo>
                <a:cubicBezTo>
                  <a:pt x="21971" y="17939"/>
                  <a:pt x="21982" y="17939"/>
                  <a:pt x="22003" y="17939"/>
                </a:cubicBezTo>
              </a:path>
              <a:path w="4351" h="1366">
                <a:moveTo>
                  <a:pt x="22162" y="18129"/>
                </a:moveTo>
                <a:cubicBezTo>
                  <a:pt x="22151" y="18129"/>
                  <a:pt x="22141" y="18129"/>
                  <a:pt x="22130" y="18129"/>
                </a:cubicBezTo>
                <a:cubicBezTo>
                  <a:pt x="22142" y="18093"/>
                  <a:pt x="22174" y="18072"/>
                  <a:pt x="22225" y="18066"/>
                </a:cubicBezTo>
                <a:cubicBezTo>
                  <a:pt x="22277" y="18060"/>
                  <a:pt x="22332" y="18066"/>
                  <a:pt x="22384" y="18066"/>
                </a:cubicBezTo>
              </a:path>
              <a:path w="4351" h="1366">
                <a:moveTo>
                  <a:pt x="22479" y="17653"/>
                </a:moveTo>
                <a:cubicBezTo>
                  <a:pt x="22494" y="17609"/>
                  <a:pt x="22524" y="17615"/>
                  <a:pt x="22542" y="17558"/>
                </a:cubicBezTo>
                <a:cubicBezTo>
                  <a:pt x="22549" y="17537"/>
                  <a:pt x="22572" y="17479"/>
                  <a:pt x="22606" y="17462"/>
                </a:cubicBezTo>
                <a:cubicBezTo>
                  <a:pt x="22641" y="17444"/>
                  <a:pt x="22703" y="17403"/>
                  <a:pt x="22733" y="17462"/>
                </a:cubicBezTo>
                <a:cubicBezTo>
                  <a:pt x="22767" y="17529"/>
                  <a:pt x="22765" y="17609"/>
                  <a:pt x="22765" y="17685"/>
                </a:cubicBezTo>
                <a:cubicBezTo>
                  <a:pt x="22765" y="17841"/>
                  <a:pt x="22757" y="17983"/>
                  <a:pt x="22733" y="18129"/>
                </a:cubicBezTo>
                <a:cubicBezTo>
                  <a:pt x="22719" y="18210"/>
                  <a:pt x="22691" y="18281"/>
                  <a:pt x="22670" y="18352"/>
                </a:cubicBezTo>
                <a:cubicBezTo>
                  <a:pt x="22655" y="18403"/>
                  <a:pt x="22648" y="18433"/>
                  <a:pt x="22606" y="18447"/>
                </a:cubicBezTo>
                <a:cubicBezTo>
                  <a:pt x="22616" y="18418"/>
                  <a:pt x="22660" y="18397"/>
                  <a:pt x="22701" y="18383"/>
                </a:cubicBezTo>
                <a:cubicBezTo>
                  <a:pt x="22756" y="18365"/>
                  <a:pt x="22781" y="18410"/>
                  <a:pt x="22828" y="18415"/>
                </a:cubicBezTo>
                <a:cubicBezTo>
                  <a:pt x="22869" y="18420"/>
                  <a:pt x="22885" y="18437"/>
                  <a:pt x="22924" y="18447"/>
                </a:cubicBezTo>
              </a:path>
              <a:path w="4351" h="1366">
                <a:moveTo>
                  <a:pt x="22955" y="17558"/>
                </a:moveTo>
                <a:cubicBezTo>
                  <a:pt x="22955" y="17683"/>
                  <a:pt x="22959" y="17799"/>
                  <a:pt x="22924" y="17907"/>
                </a:cubicBezTo>
                <a:cubicBezTo>
                  <a:pt x="22906" y="17963"/>
                  <a:pt x="22951" y="17951"/>
                  <a:pt x="22892" y="17970"/>
                </a:cubicBezTo>
                <a:cubicBezTo>
                  <a:pt x="22977" y="17970"/>
                  <a:pt x="23061" y="17970"/>
                  <a:pt x="23146" y="17970"/>
                </a:cubicBezTo>
              </a:path>
              <a:path w="4351" h="1366">
                <a:moveTo>
                  <a:pt x="23146" y="17367"/>
                </a:moveTo>
                <a:cubicBezTo>
                  <a:pt x="23146" y="17409"/>
                  <a:pt x="23146" y="17430"/>
                  <a:pt x="23146" y="17462"/>
                </a:cubicBezTo>
              </a:path>
              <a:path w="4351" h="1366">
                <a:moveTo>
                  <a:pt x="23146" y="17494"/>
                </a:moveTo>
                <a:cubicBezTo>
                  <a:pt x="23156" y="17607"/>
                  <a:pt x="23158" y="17731"/>
                  <a:pt x="23178" y="17844"/>
                </a:cubicBezTo>
                <a:cubicBezTo>
                  <a:pt x="23200" y="17968"/>
                  <a:pt x="23214" y="18102"/>
                  <a:pt x="23241" y="18224"/>
                </a:cubicBezTo>
                <a:cubicBezTo>
                  <a:pt x="23261" y="18312"/>
                  <a:pt x="23273" y="18427"/>
                  <a:pt x="23304" y="18510"/>
                </a:cubicBezTo>
                <a:cubicBezTo>
                  <a:pt x="23330" y="18562"/>
                  <a:pt x="23341" y="18570"/>
                  <a:pt x="23336" y="18606"/>
                </a:cubicBezTo>
              </a:path>
              <a:path w="4351" h="1366">
                <a:moveTo>
                  <a:pt x="23273" y="18002"/>
                </a:moveTo>
                <a:lnTo>
                  <a:pt x="23273" y="18002"/>
                </a:lnTo>
              </a:path>
              <a:path w="4351" h="1366">
                <a:moveTo>
                  <a:pt x="23273" y="18002"/>
                </a:moveTo>
                <a:cubicBezTo>
                  <a:pt x="23294" y="18023"/>
                  <a:pt x="23315" y="18045"/>
                  <a:pt x="23336" y="18066"/>
                </a:cubicBezTo>
              </a:path>
              <a:path w="4351" h="1366">
                <a:moveTo>
                  <a:pt x="23336" y="18066"/>
                </a:moveTo>
                <a:cubicBezTo>
                  <a:pt x="23336" y="18114"/>
                  <a:pt x="23349" y="18186"/>
                  <a:pt x="23368" y="18224"/>
                </a:cubicBezTo>
                <a:cubicBezTo>
                  <a:pt x="23391" y="18271"/>
                  <a:pt x="23400" y="18310"/>
                  <a:pt x="23432" y="18352"/>
                </a:cubicBezTo>
                <a:cubicBezTo>
                  <a:pt x="23432" y="18257"/>
                  <a:pt x="23416" y="18177"/>
                  <a:pt x="23400" y="18098"/>
                </a:cubicBezTo>
                <a:cubicBezTo>
                  <a:pt x="23382" y="18009"/>
                  <a:pt x="23410" y="17917"/>
                  <a:pt x="23432" y="17875"/>
                </a:cubicBezTo>
                <a:cubicBezTo>
                  <a:pt x="23454" y="17832"/>
                  <a:pt x="23466" y="17844"/>
                  <a:pt x="23527" y="17844"/>
                </a:cubicBezTo>
                <a:cubicBezTo>
                  <a:pt x="23527" y="17911"/>
                  <a:pt x="23552" y="17934"/>
                  <a:pt x="23558" y="18002"/>
                </a:cubicBezTo>
                <a:cubicBezTo>
                  <a:pt x="23560" y="18022"/>
                  <a:pt x="23558" y="18177"/>
                  <a:pt x="23558" y="18098"/>
                </a:cubicBezTo>
                <a:cubicBezTo>
                  <a:pt x="23558" y="18021"/>
                  <a:pt x="23571" y="17971"/>
                  <a:pt x="23590" y="17907"/>
                </a:cubicBezTo>
                <a:cubicBezTo>
                  <a:pt x="23604" y="17859"/>
                  <a:pt x="23619" y="17820"/>
                  <a:pt x="23654" y="17780"/>
                </a:cubicBezTo>
                <a:cubicBezTo>
                  <a:pt x="23683" y="17751"/>
                  <a:pt x="23689" y="17741"/>
                  <a:pt x="23717" y="17748"/>
                </a:cubicBezTo>
                <a:cubicBezTo>
                  <a:pt x="23758" y="17802"/>
                  <a:pt x="23777" y="17835"/>
                  <a:pt x="23781" y="17907"/>
                </a:cubicBezTo>
                <a:cubicBezTo>
                  <a:pt x="23786" y="17989"/>
                  <a:pt x="23793" y="18113"/>
                  <a:pt x="23812" y="18193"/>
                </a:cubicBezTo>
                <a:cubicBezTo>
                  <a:pt x="23836" y="18291"/>
                  <a:pt x="23844" y="18373"/>
                  <a:pt x="23844" y="18478"/>
                </a:cubicBezTo>
                <a:cubicBezTo>
                  <a:pt x="23844" y="18574"/>
                  <a:pt x="23850" y="18625"/>
                  <a:pt x="23876" y="18701"/>
                </a:cubicBezTo>
                <a:cubicBezTo>
                  <a:pt x="23876" y="18711"/>
                  <a:pt x="23876" y="18722"/>
                  <a:pt x="23876" y="18732"/>
                </a:cubicBezTo>
              </a:path>
              <a:path w="4351" h="1366">
                <a:moveTo>
                  <a:pt x="24098" y="17875"/>
                </a:moveTo>
                <a:cubicBezTo>
                  <a:pt x="24087" y="17875"/>
                  <a:pt x="24077" y="17875"/>
                  <a:pt x="24066" y="17875"/>
                </a:cubicBezTo>
                <a:cubicBezTo>
                  <a:pt x="24066" y="17952"/>
                  <a:pt x="24085" y="17994"/>
                  <a:pt x="24098" y="18066"/>
                </a:cubicBezTo>
                <a:cubicBezTo>
                  <a:pt x="24111" y="18139"/>
                  <a:pt x="24126" y="18215"/>
                  <a:pt x="24130" y="18288"/>
                </a:cubicBezTo>
                <a:cubicBezTo>
                  <a:pt x="24132" y="18325"/>
                  <a:pt x="24143" y="18414"/>
                  <a:pt x="24162" y="18447"/>
                </a:cubicBezTo>
                <a:cubicBezTo>
                  <a:pt x="24191" y="18475"/>
                  <a:pt x="24202" y="18481"/>
                  <a:pt x="24194" y="18510"/>
                </a:cubicBezTo>
              </a:path>
              <a:path w="4351" h="1366">
                <a:moveTo>
                  <a:pt x="24003" y="18288"/>
                </a:moveTo>
                <a:cubicBezTo>
                  <a:pt x="24067" y="18288"/>
                  <a:pt x="24130" y="18288"/>
                  <a:pt x="24194" y="18288"/>
                </a:cubicBezTo>
              </a:path>
              <a:path w="4351" h="1366">
                <a:moveTo>
                  <a:pt x="24416" y="17590"/>
                </a:moveTo>
                <a:cubicBezTo>
                  <a:pt x="24469" y="17625"/>
                  <a:pt x="24448" y="17730"/>
                  <a:pt x="24448" y="17812"/>
                </a:cubicBezTo>
                <a:cubicBezTo>
                  <a:pt x="24448" y="17947"/>
                  <a:pt x="24462" y="18063"/>
                  <a:pt x="24479" y="18193"/>
                </a:cubicBezTo>
                <a:cubicBezTo>
                  <a:pt x="24492" y="18289"/>
                  <a:pt x="24504" y="18384"/>
                  <a:pt x="24511" y="18478"/>
                </a:cubicBezTo>
                <a:cubicBezTo>
                  <a:pt x="24516" y="18544"/>
                  <a:pt x="24497" y="18575"/>
                  <a:pt x="24543" y="18606"/>
                </a:cubicBezTo>
              </a:path>
              <a:path w="4351" h="1366">
                <a:moveTo>
                  <a:pt x="24574" y="17685"/>
                </a:moveTo>
                <a:cubicBezTo>
                  <a:pt x="24585" y="17685"/>
                  <a:pt x="24595" y="17685"/>
                  <a:pt x="24606" y="17685"/>
                </a:cubicBezTo>
              </a:path>
              <a:path w="4351" h="1366">
                <a:moveTo>
                  <a:pt x="24574" y="17685"/>
                </a:moveTo>
                <a:cubicBezTo>
                  <a:pt x="24585" y="17706"/>
                  <a:pt x="24595" y="17727"/>
                  <a:pt x="24606" y="17748"/>
                </a:cubicBezTo>
              </a:path>
              <a:path w="4351" h="1366">
                <a:moveTo>
                  <a:pt x="24606" y="17748"/>
                </a:moveTo>
                <a:cubicBezTo>
                  <a:pt x="24606" y="17893"/>
                  <a:pt x="24615" y="18025"/>
                  <a:pt x="24638" y="18161"/>
                </a:cubicBezTo>
                <a:cubicBezTo>
                  <a:pt x="24652" y="18245"/>
                  <a:pt x="24656" y="18334"/>
                  <a:pt x="24670" y="18415"/>
                </a:cubicBezTo>
                <a:cubicBezTo>
                  <a:pt x="24679" y="18465"/>
                  <a:pt x="24671" y="18569"/>
                  <a:pt x="24702" y="18606"/>
                </a:cubicBezTo>
                <a:cubicBezTo>
                  <a:pt x="24713" y="18619"/>
                  <a:pt x="24800" y="18652"/>
                  <a:pt x="24828" y="18637"/>
                </a:cubicBezTo>
                <a:cubicBezTo>
                  <a:pt x="24862" y="18619"/>
                  <a:pt x="24917" y="18542"/>
                  <a:pt x="24924" y="18510"/>
                </a:cubicBezTo>
                <a:cubicBezTo>
                  <a:pt x="24936" y="18455"/>
                  <a:pt x="24952" y="18373"/>
                  <a:pt x="24956" y="18320"/>
                </a:cubicBezTo>
                <a:cubicBezTo>
                  <a:pt x="24962" y="18227"/>
                  <a:pt x="24945" y="18181"/>
                  <a:pt x="24924" y="18098"/>
                </a:cubicBezTo>
                <a:cubicBezTo>
                  <a:pt x="24909" y="18037"/>
                  <a:pt x="24907" y="18048"/>
                  <a:pt x="24892" y="18002"/>
                </a:cubicBezTo>
                <a:cubicBezTo>
                  <a:pt x="24827" y="18024"/>
                  <a:pt x="24858" y="18067"/>
                  <a:pt x="24828" y="18129"/>
                </a:cubicBezTo>
                <a:cubicBezTo>
                  <a:pt x="24792" y="18202"/>
                  <a:pt x="24797" y="18264"/>
                  <a:pt x="24797" y="18352"/>
                </a:cubicBezTo>
                <a:cubicBezTo>
                  <a:pt x="24797" y="18426"/>
                  <a:pt x="24797" y="18500"/>
                  <a:pt x="24797" y="18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30"/>
          <p:cNvSpPr/>
          <p:nvPr/>
        </p:nvSpPr>
        <p:spPr>
          <a:xfrm>
            <a:off x="1589040" y="2286000"/>
            <a:ext cx="2251080" cy="674640"/>
          </a:xfrm>
          <a:custGeom>
            <a:avLst/>
            <a:gdLst/>
            <a:ahLst/>
            <a:rect l="l" t="t" r="r" b="b"/>
            <a:pathLst>
              <a:path w="6256" h="1874">
                <a:moveTo>
                  <a:pt x="4413" y="8223"/>
                </a:moveTo>
                <a:cubicBezTo>
                  <a:pt x="4435" y="8202"/>
                  <a:pt x="4456" y="8181"/>
                  <a:pt x="4477" y="8160"/>
                </a:cubicBezTo>
                <a:cubicBezTo>
                  <a:pt x="4560" y="8076"/>
                  <a:pt x="4640" y="7974"/>
                  <a:pt x="4699" y="7874"/>
                </a:cubicBezTo>
                <a:cubicBezTo>
                  <a:pt x="4779" y="7738"/>
                  <a:pt x="4845" y="7643"/>
                  <a:pt x="4953" y="7525"/>
                </a:cubicBezTo>
                <a:cubicBezTo>
                  <a:pt x="5079" y="7387"/>
                  <a:pt x="5218" y="7287"/>
                  <a:pt x="5366" y="7176"/>
                </a:cubicBezTo>
                <a:cubicBezTo>
                  <a:pt x="5543" y="7043"/>
                  <a:pt x="5721" y="6941"/>
                  <a:pt x="5906" y="6826"/>
                </a:cubicBezTo>
                <a:cubicBezTo>
                  <a:pt x="6123" y="6692"/>
                  <a:pt x="6366" y="6629"/>
                  <a:pt x="6604" y="6540"/>
                </a:cubicBezTo>
                <a:cubicBezTo>
                  <a:pt x="6851" y="6447"/>
                  <a:pt x="7106" y="6425"/>
                  <a:pt x="7366" y="6382"/>
                </a:cubicBezTo>
                <a:cubicBezTo>
                  <a:pt x="7630" y="6339"/>
                  <a:pt x="7924" y="6326"/>
                  <a:pt x="8192" y="6350"/>
                </a:cubicBezTo>
                <a:cubicBezTo>
                  <a:pt x="8464" y="6374"/>
                  <a:pt x="8720" y="6410"/>
                  <a:pt x="8985" y="6477"/>
                </a:cubicBezTo>
                <a:cubicBezTo>
                  <a:pt x="9248" y="6543"/>
                  <a:pt x="9474" y="6653"/>
                  <a:pt x="9716" y="6763"/>
                </a:cubicBezTo>
                <a:cubicBezTo>
                  <a:pt x="9914" y="6853"/>
                  <a:pt x="10067" y="6959"/>
                  <a:pt x="10224" y="7112"/>
                </a:cubicBezTo>
                <a:cubicBezTo>
                  <a:pt x="10330" y="7215"/>
                  <a:pt x="10415" y="7312"/>
                  <a:pt x="10509" y="7430"/>
                </a:cubicBezTo>
                <a:cubicBezTo>
                  <a:pt x="10563" y="7497"/>
                  <a:pt x="10640" y="7567"/>
                  <a:pt x="10668" y="7652"/>
                </a:cubicBezTo>
                <a:cubicBezTo>
                  <a:pt x="10691" y="7724"/>
                  <a:pt x="10651" y="7788"/>
                  <a:pt x="10636" y="7842"/>
                </a:cubicBezTo>
                <a:cubicBezTo>
                  <a:pt x="10636" y="7878"/>
                  <a:pt x="10633" y="7892"/>
                  <a:pt x="10604" y="7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31"/>
          <p:cNvSpPr/>
          <p:nvPr/>
        </p:nvSpPr>
        <p:spPr>
          <a:xfrm>
            <a:off x="1554120" y="2251080"/>
            <a:ext cx="3624480" cy="674640"/>
          </a:xfrm>
          <a:custGeom>
            <a:avLst/>
            <a:gdLst/>
            <a:ahLst/>
            <a:rect l="l" t="t" r="r" b="b"/>
            <a:pathLst>
              <a:path w="10066" h="1874">
                <a:moveTo>
                  <a:pt x="4413" y="8033"/>
                </a:moveTo>
                <a:cubicBezTo>
                  <a:pt x="4404" y="8007"/>
                  <a:pt x="4351" y="8019"/>
                  <a:pt x="4350" y="7969"/>
                </a:cubicBezTo>
                <a:cubicBezTo>
                  <a:pt x="4349" y="7931"/>
                  <a:pt x="4346" y="7894"/>
                  <a:pt x="4382" y="7810"/>
                </a:cubicBezTo>
                <a:cubicBezTo>
                  <a:pt x="4410" y="7745"/>
                  <a:pt x="4464" y="7642"/>
                  <a:pt x="4508" y="7588"/>
                </a:cubicBezTo>
                <a:cubicBezTo>
                  <a:pt x="4622" y="7447"/>
                  <a:pt x="4774" y="7337"/>
                  <a:pt x="4921" y="7239"/>
                </a:cubicBezTo>
                <a:cubicBezTo>
                  <a:pt x="5034" y="7164"/>
                  <a:pt x="5147" y="7111"/>
                  <a:pt x="5270" y="7048"/>
                </a:cubicBezTo>
                <a:cubicBezTo>
                  <a:pt x="5398" y="6983"/>
                  <a:pt x="5521" y="6918"/>
                  <a:pt x="5652" y="6858"/>
                </a:cubicBezTo>
                <a:cubicBezTo>
                  <a:pt x="5802" y="6790"/>
                  <a:pt x="5939" y="6723"/>
                  <a:pt x="6096" y="6668"/>
                </a:cubicBezTo>
                <a:cubicBezTo>
                  <a:pt x="6251" y="6614"/>
                  <a:pt x="6413" y="6545"/>
                  <a:pt x="6572" y="6509"/>
                </a:cubicBezTo>
                <a:cubicBezTo>
                  <a:pt x="6783" y="6461"/>
                  <a:pt x="7022" y="6417"/>
                  <a:pt x="7239" y="6382"/>
                </a:cubicBezTo>
                <a:cubicBezTo>
                  <a:pt x="7420" y="6353"/>
                  <a:pt x="7598" y="6339"/>
                  <a:pt x="7779" y="6318"/>
                </a:cubicBezTo>
                <a:cubicBezTo>
                  <a:pt x="8022" y="6290"/>
                  <a:pt x="8265" y="6264"/>
                  <a:pt x="8509" y="6255"/>
                </a:cubicBezTo>
                <a:cubicBezTo>
                  <a:pt x="8733" y="6246"/>
                  <a:pt x="8955" y="6263"/>
                  <a:pt x="9176" y="6286"/>
                </a:cubicBezTo>
                <a:cubicBezTo>
                  <a:pt x="9347" y="6304"/>
                  <a:pt x="9514" y="6329"/>
                  <a:pt x="9684" y="6350"/>
                </a:cubicBezTo>
                <a:cubicBezTo>
                  <a:pt x="9856" y="6372"/>
                  <a:pt x="10020" y="6416"/>
                  <a:pt x="10192" y="6445"/>
                </a:cubicBezTo>
                <a:cubicBezTo>
                  <a:pt x="10370" y="6475"/>
                  <a:pt x="10552" y="6509"/>
                  <a:pt x="10732" y="6540"/>
                </a:cubicBezTo>
                <a:cubicBezTo>
                  <a:pt x="10901" y="6569"/>
                  <a:pt x="11071" y="6594"/>
                  <a:pt x="11240" y="6636"/>
                </a:cubicBezTo>
                <a:cubicBezTo>
                  <a:pt x="11563" y="6716"/>
                  <a:pt x="11882" y="6828"/>
                  <a:pt x="12192" y="6922"/>
                </a:cubicBezTo>
                <a:cubicBezTo>
                  <a:pt x="12431" y="6995"/>
                  <a:pt x="12659" y="7049"/>
                  <a:pt x="12890" y="7144"/>
                </a:cubicBezTo>
                <a:cubicBezTo>
                  <a:pt x="13043" y="7207"/>
                  <a:pt x="13187" y="7259"/>
                  <a:pt x="13335" y="7334"/>
                </a:cubicBezTo>
                <a:cubicBezTo>
                  <a:pt x="13441" y="7388"/>
                  <a:pt x="13555" y="7478"/>
                  <a:pt x="13652" y="7556"/>
                </a:cubicBezTo>
                <a:cubicBezTo>
                  <a:pt x="13737" y="7624"/>
                  <a:pt x="13816" y="7686"/>
                  <a:pt x="13906" y="7747"/>
                </a:cubicBezTo>
                <a:cubicBezTo>
                  <a:pt x="13999" y="7810"/>
                  <a:pt x="14100" y="7872"/>
                  <a:pt x="14192" y="7938"/>
                </a:cubicBezTo>
                <a:cubicBezTo>
                  <a:pt x="14263" y="7989"/>
                  <a:pt x="14343" y="8049"/>
                  <a:pt x="14383" y="8096"/>
                </a:cubicBezTo>
                <a:cubicBezTo>
                  <a:pt x="14383" y="8107"/>
                  <a:pt x="14383" y="8117"/>
                  <a:pt x="14383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4)(2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ˆ-6x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(x</a:t>
            </a:r>
            <a:r>
              <a:rPr b="0" lang="en-US" sz="2800" spc="-1" strike="noStrike">
                <a:solidFill>
                  <a:srgbClr val="000000"/>
                </a:solidFill>
                <a:latin typeface="AEC Calculus"/>
              </a:rPr>
              <a:t>ˆ+2x-5)+6xˆ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4521240" y="3371760"/>
          <a:ext cx="101520" cy="1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71760"/>
                    <a:ext cx="1015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Ink 5"/>
          <p:cNvSpPr/>
          <p:nvPr/>
        </p:nvSpPr>
        <p:spPr>
          <a:xfrm>
            <a:off x="1874880" y="2011320"/>
            <a:ext cx="2125800" cy="755640"/>
          </a:xfrm>
          <a:custGeom>
            <a:avLst/>
            <a:gdLst/>
            <a:ahLst/>
            <a:rect l="l" t="t" r="r" b="b"/>
            <a:pathLst>
              <a:path w="5906" h="2097">
                <a:moveTo>
                  <a:pt x="8731" y="7239"/>
                </a:moveTo>
                <a:cubicBezTo>
                  <a:pt x="8762" y="7229"/>
                  <a:pt x="8789" y="7227"/>
                  <a:pt x="8826" y="7207"/>
                </a:cubicBezTo>
                <a:cubicBezTo>
                  <a:pt x="8857" y="7190"/>
                  <a:pt x="8909" y="7151"/>
                  <a:pt x="8954" y="7176"/>
                </a:cubicBezTo>
                <a:cubicBezTo>
                  <a:pt x="9009" y="7206"/>
                  <a:pt x="9017" y="7247"/>
                  <a:pt x="9017" y="7302"/>
                </a:cubicBezTo>
                <a:cubicBezTo>
                  <a:pt x="9017" y="7386"/>
                  <a:pt x="8976" y="7427"/>
                  <a:pt x="8954" y="7493"/>
                </a:cubicBezTo>
                <a:cubicBezTo>
                  <a:pt x="8935" y="7553"/>
                  <a:pt x="8892" y="7594"/>
                  <a:pt x="8858" y="7620"/>
                </a:cubicBezTo>
                <a:cubicBezTo>
                  <a:pt x="8801" y="7663"/>
                  <a:pt x="8850" y="7665"/>
                  <a:pt x="8795" y="7684"/>
                </a:cubicBezTo>
                <a:cubicBezTo>
                  <a:pt x="8836" y="7670"/>
                  <a:pt x="8833" y="7633"/>
                  <a:pt x="8858" y="7620"/>
                </a:cubicBezTo>
                <a:cubicBezTo>
                  <a:pt x="8914" y="7592"/>
                  <a:pt x="8942" y="7646"/>
                  <a:pt x="8954" y="7652"/>
                </a:cubicBezTo>
                <a:cubicBezTo>
                  <a:pt x="9007" y="7679"/>
                  <a:pt x="9133" y="7653"/>
                  <a:pt x="9144" y="7620"/>
                </a:cubicBezTo>
              </a:path>
              <a:path w="5906" h="2097">
                <a:moveTo>
                  <a:pt x="5207" y="7556"/>
                </a:moveTo>
                <a:cubicBezTo>
                  <a:pt x="5214" y="7504"/>
                  <a:pt x="5219" y="7475"/>
                  <a:pt x="5239" y="7430"/>
                </a:cubicBezTo>
                <a:cubicBezTo>
                  <a:pt x="5260" y="7382"/>
                  <a:pt x="5296" y="7316"/>
                  <a:pt x="5334" y="7271"/>
                </a:cubicBezTo>
                <a:cubicBezTo>
                  <a:pt x="5377" y="7220"/>
                  <a:pt x="5413" y="7155"/>
                  <a:pt x="5461" y="7112"/>
                </a:cubicBezTo>
                <a:cubicBezTo>
                  <a:pt x="5533" y="7048"/>
                  <a:pt x="5591" y="6999"/>
                  <a:pt x="5683" y="6953"/>
                </a:cubicBezTo>
                <a:cubicBezTo>
                  <a:pt x="5776" y="6907"/>
                  <a:pt x="5837" y="6833"/>
                  <a:pt x="5937" y="6794"/>
                </a:cubicBezTo>
                <a:cubicBezTo>
                  <a:pt x="6047" y="6751"/>
                  <a:pt x="6147" y="6734"/>
                  <a:pt x="6255" y="6699"/>
                </a:cubicBezTo>
                <a:cubicBezTo>
                  <a:pt x="6373" y="6660"/>
                  <a:pt x="6480" y="6668"/>
                  <a:pt x="6604" y="6668"/>
                </a:cubicBezTo>
                <a:cubicBezTo>
                  <a:pt x="6743" y="6668"/>
                  <a:pt x="6885" y="6651"/>
                  <a:pt x="7017" y="6699"/>
                </a:cubicBezTo>
                <a:cubicBezTo>
                  <a:pt x="7106" y="6731"/>
                  <a:pt x="7183" y="6750"/>
                  <a:pt x="7271" y="6794"/>
                </a:cubicBezTo>
                <a:cubicBezTo>
                  <a:pt x="7360" y="6839"/>
                  <a:pt x="7450" y="6890"/>
                  <a:pt x="7525" y="6953"/>
                </a:cubicBezTo>
                <a:cubicBezTo>
                  <a:pt x="7599" y="7015"/>
                  <a:pt x="7649" y="7119"/>
                  <a:pt x="7715" y="7176"/>
                </a:cubicBezTo>
                <a:cubicBezTo>
                  <a:pt x="7770" y="7224"/>
                  <a:pt x="7830" y="7268"/>
                  <a:pt x="7874" y="7334"/>
                </a:cubicBezTo>
                <a:cubicBezTo>
                  <a:pt x="7896" y="7367"/>
                  <a:pt x="7923" y="7411"/>
                  <a:pt x="7938" y="7430"/>
                </a:cubicBezTo>
              </a:path>
              <a:path w="5906" h="2097">
                <a:moveTo>
                  <a:pt x="5302" y="7239"/>
                </a:moveTo>
                <a:cubicBezTo>
                  <a:pt x="5309" y="7158"/>
                  <a:pt x="5301" y="7117"/>
                  <a:pt x="5334" y="7048"/>
                </a:cubicBezTo>
                <a:cubicBezTo>
                  <a:pt x="5355" y="7004"/>
                  <a:pt x="5393" y="6896"/>
                  <a:pt x="5429" y="6858"/>
                </a:cubicBezTo>
                <a:cubicBezTo>
                  <a:pt x="5482" y="6802"/>
                  <a:pt x="5561" y="6747"/>
                  <a:pt x="5620" y="6699"/>
                </a:cubicBezTo>
                <a:cubicBezTo>
                  <a:pt x="5702" y="6633"/>
                  <a:pt x="5796" y="6576"/>
                  <a:pt x="5874" y="6509"/>
                </a:cubicBezTo>
                <a:cubicBezTo>
                  <a:pt x="5969" y="6428"/>
                  <a:pt x="6074" y="6363"/>
                  <a:pt x="6191" y="6318"/>
                </a:cubicBezTo>
                <a:cubicBezTo>
                  <a:pt x="6322" y="6267"/>
                  <a:pt x="6437" y="6205"/>
                  <a:pt x="6572" y="6160"/>
                </a:cubicBezTo>
                <a:cubicBezTo>
                  <a:pt x="6716" y="6112"/>
                  <a:pt x="6841" y="6093"/>
                  <a:pt x="6985" y="6064"/>
                </a:cubicBezTo>
                <a:cubicBezTo>
                  <a:pt x="7161" y="6029"/>
                  <a:pt x="7345" y="6006"/>
                  <a:pt x="7525" y="6001"/>
                </a:cubicBezTo>
                <a:cubicBezTo>
                  <a:pt x="7680" y="5997"/>
                  <a:pt x="7851" y="6003"/>
                  <a:pt x="8001" y="6032"/>
                </a:cubicBezTo>
                <a:cubicBezTo>
                  <a:pt x="8143" y="6060"/>
                  <a:pt x="8311" y="6065"/>
                  <a:pt x="8446" y="6128"/>
                </a:cubicBezTo>
                <a:cubicBezTo>
                  <a:pt x="8584" y="6192"/>
                  <a:pt x="8720" y="6253"/>
                  <a:pt x="8858" y="6318"/>
                </a:cubicBezTo>
                <a:cubicBezTo>
                  <a:pt x="9017" y="6393"/>
                  <a:pt x="9116" y="6481"/>
                  <a:pt x="9239" y="6604"/>
                </a:cubicBezTo>
                <a:cubicBezTo>
                  <a:pt x="9337" y="6702"/>
                  <a:pt x="9446" y="6773"/>
                  <a:pt x="9525" y="6890"/>
                </a:cubicBezTo>
                <a:cubicBezTo>
                  <a:pt x="9586" y="6980"/>
                  <a:pt x="9628" y="7083"/>
                  <a:pt x="9684" y="7176"/>
                </a:cubicBezTo>
                <a:cubicBezTo>
                  <a:pt x="9723" y="7242"/>
                  <a:pt x="9753" y="7297"/>
                  <a:pt x="9779" y="7366"/>
                </a:cubicBezTo>
                <a:cubicBezTo>
                  <a:pt x="9795" y="7409"/>
                  <a:pt x="9798" y="7385"/>
                  <a:pt x="9811" y="7430"/>
                </a:cubicBezTo>
              </a:path>
              <a:path w="5906" h="2097">
                <a:moveTo>
                  <a:pt x="5588" y="6826"/>
                </a:moveTo>
                <a:cubicBezTo>
                  <a:pt x="5611" y="6776"/>
                  <a:pt x="5618" y="6753"/>
                  <a:pt x="5652" y="6699"/>
                </a:cubicBezTo>
                <a:cubicBezTo>
                  <a:pt x="5691" y="6638"/>
                  <a:pt x="5757" y="6549"/>
                  <a:pt x="5810" y="6509"/>
                </a:cubicBezTo>
                <a:cubicBezTo>
                  <a:pt x="5901" y="6441"/>
                  <a:pt x="6004" y="6382"/>
                  <a:pt x="6096" y="6318"/>
                </a:cubicBezTo>
                <a:cubicBezTo>
                  <a:pt x="6220" y="6231"/>
                  <a:pt x="6351" y="6170"/>
                  <a:pt x="6477" y="6096"/>
                </a:cubicBezTo>
                <a:cubicBezTo>
                  <a:pt x="6610" y="6018"/>
                  <a:pt x="6750" y="5971"/>
                  <a:pt x="6890" y="5906"/>
                </a:cubicBezTo>
                <a:cubicBezTo>
                  <a:pt x="7089" y="5813"/>
                  <a:pt x="7313" y="5741"/>
                  <a:pt x="7525" y="5683"/>
                </a:cubicBezTo>
                <a:cubicBezTo>
                  <a:pt x="7689" y="5638"/>
                  <a:pt x="7894" y="5607"/>
                  <a:pt x="8064" y="5588"/>
                </a:cubicBezTo>
                <a:cubicBezTo>
                  <a:pt x="8370" y="5554"/>
                  <a:pt x="8750" y="5563"/>
                  <a:pt x="9049" y="5620"/>
                </a:cubicBezTo>
                <a:cubicBezTo>
                  <a:pt x="9240" y="5657"/>
                  <a:pt x="9440" y="5705"/>
                  <a:pt x="9620" y="5778"/>
                </a:cubicBezTo>
                <a:cubicBezTo>
                  <a:pt x="9801" y="5851"/>
                  <a:pt x="9997" y="5958"/>
                  <a:pt x="10160" y="6064"/>
                </a:cubicBezTo>
                <a:cubicBezTo>
                  <a:pt x="10307" y="6159"/>
                  <a:pt x="10471" y="6269"/>
                  <a:pt x="10604" y="6382"/>
                </a:cubicBezTo>
                <a:cubicBezTo>
                  <a:pt x="10715" y="6477"/>
                  <a:pt x="10793" y="6593"/>
                  <a:pt x="10890" y="6699"/>
                </a:cubicBezTo>
                <a:cubicBezTo>
                  <a:pt x="10951" y="6765"/>
                  <a:pt x="11004" y="6801"/>
                  <a:pt x="11049" y="6890"/>
                </a:cubicBezTo>
                <a:cubicBezTo>
                  <a:pt x="11081" y="6952"/>
                  <a:pt x="11092" y="7016"/>
                  <a:pt x="11112" y="7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5543640" y="1932120"/>
            <a:ext cx="2228760" cy="731880"/>
          </a:xfrm>
          <a:custGeom>
            <a:avLst/>
            <a:gdLst/>
            <a:ahLst/>
            <a:rect l="l" t="t" r="r" b="b"/>
            <a:pathLst>
              <a:path w="6192" h="2033">
                <a:moveTo>
                  <a:pt x="15526" y="5778"/>
                </a:moveTo>
                <a:cubicBezTo>
                  <a:pt x="15536" y="5728"/>
                  <a:pt x="15524" y="5721"/>
                  <a:pt x="15558" y="5683"/>
                </a:cubicBezTo>
                <a:cubicBezTo>
                  <a:pt x="15596" y="5641"/>
                  <a:pt x="15647" y="5555"/>
                  <a:pt x="15684" y="5524"/>
                </a:cubicBezTo>
                <a:cubicBezTo>
                  <a:pt x="15729" y="5486"/>
                  <a:pt x="15767" y="5492"/>
                  <a:pt x="15812" y="5524"/>
                </a:cubicBezTo>
                <a:cubicBezTo>
                  <a:pt x="15872" y="5567"/>
                  <a:pt x="15843" y="5714"/>
                  <a:pt x="15843" y="5778"/>
                </a:cubicBezTo>
                <a:cubicBezTo>
                  <a:pt x="15843" y="5918"/>
                  <a:pt x="15789" y="6057"/>
                  <a:pt x="15748" y="6191"/>
                </a:cubicBezTo>
                <a:cubicBezTo>
                  <a:pt x="15705" y="6332"/>
                  <a:pt x="15663" y="6512"/>
                  <a:pt x="15589" y="6636"/>
                </a:cubicBezTo>
                <a:cubicBezTo>
                  <a:pt x="15541" y="6716"/>
                  <a:pt x="15494" y="6818"/>
                  <a:pt x="15430" y="6890"/>
                </a:cubicBezTo>
                <a:cubicBezTo>
                  <a:pt x="15402" y="6919"/>
                  <a:pt x="15392" y="6925"/>
                  <a:pt x="15399" y="6953"/>
                </a:cubicBezTo>
                <a:cubicBezTo>
                  <a:pt x="15420" y="6905"/>
                  <a:pt x="15428" y="6843"/>
                  <a:pt x="15462" y="6794"/>
                </a:cubicBezTo>
                <a:cubicBezTo>
                  <a:pt x="15486" y="6760"/>
                  <a:pt x="15552" y="6737"/>
                  <a:pt x="15589" y="6731"/>
                </a:cubicBezTo>
                <a:cubicBezTo>
                  <a:pt x="15669" y="6717"/>
                  <a:pt x="15696" y="6742"/>
                  <a:pt x="15748" y="6794"/>
                </a:cubicBezTo>
                <a:cubicBezTo>
                  <a:pt x="15801" y="6846"/>
                  <a:pt x="15831" y="6895"/>
                  <a:pt x="15875" y="6953"/>
                </a:cubicBezTo>
                <a:cubicBezTo>
                  <a:pt x="15910" y="6999"/>
                  <a:pt x="15951" y="7036"/>
                  <a:pt x="16002" y="7048"/>
                </a:cubicBezTo>
                <a:cubicBezTo>
                  <a:pt x="16051" y="7059"/>
                  <a:pt x="16089" y="7032"/>
                  <a:pt x="16129" y="7017"/>
                </a:cubicBezTo>
              </a:path>
              <a:path w="6192" h="2033">
                <a:moveTo>
                  <a:pt x="16129" y="6096"/>
                </a:moveTo>
                <a:cubicBezTo>
                  <a:pt x="16203" y="6170"/>
                  <a:pt x="16185" y="6217"/>
                  <a:pt x="16224" y="6318"/>
                </a:cubicBezTo>
                <a:cubicBezTo>
                  <a:pt x="16265" y="6425"/>
                  <a:pt x="16314" y="6527"/>
                  <a:pt x="16351" y="6636"/>
                </a:cubicBezTo>
                <a:cubicBezTo>
                  <a:pt x="16390" y="6749"/>
                  <a:pt x="16430" y="6868"/>
                  <a:pt x="16446" y="6985"/>
                </a:cubicBezTo>
                <a:cubicBezTo>
                  <a:pt x="16454" y="7043"/>
                  <a:pt x="16456" y="7174"/>
                  <a:pt x="16510" y="7207"/>
                </a:cubicBezTo>
                <a:cubicBezTo>
                  <a:pt x="16542" y="7207"/>
                  <a:pt x="16552" y="7207"/>
                  <a:pt x="16542" y="7176"/>
                </a:cubicBezTo>
              </a:path>
              <a:path w="6192" h="2033">
                <a:moveTo>
                  <a:pt x="16542" y="6160"/>
                </a:moveTo>
                <a:cubicBezTo>
                  <a:pt x="16476" y="6192"/>
                  <a:pt x="16418" y="6336"/>
                  <a:pt x="16383" y="6414"/>
                </a:cubicBezTo>
                <a:cubicBezTo>
                  <a:pt x="16323" y="6549"/>
                  <a:pt x="16288" y="6697"/>
                  <a:pt x="16224" y="6826"/>
                </a:cubicBezTo>
                <a:cubicBezTo>
                  <a:pt x="16162" y="6952"/>
                  <a:pt x="16121" y="7077"/>
                  <a:pt x="16066" y="7207"/>
                </a:cubicBezTo>
                <a:cubicBezTo>
                  <a:pt x="16039" y="7270"/>
                  <a:pt x="16034" y="7312"/>
                  <a:pt x="16002" y="7366"/>
                </a:cubicBezTo>
              </a:path>
              <a:path w="6192" h="2033">
                <a:moveTo>
                  <a:pt x="16732" y="5556"/>
                </a:moveTo>
                <a:cubicBezTo>
                  <a:pt x="16732" y="5491"/>
                  <a:pt x="16751" y="5488"/>
                  <a:pt x="16764" y="5461"/>
                </a:cubicBezTo>
                <a:cubicBezTo>
                  <a:pt x="16787" y="5416"/>
                  <a:pt x="16812" y="5429"/>
                  <a:pt x="16859" y="5398"/>
                </a:cubicBezTo>
                <a:cubicBezTo>
                  <a:pt x="16895" y="5374"/>
                  <a:pt x="16955" y="5352"/>
                  <a:pt x="16986" y="5398"/>
                </a:cubicBezTo>
                <a:cubicBezTo>
                  <a:pt x="17031" y="5464"/>
                  <a:pt x="16991" y="5485"/>
                  <a:pt x="16954" y="5556"/>
                </a:cubicBezTo>
                <a:cubicBezTo>
                  <a:pt x="16919" y="5623"/>
                  <a:pt x="16879" y="5691"/>
                  <a:pt x="16828" y="5747"/>
                </a:cubicBezTo>
                <a:cubicBezTo>
                  <a:pt x="16799" y="5778"/>
                  <a:pt x="16747" y="5823"/>
                  <a:pt x="16828" y="5778"/>
                </a:cubicBezTo>
                <a:cubicBezTo>
                  <a:pt x="16888" y="5745"/>
                  <a:pt x="16879" y="5715"/>
                  <a:pt x="16954" y="5715"/>
                </a:cubicBezTo>
                <a:cubicBezTo>
                  <a:pt x="17008" y="5715"/>
                  <a:pt x="17044" y="5760"/>
                  <a:pt x="17050" y="5810"/>
                </a:cubicBezTo>
                <a:cubicBezTo>
                  <a:pt x="17058" y="5881"/>
                  <a:pt x="17030" y="5914"/>
                  <a:pt x="17018" y="5969"/>
                </a:cubicBezTo>
                <a:cubicBezTo>
                  <a:pt x="16994" y="6081"/>
                  <a:pt x="16962" y="6017"/>
                  <a:pt x="16923" y="6096"/>
                </a:cubicBezTo>
                <a:cubicBezTo>
                  <a:pt x="16899" y="6145"/>
                  <a:pt x="16867" y="6128"/>
                  <a:pt x="16796" y="6128"/>
                </a:cubicBezTo>
                <a:cubicBezTo>
                  <a:pt x="16764" y="6128"/>
                  <a:pt x="16753" y="6128"/>
                  <a:pt x="16732" y="6128"/>
                </a:cubicBezTo>
              </a:path>
              <a:path w="6192" h="2033">
                <a:moveTo>
                  <a:pt x="17113" y="6668"/>
                </a:moveTo>
                <a:cubicBezTo>
                  <a:pt x="17103" y="6668"/>
                  <a:pt x="17092" y="6668"/>
                  <a:pt x="17082" y="6668"/>
                </a:cubicBezTo>
                <a:cubicBezTo>
                  <a:pt x="17091" y="6696"/>
                  <a:pt x="17137" y="6717"/>
                  <a:pt x="17177" y="6731"/>
                </a:cubicBezTo>
                <a:cubicBezTo>
                  <a:pt x="17237" y="6751"/>
                  <a:pt x="17293" y="6708"/>
                  <a:pt x="17336" y="6699"/>
                </a:cubicBezTo>
                <a:cubicBezTo>
                  <a:pt x="17405" y="6685"/>
                  <a:pt x="17465" y="6686"/>
                  <a:pt x="17526" y="6668"/>
                </a:cubicBezTo>
                <a:cubicBezTo>
                  <a:pt x="17558" y="6668"/>
                  <a:pt x="17569" y="6668"/>
                  <a:pt x="17590" y="6668"/>
                </a:cubicBezTo>
              </a:path>
              <a:path w="6192" h="2033">
                <a:moveTo>
                  <a:pt x="18034" y="5683"/>
                </a:moveTo>
                <a:cubicBezTo>
                  <a:pt x="18034" y="5766"/>
                  <a:pt x="18033" y="5824"/>
                  <a:pt x="18002" y="5906"/>
                </a:cubicBezTo>
                <a:cubicBezTo>
                  <a:pt x="17960" y="6015"/>
                  <a:pt x="17940" y="6137"/>
                  <a:pt x="17907" y="6255"/>
                </a:cubicBezTo>
                <a:cubicBezTo>
                  <a:pt x="17866" y="6401"/>
                  <a:pt x="17875" y="6553"/>
                  <a:pt x="17844" y="6699"/>
                </a:cubicBezTo>
                <a:cubicBezTo>
                  <a:pt x="17817" y="6824"/>
                  <a:pt x="17805" y="6923"/>
                  <a:pt x="17844" y="7048"/>
                </a:cubicBezTo>
                <a:cubicBezTo>
                  <a:pt x="17856" y="7086"/>
                  <a:pt x="17925" y="7194"/>
                  <a:pt x="17970" y="7207"/>
                </a:cubicBezTo>
                <a:cubicBezTo>
                  <a:pt x="18044" y="7228"/>
                  <a:pt x="18135" y="7184"/>
                  <a:pt x="18193" y="7144"/>
                </a:cubicBezTo>
                <a:cubicBezTo>
                  <a:pt x="18274" y="7087"/>
                  <a:pt x="18333" y="7042"/>
                  <a:pt x="18383" y="6953"/>
                </a:cubicBezTo>
                <a:cubicBezTo>
                  <a:pt x="18421" y="6884"/>
                  <a:pt x="18496" y="6782"/>
                  <a:pt x="18478" y="6699"/>
                </a:cubicBezTo>
                <a:cubicBezTo>
                  <a:pt x="18463" y="6632"/>
                  <a:pt x="18428" y="6560"/>
                  <a:pt x="18383" y="6509"/>
                </a:cubicBezTo>
                <a:cubicBezTo>
                  <a:pt x="18339" y="6460"/>
                  <a:pt x="18266" y="6459"/>
                  <a:pt x="18224" y="6509"/>
                </a:cubicBezTo>
                <a:cubicBezTo>
                  <a:pt x="18162" y="6582"/>
                  <a:pt x="18084" y="6657"/>
                  <a:pt x="18066" y="6763"/>
                </a:cubicBezTo>
                <a:cubicBezTo>
                  <a:pt x="18045" y="6887"/>
                  <a:pt x="18051" y="6962"/>
                  <a:pt x="18066" y="7080"/>
                </a:cubicBezTo>
                <a:cubicBezTo>
                  <a:pt x="18074" y="7140"/>
                  <a:pt x="18067" y="7157"/>
                  <a:pt x="18098" y="7207"/>
                </a:cubicBezTo>
              </a:path>
              <a:path w="6192" h="2033">
                <a:moveTo>
                  <a:pt x="18606" y="6096"/>
                </a:moveTo>
                <a:cubicBezTo>
                  <a:pt x="18582" y="6096"/>
                  <a:pt x="18586" y="6102"/>
                  <a:pt x="18606" y="6160"/>
                </a:cubicBezTo>
                <a:cubicBezTo>
                  <a:pt x="18639" y="6254"/>
                  <a:pt x="18693" y="6353"/>
                  <a:pt x="18732" y="6445"/>
                </a:cubicBezTo>
                <a:cubicBezTo>
                  <a:pt x="18778" y="6553"/>
                  <a:pt x="18794" y="6652"/>
                  <a:pt x="18828" y="6763"/>
                </a:cubicBezTo>
                <a:cubicBezTo>
                  <a:pt x="18862" y="6873"/>
                  <a:pt x="18900" y="6972"/>
                  <a:pt x="18923" y="7080"/>
                </a:cubicBezTo>
                <a:cubicBezTo>
                  <a:pt x="18936" y="7141"/>
                  <a:pt x="18932" y="7251"/>
                  <a:pt x="18955" y="7112"/>
                </a:cubicBezTo>
              </a:path>
              <a:path w="6192" h="2033">
                <a:moveTo>
                  <a:pt x="18986" y="6001"/>
                </a:moveTo>
                <a:cubicBezTo>
                  <a:pt x="18936" y="6114"/>
                  <a:pt x="18910" y="6237"/>
                  <a:pt x="18860" y="6350"/>
                </a:cubicBezTo>
                <a:cubicBezTo>
                  <a:pt x="18788" y="6513"/>
                  <a:pt x="18773" y="6699"/>
                  <a:pt x="18701" y="6858"/>
                </a:cubicBezTo>
                <a:cubicBezTo>
                  <a:pt x="18646" y="6979"/>
                  <a:pt x="18613" y="7084"/>
                  <a:pt x="18574" y="7207"/>
                </a:cubicBezTo>
                <a:cubicBezTo>
                  <a:pt x="18552" y="7275"/>
                  <a:pt x="18535" y="7331"/>
                  <a:pt x="18510" y="7398"/>
                </a:cubicBezTo>
              </a:path>
              <a:path w="6192" h="2033">
                <a:moveTo>
                  <a:pt x="19082" y="5683"/>
                </a:moveTo>
                <a:cubicBezTo>
                  <a:pt x="19018" y="5641"/>
                  <a:pt x="19061" y="5610"/>
                  <a:pt x="19114" y="5556"/>
                </a:cubicBezTo>
                <a:cubicBezTo>
                  <a:pt x="19184" y="5485"/>
                  <a:pt x="19164" y="5461"/>
                  <a:pt x="19272" y="5461"/>
                </a:cubicBezTo>
                <a:cubicBezTo>
                  <a:pt x="19354" y="5461"/>
                  <a:pt x="19363" y="5470"/>
                  <a:pt x="19368" y="5556"/>
                </a:cubicBezTo>
                <a:cubicBezTo>
                  <a:pt x="19373" y="5649"/>
                  <a:pt x="19310" y="5790"/>
                  <a:pt x="19272" y="5874"/>
                </a:cubicBezTo>
                <a:cubicBezTo>
                  <a:pt x="19242" y="5942"/>
                  <a:pt x="19197" y="5981"/>
                  <a:pt x="19145" y="6032"/>
                </a:cubicBezTo>
                <a:cubicBezTo>
                  <a:pt x="19252" y="6032"/>
                  <a:pt x="19340" y="6031"/>
                  <a:pt x="19431" y="6001"/>
                </a:cubicBezTo>
                <a:cubicBezTo>
                  <a:pt x="19463" y="6001"/>
                  <a:pt x="19473" y="6001"/>
                  <a:pt x="19494" y="6001"/>
                </a:cubicBezTo>
              </a:path>
              <a:path w="6192" h="2033">
                <a:moveTo>
                  <a:pt x="19971" y="6128"/>
                </a:moveTo>
                <a:cubicBezTo>
                  <a:pt x="19971" y="6260"/>
                  <a:pt x="19954" y="6385"/>
                  <a:pt x="19939" y="6509"/>
                </a:cubicBezTo>
                <a:cubicBezTo>
                  <a:pt x="19926" y="6621"/>
                  <a:pt x="19907" y="6710"/>
                  <a:pt x="19907" y="6826"/>
                </a:cubicBezTo>
                <a:cubicBezTo>
                  <a:pt x="19907" y="6882"/>
                  <a:pt x="19888" y="6904"/>
                  <a:pt x="19876" y="6953"/>
                </a:cubicBezTo>
              </a:path>
              <a:path w="6192" h="2033">
                <a:moveTo>
                  <a:pt x="19653" y="6604"/>
                </a:moveTo>
                <a:cubicBezTo>
                  <a:pt x="19721" y="6604"/>
                  <a:pt x="19755" y="6576"/>
                  <a:pt x="19812" y="6572"/>
                </a:cubicBezTo>
                <a:cubicBezTo>
                  <a:pt x="19919" y="6564"/>
                  <a:pt x="19997" y="6563"/>
                  <a:pt x="20098" y="6540"/>
                </a:cubicBezTo>
                <a:cubicBezTo>
                  <a:pt x="20109" y="6540"/>
                  <a:pt x="20119" y="6540"/>
                  <a:pt x="20130" y="6540"/>
                </a:cubicBezTo>
              </a:path>
              <a:path w="6192" h="2033">
                <a:moveTo>
                  <a:pt x="20320" y="6128"/>
                </a:moveTo>
                <a:cubicBezTo>
                  <a:pt x="20320" y="6055"/>
                  <a:pt x="20321" y="5967"/>
                  <a:pt x="20352" y="5906"/>
                </a:cubicBezTo>
                <a:cubicBezTo>
                  <a:pt x="20385" y="5840"/>
                  <a:pt x="20459" y="5789"/>
                  <a:pt x="20510" y="5747"/>
                </a:cubicBezTo>
                <a:cubicBezTo>
                  <a:pt x="20538" y="5724"/>
                  <a:pt x="20666" y="5680"/>
                  <a:pt x="20701" y="5715"/>
                </a:cubicBezTo>
                <a:cubicBezTo>
                  <a:pt x="20781" y="5794"/>
                  <a:pt x="20764" y="5897"/>
                  <a:pt x="20764" y="6001"/>
                </a:cubicBezTo>
                <a:cubicBezTo>
                  <a:pt x="20764" y="6149"/>
                  <a:pt x="20699" y="6281"/>
                  <a:pt x="20638" y="6414"/>
                </a:cubicBezTo>
                <a:cubicBezTo>
                  <a:pt x="20580" y="6541"/>
                  <a:pt x="20529" y="6680"/>
                  <a:pt x="20447" y="6794"/>
                </a:cubicBezTo>
                <a:cubicBezTo>
                  <a:pt x="20415" y="6839"/>
                  <a:pt x="20392" y="6870"/>
                  <a:pt x="20352" y="6890"/>
                </a:cubicBezTo>
                <a:cubicBezTo>
                  <a:pt x="20364" y="6853"/>
                  <a:pt x="20395" y="6832"/>
                  <a:pt x="20447" y="6826"/>
                </a:cubicBezTo>
                <a:cubicBezTo>
                  <a:pt x="20493" y="6821"/>
                  <a:pt x="20535" y="6796"/>
                  <a:pt x="20542" y="6794"/>
                </a:cubicBezTo>
                <a:cubicBezTo>
                  <a:pt x="20617" y="6773"/>
                  <a:pt x="20765" y="6784"/>
                  <a:pt x="20828" y="6826"/>
                </a:cubicBezTo>
                <a:cubicBezTo>
                  <a:pt x="20867" y="6852"/>
                  <a:pt x="20912" y="6903"/>
                  <a:pt x="20955" y="6922"/>
                </a:cubicBezTo>
                <a:cubicBezTo>
                  <a:pt x="20997" y="6941"/>
                  <a:pt x="21049" y="6985"/>
                  <a:pt x="21082" y="6953"/>
                </a:cubicBezTo>
                <a:cubicBezTo>
                  <a:pt x="21113" y="6923"/>
                  <a:pt x="21115" y="6895"/>
                  <a:pt x="21146" y="6826"/>
                </a:cubicBezTo>
              </a:path>
              <a:path w="6192" h="2033">
                <a:moveTo>
                  <a:pt x="21050" y="6064"/>
                </a:moveTo>
                <a:cubicBezTo>
                  <a:pt x="21098" y="6160"/>
                  <a:pt x="21152" y="6232"/>
                  <a:pt x="21209" y="6318"/>
                </a:cubicBezTo>
                <a:cubicBezTo>
                  <a:pt x="21272" y="6412"/>
                  <a:pt x="21295" y="6515"/>
                  <a:pt x="21368" y="6604"/>
                </a:cubicBezTo>
                <a:cubicBezTo>
                  <a:pt x="21436" y="6686"/>
                  <a:pt x="21467" y="6771"/>
                  <a:pt x="21526" y="6858"/>
                </a:cubicBezTo>
                <a:cubicBezTo>
                  <a:pt x="21560" y="6908"/>
                  <a:pt x="21553" y="6929"/>
                  <a:pt x="21590" y="6953"/>
                </a:cubicBezTo>
              </a:path>
              <a:path w="6192" h="2033">
                <a:moveTo>
                  <a:pt x="21495" y="5969"/>
                </a:moveTo>
                <a:cubicBezTo>
                  <a:pt x="21476" y="6044"/>
                  <a:pt x="21434" y="6145"/>
                  <a:pt x="21400" y="6223"/>
                </a:cubicBezTo>
                <a:cubicBezTo>
                  <a:pt x="21322" y="6400"/>
                  <a:pt x="21236" y="6593"/>
                  <a:pt x="21146" y="6763"/>
                </a:cubicBezTo>
                <a:cubicBezTo>
                  <a:pt x="21067" y="6912"/>
                  <a:pt x="20980" y="7063"/>
                  <a:pt x="20892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2217600" y="2629080"/>
            <a:ext cx="6629400" cy="880920"/>
          </a:xfrm>
          <a:custGeom>
            <a:avLst/>
            <a:gdLst/>
            <a:ahLst/>
            <a:rect l="l" t="t" r="r" b="b"/>
            <a:pathLst>
              <a:path w="18415" h="2446">
                <a:moveTo>
                  <a:pt x="6255" y="8446"/>
                </a:moveTo>
                <a:cubicBezTo>
                  <a:pt x="6255" y="8523"/>
                  <a:pt x="6235" y="8565"/>
                  <a:pt x="6223" y="8636"/>
                </a:cubicBezTo>
                <a:cubicBezTo>
                  <a:pt x="6214" y="8692"/>
                  <a:pt x="6223" y="8722"/>
                  <a:pt x="6255" y="8763"/>
                </a:cubicBezTo>
                <a:cubicBezTo>
                  <a:pt x="6280" y="8795"/>
                  <a:pt x="6276" y="8816"/>
                  <a:pt x="6318" y="8858"/>
                </a:cubicBezTo>
                <a:cubicBezTo>
                  <a:pt x="6356" y="8896"/>
                  <a:pt x="6406" y="8895"/>
                  <a:pt x="6445" y="8922"/>
                </a:cubicBezTo>
                <a:cubicBezTo>
                  <a:pt x="6502" y="8962"/>
                  <a:pt x="6566" y="9002"/>
                  <a:pt x="6636" y="9017"/>
                </a:cubicBezTo>
                <a:cubicBezTo>
                  <a:pt x="6706" y="9032"/>
                  <a:pt x="6788" y="9045"/>
                  <a:pt x="6858" y="9049"/>
                </a:cubicBezTo>
                <a:cubicBezTo>
                  <a:pt x="6993" y="9057"/>
                  <a:pt x="7113" y="9038"/>
                  <a:pt x="7239" y="9017"/>
                </a:cubicBezTo>
                <a:cubicBezTo>
                  <a:pt x="7327" y="9002"/>
                  <a:pt x="7410" y="8991"/>
                  <a:pt x="7493" y="8954"/>
                </a:cubicBezTo>
                <a:cubicBezTo>
                  <a:pt x="7594" y="8909"/>
                  <a:pt x="7687" y="8850"/>
                  <a:pt x="7779" y="8795"/>
                </a:cubicBezTo>
                <a:cubicBezTo>
                  <a:pt x="7817" y="8772"/>
                  <a:pt x="7923" y="8719"/>
                  <a:pt x="7938" y="8668"/>
                </a:cubicBezTo>
                <a:cubicBezTo>
                  <a:pt x="7953" y="8617"/>
                  <a:pt x="7922" y="8599"/>
                  <a:pt x="7906" y="8572"/>
                </a:cubicBezTo>
              </a:path>
              <a:path w="18415" h="2446">
                <a:moveTo>
                  <a:pt x="6223" y="8509"/>
                </a:moveTo>
                <a:cubicBezTo>
                  <a:pt x="6183" y="8489"/>
                  <a:pt x="6199" y="8497"/>
                  <a:pt x="6160" y="8477"/>
                </a:cubicBezTo>
                <a:cubicBezTo>
                  <a:pt x="6166" y="8556"/>
                  <a:pt x="6169" y="8601"/>
                  <a:pt x="6191" y="8668"/>
                </a:cubicBezTo>
                <a:cubicBezTo>
                  <a:pt x="6210" y="8726"/>
                  <a:pt x="6230" y="8775"/>
                  <a:pt x="6255" y="8826"/>
                </a:cubicBezTo>
                <a:cubicBezTo>
                  <a:pt x="6290" y="8897"/>
                  <a:pt x="6355" y="8997"/>
                  <a:pt x="6414" y="9049"/>
                </a:cubicBezTo>
                <a:cubicBezTo>
                  <a:pt x="6462" y="9091"/>
                  <a:pt x="6548" y="9138"/>
                  <a:pt x="6604" y="9176"/>
                </a:cubicBezTo>
                <a:cubicBezTo>
                  <a:pt x="6706" y="9246"/>
                  <a:pt x="6833" y="9300"/>
                  <a:pt x="6953" y="9303"/>
                </a:cubicBezTo>
                <a:cubicBezTo>
                  <a:pt x="7127" y="9308"/>
                  <a:pt x="7292" y="9317"/>
                  <a:pt x="7461" y="9334"/>
                </a:cubicBezTo>
                <a:cubicBezTo>
                  <a:pt x="7605" y="9349"/>
                  <a:pt x="7734" y="9308"/>
                  <a:pt x="7874" y="9303"/>
                </a:cubicBezTo>
                <a:cubicBezTo>
                  <a:pt x="8015" y="9298"/>
                  <a:pt x="8151" y="9249"/>
                  <a:pt x="8287" y="9208"/>
                </a:cubicBezTo>
                <a:cubicBezTo>
                  <a:pt x="8423" y="9167"/>
                  <a:pt x="8539" y="9113"/>
                  <a:pt x="8668" y="9080"/>
                </a:cubicBezTo>
                <a:cubicBezTo>
                  <a:pt x="8798" y="9047"/>
                  <a:pt x="8971" y="8964"/>
                  <a:pt x="9080" y="8890"/>
                </a:cubicBezTo>
                <a:cubicBezTo>
                  <a:pt x="9175" y="8825"/>
                  <a:pt x="9263" y="8757"/>
                  <a:pt x="9366" y="8700"/>
                </a:cubicBezTo>
                <a:cubicBezTo>
                  <a:pt x="9439" y="8660"/>
                  <a:pt x="9533" y="8603"/>
                  <a:pt x="9588" y="8541"/>
                </a:cubicBezTo>
                <a:cubicBezTo>
                  <a:pt x="9628" y="8496"/>
                  <a:pt x="9630" y="8481"/>
                  <a:pt x="9652" y="8446"/>
                </a:cubicBezTo>
              </a:path>
              <a:path w="18415" h="2446">
                <a:moveTo>
                  <a:pt x="6160" y="8636"/>
                </a:moveTo>
                <a:cubicBezTo>
                  <a:pt x="6176" y="8699"/>
                  <a:pt x="6177" y="8762"/>
                  <a:pt x="6191" y="8826"/>
                </a:cubicBezTo>
                <a:cubicBezTo>
                  <a:pt x="6208" y="8901"/>
                  <a:pt x="6214" y="8952"/>
                  <a:pt x="6255" y="9017"/>
                </a:cubicBezTo>
                <a:cubicBezTo>
                  <a:pt x="6301" y="9089"/>
                  <a:pt x="6348" y="9135"/>
                  <a:pt x="6414" y="9208"/>
                </a:cubicBezTo>
                <a:cubicBezTo>
                  <a:pt x="6475" y="9276"/>
                  <a:pt x="6587" y="9318"/>
                  <a:pt x="6636" y="9366"/>
                </a:cubicBezTo>
                <a:cubicBezTo>
                  <a:pt x="6741" y="9467"/>
                  <a:pt x="6781" y="9529"/>
                  <a:pt x="6922" y="9588"/>
                </a:cubicBezTo>
                <a:cubicBezTo>
                  <a:pt x="7043" y="9639"/>
                  <a:pt x="7148" y="9656"/>
                  <a:pt x="7271" y="9684"/>
                </a:cubicBezTo>
                <a:cubicBezTo>
                  <a:pt x="7419" y="9717"/>
                  <a:pt x="7563" y="9742"/>
                  <a:pt x="7715" y="9747"/>
                </a:cubicBezTo>
                <a:cubicBezTo>
                  <a:pt x="8004" y="9756"/>
                  <a:pt x="8288" y="9739"/>
                  <a:pt x="8572" y="9716"/>
                </a:cubicBezTo>
                <a:cubicBezTo>
                  <a:pt x="8810" y="9697"/>
                  <a:pt x="9037" y="9642"/>
                  <a:pt x="9271" y="9588"/>
                </a:cubicBezTo>
                <a:cubicBezTo>
                  <a:pt x="9440" y="9549"/>
                  <a:pt x="9610" y="9553"/>
                  <a:pt x="9779" y="9525"/>
                </a:cubicBezTo>
                <a:cubicBezTo>
                  <a:pt x="9950" y="9496"/>
                  <a:pt x="10095" y="9424"/>
                  <a:pt x="10255" y="9366"/>
                </a:cubicBezTo>
                <a:cubicBezTo>
                  <a:pt x="10389" y="9318"/>
                  <a:pt x="10509" y="9264"/>
                  <a:pt x="10636" y="9208"/>
                </a:cubicBezTo>
                <a:cubicBezTo>
                  <a:pt x="10756" y="9155"/>
                  <a:pt x="10819" y="9089"/>
                  <a:pt x="10922" y="9017"/>
                </a:cubicBezTo>
                <a:cubicBezTo>
                  <a:pt x="11006" y="8958"/>
                  <a:pt x="11069" y="8898"/>
                  <a:pt x="11144" y="8826"/>
                </a:cubicBezTo>
                <a:cubicBezTo>
                  <a:pt x="11200" y="8772"/>
                  <a:pt x="11327" y="8685"/>
                  <a:pt x="11366" y="8636"/>
                </a:cubicBezTo>
                <a:cubicBezTo>
                  <a:pt x="11356" y="8636"/>
                  <a:pt x="11345" y="8636"/>
                  <a:pt x="11335" y="8636"/>
                </a:cubicBezTo>
              </a:path>
              <a:path w="18415" h="2446">
                <a:moveTo>
                  <a:pt x="18161" y="7715"/>
                </a:moveTo>
                <a:lnTo>
                  <a:pt x="18161" y="7715"/>
                </a:lnTo>
              </a:path>
              <a:path w="18415" h="2446">
                <a:moveTo>
                  <a:pt x="18161" y="7715"/>
                </a:moveTo>
                <a:lnTo>
                  <a:pt x="18161" y="7715"/>
                </a:lnTo>
              </a:path>
              <a:path w="18415" h="2446">
                <a:moveTo>
                  <a:pt x="18161" y="7684"/>
                </a:moveTo>
                <a:cubicBezTo>
                  <a:pt x="18151" y="7653"/>
                  <a:pt x="18149" y="7626"/>
                  <a:pt x="18129" y="7588"/>
                </a:cubicBezTo>
                <a:cubicBezTo>
                  <a:pt x="18099" y="7532"/>
                  <a:pt x="18057" y="7525"/>
                  <a:pt x="18002" y="7525"/>
                </a:cubicBezTo>
                <a:cubicBezTo>
                  <a:pt x="17911" y="7525"/>
                  <a:pt x="17885" y="7544"/>
                  <a:pt x="17812" y="7588"/>
                </a:cubicBezTo>
                <a:cubicBezTo>
                  <a:pt x="17753" y="7624"/>
                  <a:pt x="17672" y="7675"/>
                  <a:pt x="17653" y="7747"/>
                </a:cubicBezTo>
                <a:cubicBezTo>
                  <a:pt x="17626" y="7848"/>
                  <a:pt x="17645" y="8004"/>
                  <a:pt x="17685" y="8096"/>
                </a:cubicBezTo>
                <a:cubicBezTo>
                  <a:pt x="17714" y="8162"/>
                  <a:pt x="17759" y="8228"/>
                  <a:pt x="17812" y="8255"/>
                </a:cubicBezTo>
                <a:cubicBezTo>
                  <a:pt x="17866" y="8282"/>
                  <a:pt x="17957" y="8281"/>
                  <a:pt x="18002" y="8223"/>
                </a:cubicBezTo>
                <a:cubicBezTo>
                  <a:pt x="18074" y="8130"/>
                  <a:pt x="18155" y="7956"/>
                  <a:pt x="18161" y="7842"/>
                </a:cubicBezTo>
                <a:cubicBezTo>
                  <a:pt x="18164" y="7781"/>
                  <a:pt x="18135" y="7698"/>
                  <a:pt x="18098" y="7652"/>
                </a:cubicBezTo>
                <a:cubicBezTo>
                  <a:pt x="18055" y="7597"/>
                  <a:pt x="18075" y="7588"/>
                  <a:pt x="18002" y="7588"/>
                </a:cubicBezTo>
                <a:cubicBezTo>
                  <a:pt x="17991" y="7588"/>
                  <a:pt x="17981" y="7588"/>
                  <a:pt x="17970" y="7588"/>
                </a:cubicBezTo>
              </a:path>
              <a:path w="18415" h="2446">
                <a:moveTo>
                  <a:pt x="17970" y="8255"/>
                </a:moveTo>
                <a:cubicBezTo>
                  <a:pt x="17923" y="8271"/>
                  <a:pt x="17944" y="8287"/>
                  <a:pt x="17875" y="8287"/>
                </a:cubicBezTo>
                <a:cubicBezTo>
                  <a:pt x="17818" y="8287"/>
                  <a:pt x="17799" y="8312"/>
                  <a:pt x="17748" y="8318"/>
                </a:cubicBezTo>
                <a:cubicBezTo>
                  <a:pt x="17692" y="8324"/>
                  <a:pt x="17661" y="8373"/>
                  <a:pt x="17621" y="8414"/>
                </a:cubicBezTo>
                <a:cubicBezTo>
                  <a:pt x="17571" y="8465"/>
                  <a:pt x="17590" y="8534"/>
                  <a:pt x="17590" y="8604"/>
                </a:cubicBezTo>
                <a:cubicBezTo>
                  <a:pt x="17590" y="8719"/>
                  <a:pt x="17604" y="8815"/>
                  <a:pt x="17621" y="8922"/>
                </a:cubicBezTo>
                <a:cubicBezTo>
                  <a:pt x="17637" y="9025"/>
                  <a:pt x="17650" y="9028"/>
                  <a:pt x="17716" y="9080"/>
                </a:cubicBezTo>
                <a:cubicBezTo>
                  <a:pt x="17852" y="9187"/>
                  <a:pt x="17793" y="9126"/>
                  <a:pt x="17907" y="9080"/>
                </a:cubicBezTo>
                <a:cubicBezTo>
                  <a:pt x="17998" y="9043"/>
                  <a:pt x="18076" y="8992"/>
                  <a:pt x="18129" y="8890"/>
                </a:cubicBezTo>
                <a:cubicBezTo>
                  <a:pt x="18190" y="8772"/>
                  <a:pt x="18193" y="8671"/>
                  <a:pt x="18193" y="8541"/>
                </a:cubicBezTo>
                <a:cubicBezTo>
                  <a:pt x="18193" y="8443"/>
                  <a:pt x="18154" y="8337"/>
                  <a:pt x="18098" y="8255"/>
                </a:cubicBezTo>
                <a:cubicBezTo>
                  <a:pt x="18054" y="8191"/>
                  <a:pt x="18024" y="8165"/>
                  <a:pt x="17970" y="8192"/>
                </a:cubicBezTo>
              </a:path>
              <a:path w="18415" h="2446">
                <a:moveTo>
                  <a:pt x="18383" y="8001"/>
                </a:moveTo>
                <a:cubicBezTo>
                  <a:pt x="18448" y="8033"/>
                  <a:pt x="18445" y="8089"/>
                  <a:pt x="18478" y="8160"/>
                </a:cubicBezTo>
                <a:cubicBezTo>
                  <a:pt x="18523" y="8257"/>
                  <a:pt x="18571" y="8345"/>
                  <a:pt x="18606" y="8446"/>
                </a:cubicBezTo>
                <a:cubicBezTo>
                  <a:pt x="18645" y="8560"/>
                  <a:pt x="18710" y="8675"/>
                  <a:pt x="18732" y="8795"/>
                </a:cubicBezTo>
                <a:cubicBezTo>
                  <a:pt x="18734" y="8804"/>
                  <a:pt x="18761" y="8966"/>
                  <a:pt x="18796" y="8954"/>
                </a:cubicBezTo>
                <a:cubicBezTo>
                  <a:pt x="18796" y="8943"/>
                  <a:pt x="18796" y="8933"/>
                  <a:pt x="18796" y="8922"/>
                </a:cubicBezTo>
              </a:path>
              <a:path w="18415" h="2446">
                <a:moveTo>
                  <a:pt x="18732" y="7874"/>
                </a:moveTo>
                <a:cubicBezTo>
                  <a:pt x="18732" y="7999"/>
                  <a:pt x="18729" y="8100"/>
                  <a:pt x="18701" y="8223"/>
                </a:cubicBezTo>
                <a:cubicBezTo>
                  <a:pt x="18665" y="8383"/>
                  <a:pt x="18621" y="8543"/>
                  <a:pt x="18574" y="8700"/>
                </a:cubicBezTo>
                <a:cubicBezTo>
                  <a:pt x="18541" y="8809"/>
                  <a:pt x="18479" y="8910"/>
                  <a:pt x="18447" y="9017"/>
                </a:cubicBezTo>
                <a:cubicBezTo>
                  <a:pt x="18434" y="9059"/>
                  <a:pt x="18441" y="9100"/>
                  <a:pt x="18415" y="9049"/>
                </a:cubicBezTo>
              </a:path>
              <a:path w="18415" h="2446">
                <a:moveTo>
                  <a:pt x="18923" y="7556"/>
                </a:moveTo>
                <a:cubicBezTo>
                  <a:pt x="18937" y="7450"/>
                  <a:pt x="18972" y="7455"/>
                  <a:pt x="19018" y="7398"/>
                </a:cubicBezTo>
                <a:cubicBezTo>
                  <a:pt x="19062" y="7345"/>
                  <a:pt x="19070" y="7310"/>
                  <a:pt x="19145" y="7302"/>
                </a:cubicBezTo>
                <a:cubicBezTo>
                  <a:pt x="19229" y="7293"/>
                  <a:pt x="19220" y="7408"/>
                  <a:pt x="19209" y="7461"/>
                </a:cubicBezTo>
                <a:cubicBezTo>
                  <a:pt x="19191" y="7550"/>
                  <a:pt x="19134" y="7672"/>
                  <a:pt x="19082" y="7747"/>
                </a:cubicBezTo>
                <a:cubicBezTo>
                  <a:pt x="19042" y="7805"/>
                  <a:pt x="19018" y="7799"/>
                  <a:pt x="19018" y="7874"/>
                </a:cubicBezTo>
              </a:path>
              <a:path w="18415" h="2446">
                <a:moveTo>
                  <a:pt x="19050" y="7874"/>
                </a:moveTo>
                <a:cubicBezTo>
                  <a:pt x="19050" y="7822"/>
                  <a:pt x="19066" y="7858"/>
                  <a:pt x="19082" y="7810"/>
                </a:cubicBezTo>
              </a:path>
              <a:path w="18415" h="2446">
                <a:moveTo>
                  <a:pt x="19018" y="7874"/>
                </a:moveTo>
                <a:cubicBezTo>
                  <a:pt x="19050" y="7842"/>
                  <a:pt x="19082" y="7811"/>
                  <a:pt x="19114" y="7779"/>
                </a:cubicBezTo>
              </a:path>
              <a:path w="18415" h="2446">
                <a:moveTo>
                  <a:pt x="19114" y="7779"/>
                </a:moveTo>
                <a:cubicBezTo>
                  <a:pt x="19164" y="7766"/>
                  <a:pt x="19194" y="7730"/>
                  <a:pt x="19240" y="7715"/>
                </a:cubicBezTo>
                <a:cubicBezTo>
                  <a:pt x="19264" y="7707"/>
                  <a:pt x="19310" y="7715"/>
                  <a:pt x="19336" y="7715"/>
                </a:cubicBezTo>
              </a:path>
              <a:path w="18415" h="2446">
                <a:moveTo>
                  <a:pt x="19494" y="8255"/>
                </a:moveTo>
                <a:cubicBezTo>
                  <a:pt x="19494" y="8244"/>
                  <a:pt x="19494" y="8234"/>
                  <a:pt x="19494" y="8223"/>
                </a:cubicBezTo>
                <a:cubicBezTo>
                  <a:pt x="19558" y="8223"/>
                  <a:pt x="19570" y="8209"/>
                  <a:pt x="19622" y="8192"/>
                </a:cubicBezTo>
                <a:cubicBezTo>
                  <a:pt x="19666" y="8177"/>
                  <a:pt x="19735" y="8163"/>
                  <a:pt x="19780" y="8160"/>
                </a:cubicBezTo>
                <a:cubicBezTo>
                  <a:pt x="19885" y="8153"/>
                  <a:pt x="19993" y="8160"/>
                  <a:pt x="20098" y="8160"/>
                </a:cubicBezTo>
              </a:path>
              <a:path w="18415" h="2446">
                <a:moveTo>
                  <a:pt x="20288" y="7715"/>
                </a:moveTo>
                <a:cubicBezTo>
                  <a:pt x="20277" y="7715"/>
                  <a:pt x="20267" y="7715"/>
                  <a:pt x="20256" y="7715"/>
                </a:cubicBezTo>
              </a:path>
              <a:path w="18415" h="2446">
                <a:moveTo>
                  <a:pt x="20288" y="7715"/>
                </a:moveTo>
                <a:lnTo>
                  <a:pt x="20288" y="7715"/>
                </a:lnTo>
              </a:path>
              <a:path w="18415" h="2446">
                <a:moveTo>
                  <a:pt x="20256" y="7684"/>
                </a:moveTo>
                <a:cubicBezTo>
                  <a:pt x="20272" y="7604"/>
                  <a:pt x="20312" y="7587"/>
                  <a:pt x="20352" y="7525"/>
                </a:cubicBezTo>
                <a:cubicBezTo>
                  <a:pt x="20366" y="7504"/>
                  <a:pt x="20462" y="7390"/>
                  <a:pt x="20510" y="7461"/>
                </a:cubicBezTo>
                <a:cubicBezTo>
                  <a:pt x="20565" y="7544"/>
                  <a:pt x="20557" y="7752"/>
                  <a:pt x="20542" y="7842"/>
                </a:cubicBezTo>
                <a:cubicBezTo>
                  <a:pt x="20515" y="8002"/>
                  <a:pt x="20439" y="8228"/>
                  <a:pt x="20384" y="8382"/>
                </a:cubicBezTo>
                <a:cubicBezTo>
                  <a:pt x="20331" y="8529"/>
                  <a:pt x="20261" y="8671"/>
                  <a:pt x="20225" y="8826"/>
                </a:cubicBezTo>
                <a:cubicBezTo>
                  <a:pt x="20225" y="8871"/>
                  <a:pt x="20219" y="8894"/>
                  <a:pt x="20193" y="8922"/>
                </a:cubicBezTo>
                <a:cubicBezTo>
                  <a:pt x="20205" y="8874"/>
                  <a:pt x="20222" y="8833"/>
                  <a:pt x="20256" y="8795"/>
                </a:cubicBezTo>
                <a:cubicBezTo>
                  <a:pt x="20294" y="8752"/>
                  <a:pt x="20293" y="8719"/>
                  <a:pt x="20352" y="8700"/>
                </a:cubicBezTo>
                <a:cubicBezTo>
                  <a:pt x="20396" y="8686"/>
                  <a:pt x="20479" y="8767"/>
                  <a:pt x="20510" y="8795"/>
                </a:cubicBezTo>
                <a:cubicBezTo>
                  <a:pt x="20540" y="8821"/>
                  <a:pt x="20553" y="8908"/>
                  <a:pt x="20574" y="8922"/>
                </a:cubicBezTo>
                <a:cubicBezTo>
                  <a:pt x="20606" y="8922"/>
                  <a:pt x="20617" y="8922"/>
                  <a:pt x="20606" y="8890"/>
                </a:cubicBezTo>
              </a:path>
              <a:path w="18415" h="2446">
                <a:moveTo>
                  <a:pt x="20701" y="7652"/>
                </a:moveTo>
                <a:cubicBezTo>
                  <a:pt x="20701" y="7905"/>
                  <a:pt x="20725" y="8173"/>
                  <a:pt x="20669" y="8414"/>
                </a:cubicBezTo>
                <a:cubicBezTo>
                  <a:pt x="20653" y="8482"/>
                  <a:pt x="20695" y="8367"/>
                  <a:pt x="20733" y="8350"/>
                </a:cubicBezTo>
                <a:cubicBezTo>
                  <a:pt x="20791" y="8324"/>
                  <a:pt x="20850" y="8368"/>
                  <a:pt x="20892" y="8382"/>
                </a:cubicBezTo>
                <a:cubicBezTo>
                  <a:pt x="20937" y="8397"/>
                  <a:pt x="20975" y="8431"/>
                  <a:pt x="21018" y="8446"/>
                </a:cubicBezTo>
                <a:cubicBezTo>
                  <a:pt x="21069" y="8463"/>
                  <a:pt x="21050" y="8411"/>
                  <a:pt x="21050" y="8382"/>
                </a:cubicBezTo>
              </a:path>
              <a:path w="18415" h="2446">
                <a:moveTo>
                  <a:pt x="20923" y="7461"/>
                </a:moveTo>
                <a:cubicBezTo>
                  <a:pt x="20923" y="7594"/>
                  <a:pt x="20952" y="7709"/>
                  <a:pt x="20955" y="7842"/>
                </a:cubicBezTo>
                <a:cubicBezTo>
                  <a:pt x="20960" y="8037"/>
                  <a:pt x="20971" y="8223"/>
                  <a:pt x="20987" y="8414"/>
                </a:cubicBezTo>
                <a:cubicBezTo>
                  <a:pt x="21003" y="8604"/>
                  <a:pt x="21015" y="9135"/>
                  <a:pt x="20955" y="8954"/>
                </a:cubicBezTo>
                <a:cubicBezTo>
                  <a:pt x="20955" y="8933"/>
                  <a:pt x="20955" y="8911"/>
                  <a:pt x="20955" y="8890"/>
                </a:cubicBezTo>
              </a:path>
              <a:path w="18415" h="2446">
                <a:moveTo>
                  <a:pt x="21082" y="7842"/>
                </a:moveTo>
                <a:cubicBezTo>
                  <a:pt x="21096" y="7884"/>
                  <a:pt x="21137" y="7929"/>
                  <a:pt x="21146" y="8001"/>
                </a:cubicBezTo>
                <a:cubicBezTo>
                  <a:pt x="21162" y="8126"/>
                  <a:pt x="21200" y="8227"/>
                  <a:pt x="21241" y="8350"/>
                </a:cubicBezTo>
                <a:cubicBezTo>
                  <a:pt x="21282" y="8475"/>
                  <a:pt x="21357" y="8574"/>
                  <a:pt x="21400" y="8700"/>
                </a:cubicBezTo>
                <a:cubicBezTo>
                  <a:pt x="21433" y="8795"/>
                  <a:pt x="21509" y="8866"/>
                  <a:pt x="21526" y="8954"/>
                </a:cubicBezTo>
                <a:cubicBezTo>
                  <a:pt x="21526" y="9007"/>
                  <a:pt x="21516" y="9028"/>
                  <a:pt x="21558" y="9017"/>
                </a:cubicBezTo>
              </a:path>
              <a:path w="18415" h="2446">
                <a:moveTo>
                  <a:pt x="21590" y="7842"/>
                </a:moveTo>
                <a:cubicBezTo>
                  <a:pt x="21510" y="7899"/>
                  <a:pt x="21479" y="7948"/>
                  <a:pt x="21431" y="8064"/>
                </a:cubicBezTo>
                <a:cubicBezTo>
                  <a:pt x="21367" y="8219"/>
                  <a:pt x="21298" y="8384"/>
                  <a:pt x="21241" y="8541"/>
                </a:cubicBezTo>
                <a:cubicBezTo>
                  <a:pt x="21183" y="8700"/>
                  <a:pt x="21153" y="8861"/>
                  <a:pt x="21082" y="9017"/>
                </a:cubicBezTo>
                <a:cubicBezTo>
                  <a:pt x="21024" y="9143"/>
                  <a:pt x="20979" y="9272"/>
                  <a:pt x="20923" y="9398"/>
                </a:cubicBezTo>
              </a:path>
              <a:path w="18415" h="2446">
                <a:moveTo>
                  <a:pt x="22225" y="7810"/>
                </a:moveTo>
                <a:cubicBezTo>
                  <a:pt x="22225" y="8138"/>
                  <a:pt x="22225" y="8467"/>
                  <a:pt x="22225" y="8795"/>
                </a:cubicBezTo>
              </a:path>
              <a:path w="18415" h="2446">
                <a:moveTo>
                  <a:pt x="22003" y="8350"/>
                </a:moveTo>
                <a:cubicBezTo>
                  <a:pt x="21950" y="8350"/>
                  <a:pt x="22047" y="8335"/>
                  <a:pt x="22098" y="8350"/>
                </a:cubicBezTo>
                <a:cubicBezTo>
                  <a:pt x="22191" y="8377"/>
                  <a:pt x="22274" y="8350"/>
                  <a:pt x="22384" y="8350"/>
                </a:cubicBezTo>
                <a:cubicBezTo>
                  <a:pt x="22459" y="8350"/>
                  <a:pt x="22492" y="8346"/>
                  <a:pt x="22542" y="8318"/>
                </a:cubicBezTo>
              </a:path>
              <a:path w="18415" h="2446">
                <a:moveTo>
                  <a:pt x="23304" y="7620"/>
                </a:moveTo>
                <a:cubicBezTo>
                  <a:pt x="23304" y="7556"/>
                  <a:pt x="23314" y="7512"/>
                  <a:pt x="23273" y="7461"/>
                </a:cubicBezTo>
                <a:cubicBezTo>
                  <a:pt x="23224" y="7400"/>
                  <a:pt x="23125" y="7377"/>
                  <a:pt x="23050" y="7398"/>
                </a:cubicBezTo>
                <a:cubicBezTo>
                  <a:pt x="22938" y="7429"/>
                  <a:pt x="22866" y="7509"/>
                  <a:pt x="22796" y="7588"/>
                </a:cubicBezTo>
                <a:cubicBezTo>
                  <a:pt x="22731" y="7661"/>
                  <a:pt x="22684" y="7707"/>
                  <a:pt x="22701" y="7810"/>
                </a:cubicBezTo>
                <a:cubicBezTo>
                  <a:pt x="22716" y="7900"/>
                  <a:pt x="22783" y="7950"/>
                  <a:pt x="22860" y="8001"/>
                </a:cubicBezTo>
                <a:cubicBezTo>
                  <a:pt x="22962" y="8068"/>
                  <a:pt x="23046" y="8119"/>
                  <a:pt x="23114" y="8223"/>
                </a:cubicBezTo>
                <a:cubicBezTo>
                  <a:pt x="23177" y="8320"/>
                  <a:pt x="23178" y="8397"/>
                  <a:pt x="23178" y="8509"/>
                </a:cubicBezTo>
                <a:cubicBezTo>
                  <a:pt x="23178" y="8614"/>
                  <a:pt x="23153" y="8685"/>
                  <a:pt x="23082" y="8763"/>
                </a:cubicBezTo>
                <a:cubicBezTo>
                  <a:pt x="23071" y="8774"/>
                  <a:pt x="23061" y="8784"/>
                  <a:pt x="23050" y="8795"/>
                </a:cubicBezTo>
                <a:cubicBezTo>
                  <a:pt x="22984" y="8766"/>
                  <a:pt x="22981" y="8808"/>
                  <a:pt x="22955" y="8700"/>
                </a:cubicBezTo>
                <a:cubicBezTo>
                  <a:pt x="22927" y="8582"/>
                  <a:pt x="22961" y="8431"/>
                  <a:pt x="22987" y="8318"/>
                </a:cubicBezTo>
                <a:cubicBezTo>
                  <a:pt x="23030" y="8132"/>
                  <a:pt x="23067" y="7952"/>
                  <a:pt x="23146" y="7779"/>
                </a:cubicBezTo>
                <a:cubicBezTo>
                  <a:pt x="23213" y="7633"/>
                  <a:pt x="23286" y="7496"/>
                  <a:pt x="23368" y="7366"/>
                </a:cubicBezTo>
                <a:cubicBezTo>
                  <a:pt x="23379" y="7345"/>
                  <a:pt x="23389" y="7323"/>
                  <a:pt x="23400" y="7302"/>
                </a:cubicBezTo>
              </a:path>
              <a:path w="18415" h="2446">
                <a:moveTo>
                  <a:pt x="14192" y="9462"/>
                </a:moveTo>
                <a:cubicBezTo>
                  <a:pt x="14242" y="9469"/>
                  <a:pt x="14273" y="9490"/>
                  <a:pt x="14319" y="9493"/>
                </a:cubicBezTo>
                <a:cubicBezTo>
                  <a:pt x="14434" y="9501"/>
                  <a:pt x="14528" y="9466"/>
                  <a:pt x="14637" y="9462"/>
                </a:cubicBezTo>
                <a:cubicBezTo>
                  <a:pt x="15172" y="9441"/>
                  <a:pt x="15708" y="9454"/>
                  <a:pt x="16224" y="9398"/>
                </a:cubicBezTo>
                <a:cubicBezTo>
                  <a:pt x="16493" y="9369"/>
                  <a:pt x="16814" y="9360"/>
                  <a:pt x="17082" y="9366"/>
                </a:cubicBezTo>
                <a:cubicBezTo>
                  <a:pt x="17285" y="9371"/>
                  <a:pt x="17481" y="9394"/>
                  <a:pt x="17685" y="9398"/>
                </a:cubicBezTo>
                <a:cubicBezTo>
                  <a:pt x="18406" y="9413"/>
                  <a:pt x="19128" y="9376"/>
                  <a:pt x="19844" y="9366"/>
                </a:cubicBezTo>
                <a:cubicBezTo>
                  <a:pt x="20238" y="9361"/>
                  <a:pt x="20628" y="9358"/>
                  <a:pt x="21018" y="9334"/>
                </a:cubicBezTo>
                <a:cubicBezTo>
                  <a:pt x="21358" y="9313"/>
                  <a:pt x="21697" y="9350"/>
                  <a:pt x="22034" y="9366"/>
                </a:cubicBezTo>
                <a:cubicBezTo>
                  <a:pt x="22853" y="9405"/>
                  <a:pt x="23713" y="9325"/>
                  <a:pt x="24511" y="9398"/>
                </a:cubicBezTo>
                <a:cubicBezTo>
                  <a:pt x="24543" y="9398"/>
                  <a:pt x="24553" y="9398"/>
                  <a:pt x="24574" y="9398"/>
                </a:cubicBezTo>
              </a:path>
              <a:path w="18415" h="2446">
                <a:moveTo>
                  <a:pt x="14192" y="7620"/>
                </a:moveTo>
                <a:cubicBezTo>
                  <a:pt x="14140" y="7689"/>
                  <a:pt x="14133" y="7750"/>
                  <a:pt x="14129" y="7842"/>
                </a:cubicBezTo>
                <a:cubicBezTo>
                  <a:pt x="14120" y="8035"/>
                  <a:pt x="14111" y="8225"/>
                  <a:pt x="14097" y="8414"/>
                </a:cubicBezTo>
                <a:cubicBezTo>
                  <a:pt x="14081" y="8636"/>
                  <a:pt x="14109" y="8877"/>
                  <a:pt x="14065" y="9080"/>
                </a:cubicBezTo>
                <a:cubicBezTo>
                  <a:pt x="14065" y="9138"/>
                  <a:pt x="14070" y="9154"/>
                  <a:pt x="14034" y="9176"/>
                </a:cubicBezTo>
              </a:path>
              <a:path w="18415" h="2446">
                <a:moveTo>
                  <a:pt x="13557" y="8477"/>
                </a:moveTo>
                <a:lnTo>
                  <a:pt x="13557" y="8477"/>
                </a:lnTo>
              </a:path>
              <a:path w="18415" h="2446">
                <a:moveTo>
                  <a:pt x="13557" y="8477"/>
                </a:moveTo>
                <a:lnTo>
                  <a:pt x="13557" y="8477"/>
                </a:lnTo>
              </a:path>
              <a:path w="18415" h="2446">
                <a:moveTo>
                  <a:pt x="13652" y="8509"/>
                </a:moveTo>
                <a:cubicBezTo>
                  <a:pt x="13773" y="8494"/>
                  <a:pt x="13878" y="8432"/>
                  <a:pt x="14002" y="8414"/>
                </a:cubicBezTo>
                <a:cubicBezTo>
                  <a:pt x="14204" y="8385"/>
                  <a:pt x="14432" y="8414"/>
                  <a:pt x="14637" y="8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1817640" y="3760920"/>
            <a:ext cx="1406520" cy="685800"/>
          </a:xfrm>
          <a:custGeom>
            <a:avLst/>
            <a:gdLst/>
            <a:ahLst/>
            <a:rect l="l" t="t" r="r" b="b"/>
            <a:pathLst>
              <a:path w="3907" h="1906">
                <a:moveTo>
                  <a:pt x="5112" y="12097"/>
                </a:moveTo>
                <a:lnTo>
                  <a:pt x="5112" y="12128"/>
                </a:lnTo>
                <a:lnTo>
                  <a:pt x="5112" y="12097"/>
                </a:lnTo>
                <a:lnTo>
                  <a:pt x="5144" y="12097"/>
                </a:lnTo>
                <a:lnTo>
                  <a:pt x="5112" y="12097"/>
                </a:lnTo>
                <a:lnTo>
                  <a:pt x="5080" y="12097"/>
                </a:lnTo>
                <a:lnTo>
                  <a:pt x="5080" y="12065"/>
                </a:lnTo>
                <a:lnTo>
                  <a:pt x="5048" y="12033"/>
                </a:lnTo>
                <a:lnTo>
                  <a:pt x="5048" y="12002"/>
                </a:lnTo>
                <a:lnTo>
                  <a:pt x="5048" y="11938"/>
                </a:lnTo>
                <a:lnTo>
                  <a:pt x="5080" y="11906"/>
                </a:lnTo>
                <a:lnTo>
                  <a:pt x="5080" y="11874"/>
                </a:lnTo>
                <a:lnTo>
                  <a:pt x="5080" y="11811"/>
                </a:lnTo>
                <a:lnTo>
                  <a:pt x="5112" y="11779"/>
                </a:lnTo>
                <a:lnTo>
                  <a:pt x="5112" y="11716"/>
                </a:lnTo>
                <a:lnTo>
                  <a:pt x="5144" y="11652"/>
                </a:lnTo>
                <a:lnTo>
                  <a:pt x="5175" y="11620"/>
                </a:lnTo>
                <a:lnTo>
                  <a:pt x="5175" y="11557"/>
                </a:lnTo>
                <a:lnTo>
                  <a:pt x="5207" y="11525"/>
                </a:lnTo>
                <a:lnTo>
                  <a:pt x="5239" y="11462"/>
                </a:lnTo>
                <a:lnTo>
                  <a:pt x="5270" y="11430"/>
                </a:lnTo>
                <a:lnTo>
                  <a:pt x="5334" y="11366"/>
                </a:lnTo>
                <a:lnTo>
                  <a:pt x="5366" y="11335"/>
                </a:lnTo>
                <a:lnTo>
                  <a:pt x="5398" y="11303"/>
                </a:lnTo>
                <a:lnTo>
                  <a:pt x="5461" y="11271"/>
                </a:lnTo>
                <a:lnTo>
                  <a:pt x="5493" y="11240"/>
                </a:lnTo>
                <a:lnTo>
                  <a:pt x="5556" y="11208"/>
                </a:lnTo>
                <a:lnTo>
                  <a:pt x="5620" y="11208"/>
                </a:lnTo>
                <a:lnTo>
                  <a:pt x="5683" y="11176"/>
                </a:lnTo>
                <a:lnTo>
                  <a:pt x="5747" y="11176"/>
                </a:lnTo>
                <a:lnTo>
                  <a:pt x="5810" y="11176"/>
                </a:lnTo>
                <a:lnTo>
                  <a:pt x="5874" y="11176"/>
                </a:lnTo>
                <a:lnTo>
                  <a:pt x="5937" y="11208"/>
                </a:lnTo>
                <a:lnTo>
                  <a:pt x="6001" y="11240"/>
                </a:lnTo>
                <a:lnTo>
                  <a:pt x="6096" y="11240"/>
                </a:lnTo>
                <a:lnTo>
                  <a:pt x="6128" y="11271"/>
                </a:lnTo>
                <a:lnTo>
                  <a:pt x="6191" y="11303"/>
                </a:lnTo>
                <a:lnTo>
                  <a:pt x="6255" y="11366"/>
                </a:lnTo>
                <a:lnTo>
                  <a:pt x="6286" y="11398"/>
                </a:lnTo>
                <a:lnTo>
                  <a:pt x="6318" y="11430"/>
                </a:lnTo>
                <a:lnTo>
                  <a:pt x="6350" y="11494"/>
                </a:lnTo>
                <a:lnTo>
                  <a:pt x="6350" y="11525"/>
                </a:lnTo>
                <a:lnTo>
                  <a:pt x="6382" y="11589"/>
                </a:lnTo>
                <a:lnTo>
                  <a:pt x="6414" y="11652"/>
                </a:lnTo>
                <a:lnTo>
                  <a:pt x="6414" y="11684"/>
                </a:lnTo>
                <a:lnTo>
                  <a:pt x="6414" y="11748"/>
                </a:lnTo>
                <a:lnTo>
                  <a:pt x="6445" y="11811"/>
                </a:lnTo>
                <a:lnTo>
                  <a:pt x="6445" y="11874"/>
                </a:lnTo>
                <a:lnTo>
                  <a:pt x="6445" y="11938"/>
                </a:lnTo>
                <a:lnTo>
                  <a:pt x="6477" y="12002"/>
                </a:lnTo>
                <a:lnTo>
                  <a:pt x="6477" y="12065"/>
                </a:lnTo>
                <a:lnTo>
                  <a:pt x="6477" y="12097"/>
                </a:lnTo>
                <a:lnTo>
                  <a:pt x="6477" y="12160"/>
                </a:lnTo>
                <a:lnTo>
                  <a:pt x="6477" y="12192"/>
                </a:lnTo>
                <a:lnTo>
                  <a:pt x="6477" y="12224"/>
                </a:lnTo>
              </a:path>
              <a:path w="3907" h="1906">
                <a:moveTo>
                  <a:pt x="5112" y="11557"/>
                </a:moveTo>
                <a:cubicBezTo>
                  <a:pt x="5115" y="11540"/>
                  <a:pt x="5080" y="11507"/>
                  <a:pt x="5112" y="11462"/>
                </a:cubicBezTo>
                <a:cubicBezTo>
                  <a:pt x="5160" y="11393"/>
                  <a:pt x="5223" y="11342"/>
                  <a:pt x="5270" y="11271"/>
                </a:cubicBezTo>
                <a:cubicBezTo>
                  <a:pt x="5326" y="11185"/>
                  <a:pt x="5385" y="11077"/>
                  <a:pt x="5461" y="11017"/>
                </a:cubicBezTo>
                <a:cubicBezTo>
                  <a:pt x="5547" y="10948"/>
                  <a:pt x="5642" y="10897"/>
                  <a:pt x="5747" y="10858"/>
                </a:cubicBezTo>
                <a:cubicBezTo>
                  <a:pt x="5855" y="10818"/>
                  <a:pt x="5981" y="10746"/>
                  <a:pt x="6096" y="10732"/>
                </a:cubicBezTo>
                <a:cubicBezTo>
                  <a:pt x="6274" y="10710"/>
                  <a:pt x="6497" y="10719"/>
                  <a:pt x="6668" y="10763"/>
                </a:cubicBezTo>
                <a:cubicBezTo>
                  <a:pt x="6827" y="10804"/>
                  <a:pt x="6976" y="10898"/>
                  <a:pt x="7112" y="10986"/>
                </a:cubicBezTo>
                <a:cubicBezTo>
                  <a:pt x="7250" y="11075"/>
                  <a:pt x="7354" y="11186"/>
                  <a:pt x="7461" y="11303"/>
                </a:cubicBezTo>
                <a:cubicBezTo>
                  <a:pt x="7559" y="11410"/>
                  <a:pt x="7634" y="11515"/>
                  <a:pt x="7684" y="11652"/>
                </a:cubicBezTo>
                <a:cubicBezTo>
                  <a:pt x="7729" y="11775"/>
                  <a:pt x="7791" y="11907"/>
                  <a:pt x="7810" y="12033"/>
                </a:cubicBezTo>
                <a:cubicBezTo>
                  <a:pt x="7818" y="12084"/>
                  <a:pt x="7846" y="12179"/>
                  <a:pt x="7842" y="12224"/>
                </a:cubicBezTo>
                <a:cubicBezTo>
                  <a:pt x="7839" y="12256"/>
                  <a:pt x="7817" y="12256"/>
                  <a:pt x="7810" y="12287"/>
                </a:cubicBezTo>
              </a:path>
              <a:path w="3907" h="1906">
                <a:moveTo>
                  <a:pt x="5112" y="11684"/>
                </a:moveTo>
                <a:cubicBezTo>
                  <a:pt x="5111" y="11677"/>
                  <a:pt x="5059" y="11644"/>
                  <a:pt x="5080" y="11589"/>
                </a:cubicBezTo>
                <a:cubicBezTo>
                  <a:pt x="5097" y="11543"/>
                  <a:pt x="5123" y="11471"/>
                  <a:pt x="5144" y="11430"/>
                </a:cubicBezTo>
                <a:cubicBezTo>
                  <a:pt x="5194" y="11334"/>
                  <a:pt x="5267" y="11227"/>
                  <a:pt x="5334" y="11144"/>
                </a:cubicBezTo>
                <a:cubicBezTo>
                  <a:pt x="5412" y="11048"/>
                  <a:pt x="5523" y="10963"/>
                  <a:pt x="5620" y="10890"/>
                </a:cubicBezTo>
                <a:cubicBezTo>
                  <a:pt x="5742" y="10799"/>
                  <a:pt x="5875" y="10748"/>
                  <a:pt x="6001" y="10668"/>
                </a:cubicBezTo>
                <a:cubicBezTo>
                  <a:pt x="6165" y="10564"/>
                  <a:pt x="6353" y="10526"/>
                  <a:pt x="6540" y="10478"/>
                </a:cubicBezTo>
                <a:cubicBezTo>
                  <a:pt x="6707" y="10435"/>
                  <a:pt x="6908" y="10426"/>
                  <a:pt x="7080" y="10446"/>
                </a:cubicBezTo>
                <a:cubicBezTo>
                  <a:pt x="7279" y="10469"/>
                  <a:pt x="7500" y="10533"/>
                  <a:pt x="7684" y="10604"/>
                </a:cubicBezTo>
                <a:cubicBezTo>
                  <a:pt x="7849" y="10668"/>
                  <a:pt x="8027" y="10774"/>
                  <a:pt x="8160" y="10890"/>
                </a:cubicBezTo>
                <a:cubicBezTo>
                  <a:pt x="8299" y="11011"/>
                  <a:pt x="8435" y="11153"/>
                  <a:pt x="8541" y="11303"/>
                </a:cubicBezTo>
                <a:cubicBezTo>
                  <a:pt x="8637" y="11440"/>
                  <a:pt x="8709" y="11523"/>
                  <a:pt x="8763" y="11684"/>
                </a:cubicBezTo>
                <a:cubicBezTo>
                  <a:pt x="8804" y="11805"/>
                  <a:pt x="8892" y="11908"/>
                  <a:pt x="8922" y="12033"/>
                </a:cubicBezTo>
                <a:cubicBezTo>
                  <a:pt x="8937" y="12095"/>
                  <a:pt x="8964" y="12189"/>
                  <a:pt x="8954" y="12256"/>
                </a:cubicBezTo>
                <a:cubicBezTo>
                  <a:pt x="8928" y="12308"/>
                  <a:pt x="8917" y="12316"/>
                  <a:pt x="8922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5510160" y="3349800"/>
            <a:ext cx="3040200" cy="765000"/>
          </a:xfrm>
          <a:custGeom>
            <a:avLst/>
            <a:gdLst/>
            <a:ahLst/>
            <a:rect l="l" t="t" r="r" b="b"/>
            <a:pathLst>
              <a:path w="8446" h="2128">
                <a:moveTo>
                  <a:pt x="15335" y="10065"/>
                </a:moveTo>
                <a:cubicBezTo>
                  <a:pt x="15325" y="10075"/>
                  <a:pt x="15314" y="10086"/>
                  <a:pt x="15304" y="10096"/>
                </a:cubicBezTo>
                <a:cubicBezTo>
                  <a:pt x="15315" y="10062"/>
                  <a:pt x="15333" y="10020"/>
                  <a:pt x="15367" y="9970"/>
                </a:cubicBezTo>
                <a:cubicBezTo>
                  <a:pt x="15419" y="9893"/>
                  <a:pt x="15493" y="9834"/>
                  <a:pt x="15558" y="9779"/>
                </a:cubicBezTo>
                <a:cubicBezTo>
                  <a:pt x="15622" y="9725"/>
                  <a:pt x="15627" y="9716"/>
                  <a:pt x="15716" y="9716"/>
                </a:cubicBezTo>
                <a:cubicBezTo>
                  <a:pt x="15767" y="9716"/>
                  <a:pt x="15789" y="9820"/>
                  <a:pt x="15780" y="9874"/>
                </a:cubicBezTo>
                <a:cubicBezTo>
                  <a:pt x="15754" y="10021"/>
                  <a:pt x="15707" y="10211"/>
                  <a:pt x="15653" y="10350"/>
                </a:cubicBezTo>
                <a:cubicBezTo>
                  <a:pt x="15592" y="10506"/>
                  <a:pt x="15536" y="10679"/>
                  <a:pt x="15462" y="10827"/>
                </a:cubicBezTo>
                <a:cubicBezTo>
                  <a:pt x="15421" y="10909"/>
                  <a:pt x="15337" y="10997"/>
                  <a:pt x="15304" y="11081"/>
                </a:cubicBezTo>
                <a:cubicBezTo>
                  <a:pt x="15304" y="11091"/>
                  <a:pt x="15304" y="11102"/>
                  <a:pt x="15304" y="11112"/>
                </a:cubicBezTo>
                <a:cubicBezTo>
                  <a:pt x="15316" y="11064"/>
                  <a:pt x="15333" y="11024"/>
                  <a:pt x="15367" y="10986"/>
                </a:cubicBezTo>
                <a:cubicBezTo>
                  <a:pt x="15412" y="10936"/>
                  <a:pt x="15480" y="10920"/>
                  <a:pt x="15526" y="10890"/>
                </a:cubicBezTo>
                <a:cubicBezTo>
                  <a:pt x="15585" y="10850"/>
                  <a:pt x="15613" y="10842"/>
                  <a:pt x="15684" y="10890"/>
                </a:cubicBezTo>
                <a:cubicBezTo>
                  <a:pt x="15725" y="10917"/>
                  <a:pt x="15776" y="10930"/>
                  <a:pt x="15812" y="10954"/>
                </a:cubicBezTo>
                <a:cubicBezTo>
                  <a:pt x="15871" y="10994"/>
                  <a:pt x="15815" y="10974"/>
                  <a:pt x="15875" y="10954"/>
                </a:cubicBezTo>
              </a:path>
              <a:path w="8446" h="2128">
                <a:moveTo>
                  <a:pt x="16002" y="10128"/>
                </a:moveTo>
                <a:cubicBezTo>
                  <a:pt x="16017" y="10187"/>
                  <a:pt x="16046" y="10258"/>
                  <a:pt x="16066" y="10319"/>
                </a:cubicBezTo>
                <a:cubicBezTo>
                  <a:pt x="16101" y="10427"/>
                  <a:pt x="16113" y="10554"/>
                  <a:pt x="16129" y="10668"/>
                </a:cubicBezTo>
                <a:cubicBezTo>
                  <a:pt x="16142" y="10766"/>
                  <a:pt x="16177" y="10860"/>
                  <a:pt x="16192" y="10954"/>
                </a:cubicBezTo>
                <a:cubicBezTo>
                  <a:pt x="16200" y="11002"/>
                  <a:pt x="16192" y="11062"/>
                  <a:pt x="16192" y="11112"/>
                </a:cubicBezTo>
              </a:path>
              <a:path w="8446" h="2128">
                <a:moveTo>
                  <a:pt x="16383" y="9970"/>
                </a:moveTo>
                <a:cubicBezTo>
                  <a:pt x="16309" y="10080"/>
                  <a:pt x="16279" y="10225"/>
                  <a:pt x="16224" y="10350"/>
                </a:cubicBezTo>
                <a:cubicBezTo>
                  <a:pt x="16142" y="10533"/>
                  <a:pt x="16066" y="10730"/>
                  <a:pt x="16002" y="10922"/>
                </a:cubicBezTo>
                <a:cubicBezTo>
                  <a:pt x="15953" y="11069"/>
                  <a:pt x="15879" y="11214"/>
                  <a:pt x="15843" y="11366"/>
                </a:cubicBezTo>
                <a:cubicBezTo>
                  <a:pt x="15843" y="11402"/>
                  <a:pt x="15840" y="11416"/>
                  <a:pt x="15812" y="11430"/>
                </a:cubicBezTo>
              </a:path>
              <a:path w="8446" h="2128">
                <a:moveTo>
                  <a:pt x="16478" y="9684"/>
                </a:moveTo>
                <a:cubicBezTo>
                  <a:pt x="16525" y="9649"/>
                  <a:pt x="16559" y="9634"/>
                  <a:pt x="16605" y="9588"/>
                </a:cubicBezTo>
                <a:cubicBezTo>
                  <a:pt x="16637" y="9556"/>
                  <a:pt x="16670" y="9529"/>
                  <a:pt x="16700" y="9525"/>
                </a:cubicBezTo>
                <a:cubicBezTo>
                  <a:pt x="16732" y="9525"/>
                  <a:pt x="16743" y="9525"/>
                  <a:pt x="16764" y="9525"/>
                </a:cubicBezTo>
                <a:cubicBezTo>
                  <a:pt x="16764" y="9593"/>
                  <a:pt x="16763" y="9618"/>
                  <a:pt x="16732" y="9684"/>
                </a:cubicBezTo>
                <a:cubicBezTo>
                  <a:pt x="16695" y="9762"/>
                  <a:pt x="16632" y="9842"/>
                  <a:pt x="16574" y="9906"/>
                </a:cubicBezTo>
                <a:cubicBezTo>
                  <a:pt x="16545" y="9935"/>
                  <a:pt x="16534" y="9941"/>
                  <a:pt x="16542" y="9970"/>
                </a:cubicBezTo>
                <a:cubicBezTo>
                  <a:pt x="16559" y="9920"/>
                  <a:pt x="16592" y="9936"/>
                  <a:pt x="16637" y="9906"/>
                </a:cubicBezTo>
                <a:cubicBezTo>
                  <a:pt x="16697" y="9866"/>
                  <a:pt x="16739" y="9856"/>
                  <a:pt x="16796" y="9906"/>
                </a:cubicBezTo>
                <a:cubicBezTo>
                  <a:pt x="16840" y="9945"/>
                  <a:pt x="16828" y="9978"/>
                  <a:pt x="16828" y="10033"/>
                </a:cubicBezTo>
                <a:cubicBezTo>
                  <a:pt x="16828" y="10087"/>
                  <a:pt x="16769" y="10151"/>
                  <a:pt x="16732" y="10192"/>
                </a:cubicBezTo>
                <a:cubicBezTo>
                  <a:pt x="16684" y="10245"/>
                  <a:pt x="16626" y="10272"/>
                  <a:pt x="16574" y="10319"/>
                </a:cubicBezTo>
                <a:cubicBezTo>
                  <a:pt x="16542" y="10350"/>
                  <a:pt x="16531" y="10361"/>
                  <a:pt x="16510" y="10382"/>
                </a:cubicBezTo>
              </a:path>
              <a:path w="8446" h="2128">
                <a:moveTo>
                  <a:pt x="17240" y="10096"/>
                </a:moveTo>
                <a:cubicBezTo>
                  <a:pt x="17240" y="10315"/>
                  <a:pt x="17335" y="10816"/>
                  <a:pt x="17208" y="10986"/>
                </a:cubicBezTo>
              </a:path>
              <a:path w="8446" h="2128">
                <a:moveTo>
                  <a:pt x="17050" y="10668"/>
                </a:moveTo>
                <a:cubicBezTo>
                  <a:pt x="17039" y="10668"/>
                  <a:pt x="17029" y="10668"/>
                  <a:pt x="17018" y="10668"/>
                </a:cubicBezTo>
                <a:cubicBezTo>
                  <a:pt x="17066" y="10668"/>
                  <a:pt x="17139" y="10655"/>
                  <a:pt x="17177" y="10636"/>
                </a:cubicBezTo>
                <a:cubicBezTo>
                  <a:pt x="17214" y="10598"/>
                  <a:pt x="17232" y="10583"/>
                  <a:pt x="17272" y="10573"/>
                </a:cubicBezTo>
              </a:path>
              <a:path w="8446" h="2128">
                <a:moveTo>
                  <a:pt x="17685" y="10033"/>
                </a:moveTo>
                <a:cubicBezTo>
                  <a:pt x="17685" y="9966"/>
                  <a:pt x="17700" y="9954"/>
                  <a:pt x="17748" y="9906"/>
                </a:cubicBezTo>
                <a:cubicBezTo>
                  <a:pt x="17807" y="9847"/>
                  <a:pt x="17822" y="9842"/>
                  <a:pt x="17907" y="9842"/>
                </a:cubicBezTo>
                <a:cubicBezTo>
                  <a:pt x="17997" y="9842"/>
                  <a:pt x="17970" y="9937"/>
                  <a:pt x="17970" y="10001"/>
                </a:cubicBezTo>
                <a:cubicBezTo>
                  <a:pt x="17970" y="10177"/>
                  <a:pt x="17900" y="10292"/>
                  <a:pt x="17844" y="10446"/>
                </a:cubicBezTo>
                <a:cubicBezTo>
                  <a:pt x="17793" y="10585"/>
                  <a:pt x="17742" y="10719"/>
                  <a:pt x="17685" y="10858"/>
                </a:cubicBezTo>
                <a:cubicBezTo>
                  <a:pt x="17661" y="10916"/>
                  <a:pt x="17632" y="10943"/>
                  <a:pt x="17590" y="10986"/>
                </a:cubicBezTo>
                <a:cubicBezTo>
                  <a:pt x="17604" y="10929"/>
                  <a:pt x="17641" y="10902"/>
                  <a:pt x="17685" y="10858"/>
                </a:cubicBezTo>
                <a:cubicBezTo>
                  <a:pt x="17705" y="10838"/>
                  <a:pt x="17783" y="10782"/>
                  <a:pt x="17812" y="10795"/>
                </a:cubicBezTo>
                <a:cubicBezTo>
                  <a:pt x="17859" y="10816"/>
                  <a:pt x="17891" y="10869"/>
                  <a:pt x="17939" y="10890"/>
                </a:cubicBezTo>
                <a:cubicBezTo>
                  <a:pt x="17994" y="10915"/>
                  <a:pt x="18048" y="10949"/>
                  <a:pt x="18098" y="10986"/>
                </a:cubicBezTo>
                <a:cubicBezTo>
                  <a:pt x="18149" y="10915"/>
                  <a:pt x="18153" y="10855"/>
                  <a:pt x="18161" y="10763"/>
                </a:cubicBezTo>
              </a:path>
              <a:path w="8446" h="2128">
                <a:moveTo>
                  <a:pt x="18256" y="10160"/>
                </a:moveTo>
                <a:cubicBezTo>
                  <a:pt x="18271" y="10235"/>
                  <a:pt x="18288" y="10311"/>
                  <a:pt x="18320" y="10382"/>
                </a:cubicBezTo>
                <a:cubicBezTo>
                  <a:pt x="18359" y="10470"/>
                  <a:pt x="18396" y="10601"/>
                  <a:pt x="18415" y="10700"/>
                </a:cubicBezTo>
                <a:cubicBezTo>
                  <a:pt x="18432" y="10788"/>
                  <a:pt x="18459" y="10867"/>
                  <a:pt x="18478" y="10954"/>
                </a:cubicBezTo>
                <a:cubicBezTo>
                  <a:pt x="18478" y="10986"/>
                  <a:pt x="18478" y="10996"/>
                  <a:pt x="18478" y="11017"/>
                </a:cubicBezTo>
              </a:path>
              <a:path w="8446" h="2128">
                <a:moveTo>
                  <a:pt x="18574" y="10096"/>
                </a:moveTo>
                <a:cubicBezTo>
                  <a:pt x="18514" y="10231"/>
                  <a:pt x="18468" y="10372"/>
                  <a:pt x="18415" y="10509"/>
                </a:cubicBezTo>
                <a:cubicBezTo>
                  <a:pt x="18358" y="10656"/>
                  <a:pt x="18309" y="10806"/>
                  <a:pt x="18256" y="10954"/>
                </a:cubicBezTo>
                <a:cubicBezTo>
                  <a:pt x="18228" y="11031"/>
                  <a:pt x="18210" y="11106"/>
                  <a:pt x="18193" y="11176"/>
                </a:cubicBezTo>
              </a:path>
              <a:path w="8446" h="2128">
                <a:moveTo>
                  <a:pt x="18701" y="9747"/>
                </a:moveTo>
                <a:cubicBezTo>
                  <a:pt x="18749" y="9699"/>
                  <a:pt x="18760" y="9684"/>
                  <a:pt x="18828" y="9684"/>
                </a:cubicBezTo>
                <a:cubicBezTo>
                  <a:pt x="18873" y="9684"/>
                  <a:pt x="18919" y="9713"/>
                  <a:pt x="18923" y="9747"/>
                </a:cubicBezTo>
                <a:cubicBezTo>
                  <a:pt x="18932" y="9816"/>
                  <a:pt x="18911" y="9908"/>
                  <a:pt x="18891" y="9970"/>
                </a:cubicBezTo>
                <a:cubicBezTo>
                  <a:pt x="18873" y="10025"/>
                  <a:pt x="18849" y="10110"/>
                  <a:pt x="18828" y="10160"/>
                </a:cubicBezTo>
                <a:cubicBezTo>
                  <a:pt x="18817" y="10171"/>
                  <a:pt x="18807" y="10181"/>
                  <a:pt x="18796" y="10192"/>
                </a:cubicBezTo>
                <a:cubicBezTo>
                  <a:pt x="18826" y="10184"/>
                  <a:pt x="18896" y="10175"/>
                  <a:pt x="18923" y="10160"/>
                </a:cubicBezTo>
                <a:cubicBezTo>
                  <a:pt x="18954" y="10143"/>
                  <a:pt x="19004" y="10102"/>
                  <a:pt x="19050" y="10128"/>
                </a:cubicBezTo>
                <a:cubicBezTo>
                  <a:pt x="19079" y="10157"/>
                  <a:pt x="19085" y="10168"/>
                  <a:pt x="19114" y="10160"/>
                </a:cubicBezTo>
              </a:path>
              <a:path w="8446" h="2128">
                <a:moveTo>
                  <a:pt x="19463" y="10382"/>
                </a:moveTo>
                <a:cubicBezTo>
                  <a:pt x="19452" y="10382"/>
                  <a:pt x="19442" y="10382"/>
                  <a:pt x="19431" y="10382"/>
                </a:cubicBezTo>
                <a:cubicBezTo>
                  <a:pt x="19442" y="10415"/>
                  <a:pt x="19455" y="10443"/>
                  <a:pt x="19494" y="10446"/>
                </a:cubicBezTo>
                <a:cubicBezTo>
                  <a:pt x="19573" y="10452"/>
                  <a:pt x="19623" y="10427"/>
                  <a:pt x="19685" y="10414"/>
                </a:cubicBezTo>
                <a:cubicBezTo>
                  <a:pt x="19766" y="10398"/>
                  <a:pt x="19804" y="10425"/>
                  <a:pt x="19876" y="10382"/>
                </a:cubicBezTo>
              </a:path>
              <a:path w="8446" h="2128">
                <a:moveTo>
                  <a:pt x="20002" y="10033"/>
                </a:moveTo>
                <a:cubicBezTo>
                  <a:pt x="20002" y="9975"/>
                  <a:pt x="20012" y="9941"/>
                  <a:pt x="20066" y="9906"/>
                </a:cubicBezTo>
                <a:cubicBezTo>
                  <a:pt x="20126" y="9867"/>
                  <a:pt x="20156" y="9842"/>
                  <a:pt x="20225" y="9842"/>
                </a:cubicBezTo>
                <a:cubicBezTo>
                  <a:pt x="20284" y="9842"/>
                  <a:pt x="20307" y="9834"/>
                  <a:pt x="20352" y="9874"/>
                </a:cubicBezTo>
                <a:cubicBezTo>
                  <a:pt x="20425" y="9939"/>
                  <a:pt x="20372" y="10050"/>
                  <a:pt x="20352" y="10128"/>
                </a:cubicBezTo>
                <a:cubicBezTo>
                  <a:pt x="20313" y="10278"/>
                  <a:pt x="20257" y="10402"/>
                  <a:pt x="20193" y="10541"/>
                </a:cubicBezTo>
                <a:cubicBezTo>
                  <a:pt x="20149" y="10637"/>
                  <a:pt x="20080" y="10696"/>
                  <a:pt x="20066" y="10795"/>
                </a:cubicBezTo>
                <a:cubicBezTo>
                  <a:pt x="20020" y="10772"/>
                  <a:pt x="20087" y="10744"/>
                  <a:pt x="20130" y="10700"/>
                </a:cubicBezTo>
                <a:cubicBezTo>
                  <a:pt x="20179" y="10651"/>
                  <a:pt x="20219" y="10596"/>
                  <a:pt x="20288" y="10573"/>
                </a:cubicBezTo>
                <a:cubicBezTo>
                  <a:pt x="20347" y="10554"/>
                  <a:pt x="20447" y="10573"/>
                  <a:pt x="20510" y="10573"/>
                </a:cubicBezTo>
              </a:path>
              <a:path w="8446" h="2128">
                <a:moveTo>
                  <a:pt x="20669" y="9842"/>
                </a:moveTo>
                <a:cubicBezTo>
                  <a:pt x="20639" y="9782"/>
                  <a:pt x="20683" y="9743"/>
                  <a:pt x="20764" y="9716"/>
                </a:cubicBezTo>
                <a:cubicBezTo>
                  <a:pt x="20842" y="9690"/>
                  <a:pt x="20897" y="9735"/>
                  <a:pt x="20955" y="9747"/>
                </a:cubicBezTo>
                <a:cubicBezTo>
                  <a:pt x="20976" y="9747"/>
                  <a:pt x="20997" y="9747"/>
                  <a:pt x="21018" y="9747"/>
                </a:cubicBezTo>
                <a:cubicBezTo>
                  <a:pt x="21033" y="9854"/>
                  <a:pt x="21063" y="9880"/>
                  <a:pt x="21018" y="10001"/>
                </a:cubicBezTo>
                <a:cubicBezTo>
                  <a:pt x="20969" y="10132"/>
                  <a:pt x="20909" y="10251"/>
                  <a:pt x="20860" y="10382"/>
                </a:cubicBezTo>
                <a:cubicBezTo>
                  <a:pt x="20829" y="10464"/>
                  <a:pt x="20803" y="10595"/>
                  <a:pt x="20764" y="10668"/>
                </a:cubicBezTo>
                <a:cubicBezTo>
                  <a:pt x="20746" y="10703"/>
                  <a:pt x="20738" y="10725"/>
                  <a:pt x="20796" y="10732"/>
                </a:cubicBezTo>
                <a:cubicBezTo>
                  <a:pt x="20850" y="10739"/>
                  <a:pt x="20879" y="10683"/>
                  <a:pt x="20923" y="10668"/>
                </a:cubicBezTo>
                <a:cubicBezTo>
                  <a:pt x="20970" y="10652"/>
                  <a:pt x="21039" y="10625"/>
                  <a:pt x="21082" y="10604"/>
                </a:cubicBezTo>
                <a:cubicBezTo>
                  <a:pt x="21115" y="10588"/>
                  <a:pt x="21151" y="10535"/>
                  <a:pt x="21177" y="10509"/>
                </a:cubicBezTo>
              </a:path>
              <a:path w="8446" h="2128">
                <a:moveTo>
                  <a:pt x="21463" y="9906"/>
                </a:moveTo>
                <a:cubicBezTo>
                  <a:pt x="21463" y="10007"/>
                  <a:pt x="21491" y="10091"/>
                  <a:pt x="21495" y="10192"/>
                </a:cubicBezTo>
                <a:cubicBezTo>
                  <a:pt x="21499" y="10303"/>
                  <a:pt x="21522" y="10401"/>
                  <a:pt x="21526" y="10509"/>
                </a:cubicBezTo>
                <a:cubicBezTo>
                  <a:pt x="21530" y="10604"/>
                  <a:pt x="21558" y="10669"/>
                  <a:pt x="21558" y="10763"/>
                </a:cubicBezTo>
                <a:cubicBezTo>
                  <a:pt x="21558" y="10799"/>
                  <a:pt x="21561" y="10813"/>
                  <a:pt x="21590" y="10827"/>
                </a:cubicBezTo>
              </a:path>
              <a:path w="8446" h="2128">
                <a:moveTo>
                  <a:pt x="21717" y="9970"/>
                </a:moveTo>
                <a:cubicBezTo>
                  <a:pt x="21696" y="9970"/>
                  <a:pt x="21675" y="9970"/>
                  <a:pt x="21654" y="9970"/>
                </a:cubicBezTo>
                <a:cubicBezTo>
                  <a:pt x="21638" y="10097"/>
                  <a:pt x="21577" y="10199"/>
                  <a:pt x="21526" y="10319"/>
                </a:cubicBezTo>
                <a:cubicBezTo>
                  <a:pt x="21445" y="10511"/>
                  <a:pt x="21361" y="10701"/>
                  <a:pt x="21272" y="10890"/>
                </a:cubicBezTo>
              </a:path>
              <a:path w="8446" h="2128">
                <a:moveTo>
                  <a:pt x="22416" y="9842"/>
                </a:moveTo>
                <a:cubicBezTo>
                  <a:pt x="22344" y="9890"/>
                  <a:pt x="22436" y="9935"/>
                  <a:pt x="22416" y="10033"/>
                </a:cubicBezTo>
                <a:cubicBezTo>
                  <a:pt x="22394" y="10143"/>
                  <a:pt x="22409" y="10272"/>
                  <a:pt x="22384" y="10382"/>
                </a:cubicBezTo>
                <a:cubicBezTo>
                  <a:pt x="22368" y="10450"/>
                  <a:pt x="22376" y="10573"/>
                  <a:pt x="22352" y="10636"/>
                </a:cubicBezTo>
                <a:cubicBezTo>
                  <a:pt x="22341" y="10647"/>
                  <a:pt x="22331" y="10657"/>
                  <a:pt x="22320" y="10668"/>
                </a:cubicBezTo>
              </a:path>
              <a:path w="8446" h="2128">
                <a:moveTo>
                  <a:pt x="22193" y="10160"/>
                </a:moveTo>
                <a:cubicBezTo>
                  <a:pt x="22263" y="10118"/>
                  <a:pt x="22329" y="10128"/>
                  <a:pt x="22416" y="10128"/>
                </a:cubicBezTo>
                <a:cubicBezTo>
                  <a:pt x="22490" y="10128"/>
                  <a:pt x="22564" y="10128"/>
                  <a:pt x="22638" y="10128"/>
                </a:cubicBezTo>
              </a:path>
              <a:path w="8446" h="2128">
                <a:moveTo>
                  <a:pt x="23463" y="9652"/>
                </a:moveTo>
                <a:cubicBezTo>
                  <a:pt x="23449" y="9572"/>
                  <a:pt x="23502" y="9522"/>
                  <a:pt x="23400" y="9493"/>
                </a:cubicBezTo>
                <a:cubicBezTo>
                  <a:pt x="23330" y="9473"/>
                  <a:pt x="23262" y="9496"/>
                  <a:pt x="23209" y="9525"/>
                </a:cubicBezTo>
                <a:cubicBezTo>
                  <a:pt x="23105" y="9581"/>
                  <a:pt x="23040" y="9631"/>
                  <a:pt x="22955" y="9716"/>
                </a:cubicBezTo>
                <a:cubicBezTo>
                  <a:pt x="22903" y="9768"/>
                  <a:pt x="22876" y="9831"/>
                  <a:pt x="22892" y="9906"/>
                </a:cubicBezTo>
                <a:cubicBezTo>
                  <a:pt x="22910" y="9991"/>
                  <a:pt x="22968" y="9974"/>
                  <a:pt x="23019" y="10033"/>
                </a:cubicBezTo>
                <a:cubicBezTo>
                  <a:pt x="23092" y="10118"/>
                  <a:pt x="23205" y="10169"/>
                  <a:pt x="23273" y="10255"/>
                </a:cubicBezTo>
                <a:cubicBezTo>
                  <a:pt x="23326" y="10322"/>
                  <a:pt x="23364" y="10427"/>
                  <a:pt x="23368" y="10509"/>
                </a:cubicBezTo>
                <a:cubicBezTo>
                  <a:pt x="23374" y="10642"/>
                  <a:pt x="23332" y="10687"/>
                  <a:pt x="23241" y="10763"/>
                </a:cubicBezTo>
                <a:cubicBezTo>
                  <a:pt x="23187" y="10808"/>
                  <a:pt x="23165" y="10849"/>
                  <a:pt x="23082" y="10827"/>
                </a:cubicBezTo>
                <a:cubicBezTo>
                  <a:pt x="23000" y="10805"/>
                  <a:pt x="23010" y="10627"/>
                  <a:pt x="23019" y="10573"/>
                </a:cubicBezTo>
                <a:cubicBezTo>
                  <a:pt x="23052" y="10366"/>
                  <a:pt x="23149" y="10154"/>
                  <a:pt x="23241" y="9970"/>
                </a:cubicBezTo>
                <a:cubicBezTo>
                  <a:pt x="23333" y="9786"/>
                  <a:pt x="23516" y="9519"/>
                  <a:pt x="23654" y="9366"/>
                </a:cubicBezTo>
                <a:cubicBezTo>
                  <a:pt x="23686" y="9345"/>
                  <a:pt x="23717" y="9324"/>
                  <a:pt x="23749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1736640" y="4618080"/>
            <a:ext cx="3487680" cy="1393920"/>
          </a:xfrm>
          <a:custGeom>
            <a:avLst/>
            <a:gdLst/>
            <a:ahLst/>
            <a:rect l="l" t="t" r="r" b="b"/>
            <a:pathLst>
              <a:path w="9685" h="3874">
                <a:moveTo>
                  <a:pt x="4921" y="13621"/>
                </a:moveTo>
                <a:cubicBezTo>
                  <a:pt x="4932" y="13621"/>
                  <a:pt x="4942" y="13621"/>
                  <a:pt x="4953" y="13621"/>
                </a:cubicBezTo>
                <a:cubicBezTo>
                  <a:pt x="4953" y="13679"/>
                  <a:pt x="4927" y="13696"/>
                  <a:pt x="4921" y="13748"/>
                </a:cubicBezTo>
                <a:cubicBezTo>
                  <a:pt x="4913" y="13818"/>
                  <a:pt x="4875" y="13871"/>
                  <a:pt x="4858" y="13938"/>
                </a:cubicBezTo>
                <a:cubicBezTo>
                  <a:pt x="4845" y="13988"/>
                  <a:pt x="4826" y="14008"/>
                  <a:pt x="4826" y="14065"/>
                </a:cubicBezTo>
                <a:cubicBezTo>
                  <a:pt x="4826" y="14076"/>
                  <a:pt x="4826" y="14086"/>
                  <a:pt x="4826" y="14097"/>
                </a:cubicBezTo>
                <a:cubicBezTo>
                  <a:pt x="4859" y="14089"/>
                  <a:pt x="4912" y="14042"/>
                  <a:pt x="4953" y="14065"/>
                </a:cubicBezTo>
                <a:cubicBezTo>
                  <a:pt x="5001" y="14092"/>
                  <a:pt x="5057" y="14123"/>
                  <a:pt x="5112" y="14129"/>
                </a:cubicBezTo>
                <a:cubicBezTo>
                  <a:pt x="5176" y="14136"/>
                  <a:pt x="5222" y="14134"/>
                  <a:pt x="5270" y="14097"/>
                </a:cubicBezTo>
              </a:path>
              <a:path w="9685" h="3874">
                <a:moveTo>
                  <a:pt x="5366" y="13526"/>
                </a:moveTo>
                <a:cubicBezTo>
                  <a:pt x="5351" y="13598"/>
                  <a:pt x="5311" y="13676"/>
                  <a:pt x="5302" y="13748"/>
                </a:cubicBezTo>
                <a:cubicBezTo>
                  <a:pt x="5285" y="13875"/>
                  <a:pt x="5253" y="14003"/>
                  <a:pt x="5239" y="14129"/>
                </a:cubicBezTo>
                <a:cubicBezTo>
                  <a:pt x="5225" y="14258"/>
                  <a:pt x="5189" y="14383"/>
                  <a:pt x="5175" y="14510"/>
                </a:cubicBezTo>
                <a:cubicBezTo>
                  <a:pt x="5165" y="14600"/>
                  <a:pt x="5163" y="14655"/>
                  <a:pt x="5144" y="14732"/>
                </a:cubicBezTo>
              </a:path>
              <a:path w="9685" h="3874">
                <a:moveTo>
                  <a:pt x="5493" y="13875"/>
                </a:moveTo>
                <a:cubicBezTo>
                  <a:pt x="5506" y="13929"/>
                  <a:pt x="5530" y="13978"/>
                  <a:pt x="5556" y="14034"/>
                </a:cubicBezTo>
                <a:cubicBezTo>
                  <a:pt x="5595" y="14115"/>
                  <a:pt x="5618" y="14201"/>
                  <a:pt x="5652" y="14288"/>
                </a:cubicBezTo>
                <a:cubicBezTo>
                  <a:pt x="5686" y="14375"/>
                  <a:pt x="5758" y="14483"/>
                  <a:pt x="5778" y="14573"/>
                </a:cubicBezTo>
                <a:cubicBezTo>
                  <a:pt x="5792" y="14639"/>
                  <a:pt x="5806" y="14710"/>
                  <a:pt x="5842" y="14764"/>
                </a:cubicBezTo>
                <a:cubicBezTo>
                  <a:pt x="5853" y="14775"/>
                  <a:pt x="5863" y="14785"/>
                  <a:pt x="5874" y="14796"/>
                </a:cubicBezTo>
              </a:path>
              <a:path w="9685" h="3874">
                <a:moveTo>
                  <a:pt x="5842" y="13906"/>
                </a:moveTo>
                <a:cubicBezTo>
                  <a:pt x="5827" y="13964"/>
                  <a:pt x="5778" y="14006"/>
                  <a:pt x="5747" y="14065"/>
                </a:cubicBezTo>
                <a:cubicBezTo>
                  <a:pt x="5692" y="14169"/>
                  <a:pt x="5623" y="14257"/>
                  <a:pt x="5556" y="14351"/>
                </a:cubicBezTo>
                <a:cubicBezTo>
                  <a:pt x="5485" y="14452"/>
                  <a:pt x="5414" y="14545"/>
                  <a:pt x="5334" y="14637"/>
                </a:cubicBezTo>
              </a:path>
              <a:path w="9685" h="3874">
                <a:moveTo>
                  <a:pt x="6001" y="13430"/>
                </a:moveTo>
                <a:cubicBezTo>
                  <a:pt x="6001" y="13409"/>
                  <a:pt x="6001" y="13388"/>
                  <a:pt x="6001" y="13367"/>
                </a:cubicBezTo>
              </a:path>
              <a:path w="9685" h="3874">
                <a:moveTo>
                  <a:pt x="6001" y="13430"/>
                </a:moveTo>
                <a:cubicBezTo>
                  <a:pt x="6022" y="13409"/>
                  <a:pt x="6043" y="13388"/>
                  <a:pt x="6064" y="13367"/>
                </a:cubicBezTo>
              </a:path>
              <a:path w="9685" h="3874">
                <a:moveTo>
                  <a:pt x="6064" y="13367"/>
                </a:moveTo>
                <a:cubicBezTo>
                  <a:pt x="6096" y="13367"/>
                  <a:pt x="6128" y="13367"/>
                  <a:pt x="6160" y="13367"/>
                </a:cubicBezTo>
                <a:cubicBezTo>
                  <a:pt x="6178" y="13477"/>
                  <a:pt x="6213" y="13386"/>
                  <a:pt x="6223" y="13462"/>
                </a:cubicBezTo>
                <a:cubicBezTo>
                  <a:pt x="6231" y="13527"/>
                  <a:pt x="6208" y="13539"/>
                  <a:pt x="6191" y="13589"/>
                </a:cubicBezTo>
                <a:cubicBezTo>
                  <a:pt x="6179" y="13624"/>
                  <a:pt x="6169" y="13647"/>
                  <a:pt x="6128" y="13652"/>
                </a:cubicBezTo>
                <a:cubicBezTo>
                  <a:pt x="6054" y="13661"/>
                  <a:pt x="6139" y="13702"/>
                  <a:pt x="6064" y="13652"/>
                </a:cubicBezTo>
                <a:cubicBezTo>
                  <a:pt x="6113" y="13616"/>
                  <a:pt x="6140" y="13618"/>
                  <a:pt x="6191" y="13652"/>
                </a:cubicBezTo>
                <a:cubicBezTo>
                  <a:pt x="6245" y="13688"/>
                  <a:pt x="6255" y="13720"/>
                  <a:pt x="6255" y="13780"/>
                </a:cubicBezTo>
                <a:cubicBezTo>
                  <a:pt x="6255" y="13879"/>
                  <a:pt x="6249" y="13950"/>
                  <a:pt x="6223" y="14034"/>
                </a:cubicBezTo>
                <a:cubicBezTo>
                  <a:pt x="6217" y="14053"/>
                  <a:pt x="6192" y="14113"/>
                  <a:pt x="6160" y="14129"/>
                </a:cubicBezTo>
                <a:cubicBezTo>
                  <a:pt x="6104" y="14157"/>
                  <a:pt x="6076" y="14103"/>
                  <a:pt x="6064" y="14097"/>
                </a:cubicBezTo>
                <a:cubicBezTo>
                  <a:pt x="6032" y="14097"/>
                  <a:pt x="6021" y="14097"/>
                  <a:pt x="6032" y="14065"/>
                </a:cubicBezTo>
              </a:path>
              <a:path w="9685" h="3874">
                <a:moveTo>
                  <a:pt x="6858" y="13748"/>
                </a:moveTo>
                <a:cubicBezTo>
                  <a:pt x="6915" y="13823"/>
                  <a:pt x="6873" y="13804"/>
                  <a:pt x="6858" y="13875"/>
                </a:cubicBezTo>
                <a:cubicBezTo>
                  <a:pt x="6841" y="13952"/>
                  <a:pt x="6856" y="14023"/>
                  <a:pt x="6826" y="14097"/>
                </a:cubicBezTo>
                <a:cubicBezTo>
                  <a:pt x="6793" y="14178"/>
                  <a:pt x="6794" y="14232"/>
                  <a:pt x="6794" y="14319"/>
                </a:cubicBezTo>
                <a:cubicBezTo>
                  <a:pt x="6794" y="14360"/>
                  <a:pt x="6816" y="14376"/>
                  <a:pt x="6826" y="14414"/>
                </a:cubicBezTo>
              </a:path>
              <a:path w="9685" h="3874">
                <a:moveTo>
                  <a:pt x="6699" y="14129"/>
                </a:moveTo>
                <a:cubicBezTo>
                  <a:pt x="6699" y="14139"/>
                  <a:pt x="6699" y="14150"/>
                  <a:pt x="6699" y="14160"/>
                </a:cubicBezTo>
                <a:cubicBezTo>
                  <a:pt x="6794" y="14160"/>
                  <a:pt x="6890" y="14160"/>
                  <a:pt x="6985" y="14160"/>
                </a:cubicBezTo>
              </a:path>
              <a:path w="9685" h="3874">
                <a:moveTo>
                  <a:pt x="7684" y="14034"/>
                </a:moveTo>
                <a:cubicBezTo>
                  <a:pt x="7684" y="13919"/>
                  <a:pt x="7707" y="13779"/>
                  <a:pt x="7652" y="13684"/>
                </a:cubicBezTo>
                <a:cubicBezTo>
                  <a:pt x="7608" y="13607"/>
                  <a:pt x="7586" y="13597"/>
                  <a:pt x="7525" y="13557"/>
                </a:cubicBezTo>
                <a:cubicBezTo>
                  <a:pt x="7451" y="13509"/>
                  <a:pt x="7469" y="13534"/>
                  <a:pt x="7398" y="13557"/>
                </a:cubicBezTo>
                <a:cubicBezTo>
                  <a:pt x="7363" y="13568"/>
                  <a:pt x="7347" y="13630"/>
                  <a:pt x="7334" y="13684"/>
                </a:cubicBezTo>
                <a:cubicBezTo>
                  <a:pt x="7318" y="13746"/>
                  <a:pt x="7347" y="13850"/>
                  <a:pt x="7366" y="13906"/>
                </a:cubicBezTo>
                <a:cubicBezTo>
                  <a:pt x="7395" y="13991"/>
                  <a:pt x="7434" y="14079"/>
                  <a:pt x="7461" y="14160"/>
                </a:cubicBezTo>
                <a:cubicBezTo>
                  <a:pt x="7490" y="14247"/>
                  <a:pt x="7541" y="14324"/>
                  <a:pt x="7556" y="14414"/>
                </a:cubicBezTo>
                <a:cubicBezTo>
                  <a:pt x="7562" y="14448"/>
                  <a:pt x="7608" y="14537"/>
                  <a:pt x="7588" y="14573"/>
                </a:cubicBezTo>
                <a:cubicBezTo>
                  <a:pt x="7559" y="14602"/>
                  <a:pt x="7548" y="14608"/>
                  <a:pt x="7556" y="14637"/>
                </a:cubicBezTo>
                <a:cubicBezTo>
                  <a:pt x="7488" y="14637"/>
                  <a:pt x="7479" y="14621"/>
                  <a:pt x="7430" y="14573"/>
                </a:cubicBezTo>
                <a:cubicBezTo>
                  <a:pt x="7381" y="14524"/>
                  <a:pt x="7366" y="14514"/>
                  <a:pt x="7366" y="14446"/>
                </a:cubicBezTo>
                <a:cubicBezTo>
                  <a:pt x="7366" y="14395"/>
                  <a:pt x="7374" y="14328"/>
                  <a:pt x="7398" y="14288"/>
                </a:cubicBezTo>
                <a:cubicBezTo>
                  <a:pt x="7435" y="14227"/>
                  <a:pt x="7482" y="14155"/>
                  <a:pt x="7525" y="14097"/>
                </a:cubicBezTo>
                <a:cubicBezTo>
                  <a:pt x="7553" y="14059"/>
                  <a:pt x="7569" y="13992"/>
                  <a:pt x="7620" y="13970"/>
                </a:cubicBezTo>
                <a:cubicBezTo>
                  <a:pt x="7631" y="13965"/>
                  <a:pt x="7707" y="13918"/>
                  <a:pt x="7715" y="13906"/>
                </a:cubicBezTo>
                <a:cubicBezTo>
                  <a:pt x="7739" y="13871"/>
                  <a:pt x="7747" y="13917"/>
                  <a:pt x="7747" y="13875"/>
                </a:cubicBezTo>
                <a:cubicBezTo>
                  <a:pt x="7747" y="13864"/>
                  <a:pt x="7747" y="13854"/>
                  <a:pt x="7747" y="13843"/>
                </a:cubicBezTo>
                <a:cubicBezTo>
                  <a:pt x="7747" y="13886"/>
                  <a:pt x="7747" y="13800"/>
                  <a:pt x="7747" y="13843"/>
                </a:cubicBezTo>
                <a:cubicBezTo>
                  <a:pt x="7747" y="13854"/>
                  <a:pt x="7747" y="13864"/>
                  <a:pt x="7747" y="13875"/>
                </a:cubicBezTo>
              </a:path>
              <a:path w="9685" h="3874">
                <a:moveTo>
                  <a:pt x="7906" y="13875"/>
                </a:moveTo>
                <a:cubicBezTo>
                  <a:pt x="7886" y="13885"/>
                  <a:pt x="7887" y="13917"/>
                  <a:pt x="7906" y="13970"/>
                </a:cubicBezTo>
                <a:cubicBezTo>
                  <a:pt x="7941" y="14069"/>
                  <a:pt x="8013" y="14150"/>
                  <a:pt x="8033" y="14256"/>
                </a:cubicBezTo>
                <a:cubicBezTo>
                  <a:pt x="8055" y="14369"/>
                  <a:pt x="8087" y="14464"/>
                  <a:pt x="8128" y="14573"/>
                </a:cubicBezTo>
                <a:cubicBezTo>
                  <a:pt x="8158" y="14651"/>
                  <a:pt x="8173" y="14700"/>
                  <a:pt x="8223" y="14764"/>
                </a:cubicBezTo>
              </a:path>
              <a:path w="9685" h="3874">
                <a:moveTo>
                  <a:pt x="8192" y="13938"/>
                </a:moveTo>
                <a:cubicBezTo>
                  <a:pt x="8123" y="13955"/>
                  <a:pt x="8099" y="13999"/>
                  <a:pt x="8064" y="14065"/>
                </a:cubicBezTo>
                <a:cubicBezTo>
                  <a:pt x="8018" y="14152"/>
                  <a:pt x="7997" y="14232"/>
                  <a:pt x="7969" y="14319"/>
                </a:cubicBezTo>
                <a:cubicBezTo>
                  <a:pt x="7936" y="14419"/>
                  <a:pt x="7863" y="14502"/>
                  <a:pt x="7842" y="14605"/>
                </a:cubicBezTo>
              </a:path>
              <a:path w="9685" h="3874">
                <a:moveTo>
                  <a:pt x="8414" y="13494"/>
                </a:moveTo>
                <a:cubicBezTo>
                  <a:pt x="8414" y="13444"/>
                  <a:pt x="8431" y="13397"/>
                  <a:pt x="8477" y="13367"/>
                </a:cubicBezTo>
                <a:cubicBezTo>
                  <a:pt x="8491" y="13357"/>
                  <a:pt x="8554" y="13367"/>
                  <a:pt x="8572" y="13367"/>
                </a:cubicBezTo>
                <a:cubicBezTo>
                  <a:pt x="8586" y="13449"/>
                  <a:pt x="8604" y="13414"/>
                  <a:pt x="8604" y="13494"/>
                </a:cubicBezTo>
                <a:cubicBezTo>
                  <a:pt x="8604" y="13555"/>
                  <a:pt x="8546" y="13636"/>
                  <a:pt x="8509" y="13684"/>
                </a:cubicBezTo>
                <a:cubicBezTo>
                  <a:pt x="8476" y="13727"/>
                  <a:pt x="8440" y="13773"/>
                  <a:pt x="8414" y="13811"/>
                </a:cubicBezTo>
                <a:cubicBezTo>
                  <a:pt x="8377" y="13867"/>
                  <a:pt x="8364" y="13882"/>
                  <a:pt x="8382" y="13875"/>
                </a:cubicBezTo>
                <a:cubicBezTo>
                  <a:pt x="8419" y="13861"/>
                  <a:pt x="8485" y="13890"/>
                  <a:pt x="8509" y="13906"/>
                </a:cubicBezTo>
                <a:cubicBezTo>
                  <a:pt x="8551" y="13934"/>
                  <a:pt x="8584" y="13964"/>
                  <a:pt x="8636" y="13970"/>
                </a:cubicBezTo>
                <a:cubicBezTo>
                  <a:pt x="8672" y="13970"/>
                  <a:pt x="8686" y="13967"/>
                  <a:pt x="8700" y="13938"/>
                </a:cubicBezTo>
              </a:path>
              <a:path w="9685" h="3874">
                <a:moveTo>
                  <a:pt x="8636" y="14224"/>
                </a:moveTo>
                <a:cubicBezTo>
                  <a:pt x="8636" y="14192"/>
                  <a:pt x="8636" y="14181"/>
                  <a:pt x="8636" y="14160"/>
                </a:cubicBezTo>
                <a:cubicBezTo>
                  <a:pt x="8718" y="14160"/>
                  <a:pt x="8751" y="14147"/>
                  <a:pt x="8826" y="14129"/>
                </a:cubicBezTo>
                <a:cubicBezTo>
                  <a:pt x="8883" y="14115"/>
                  <a:pt x="8903" y="14127"/>
                  <a:pt x="8954" y="14097"/>
                </a:cubicBezTo>
              </a:path>
              <a:path w="9685" h="3874">
                <a:moveTo>
                  <a:pt x="9176" y="13811"/>
                </a:moveTo>
                <a:cubicBezTo>
                  <a:pt x="9189" y="13761"/>
                  <a:pt x="9224" y="13730"/>
                  <a:pt x="9239" y="13684"/>
                </a:cubicBezTo>
                <a:cubicBezTo>
                  <a:pt x="9248" y="13656"/>
                  <a:pt x="9289" y="13627"/>
                  <a:pt x="9334" y="13652"/>
                </a:cubicBezTo>
                <a:cubicBezTo>
                  <a:pt x="9399" y="13689"/>
                  <a:pt x="9425" y="13746"/>
                  <a:pt x="9430" y="13811"/>
                </a:cubicBezTo>
                <a:cubicBezTo>
                  <a:pt x="9438" y="13902"/>
                  <a:pt x="9406" y="13955"/>
                  <a:pt x="9366" y="14034"/>
                </a:cubicBezTo>
                <a:cubicBezTo>
                  <a:pt x="9308" y="14149"/>
                  <a:pt x="9263" y="14257"/>
                  <a:pt x="9176" y="14351"/>
                </a:cubicBezTo>
                <a:cubicBezTo>
                  <a:pt x="9126" y="14405"/>
                  <a:pt x="9083" y="14458"/>
                  <a:pt x="9049" y="14510"/>
                </a:cubicBezTo>
                <a:cubicBezTo>
                  <a:pt x="9020" y="14539"/>
                  <a:pt x="9010" y="14545"/>
                  <a:pt x="9017" y="14573"/>
                </a:cubicBezTo>
                <a:cubicBezTo>
                  <a:pt x="9085" y="14573"/>
                  <a:pt x="9107" y="14546"/>
                  <a:pt x="9176" y="14542"/>
                </a:cubicBezTo>
                <a:cubicBezTo>
                  <a:pt x="9224" y="14539"/>
                  <a:pt x="9319" y="14557"/>
                  <a:pt x="9366" y="14573"/>
                </a:cubicBezTo>
                <a:cubicBezTo>
                  <a:pt x="9387" y="14584"/>
                  <a:pt x="9409" y="14594"/>
                  <a:pt x="9430" y="14605"/>
                </a:cubicBezTo>
              </a:path>
              <a:path w="9685" h="3874">
                <a:moveTo>
                  <a:pt x="9938" y="13875"/>
                </a:moveTo>
                <a:cubicBezTo>
                  <a:pt x="9938" y="13854"/>
                  <a:pt x="9938" y="13832"/>
                  <a:pt x="9938" y="13811"/>
                </a:cubicBezTo>
                <a:cubicBezTo>
                  <a:pt x="9878" y="13768"/>
                  <a:pt x="9831" y="13776"/>
                  <a:pt x="9779" y="13843"/>
                </a:cubicBezTo>
                <a:cubicBezTo>
                  <a:pt x="9715" y="13924"/>
                  <a:pt x="9613" y="14097"/>
                  <a:pt x="9588" y="14192"/>
                </a:cubicBezTo>
                <a:cubicBezTo>
                  <a:pt x="9559" y="14304"/>
                  <a:pt x="9560" y="14431"/>
                  <a:pt x="9588" y="14542"/>
                </a:cubicBezTo>
                <a:cubicBezTo>
                  <a:pt x="9620" y="14669"/>
                  <a:pt x="9686" y="14725"/>
                  <a:pt x="9811" y="14732"/>
                </a:cubicBezTo>
                <a:cubicBezTo>
                  <a:pt x="9913" y="14738"/>
                  <a:pt x="9988" y="14660"/>
                  <a:pt x="10033" y="14573"/>
                </a:cubicBezTo>
                <a:cubicBezTo>
                  <a:pt x="10085" y="14473"/>
                  <a:pt x="10121" y="14337"/>
                  <a:pt x="10096" y="14224"/>
                </a:cubicBezTo>
                <a:cubicBezTo>
                  <a:pt x="10077" y="14139"/>
                  <a:pt x="10028" y="14035"/>
                  <a:pt x="9970" y="13970"/>
                </a:cubicBezTo>
                <a:cubicBezTo>
                  <a:pt x="9936" y="13932"/>
                  <a:pt x="9906" y="13957"/>
                  <a:pt x="9906" y="13906"/>
                </a:cubicBezTo>
                <a:cubicBezTo>
                  <a:pt x="9906" y="13896"/>
                  <a:pt x="9906" y="13885"/>
                  <a:pt x="9906" y="13875"/>
                </a:cubicBezTo>
              </a:path>
              <a:path w="9685" h="3874">
                <a:moveTo>
                  <a:pt x="10128" y="14034"/>
                </a:moveTo>
                <a:cubicBezTo>
                  <a:pt x="10178" y="14133"/>
                  <a:pt x="10192" y="14213"/>
                  <a:pt x="10224" y="14319"/>
                </a:cubicBezTo>
                <a:cubicBezTo>
                  <a:pt x="10264" y="14452"/>
                  <a:pt x="10337" y="14566"/>
                  <a:pt x="10382" y="14700"/>
                </a:cubicBezTo>
                <a:cubicBezTo>
                  <a:pt x="10416" y="14802"/>
                  <a:pt x="10434" y="14878"/>
                  <a:pt x="10509" y="14954"/>
                </a:cubicBezTo>
              </a:path>
              <a:path w="9685" h="3874">
                <a:moveTo>
                  <a:pt x="10573" y="14319"/>
                </a:moveTo>
                <a:cubicBezTo>
                  <a:pt x="10492" y="14339"/>
                  <a:pt x="10460" y="14408"/>
                  <a:pt x="10414" y="14478"/>
                </a:cubicBezTo>
                <a:cubicBezTo>
                  <a:pt x="10335" y="14599"/>
                  <a:pt x="10241" y="14706"/>
                  <a:pt x="10160" y="14827"/>
                </a:cubicBezTo>
                <a:cubicBezTo>
                  <a:pt x="10139" y="14859"/>
                  <a:pt x="10117" y="14890"/>
                  <a:pt x="10096" y="14922"/>
                </a:cubicBezTo>
              </a:path>
              <a:path w="9685" h="3874">
                <a:moveTo>
                  <a:pt x="10922" y="13970"/>
                </a:moveTo>
                <a:cubicBezTo>
                  <a:pt x="10922" y="14048"/>
                  <a:pt x="10894" y="14114"/>
                  <a:pt x="10890" y="14192"/>
                </a:cubicBezTo>
                <a:cubicBezTo>
                  <a:pt x="10884" y="14305"/>
                  <a:pt x="10872" y="14365"/>
                  <a:pt x="10890" y="14478"/>
                </a:cubicBezTo>
                <a:cubicBezTo>
                  <a:pt x="10903" y="14561"/>
                  <a:pt x="10900" y="14628"/>
                  <a:pt x="10922" y="14700"/>
                </a:cubicBezTo>
                <a:cubicBezTo>
                  <a:pt x="10922" y="14711"/>
                  <a:pt x="10922" y="14721"/>
                  <a:pt x="10922" y="14732"/>
                </a:cubicBezTo>
              </a:path>
              <a:path w="9685" h="3874">
                <a:moveTo>
                  <a:pt x="10732" y="14288"/>
                </a:moveTo>
                <a:cubicBezTo>
                  <a:pt x="10786" y="14342"/>
                  <a:pt x="10823" y="14357"/>
                  <a:pt x="10890" y="14383"/>
                </a:cubicBezTo>
                <a:cubicBezTo>
                  <a:pt x="10979" y="14418"/>
                  <a:pt x="11016" y="14446"/>
                  <a:pt x="11112" y="14446"/>
                </a:cubicBezTo>
                <a:cubicBezTo>
                  <a:pt x="11144" y="14446"/>
                  <a:pt x="11155" y="14446"/>
                  <a:pt x="11176" y="14446"/>
                </a:cubicBezTo>
              </a:path>
              <a:path w="9685" h="3874">
                <a:moveTo>
                  <a:pt x="11557" y="13748"/>
                </a:moveTo>
                <a:cubicBezTo>
                  <a:pt x="11529" y="13692"/>
                  <a:pt x="11474" y="13820"/>
                  <a:pt x="11462" y="13875"/>
                </a:cubicBezTo>
                <a:cubicBezTo>
                  <a:pt x="11434" y="13999"/>
                  <a:pt x="11358" y="14101"/>
                  <a:pt x="11335" y="14224"/>
                </a:cubicBezTo>
                <a:cubicBezTo>
                  <a:pt x="11317" y="14321"/>
                  <a:pt x="11298" y="14626"/>
                  <a:pt x="11366" y="14700"/>
                </a:cubicBezTo>
                <a:cubicBezTo>
                  <a:pt x="11419" y="14756"/>
                  <a:pt x="11546" y="14793"/>
                  <a:pt x="11620" y="14764"/>
                </a:cubicBezTo>
                <a:cubicBezTo>
                  <a:pt x="11739" y="14718"/>
                  <a:pt x="11826" y="14626"/>
                  <a:pt x="11874" y="14510"/>
                </a:cubicBezTo>
                <a:cubicBezTo>
                  <a:pt x="11904" y="14437"/>
                  <a:pt x="11942" y="14292"/>
                  <a:pt x="11874" y="14224"/>
                </a:cubicBezTo>
                <a:cubicBezTo>
                  <a:pt x="11821" y="14170"/>
                  <a:pt x="11732" y="14182"/>
                  <a:pt x="11684" y="14224"/>
                </a:cubicBezTo>
                <a:cubicBezTo>
                  <a:pt x="11605" y="14292"/>
                  <a:pt x="11545" y="14407"/>
                  <a:pt x="11525" y="14510"/>
                </a:cubicBezTo>
                <a:cubicBezTo>
                  <a:pt x="11514" y="14567"/>
                  <a:pt x="11522" y="14723"/>
                  <a:pt x="11557" y="14764"/>
                </a:cubicBezTo>
                <a:cubicBezTo>
                  <a:pt x="11589" y="14764"/>
                  <a:pt x="11599" y="14764"/>
                  <a:pt x="11620" y="14764"/>
                </a:cubicBezTo>
              </a:path>
              <a:path w="9685" h="3874">
                <a:moveTo>
                  <a:pt x="11938" y="13906"/>
                </a:moveTo>
                <a:cubicBezTo>
                  <a:pt x="11954" y="13970"/>
                  <a:pt x="11978" y="14028"/>
                  <a:pt x="12002" y="14097"/>
                </a:cubicBezTo>
                <a:cubicBezTo>
                  <a:pt x="12081" y="14326"/>
                  <a:pt x="12126" y="14622"/>
                  <a:pt x="12256" y="14827"/>
                </a:cubicBezTo>
                <a:cubicBezTo>
                  <a:pt x="12288" y="14877"/>
                  <a:pt x="12300" y="14897"/>
                  <a:pt x="12319" y="14859"/>
                </a:cubicBezTo>
              </a:path>
              <a:path w="9685" h="3874">
                <a:moveTo>
                  <a:pt x="12351" y="13970"/>
                </a:moveTo>
                <a:cubicBezTo>
                  <a:pt x="12333" y="14061"/>
                  <a:pt x="12274" y="14144"/>
                  <a:pt x="12224" y="14224"/>
                </a:cubicBezTo>
                <a:cubicBezTo>
                  <a:pt x="12148" y="14344"/>
                  <a:pt x="12077" y="14452"/>
                  <a:pt x="12002" y="14573"/>
                </a:cubicBezTo>
                <a:cubicBezTo>
                  <a:pt x="11956" y="14648"/>
                  <a:pt x="11929" y="14727"/>
                  <a:pt x="11874" y="14796"/>
                </a:cubicBezTo>
              </a:path>
              <a:path w="9685" h="3874">
                <a:moveTo>
                  <a:pt x="12510" y="13494"/>
                </a:moveTo>
                <a:cubicBezTo>
                  <a:pt x="12547" y="13457"/>
                  <a:pt x="12603" y="13389"/>
                  <a:pt x="12636" y="13367"/>
                </a:cubicBezTo>
                <a:cubicBezTo>
                  <a:pt x="12657" y="13353"/>
                  <a:pt x="12738" y="13367"/>
                  <a:pt x="12764" y="13367"/>
                </a:cubicBezTo>
                <a:cubicBezTo>
                  <a:pt x="12764" y="13452"/>
                  <a:pt x="12753" y="13486"/>
                  <a:pt x="12700" y="13557"/>
                </a:cubicBezTo>
                <a:cubicBezTo>
                  <a:pt x="12661" y="13608"/>
                  <a:pt x="12597" y="13656"/>
                  <a:pt x="12573" y="13716"/>
                </a:cubicBezTo>
                <a:cubicBezTo>
                  <a:pt x="12555" y="13761"/>
                  <a:pt x="12541" y="13789"/>
                  <a:pt x="12541" y="13843"/>
                </a:cubicBezTo>
                <a:cubicBezTo>
                  <a:pt x="12584" y="13829"/>
                  <a:pt x="12580" y="13798"/>
                  <a:pt x="12636" y="13780"/>
                </a:cubicBezTo>
                <a:cubicBezTo>
                  <a:pt x="12691" y="13762"/>
                  <a:pt x="12737" y="13762"/>
                  <a:pt x="12764" y="13748"/>
                </a:cubicBezTo>
                <a:cubicBezTo>
                  <a:pt x="12812" y="13723"/>
                  <a:pt x="12880" y="13749"/>
                  <a:pt x="12890" y="13780"/>
                </a:cubicBezTo>
              </a:path>
              <a:path w="9685" h="3874">
                <a:moveTo>
                  <a:pt x="12859" y="14192"/>
                </a:moveTo>
                <a:cubicBezTo>
                  <a:pt x="12859" y="14181"/>
                  <a:pt x="12859" y="14171"/>
                  <a:pt x="12859" y="14160"/>
                </a:cubicBezTo>
                <a:cubicBezTo>
                  <a:pt x="12959" y="14160"/>
                  <a:pt x="13097" y="14187"/>
                  <a:pt x="13176" y="14129"/>
                </a:cubicBezTo>
              </a:path>
              <a:path w="9685" h="3874">
                <a:moveTo>
                  <a:pt x="13589" y="13684"/>
                </a:moveTo>
                <a:cubicBezTo>
                  <a:pt x="13631" y="13705"/>
                  <a:pt x="13575" y="13741"/>
                  <a:pt x="13557" y="13811"/>
                </a:cubicBezTo>
                <a:cubicBezTo>
                  <a:pt x="13532" y="13909"/>
                  <a:pt x="13496" y="14000"/>
                  <a:pt x="13462" y="14097"/>
                </a:cubicBezTo>
                <a:cubicBezTo>
                  <a:pt x="13413" y="14237"/>
                  <a:pt x="13371" y="14392"/>
                  <a:pt x="13398" y="14542"/>
                </a:cubicBezTo>
                <a:cubicBezTo>
                  <a:pt x="13418" y="14655"/>
                  <a:pt x="13429" y="14791"/>
                  <a:pt x="13494" y="14891"/>
                </a:cubicBezTo>
                <a:cubicBezTo>
                  <a:pt x="13532" y="14950"/>
                  <a:pt x="13644" y="14940"/>
                  <a:pt x="13684" y="14922"/>
                </a:cubicBezTo>
                <a:cubicBezTo>
                  <a:pt x="13794" y="14871"/>
                  <a:pt x="13822" y="14840"/>
                  <a:pt x="13875" y="14732"/>
                </a:cubicBezTo>
                <a:cubicBezTo>
                  <a:pt x="13929" y="14622"/>
                  <a:pt x="13955" y="14558"/>
                  <a:pt x="13906" y="14446"/>
                </a:cubicBezTo>
                <a:cubicBezTo>
                  <a:pt x="13870" y="14365"/>
                  <a:pt x="13824" y="14363"/>
                  <a:pt x="13748" y="14414"/>
                </a:cubicBezTo>
                <a:cubicBezTo>
                  <a:pt x="13646" y="14482"/>
                  <a:pt x="13641" y="14570"/>
                  <a:pt x="13589" y="14668"/>
                </a:cubicBezTo>
                <a:cubicBezTo>
                  <a:pt x="13536" y="14768"/>
                  <a:pt x="13464" y="14876"/>
                  <a:pt x="13430" y="14986"/>
                </a:cubicBezTo>
                <a:cubicBezTo>
                  <a:pt x="13430" y="14997"/>
                  <a:pt x="13430" y="15007"/>
                  <a:pt x="13430" y="15018"/>
                </a:cubicBezTo>
              </a:path>
              <a:path w="9685" h="3874">
                <a:moveTo>
                  <a:pt x="4953" y="14954"/>
                </a:moveTo>
                <a:cubicBezTo>
                  <a:pt x="5022" y="14954"/>
                  <a:pt x="5058" y="14934"/>
                  <a:pt x="5112" y="14922"/>
                </a:cubicBezTo>
                <a:cubicBezTo>
                  <a:pt x="5206" y="14902"/>
                  <a:pt x="5274" y="14932"/>
                  <a:pt x="5366" y="14891"/>
                </a:cubicBezTo>
                <a:cubicBezTo>
                  <a:pt x="5450" y="14854"/>
                  <a:pt x="5531" y="14811"/>
                  <a:pt x="5620" y="14796"/>
                </a:cubicBezTo>
                <a:cubicBezTo>
                  <a:pt x="5704" y="14782"/>
                  <a:pt x="5792" y="14769"/>
                  <a:pt x="5874" y="14764"/>
                </a:cubicBezTo>
                <a:cubicBezTo>
                  <a:pt x="5960" y="14759"/>
                  <a:pt x="5992" y="14776"/>
                  <a:pt x="6032" y="14796"/>
                </a:cubicBezTo>
                <a:cubicBezTo>
                  <a:pt x="6064" y="14796"/>
                  <a:pt x="6075" y="14796"/>
                  <a:pt x="6064" y="14764"/>
                </a:cubicBezTo>
              </a:path>
              <a:path w="9685" h="3874">
                <a:moveTo>
                  <a:pt x="6286" y="15145"/>
                </a:moveTo>
                <a:cubicBezTo>
                  <a:pt x="6318" y="15145"/>
                  <a:pt x="6329" y="15145"/>
                  <a:pt x="6318" y="15113"/>
                </a:cubicBezTo>
                <a:cubicBezTo>
                  <a:pt x="6335" y="15165"/>
                  <a:pt x="6350" y="15184"/>
                  <a:pt x="6350" y="15272"/>
                </a:cubicBezTo>
                <a:cubicBezTo>
                  <a:pt x="6350" y="15397"/>
                  <a:pt x="6338" y="15504"/>
                  <a:pt x="6318" y="15621"/>
                </a:cubicBezTo>
                <a:cubicBezTo>
                  <a:pt x="6304" y="15707"/>
                  <a:pt x="6274" y="15769"/>
                  <a:pt x="6255" y="15843"/>
                </a:cubicBezTo>
                <a:cubicBezTo>
                  <a:pt x="6247" y="15875"/>
                  <a:pt x="6255" y="15934"/>
                  <a:pt x="6255" y="15970"/>
                </a:cubicBezTo>
                <a:cubicBezTo>
                  <a:pt x="6271" y="15906"/>
                  <a:pt x="6286" y="15907"/>
                  <a:pt x="6350" y="15907"/>
                </a:cubicBezTo>
                <a:cubicBezTo>
                  <a:pt x="6428" y="15907"/>
                  <a:pt x="6466" y="15920"/>
                  <a:pt x="6540" y="15938"/>
                </a:cubicBezTo>
                <a:cubicBezTo>
                  <a:pt x="6586" y="15949"/>
                  <a:pt x="6625" y="15965"/>
                  <a:pt x="6668" y="15970"/>
                </a:cubicBezTo>
                <a:cubicBezTo>
                  <a:pt x="6678" y="15970"/>
                  <a:pt x="6689" y="15970"/>
                  <a:pt x="6699" y="15970"/>
                </a:cubicBezTo>
              </a:path>
              <a:path w="9685" h="3874">
                <a:moveTo>
                  <a:pt x="6763" y="15907"/>
                </a:moveTo>
                <a:lnTo>
                  <a:pt x="6763" y="15907"/>
                </a:lnTo>
              </a:path>
              <a:path w="9685" h="3874">
                <a:moveTo>
                  <a:pt x="6731" y="15430"/>
                </a:moveTo>
                <a:cubicBezTo>
                  <a:pt x="6731" y="15399"/>
                  <a:pt x="6731" y="15388"/>
                  <a:pt x="6763" y="15399"/>
                </a:cubicBezTo>
                <a:cubicBezTo>
                  <a:pt x="6763" y="15467"/>
                  <a:pt x="6737" y="15489"/>
                  <a:pt x="6731" y="15558"/>
                </a:cubicBezTo>
                <a:cubicBezTo>
                  <a:pt x="6724" y="15636"/>
                  <a:pt x="6709" y="15708"/>
                  <a:pt x="6699" y="15780"/>
                </a:cubicBezTo>
                <a:cubicBezTo>
                  <a:pt x="6686" y="15882"/>
                  <a:pt x="6672" y="15996"/>
                  <a:pt x="6668" y="16097"/>
                </a:cubicBezTo>
                <a:cubicBezTo>
                  <a:pt x="6662" y="16235"/>
                  <a:pt x="6668" y="16349"/>
                  <a:pt x="6636" y="16478"/>
                </a:cubicBezTo>
                <a:cubicBezTo>
                  <a:pt x="6636" y="16489"/>
                  <a:pt x="6636" y="16499"/>
                  <a:pt x="6636" y="16510"/>
                </a:cubicBezTo>
              </a:path>
              <a:path w="9685" h="3874">
                <a:moveTo>
                  <a:pt x="6890" y="15558"/>
                </a:moveTo>
                <a:cubicBezTo>
                  <a:pt x="6933" y="15572"/>
                  <a:pt x="6932" y="15632"/>
                  <a:pt x="6953" y="15684"/>
                </a:cubicBezTo>
                <a:cubicBezTo>
                  <a:pt x="6996" y="15792"/>
                  <a:pt x="7063" y="15919"/>
                  <a:pt x="7080" y="16034"/>
                </a:cubicBezTo>
                <a:cubicBezTo>
                  <a:pt x="7097" y="16152"/>
                  <a:pt x="7124" y="16239"/>
                  <a:pt x="7176" y="16351"/>
                </a:cubicBezTo>
                <a:cubicBezTo>
                  <a:pt x="7191" y="16383"/>
                  <a:pt x="7234" y="16529"/>
                  <a:pt x="7271" y="16510"/>
                </a:cubicBezTo>
                <a:cubicBezTo>
                  <a:pt x="7281" y="16499"/>
                  <a:pt x="7292" y="16489"/>
                  <a:pt x="7302" y="16478"/>
                </a:cubicBezTo>
              </a:path>
              <a:path w="9685" h="3874">
                <a:moveTo>
                  <a:pt x="7207" y="15748"/>
                </a:moveTo>
                <a:cubicBezTo>
                  <a:pt x="7163" y="15763"/>
                  <a:pt x="7165" y="15794"/>
                  <a:pt x="7144" y="15843"/>
                </a:cubicBezTo>
                <a:cubicBezTo>
                  <a:pt x="7103" y="15939"/>
                  <a:pt x="7062" y="16035"/>
                  <a:pt x="7017" y="16129"/>
                </a:cubicBezTo>
                <a:cubicBezTo>
                  <a:pt x="6979" y="16209"/>
                  <a:pt x="6923" y="16327"/>
                  <a:pt x="6858" y="16383"/>
                </a:cubicBezTo>
                <a:cubicBezTo>
                  <a:pt x="6807" y="16427"/>
                  <a:pt x="6762" y="16494"/>
                  <a:pt x="6699" y="16510"/>
                </a:cubicBezTo>
              </a:path>
              <a:path w="9685" h="3874">
                <a:moveTo>
                  <a:pt x="7366" y="15430"/>
                </a:moveTo>
                <a:cubicBezTo>
                  <a:pt x="7366" y="15378"/>
                  <a:pt x="7373" y="15329"/>
                  <a:pt x="7430" y="15304"/>
                </a:cubicBezTo>
                <a:cubicBezTo>
                  <a:pt x="7481" y="15281"/>
                  <a:pt x="7584" y="15304"/>
                  <a:pt x="7620" y="15335"/>
                </a:cubicBezTo>
                <a:cubicBezTo>
                  <a:pt x="7671" y="15380"/>
                  <a:pt x="7660" y="15417"/>
                  <a:pt x="7620" y="15462"/>
                </a:cubicBezTo>
                <a:cubicBezTo>
                  <a:pt x="7576" y="15511"/>
                  <a:pt x="7576" y="15525"/>
                  <a:pt x="7525" y="15558"/>
                </a:cubicBezTo>
                <a:cubicBezTo>
                  <a:pt x="7436" y="15617"/>
                  <a:pt x="7478" y="15562"/>
                  <a:pt x="7525" y="15589"/>
                </a:cubicBezTo>
                <a:cubicBezTo>
                  <a:pt x="7573" y="15616"/>
                  <a:pt x="7609" y="15642"/>
                  <a:pt x="7652" y="15684"/>
                </a:cubicBezTo>
                <a:cubicBezTo>
                  <a:pt x="7686" y="15718"/>
                  <a:pt x="7701" y="15799"/>
                  <a:pt x="7715" y="15843"/>
                </a:cubicBezTo>
                <a:cubicBezTo>
                  <a:pt x="7729" y="15886"/>
                  <a:pt x="7678" y="15935"/>
                  <a:pt x="7652" y="15938"/>
                </a:cubicBezTo>
                <a:cubicBezTo>
                  <a:pt x="7582" y="15946"/>
                  <a:pt x="7553" y="15921"/>
                  <a:pt x="7525" y="15907"/>
                </a:cubicBezTo>
                <a:cubicBezTo>
                  <a:pt x="7489" y="15907"/>
                  <a:pt x="7475" y="15904"/>
                  <a:pt x="7461" y="15875"/>
                </a:cubicBezTo>
              </a:path>
              <a:path w="9685" h="3874">
                <a:moveTo>
                  <a:pt x="6953" y="14668"/>
                </a:moveTo>
                <a:cubicBezTo>
                  <a:pt x="6990" y="14695"/>
                  <a:pt x="6988" y="14699"/>
                  <a:pt x="7017" y="14732"/>
                </a:cubicBezTo>
                <a:cubicBezTo>
                  <a:pt x="7071" y="14795"/>
                  <a:pt x="7138" y="14849"/>
                  <a:pt x="7207" y="14891"/>
                </a:cubicBezTo>
                <a:cubicBezTo>
                  <a:pt x="7281" y="14936"/>
                  <a:pt x="7351" y="14978"/>
                  <a:pt x="7430" y="15018"/>
                </a:cubicBezTo>
                <a:cubicBezTo>
                  <a:pt x="7508" y="15057"/>
                  <a:pt x="7600" y="15102"/>
                  <a:pt x="7684" y="15113"/>
                </a:cubicBezTo>
                <a:cubicBezTo>
                  <a:pt x="7759" y="15123"/>
                  <a:pt x="7873" y="15108"/>
                  <a:pt x="7938" y="15081"/>
                </a:cubicBezTo>
                <a:cubicBezTo>
                  <a:pt x="8002" y="15054"/>
                  <a:pt x="8143" y="14975"/>
                  <a:pt x="8192" y="14922"/>
                </a:cubicBezTo>
                <a:cubicBezTo>
                  <a:pt x="8255" y="14855"/>
                  <a:pt x="8327" y="14781"/>
                  <a:pt x="8382" y="14700"/>
                </a:cubicBezTo>
                <a:cubicBezTo>
                  <a:pt x="8437" y="14617"/>
                  <a:pt x="8487" y="14527"/>
                  <a:pt x="8541" y="14446"/>
                </a:cubicBezTo>
                <a:cubicBezTo>
                  <a:pt x="8630" y="14312"/>
                  <a:pt x="8686" y="14148"/>
                  <a:pt x="8731" y="14002"/>
                </a:cubicBezTo>
                <a:cubicBezTo>
                  <a:pt x="8770" y="13876"/>
                  <a:pt x="8791" y="13816"/>
                  <a:pt x="8795" y="13684"/>
                </a:cubicBezTo>
                <a:cubicBezTo>
                  <a:pt x="8799" y="13555"/>
                  <a:pt x="8811" y="13421"/>
                  <a:pt x="8763" y="13303"/>
                </a:cubicBezTo>
                <a:cubicBezTo>
                  <a:pt x="8738" y="13240"/>
                  <a:pt x="8686" y="13127"/>
                  <a:pt x="8636" y="13081"/>
                </a:cubicBezTo>
                <a:cubicBezTo>
                  <a:pt x="8542" y="12994"/>
                  <a:pt x="8454" y="12968"/>
                  <a:pt x="8350" y="12922"/>
                </a:cubicBezTo>
                <a:cubicBezTo>
                  <a:pt x="8270" y="12886"/>
                  <a:pt x="8181" y="12837"/>
                  <a:pt x="8096" y="12827"/>
                </a:cubicBezTo>
                <a:cubicBezTo>
                  <a:pt x="7989" y="12815"/>
                  <a:pt x="7905" y="12848"/>
                  <a:pt x="7810" y="12859"/>
                </a:cubicBezTo>
                <a:cubicBezTo>
                  <a:pt x="7732" y="12868"/>
                  <a:pt x="7592" y="12883"/>
                  <a:pt x="7525" y="12922"/>
                </a:cubicBezTo>
                <a:cubicBezTo>
                  <a:pt x="7432" y="12976"/>
                  <a:pt x="7326" y="13042"/>
                  <a:pt x="7239" y="13113"/>
                </a:cubicBezTo>
                <a:cubicBezTo>
                  <a:pt x="7134" y="13200"/>
                  <a:pt x="7024" y="13314"/>
                  <a:pt x="6953" y="13430"/>
                </a:cubicBezTo>
                <a:cubicBezTo>
                  <a:pt x="6896" y="13522"/>
                  <a:pt x="6811" y="13623"/>
                  <a:pt x="6763" y="13716"/>
                </a:cubicBezTo>
                <a:cubicBezTo>
                  <a:pt x="6704" y="13828"/>
                  <a:pt x="6695" y="13950"/>
                  <a:pt x="6668" y="14065"/>
                </a:cubicBezTo>
                <a:cubicBezTo>
                  <a:pt x="6642" y="14177"/>
                  <a:pt x="6614" y="14296"/>
                  <a:pt x="6636" y="14414"/>
                </a:cubicBezTo>
                <a:cubicBezTo>
                  <a:pt x="6659" y="14539"/>
                  <a:pt x="6705" y="14619"/>
                  <a:pt x="6763" y="14732"/>
                </a:cubicBezTo>
                <a:cubicBezTo>
                  <a:pt x="6801" y="14806"/>
                  <a:pt x="6865" y="14858"/>
                  <a:pt x="6922" y="14922"/>
                </a:cubicBezTo>
                <a:cubicBezTo>
                  <a:pt x="6945" y="14948"/>
                  <a:pt x="7017" y="15018"/>
                  <a:pt x="7048" y="15018"/>
                </a:cubicBezTo>
                <a:cubicBezTo>
                  <a:pt x="7061" y="15018"/>
                  <a:pt x="7032" y="14967"/>
                  <a:pt x="7048" y="15018"/>
                </a:cubicBezTo>
              </a:path>
              <a:path w="9685" h="3874">
                <a:moveTo>
                  <a:pt x="11017" y="14891"/>
                </a:moveTo>
                <a:cubicBezTo>
                  <a:pt x="11053" y="14907"/>
                  <a:pt x="11110" y="14905"/>
                  <a:pt x="11144" y="14922"/>
                </a:cubicBezTo>
                <a:cubicBezTo>
                  <a:pt x="11205" y="14953"/>
                  <a:pt x="11275" y="14983"/>
                  <a:pt x="11335" y="15018"/>
                </a:cubicBezTo>
                <a:cubicBezTo>
                  <a:pt x="11395" y="15053"/>
                  <a:pt x="11454" y="15126"/>
                  <a:pt x="11525" y="15145"/>
                </a:cubicBezTo>
                <a:cubicBezTo>
                  <a:pt x="11624" y="15171"/>
                  <a:pt x="11669" y="15199"/>
                  <a:pt x="11779" y="15208"/>
                </a:cubicBezTo>
                <a:cubicBezTo>
                  <a:pt x="11926" y="15220"/>
                  <a:pt x="12032" y="15216"/>
                  <a:pt x="12128" y="15145"/>
                </a:cubicBezTo>
                <a:cubicBezTo>
                  <a:pt x="12188" y="15101"/>
                  <a:pt x="12283" y="15086"/>
                  <a:pt x="12351" y="15050"/>
                </a:cubicBezTo>
                <a:cubicBezTo>
                  <a:pt x="12425" y="15011"/>
                  <a:pt x="12475" y="14965"/>
                  <a:pt x="12541" y="14922"/>
                </a:cubicBezTo>
                <a:cubicBezTo>
                  <a:pt x="12622" y="14868"/>
                  <a:pt x="12648" y="14815"/>
                  <a:pt x="12700" y="14732"/>
                </a:cubicBezTo>
                <a:cubicBezTo>
                  <a:pt x="12749" y="14654"/>
                  <a:pt x="12814" y="14619"/>
                  <a:pt x="12859" y="14542"/>
                </a:cubicBezTo>
                <a:cubicBezTo>
                  <a:pt x="12894" y="14482"/>
                  <a:pt x="12939" y="14357"/>
                  <a:pt x="12954" y="14288"/>
                </a:cubicBezTo>
                <a:cubicBezTo>
                  <a:pt x="12972" y="14206"/>
                  <a:pt x="12966" y="14115"/>
                  <a:pt x="12986" y="14034"/>
                </a:cubicBezTo>
                <a:cubicBezTo>
                  <a:pt x="13010" y="13939"/>
                  <a:pt x="13034" y="13853"/>
                  <a:pt x="13018" y="13748"/>
                </a:cubicBezTo>
                <a:cubicBezTo>
                  <a:pt x="13008" y="13683"/>
                  <a:pt x="12964" y="13594"/>
                  <a:pt x="12954" y="13526"/>
                </a:cubicBezTo>
                <a:cubicBezTo>
                  <a:pt x="12942" y="13448"/>
                  <a:pt x="12918" y="13404"/>
                  <a:pt x="12890" y="13335"/>
                </a:cubicBezTo>
                <a:cubicBezTo>
                  <a:pt x="12876" y="13301"/>
                  <a:pt x="12848" y="13198"/>
                  <a:pt x="12827" y="13176"/>
                </a:cubicBezTo>
                <a:cubicBezTo>
                  <a:pt x="12802" y="13151"/>
                  <a:pt x="12749" y="13094"/>
                  <a:pt x="12732" y="13081"/>
                </a:cubicBezTo>
                <a:cubicBezTo>
                  <a:pt x="12688" y="13046"/>
                  <a:pt x="12624" y="13040"/>
                  <a:pt x="12573" y="13018"/>
                </a:cubicBezTo>
                <a:cubicBezTo>
                  <a:pt x="12495" y="12985"/>
                  <a:pt x="12467" y="12986"/>
                  <a:pt x="12382" y="12986"/>
                </a:cubicBezTo>
                <a:cubicBezTo>
                  <a:pt x="12276" y="12986"/>
                  <a:pt x="12195" y="12984"/>
                  <a:pt x="12097" y="13018"/>
                </a:cubicBezTo>
                <a:cubicBezTo>
                  <a:pt x="12022" y="13044"/>
                  <a:pt x="11948" y="13076"/>
                  <a:pt x="11874" y="13113"/>
                </a:cubicBezTo>
                <a:cubicBezTo>
                  <a:pt x="11780" y="13160"/>
                  <a:pt x="11710" y="13222"/>
                  <a:pt x="11620" y="13272"/>
                </a:cubicBezTo>
                <a:cubicBezTo>
                  <a:pt x="11518" y="13328"/>
                  <a:pt x="11449" y="13420"/>
                  <a:pt x="11366" y="13494"/>
                </a:cubicBezTo>
                <a:cubicBezTo>
                  <a:pt x="11286" y="13565"/>
                  <a:pt x="11217" y="13681"/>
                  <a:pt x="11176" y="13780"/>
                </a:cubicBezTo>
                <a:cubicBezTo>
                  <a:pt x="11119" y="13917"/>
                  <a:pt x="11100" y="14056"/>
                  <a:pt x="11049" y="14192"/>
                </a:cubicBezTo>
                <a:cubicBezTo>
                  <a:pt x="11002" y="14317"/>
                  <a:pt x="11034" y="14389"/>
                  <a:pt x="11049" y="14510"/>
                </a:cubicBezTo>
                <a:cubicBezTo>
                  <a:pt x="11064" y="14628"/>
                  <a:pt x="11091" y="14716"/>
                  <a:pt x="11144" y="14827"/>
                </a:cubicBezTo>
                <a:cubicBezTo>
                  <a:pt x="11180" y="14904"/>
                  <a:pt x="11226" y="14951"/>
                  <a:pt x="11271" y="15018"/>
                </a:cubicBezTo>
                <a:cubicBezTo>
                  <a:pt x="11302" y="15064"/>
                  <a:pt x="11311" y="15084"/>
                  <a:pt x="11335" y="15113"/>
                </a:cubicBezTo>
              </a:path>
              <a:path w="9685" h="3874">
                <a:moveTo>
                  <a:pt x="8287" y="15494"/>
                </a:moveTo>
                <a:cubicBezTo>
                  <a:pt x="8287" y="15411"/>
                  <a:pt x="8322" y="15550"/>
                  <a:pt x="8318" y="15558"/>
                </a:cubicBezTo>
                <a:cubicBezTo>
                  <a:pt x="8292" y="15616"/>
                  <a:pt x="8235" y="15710"/>
                  <a:pt x="8223" y="15780"/>
                </a:cubicBezTo>
                <a:cubicBezTo>
                  <a:pt x="8203" y="15892"/>
                  <a:pt x="8173" y="16017"/>
                  <a:pt x="8160" y="16129"/>
                </a:cubicBezTo>
                <a:cubicBezTo>
                  <a:pt x="8153" y="16190"/>
                  <a:pt x="8160" y="16258"/>
                  <a:pt x="8160" y="16320"/>
                </a:cubicBezTo>
              </a:path>
              <a:path w="9685" h="3874">
                <a:moveTo>
                  <a:pt x="8033" y="15812"/>
                </a:moveTo>
                <a:cubicBezTo>
                  <a:pt x="8090" y="15826"/>
                  <a:pt x="8170" y="15870"/>
                  <a:pt x="8223" y="15907"/>
                </a:cubicBezTo>
                <a:cubicBezTo>
                  <a:pt x="8284" y="15949"/>
                  <a:pt x="8338" y="15994"/>
                  <a:pt x="8414" y="16002"/>
                </a:cubicBezTo>
                <a:cubicBezTo>
                  <a:pt x="8425" y="16002"/>
                  <a:pt x="8435" y="16002"/>
                  <a:pt x="8446" y="16002"/>
                </a:cubicBezTo>
              </a:path>
              <a:path w="9685" h="3874">
                <a:moveTo>
                  <a:pt x="8763" y="15272"/>
                </a:moveTo>
                <a:cubicBezTo>
                  <a:pt x="8763" y="15377"/>
                  <a:pt x="8743" y="15458"/>
                  <a:pt x="8731" y="15558"/>
                </a:cubicBezTo>
                <a:cubicBezTo>
                  <a:pt x="8714" y="15700"/>
                  <a:pt x="8678" y="15830"/>
                  <a:pt x="8636" y="15970"/>
                </a:cubicBezTo>
                <a:cubicBezTo>
                  <a:pt x="8601" y="16086"/>
                  <a:pt x="8507" y="16176"/>
                  <a:pt x="8477" y="16288"/>
                </a:cubicBezTo>
                <a:cubicBezTo>
                  <a:pt x="8477" y="16309"/>
                  <a:pt x="8477" y="16330"/>
                  <a:pt x="8477" y="16351"/>
                </a:cubicBezTo>
              </a:path>
              <a:path w="9685" h="3874">
                <a:moveTo>
                  <a:pt x="8985" y="15240"/>
                </a:moveTo>
                <a:cubicBezTo>
                  <a:pt x="8985" y="15313"/>
                  <a:pt x="8976" y="15395"/>
                  <a:pt x="8954" y="15462"/>
                </a:cubicBezTo>
                <a:cubicBezTo>
                  <a:pt x="8939" y="15508"/>
                  <a:pt x="8941" y="15616"/>
                  <a:pt x="8922" y="15653"/>
                </a:cubicBezTo>
                <a:cubicBezTo>
                  <a:pt x="8893" y="15681"/>
                  <a:pt x="8882" y="15687"/>
                  <a:pt x="8890" y="15716"/>
                </a:cubicBezTo>
                <a:cubicBezTo>
                  <a:pt x="8968" y="15716"/>
                  <a:pt x="8954" y="15752"/>
                  <a:pt x="9017" y="15780"/>
                </a:cubicBezTo>
                <a:cubicBezTo>
                  <a:pt x="9068" y="15803"/>
                  <a:pt x="9099" y="15830"/>
                  <a:pt x="9144" y="15875"/>
                </a:cubicBezTo>
                <a:cubicBezTo>
                  <a:pt x="9193" y="15924"/>
                  <a:pt x="9191" y="15912"/>
                  <a:pt x="9239" y="15875"/>
                </a:cubicBezTo>
              </a:path>
              <a:path w="9685" h="3874">
                <a:moveTo>
                  <a:pt x="9334" y="15272"/>
                </a:moveTo>
                <a:cubicBezTo>
                  <a:pt x="9334" y="15384"/>
                  <a:pt x="9315" y="15481"/>
                  <a:pt x="9303" y="15589"/>
                </a:cubicBezTo>
                <a:cubicBezTo>
                  <a:pt x="9289" y="15716"/>
                  <a:pt x="9285" y="15846"/>
                  <a:pt x="9271" y="15970"/>
                </a:cubicBezTo>
                <a:cubicBezTo>
                  <a:pt x="9258" y="16088"/>
                  <a:pt x="9222" y="16207"/>
                  <a:pt x="9208" y="16320"/>
                </a:cubicBezTo>
                <a:cubicBezTo>
                  <a:pt x="9208" y="16394"/>
                  <a:pt x="9208" y="16404"/>
                  <a:pt x="9208" y="16446"/>
                </a:cubicBezTo>
              </a:path>
              <a:path w="9685" h="3874">
                <a:moveTo>
                  <a:pt x="9557" y="15494"/>
                </a:moveTo>
                <a:cubicBezTo>
                  <a:pt x="9574" y="15580"/>
                  <a:pt x="9622" y="15663"/>
                  <a:pt x="9652" y="15748"/>
                </a:cubicBezTo>
                <a:cubicBezTo>
                  <a:pt x="9699" y="15883"/>
                  <a:pt x="9732" y="16021"/>
                  <a:pt x="9747" y="16161"/>
                </a:cubicBezTo>
                <a:cubicBezTo>
                  <a:pt x="9758" y="16268"/>
                  <a:pt x="9787" y="16345"/>
                  <a:pt x="9811" y="16446"/>
                </a:cubicBezTo>
                <a:cubicBezTo>
                  <a:pt x="9811" y="16482"/>
                  <a:pt x="9814" y="16496"/>
                  <a:pt x="9842" y="16510"/>
                </a:cubicBezTo>
              </a:path>
              <a:path w="9685" h="3874">
                <a:moveTo>
                  <a:pt x="9938" y="15558"/>
                </a:moveTo>
                <a:cubicBezTo>
                  <a:pt x="9861" y="15618"/>
                  <a:pt x="9807" y="15667"/>
                  <a:pt x="9747" y="15748"/>
                </a:cubicBezTo>
                <a:cubicBezTo>
                  <a:pt x="9664" y="15861"/>
                  <a:pt x="9606" y="15980"/>
                  <a:pt x="9525" y="16097"/>
                </a:cubicBezTo>
                <a:cubicBezTo>
                  <a:pt x="9455" y="16198"/>
                  <a:pt x="9391" y="16307"/>
                  <a:pt x="9334" y="16415"/>
                </a:cubicBezTo>
                <a:cubicBezTo>
                  <a:pt x="9324" y="16436"/>
                  <a:pt x="9313" y="16457"/>
                  <a:pt x="9303" y="16478"/>
                </a:cubicBezTo>
              </a:path>
              <a:path w="9685" h="3874">
                <a:moveTo>
                  <a:pt x="10128" y="15335"/>
                </a:moveTo>
                <a:cubicBezTo>
                  <a:pt x="10208" y="15316"/>
                  <a:pt x="10182" y="15311"/>
                  <a:pt x="10255" y="15335"/>
                </a:cubicBezTo>
                <a:cubicBezTo>
                  <a:pt x="10300" y="15350"/>
                  <a:pt x="10333" y="15390"/>
                  <a:pt x="10350" y="15399"/>
                </a:cubicBezTo>
                <a:cubicBezTo>
                  <a:pt x="10382" y="15399"/>
                  <a:pt x="10392" y="15399"/>
                  <a:pt x="10382" y="15430"/>
                </a:cubicBezTo>
                <a:cubicBezTo>
                  <a:pt x="10344" y="15481"/>
                  <a:pt x="10329" y="15534"/>
                  <a:pt x="10287" y="15589"/>
                </a:cubicBezTo>
                <a:cubicBezTo>
                  <a:pt x="10255" y="15631"/>
                  <a:pt x="10181" y="15668"/>
                  <a:pt x="10160" y="15716"/>
                </a:cubicBezTo>
                <a:cubicBezTo>
                  <a:pt x="10142" y="15757"/>
                  <a:pt x="10134" y="15774"/>
                  <a:pt x="10096" y="15812"/>
                </a:cubicBezTo>
                <a:cubicBezTo>
                  <a:pt x="10138" y="15866"/>
                  <a:pt x="10121" y="15875"/>
                  <a:pt x="10192" y="15875"/>
                </a:cubicBezTo>
                <a:cubicBezTo>
                  <a:pt x="10285" y="15875"/>
                  <a:pt x="10328" y="15886"/>
                  <a:pt x="10414" y="15907"/>
                </a:cubicBezTo>
                <a:cubicBezTo>
                  <a:pt x="10446" y="15907"/>
                  <a:pt x="10457" y="15907"/>
                  <a:pt x="10478" y="15907"/>
                </a:cubicBezTo>
              </a:path>
              <a:path w="9685" h="3874">
                <a:moveTo>
                  <a:pt x="9080" y="14891"/>
                </a:moveTo>
                <a:cubicBezTo>
                  <a:pt x="9119" y="14867"/>
                  <a:pt x="9115" y="14863"/>
                  <a:pt x="9176" y="14859"/>
                </a:cubicBezTo>
                <a:cubicBezTo>
                  <a:pt x="9321" y="14850"/>
                  <a:pt x="9449" y="14871"/>
                  <a:pt x="9588" y="14891"/>
                </a:cubicBezTo>
                <a:cubicBezTo>
                  <a:pt x="9702" y="14907"/>
                  <a:pt x="9828" y="14908"/>
                  <a:pt x="9938" y="14922"/>
                </a:cubicBezTo>
                <a:cubicBezTo>
                  <a:pt x="10091" y="14941"/>
                  <a:pt x="10286" y="14880"/>
                  <a:pt x="10414" y="14891"/>
                </a:cubicBezTo>
                <a:cubicBezTo>
                  <a:pt x="10460" y="14895"/>
                  <a:pt x="10463" y="14959"/>
                  <a:pt x="10509" y="14954"/>
                </a:cubicBezTo>
                <a:cubicBezTo>
                  <a:pt x="10526" y="14952"/>
                  <a:pt x="10539" y="14891"/>
                  <a:pt x="10541" y="14859"/>
                </a:cubicBezTo>
                <a:cubicBezTo>
                  <a:pt x="10546" y="14780"/>
                  <a:pt x="10564" y="14700"/>
                  <a:pt x="10573" y="14637"/>
                </a:cubicBezTo>
                <a:cubicBezTo>
                  <a:pt x="10593" y="14495"/>
                  <a:pt x="10563" y="14355"/>
                  <a:pt x="10541" y="14224"/>
                </a:cubicBezTo>
                <a:cubicBezTo>
                  <a:pt x="10525" y="14128"/>
                  <a:pt x="10549" y="14063"/>
                  <a:pt x="10509" y="13970"/>
                </a:cubicBezTo>
                <a:cubicBezTo>
                  <a:pt x="10472" y="13885"/>
                  <a:pt x="10469" y="13803"/>
                  <a:pt x="10446" y="13716"/>
                </a:cubicBezTo>
                <a:cubicBezTo>
                  <a:pt x="10430" y="13654"/>
                  <a:pt x="10395" y="13610"/>
                  <a:pt x="10350" y="13557"/>
                </a:cubicBezTo>
                <a:cubicBezTo>
                  <a:pt x="10326" y="13529"/>
                  <a:pt x="10312" y="13519"/>
                  <a:pt x="10287" y="13494"/>
                </a:cubicBezTo>
                <a:cubicBezTo>
                  <a:pt x="10260" y="13467"/>
                  <a:pt x="10251" y="13444"/>
                  <a:pt x="10192" y="13430"/>
                </a:cubicBezTo>
                <a:cubicBezTo>
                  <a:pt x="10070" y="13401"/>
                  <a:pt x="9967" y="13402"/>
                  <a:pt x="9874" y="13367"/>
                </a:cubicBezTo>
                <a:cubicBezTo>
                  <a:pt x="9832" y="13351"/>
                  <a:pt x="9699" y="13342"/>
                  <a:pt x="9652" y="13335"/>
                </a:cubicBezTo>
                <a:cubicBezTo>
                  <a:pt x="9567" y="13322"/>
                  <a:pt x="9479" y="13317"/>
                  <a:pt x="9398" y="13303"/>
                </a:cubicBezTo>
                <a:cubicBezTo>
                  <a:pt x="9296" y="13286"/>
                  <a:pt x="9193" y="13324"/>
                  <a:pt x="9112" y="13335"/>
                </a:cubicBezTo>
                <a:cubicBezTo>
                  <a:pt x="9061" y="13342"/>
                  <a:pt x="8989" y="13332"/>
                  <a:pt x="8954" y="13367"/>
                </a:cubicBezTo>
                <a:cubicBezTo>
                  <a:pt x="8910" y="13411"/>
                  <a:pt x="8892" y="13479"/>
                  <a:pt x="8858" y="13526"/>
                </a:cubicBezTo>
                <a:cubicBezTo>
                  <a:pt x="8839" y="13552"/>
                  <a:pt x="8808" y="13563"/>
                  <a:pt x="8795" y="13621"/>
                </a:cubicBezTo>
                <a:cubicBezTo>
                  <a:pt x="8784" y="13668"/>
                  <a:pt x="8768" y="13774"/>
                  <a:pt x="8763" y="13811"/>
                </a:cubicBezTo>
                <a:cubicBezTo>
                  <a:pt x="8752" y="13895"/>
                  <a:pt x="8741" y="13986"/>
                  <a:pt x="8731" y="14065"/>
                </a:cubicBezTo>
                <a:cubicBezTo>
                  <a:pt x="8722" y="14131"/>
                  <a:pt x="8724" y="14159"/>
                  <a:pt x="8700" y="14224"/>
                </a:cubicBezTo>
              </a:path>
              <a:path w="9685" h="3874">
                <a:moveTo>
                  <a:pt x="10763" y="15875"/>
                </a:moveTo>
                <a:cubicBezTo>
                  <a:pt x="10849" y="15875"/>
                  <a:pt x="10917" y="15893"/>
                  <a:pt x="10986" y="15907"/>
                </a:cubicBezTo>
                <a:cubicBezTo>
                  <a:pt x="11060" y="15922"/>
                  <a:pt x="11152" y="15909"/>
                  <a:pt x="11208" y="15875"/>
                </a:cubicBezTo>
              </a:path>
              <a:path w="9685" h="3874">
                <a:moveTo>
                  <a:pt x="11398" y="15430"/>
                </a:moveTo>
                <a:cubicBezTo>
                  <a:pt x="11503" y="15430"/>
                  <a:pt x="11586" y="15446"/>
                  <a:pt x="11684" y="15462"/>
                </a:cubicBezTo>
                <a:cubicBezTo>
                  <a:pt x="11746" y="15472"/>
                  <a:pt x="11793" y="15460"/>
                  <a:pt x="11843" y="15494"/>
                </a:cubicBezTo>
                <a:cubicBezTo>
                  <a:pt x="11853" y="15505"/>
                  <a:pt x="11864" y="15515"/>
                  <a:pt x="11874" y="15526"/>
                </a:cubicBezTo>
                <a:cubicBezTo>
                  <a:pt x="11859" y="15601"/>
                  <a:pt x="11820" y="15680"/>
                  <a:pt x="11779" y="15748"/>
                </a:cubicBezTo>
                <a:cubicBezTo>
                  <a:pt x="11714" y="15855"/>
                  <a:pt x="11626" y="15969"/>
                  <a:pt x="11557" y="16066"/>
                </a:cubicBezTo>
                <a:cubicBezTo>
                  <a:pt x="11506" y="16138"/>
                  <a:pt x="11427" y="16201"/>
                  <a:pt x="11398" y="16288"/>
                </a:cubicBezTo>
                <a:cubicBezTo>
                  <a:pt x="11381" y="16339"/>
                  <a:pt x="11383" y="16301"/>
                  <a:pt x="11366" y="16351"/>
                </a:cubicBezTo>
                <a:cubicBezTo>
                  <a:pt x="11424" y="16365"/>
                  <a:pt x="11456" y="16383"/>
                  <a:pt x="11525" y="16383"/>
                </a:cubicBezTo>
                <a:cubicBezTo>
                  <a:pt x="11610" y="16383"/>
                  <a:pt x="11649" y="16393"/>
                  <a:pt x="11716" y="16415"/>
                </a:cubicBezTo>
                <a:cubicBezTo>
                  <a:pt x="11765" y="16431"/>
                  <a:pt x="11785" y="16422"/>
                  <a:pt x="11843" y="16446"/>
                </a:cubicBezTo>
              </a:path>
              <a:path w="9685" h="3874">
                <a:moveTo>
                  <a:pt x="12319" y="15526"/>
                </a:moveTo>
                <a:cubicBezTo>
                  <a:pt x="12241" y="15651"/>
                  <a:pt x="12176" y="15731"/>
                  <a:pt x="12128" y="15875"/>
                </a:cubicBezTo>
                <a:cubicBezTo>
                  <a:pt x="12080" y="16019"/>
                  <a:pt x="12010" y="16169"/>
                  <a:pt x="12002" y="16320"/>
                </a:cubicBezTo>
                <a:cubicBezTo>
                  <a:pt x="11998" y="16392"/>
                  <a:pt x="11995" y="16395"/>
                  <a:pt x="12033" y="16446"/>
                </a:cubicBezTo>
                <a:cubicBezTo>
                  <a:pt x="12123" y="16410"/>
                  <a:pt x="12167" y="16340"/>
                  <a:pt x="12224" y="16256"/>
                </a:cubicBezTo>
                <a:cubicBezTo>
                  <a:pt x="12314" y="16124"/>
                  <a:pt x="12364" y="15992"/>
                  <a:pt x="12414" y="15843"/>
                </a:cubicBezTo>
                <a:cubicBezTo>
                  <a:pt x="12446" y="15749"/>
                  <a:pt x="12456" y="15648"/>
                  <a:pt x="12414" y="15558"/>
                </a:cubicBezTo>
                <a:cubicBezTo>
                  <a:pt x="12405" y="15538"/>
                  <a:pt x="12330" y="15448"/>
                  <a:pt x="12319" y="15462"/>
                </a:cubicBezTo>
                <a:cubicBezTo>
                  <a:pt x="12319" y="15473"/>
                  <a:pt x="12319" y="15483"/>
                  <a:pt x="12319" y="15494"/>
                </a:cubicBezTo>
              </a:path>
              <a:path w="9685" h="3874">
                <a:moveTo>
                  <a:pt x="12541" y="15653"/>
                </a:moveTo>
                <a:cubicBezTo>
                  <a:pt x="12615" y="15726"/>
                  <a:pt x="12687" y="15818"/>
                  <a:pt x="12732" y="15907"/>
                </a:cubicBezTo>
                <a:cubicBezTo>
                  <a:pt x="12786" y="16015"/>
                  <a:pt x="12812" y="16144"/>
                  <a:pt x="12859" y="16256"/>
                </a:cubicBezTo>
                <a:cubicBezTo>
                  <a:pt x="12887" y="16323"/>
                  <a:pt x="12914" y="16393"/>
                  <a:pt x="12954" y="16446"/>
                </a:cubicBezTo>
              </a:path>
              <a:path w="9685" h="3874">
                <a:moveTo>
                  <a:pt x="13049" y="15812"/>
                </a:moveTo>
                <a:cubicBezTo>
                  <a:pt x="12964" y="15855"/>
                  <a:pt x="12948" y="15924"/>
                  <a:pt x="12890" y="16002"/>
                </a:cubicBezTo>
                <a:cubicBezTo>
                  <a:pt x="12823" y="16091"/>
                  <a:pt x="12769" y="16201"/>
                  <a:pt x="12700" y="16288"/>
                </a:cubicBezTo>
                <a:cubicBezTo>
                  <a:pt x="12640" y="16363"/>
                  <a:pt x="12613" y="16421"/>
                  <a:pt x="12573" y="16510"/>
                </a:cubicBezTo>
              </a:path>
              <a:path w="9685" h="3874">
                <a:moveTo>
                  <a:pt x="13240" y="15938"/>
                </a:moveTo>
                <a:cubicBezTo>
                  <a:pt x="13351" y="15920"/>
                  <a:pt x="13415" y="15930"/>
                  <a:pt x="13526" y="15938"/>
                </a:cubicBezTo>
                <a:cubicBezTo>
                  <a:pt x="13604" y="15943"/>
                  <a:pt x="13654" y="15925"/>
                  <a:pt x="13716" y="15907"/>
                </a:cubicBezTo>
                <a:cubicBezTo>
                  <a:pt x="13727" y="15907"/>
                  <a:pt x="13737" y="15907"/>
                  <a:pt x="13748" y="15907"/>
                </a:cubicBezTo>
              </a:path>
              <a:path w="9685" h="3874">
                <a:moveTo>
                  <a:pt x="14192" y="15462"/>
                </a:moveTo>
                <a:cubicBezTo>
                  <a:pt x="14150" y="15533"/>
                  <a:pt x="14127" y="15629"/>
                  <a:pt x="14097" y="15716"/>
                </a:cubicBezTo>
                <a:cubicBezTo>
                  <a:pt x="14055" y="15837"/>
                  <a:pt x="14021" y="16001"/>
                  <a:pt x="14002" y="16129"/>
                </a:cubicBezTo>
                <a:cubicBezTo>
                  <a:pt x="13987" y="16232"/>
                  <a:pt x="13954" y="16557"/>
                  <a:pt x="14034" y="16637"/>
                </a:cubicBezTo>
                <a:cubicBezTo>
                  <a:pt x="14095" y="16699"/>
                  <a:pt x="14181" y="16723"/>
                  <a:pt x="14256" y="16669"/>
                </a:cubicBezTo>
                <a:cubicBezTo>
                  <a:pt x="14353" y="16599"/>
                  <a:pt x="14419" y="16484"/>
                  <a:pt x="14478" y="16383"/>
                </a:cubicBezTo>
                <a:cubicBezTo>
                  <a:pt x="14529" y="16295"/>
                  <a:pt x="14510" y="16195"/>
                  <a:pt x="14510" y="16097"/>
                </a:cubicBezTo>
                <a:cubicBezTo>
                  <a:pt x="14510" y="16030"/>
                  <a:pt x="14467" y="16034"/>
                  <a:pt x="14414" y="16034"/>
                </a:cubicBezTo>
                <a:cubicBezTo>
                  <a:pt x="14376" y="16034"/>
                  <a:pt x="14290" y="16158"/>
                  <a:pt x="14256" y="16192"/>
                </a:cubicBezTo>
                <a:cubicBezTo>
                  <a:pt x="14174" y="16274"/>
                  <a:pt x="14146" y="16372"/>
                  <a:pt x="14097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2332080" y="4343400"/>
            <a:ext cx="125280" cy="160200"/>
          </a:xfrm>
          <a:custGeom>
            <a:avLst/>
            <a:gdLst/>
            <a:ahLst/>
            <a:rect l="l" t="t" r="r" b="b"/>
            <a:pathLst>
              <a:path w="350" h="446">
                <a:moveTo>
                  <a:pt x="6477" y="12065"/>
                </a:moveTo>
                <a:cubicBezTo>
                  <a:pt x="6549" y="12065"/>
                  <a:pt x="6577" y="12077"/>
                  <a:pt x="6636" y="12097"/>
                </a:cubicBezTo>
                <a:cubicBezTo>
                  <a:pt x="6697" y="12117"/>
                  <a:pt x="6699" y="12124"/>
                  <a:pt x="6699" y="12192"/>
                </a:cubicBezTo>
                <a:cubicBezTo>
                  <a:pt x="6699" y="12223"/>
                  <a:pt x="6667" y="12304"/>
                  <a:pt x="6636" y="12319"/>
                </a:cubicBezTo>
                <a:cubicBezTo>
                  <a:pt x="6593" y="12340"/>
                  <a:pt x="6558" y="12360"/>
                  <a:pt x="6540" y="12414"/>
                </a:cubicBezTo>
                <a:cubicBezTo>
                  <a:pt x="6526" y="12455"/>
                  <a:pt x="6518" y="12464"/>
                  <a:pt x="6477" y="12478"/>
                </a:cubicBezTo>
                <a:cubicBezTo>
                  <a:pt x="6549" y="12478"/>
                  <a:pt x="6519" y="12453"/>
                  <a:pt x="6572" y="12446"/>
                </a:cubicBezTo>
                <a:cubicBezTo>
                  <a:pt x="6605" y="12442"/>
                  <a:pt x="6686" y="12458"/>
                  <a:pt x="6699" y="12478"/>
                </a:cubicBezTo>
                <a:cubicBezTo>
                  <a:pt x="6726" y="12520"/>
                  <a:pt x="6741" y="12526"/>
                  <a:pt x="6794" y="12478"/>
                </a:cubicBezTo>
                <a:cubicBezTo>
                  <a:pt x="6805" y="12467"/>
                  <a:pt x="6815" y="12457"/>
                  <a:pt x="6826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4011480" y="4332240"/>
            <a:ext cx="160560" cy="171360"/>
          </a:xfrm>
          <a:custGeom>
            <a:avLst/>
            <a:gdLst/>
            <a:ahLst/>
            <a:rect l="l" t="t" r="r" b="b"/>
            <a:pathLst>
              <a:path w="446" h="478">
                <a:moveTo>
                  <a:pt x="11144" y="12065"/>
                </a:moveTo>
                <a:cubicBezTo>
                  <a:pt x="11216" y="12065"/>
                  <a:pt x="11187" y="12040"/>
                  <a:pt x="11240" y="12033"/>
                </a:cubicBezTo>
                <a:cubicBezTo>
                  <a:pt x="11299" y="12025"/>
                  <a:pt x="11314" y="12059"/>
                  <a:pt x="11366" y="12065"/>
                </a:cubicBezTo>
                <a:cubicBezTo>
                  <a:pt x="11400" y="12069"/>
                  <a:pt x="11426" y="12094"/>
                  <a:pt x="11430" y="12128"/>
                </a:cubicBezTo>
                <a:cubicBezTo>
                  <a:pt x="11435" y="12169"/>
                  <a:pt x="11392" y="12227"/>
                  <a:pt x="11366" y="12256"/>
                </a:cubicBezTo>
                <a:cubicBezTo>
                  <a:pt x="11341" y="12284"/>
                  <a:pt x="11276" y="12341"/>
                  <a:pt x="11271" y="12351"/>
                </a:cubicBezTo>
                <a:cubicBezTo>
                  <a:pt x="11251" y="12390"/>
                  <a:pt x="11245" y="12397"/>
                  <a:pt x="11208" y="12446"/>
                </a:cubicBezTo>
                <a:cubicBezTo>
                  <a:pt x="11258" y="12433"/>
                  <a:pt x="11278" y="12414"/>
                  <a:pt x="11335" y="12414"/>
                </a:cubicBezTo>
                <a:cubicBezTo>
                  <a:pt x="11389" y="12414"/>
                  <a:pt x="11411" y="12421"/>
                  <a:pt x="11430" y="12478"/>
                </a:cubicBezTo>
                <a:cubicBezTo>
                  <a:pt x="11446" y="12526"/>
                  <a:pt x="11468" y="12510"/>
                  <a:pt x="11525" y="12510"/>
                </a:cubicBezTo>
                <a:cubicBezTo>
                  <a:pt x="11568" y="12510"/>
                  <a:pt x="11578" y="12456"/>
                  <a:pt x="11589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˜+21xˆ-35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24x- 42x+18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7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6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4"/>
          <p:cNvSpPr/>
          <p:nvPr/>
        </p:nvSpPr>
        <p:spPr>
          <a:xfrm>
            <a:off x="1143000" y="251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533412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6"/>
          <p:cNvSpPr/>
          <p:nvPr/>
        </p:nvSpPr>
        <p:spPr>
          <a:xfrm>
            <a:off x="6012000" y="1978200"/>
            <a:ext cx="91800" cy="182520"/>
          </a:xfrm>
          <a:custGeom>
            <a:avLst/>
            <a:gdLst/>
            <a:ahLst/>
            <a:rect l="l" t="t" r="r" b="b"/>
            <a:pathLst>
              <a:path w="255" h="509">
                <a:moveTo>
                  <a:pt x="16891" y="5556"/>
                </a:moveTo>
                <a:cubicBezTo>
                  <a:pt x="16863" y="5534"/>
                  <a:pt x="16807" y="5500"/>
                  <a:pt x="16764" y="5524"/>
                </a:cubicBezTo>
                <a:cubicBezTo>
                  <a:pt x="16739" y="5538"/>
                  <a:pt x="16692" y="5625"/>
                  <a:pt x="16700" y="5652"/>
                </a:cubicBezTo>
                <a:cubicBezTo>
                  <a:pt x="16714" y="5701"/>
                  <a:pt x="16772" y="5747"/>
                  <a:pt x="16828" y="5715"/>
                </a:cubicBezTo>
                <a:cubicBezTo>
                  <a:pt x="16876" y="5688"/>
                  <a:pt x="16936" y="5672"/>
                  <a:pt x="16954" y="5620"/>
                </a:cubicBezTo>
                <a:cubicBezTo>
                  <a:pt x="16965" y="5589"/>
                  <a:pt x="16906" y="5447"/>
                  <a:pt x="16859" y="5493"/>
                </a:cubicBezTo>
                <a:cubicBezTo>
                  <a:pt x="16859" y="5503"/>
                  <a:pt x="16859" y="5514"/>
                  <a:pt x="16859" y="5524"/>
                </a:cubicBezTo>
              </a:path>
              <a:path w="255" h="509">
                <a:moveTo>
                  <a:pt x="16891" y="5683"/>
                </a:moveTo>
                <a:cubicBezTo>
                  <a:pt x="16838" y="5683"/>
                  <a:pt x="16791" y="5691"/>
                  <a:pt x="16764" y="5747"/>
                </a:cubicBezTo>
                <a:cubicBezTo>
                  <a:pt x="16752" y="5773"/>
                  <a:pt x="16704" y="5930"/>
                  <a:pt x="16732" y="5969"/>
                </a:cubicBezTo>
                <a:cubicBezTo>
                  <a:pt x="16739" y="5979"/>
                  <a:pt x="16794" y="6020"/>
                  <a:pt x="16828" y="6001"/>
                </a:cubicBezTo>
                <a:cubicBezTo>
                  <a:pt x="16857" y="5984"/>
                  <a:pt x="16940" y="5905"/>
                  <a:pt x="16954" y="5874"/>
                </a:cubicBezTo>
                <a:cubicBezTo>
                  <a:pt x="16981" y="5812"/>
                  <a:pt x="16949" y="5728"/>
                  <a:pt x="16891" y="5715"/>
                </a:cubicBezTo>
                <a:cubicBezTo>
                  <a:pt x="16859" y="5715"/>
                  <a:pt x="16849" y="5715"/>
                  <a:pt x="16828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7"/>
          <p:cNvSpPr/>
          <p:nvPr/>
        </p:nvSpPr>
        <p:spPr>
          <a:xfrm>
            <a:off x="6846840" y="2000160"/>
            <a:ext cx="160560" cy="160560"/>
          </a:xfrm>
          <a:custGeom>
            <a:avLst/>
            <a:gdLst/>
            <a:ahLst/>
            <a:rect l="l" t="t" r="r" b="b"/>
            <a:pathLst>
              <a:path w="446" h="446">
                <a:moveTo>
                  <a:pt x="19018" y="5556"/>
                </a:moveTo>
                <a:cubicBezTo>
                  <a:pt x="19053" y="5582"/>
                  <a:pt x="19095" y="5606"/>
                  <a:pt x="19145" y="5588"/>
                </a:cubicBezTo>
                <a:cubicBezTo>
                  <a:pt x="19217" y="5562"/>
                  <a:pt x="19260" y="5556"/>
                  <a:pt x="19336" y="5556"/>
                </a:cubicBezTo>
                <a:cubicBezTo>
                  <a:pt x="19368" y="5556"/>
                  <a:pt x="19378" y="5556"/>
                  <a:pt x="19399" y="5556"/>
                </a:cubicBezTo>
                <a:cubicBezTo>
                  <a:pt x="19365" y="5600"/>
                  <a:pt x="19294" y="5665"/>
                  <a:pt x="19272" y="5715"/>
                </a:cubicBezTo>
                <a:cubicBezTo>
                  <a:pt x="19251" y="5762"/>
                  <a:pt x="19176" y="5765"/>
                  <a:pt x="19240" y="5747"/>
                </a:cubicBezTo>
                <a:cubicBezTo>
                  <a:pt x="19290" y="5733"/>
                  <a:pt x="19266" y="5715"/>
                  <a:pt x="19336" y="5715"/>
                </a:cubicBezTo>
                <a:cubicBezTo>
                  <a:pt x="19403" y="5715"/>
                  <a:pt x="19402" y="5710"/>
                  <a:pt x="19431" y="5747"/>
                </a:cubicBezTo>
                <a:cubicBezTo>
                  <a:pt x="19481" y="5813"/>
                  <a:pt x="19455" y="5817"/>
                  <a:pt x="19399" y="5874"/>
                </a:cubicBezTo>
                <a:cubicBezTo>
                  <a:pt x="19350" y="5924"/>
                  <a:pt x="19310" y="5951"/>
                  <a:pt x="19240" y="5969"/>
                </a:cubicBezTo>
                <a:cubicBezTo>
                  <a:pt x="19180" y="5984"/>
                  <a:pt x="19157" y="5991"/>
                  <a:pt x="19114" y="5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8"/>
          <p:cNvSpPr/>
          <p:nvPr/>
        </p:nvSpPr>
        <p:spPr>
          <a:xfrm>
            <a:off x="7807320" y="1978200"/>
            <a:ext cx="182520" cy="171360"/>
          </a:xfrm>
          <a:custGeom>
            <a:avLst/>
            <a:gdLst/>
            <a:ahLst/>
            <a:rect l="l" t="t" r="r" b="b"/>
            <a:pathLst>
              <a:path w="509" h="477">
                <a:moveTo>
                  <a:pt x="21685" y="5588"/>
                </a:moveTo>
                <a:cubicBezTo>
                  <a:pt x="21743" y="5545"/>
                  <a:pt x="21784" y="5553"/>
                  <a:pt x="21844" y="5524"/>
                </a:cubicBezTo>
                <a:cubicBezTo>
                  <a:pt x="21893" y="5500"/>
                  <a:pt x="21910" y="5493"/>
                  <a:pt x="21971" y="5493"/>
                </a:cubicBezTo>
                <a:cubicBezTo>
                  <a:pt x="21971" y="5562"/>
                  <a:pt x="21970" y="5586"/>
                  <a:pt x="21939" y="5652"/>
                </a:cubicBezTo>
                <a:cubicBezTo>
                  <a:pt x="21908" y="5719"/>
                  <a:pt x="21861" y="5787"/>
                  <a:pt x="21812" y="5842"/>
                </a:cubicBezTo>
                <a:cubicBezTo>
                  <a:pt x="21791" y="5865"/>
                  <a:pt x="21727" y="5963"/>
                  <a:pt x="21717" y="5969"/>
                </a:cubicBezTo>
                <a:cubicBezTo>
                  <a:pt x="21706" y="5969"/>
                  <a:pt x="21696" y="5969"/>
                  <a:pt x="21685" y="5969"/>
                </a:cubicBezTo>
                <a:cubicBezTo>
                  <a:pt x="21734" y="5932"/>
                  <a:pt x="21750" y="5937"/>
                  <a:pt x="21812" y="5937"/>
                </a:cubicBezTo>
                <a:cubicBezTo>
                  <a:pt x="21885" y="5937"/>
                  <a:pt x="21936" y="5964"/>
                  <a:pt x="22003" y="5969"/>
                </a:cubicBezTo>
                <a:cubicBezTo>
                  <a:pt x="22083" y="5974"/>
                  <a:pt x="22121" y="5968"/>
                  <a:pt x="22193" y="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1749600" y="1908000"/>
            <a:ext cx="114120" cy="287640"/>
          </a:xfrm>
          <a:custGeom>
            <a:avLst/>
            <a:gdLst/>
            <a:ahLst/>
            <a:rect l="l" t="t" r="r" b="b"/>
            <a:pathLst>
              <a:path w="318" h="795">
                <a:moveTo>
                  <a:pt x="4890" y="5429"/>
                </a:moveTo>
                <a:cubicBezTo>
                  <a:pt x="4890" y="5494"/>
                  <a:pt x="4876" y="5504"/>
                  <a:pt x="4858" y="5556"/>
                </a:cubicBezTo>
                <a:cubicBezTo>
                  <a:pt x="4835" y="5624"/>
                  <a:pt x="4851" y="5727"/>
                  <a:pt x="4890" y="5778"/>
                </a:cubicBezTo>
                <a:cubicBezTo>
                  <a:pt x="4938" y="5730"/>
                  <a:pt x="4949" y="5715"/>
                  <a:pt x="5016" y="5715"/>
                </a:cubicBezTo>
                <a:cubicBezTo>
                  <a:pt x="5077" y="5715"/>
                  <a:pt x="5127" y="5696"/>
                  <a:pt x="5144" y="5747"/>
                </a:cubicBezTo>
                <a:cubicBezTo>
                  <a:pt x="5172" y="5718"/>
                  <a:pt x="5182" y="5712"/>
                  <a:pt x="5175" y="5683"/>
                </a:cubicBezTo>
              </a:path>
              <a:path w="318" h="795">
                <a:moveTo>
                  <a:pt x="5144" y="5302"/>
                </a:moveTo>
                <a:cubicBezTo>
                  <a:pt x="5126" y="5355"/>
                  <a:pt x="5141" y="5376"/>
                  <a:pt x="5112" y="5461"/>
                </a:cubicBezTo>
                <a:cubicBezTo>
                  <a:pt x="5084" y="5545"/>
                  <a:pt x="5080" y="5612"/>
                  <a:pt x="5080" y="5715"/>
                </a:cubicBezTo>
                <a:cubicBezTo>
                  <a:pt x="5080" y="5808"/>
                  <a:pt x="5069" y="5853"/>
                  <a:pt x="5048" y="5937"/>
                </a:cubicBezTo>
                <a:cubicBezTo>
                  <a:pt x="5039" y="5971"/>
                  <a:pt x="5078" y="6097"/>
                  <a:pt x="5016" y="6096"/>
                </a:cubicBezTo>
                <a:cubicBezTo>
                  <a:pt x="5016" y="6085"/>
                  <a:pt x="5016" y="6075"/>
                  <a:pt x="5016" y="6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0"/>
          <p:cNvSpPr/>
          <p:nvPr/>
        </p:nvSpPr>
        <p:spPr>
          <a:xfrm>
            <a:off x="1177920" y="3200400"/>
            <a:ext cx="422280" cy="639720"/>
          </a:xfrm>
          <a:custGeom>
            <a:avLst/>
            <a:gdLst/>
            <a:ahLst/>
            <a:rect l="l" t="t" r="r" b="b"/>
            <a:pathLst>
              <a:path w="1176" h="1779">
                <a:moveTo>
                  <a:pt x="3397" y="9366"/>
                </a:moveTo>
                <a:cubicBezTo>
                  <a:pt x="3397" y="9455"/>
                  <a:pt x="3407" y="9537"/>
                  <a:pt x="3429" y="9620"/>
                </a:cubicBezTo>
                <a:cubicBezTo>
                  <a:pt x="3471" y="9781"/>
                  <a:pt x="3526" y="9990"/>
                  <a:pt x="3620" y="10128"/>
                </a:cubicBezTo>
                <a:cubicBezTo>
                  <a:pt x="3685" y="10224"/>
                  <a:pt x="3753" y="10311"/>
                  <a:pt x="3810" y="10414"/>
                </a:cubicBezTo>
                <a:cubicBezTo>
                  <a:pt x="3839" y="10466"/>
                  <a:pt x="3848" y="10529"/>
                  <a:pt x="3874" y="10478"/>
                </a:cubicBezTo>
              </a:path>
              <a:path w="1176" h="1779">
                <a:moveTo>
                  <a:pt x="3874" y="9462"/>
                </a:moveTo>
                <a:cubicBezTo>
                  <a:pt x="3804" y="9548"/>
                  <a:pt x="3775" y="9652"/>
                  <a:pt x="3715" y="9747"/>
                </a:cubicBezTo>
                <a:cubicBezTo>
                  <a:pt x="3624" y="9891"/>
                  <a:pt x="3575" y="10045"/>
                  <a:pt x="3492" y="10192"/>
                </a:cubicBezTo>
                <a:cubicBezTo>
                  <a:pt x="3422" y="10315"/>
                  <a:pt x="3400" y="10451"/>
                  <a:pt x="3334" y="10573"/>
                </a:cubicBezTo>
                <a:cubicBezTo>
                  <a:pt x="3296" y="10610"/>
                  <a:pt x="3281" y="10629"/>
                  <a:pt x="3270" y="10668"/>
                </a:cubicBezTo>
              </a:path>
              <a:path w="1176" h="1779">
                <a:moveTo>
                  <a:pt x="4064" y="8954"/>
                </a:moveTo>
                <a:cubicBezTo>
                  <a:pt x="4104" y="8924"/>
                  <a:pt x="4141" y="8896"/>
                  <a:pt x="4191" y="8890"/>
                </a:cubicBezTo>
                <a:cubicBezTo>
                  <a:pt x="4238" y="8885"/>
                  <a:pt x="4355" y="8869"/>
                  <a:pt x="4382" y="8922"/>
                </a:cubicBezTo>
                <a:cubicBezTo>
                  <a:pt x="4412" y="8982"/>
                  <a:pt x="4406" y="9025"/>
                  <a:pt x="4382" y="9080"/>
                </a:cubicBezTo>
                <a:cubicBezTo>
                  <a:pt x="4352" y="9150"/>
                  <a:pt x="4306" y="9187"/>
                  <a:pt x="4254" y="9239"/>
                </a:cubicBezTo>
                <a:cubicBezTo>
                  <a:pt x="4239" y="9254"/>
                  <a:pt x="4133" y="9312"/>
                  <a:pt x="4191" y="9271"/>
                </a:cubicBezTo>
                <a:cubicBezTo>
                  <a:pt x="4248" y="9231"/>
                  <a:pt x="4295" y="9234"/>
                  <a:pt x="4350" y="9271"/>
                </a:cubicBezTo>
                <a:cubicBezTo>
                  <a:pt x="4383" y="9293"/>
                  <a:pt x="4438" y="9364"/>
                  <a:pt x="4445" y="9398"/>
                </a:cubicBezTo>
                <a:cubicBezTo>
                  <a:pt x="4461" y="9474"/>
                  <a:pt x="4431" y="9530"/>
                  <a:pt x="4413" y="9588"/>
                </a:cubicBezTo>
                <a:cubicBezTo>
                  <a:pt x="4399" y="9635"/>
                  <a:pt x="4369" y="9667"/>
                  <a:pt x="4318" y="9684"/>
                </a:cubicBezTo>
                <a:cubicBezTo>
                  <a:pt x="4248" y="9707"/>
                  <a:pt x="4117" y="9692"/>
                  <a:pt x="4064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1"/>
          <p:cNvSpPr/>
          <p:nvPr/>
        </p:nvSpPr>
        <p:spPr>
          <a:xfrm>
            <a:off x="2262240" y="2457360"/>
            <a:ext cx="115920" cy="297000"/>
          </a:xfrm>
          <a:custGeom>
            <a:avLst/>
            <a:gdLst/>
            <a:ahLst/>
            <a:rect l="l" t="t" r="r" b="b"/>
            <a:pathLst>
              <a:path w="319" h="827">
                <a:moveTo>
                  <a:pt x="6604" y="6858"/>
                </a:moveTo>
                <a:cubicBezTo>
                  <a:pt x="6591" y="6898"/>
                  <a:pt x="6542" y="6930"/>
                  <a:pt x="6509" y="6985"/>
                </a:cubicBezTo>
                <a:cubicBezTo>
                  <a:pt x="6459" y="7069"/>
                  <a:pt x="6443" y="7158"/>
                  <a:pt x="6414" y="7239"/>
                </a:cubicBezTo>
                <a:cubicBezTo>
                  <a:pt x="6388" y="7312"/>
                  <a:pt x="6331" y="7395"/>
                  <a:pt x="6318" y="7461"/>
                </a:cubicBezTo>
                <a:cubicBezTo>
                  <a:pt x="6305" y="7523"/>
                  <a:pt x="6286" y="7556"/>
                  <a:pt x="6286" y="7620"/>
                </a:cubicBezTo>
                <a:cubicBezTo>
                  <a:pt x="6286" y="7631"/>
                  <a:pt x="6286" y="7641"/>
                  <a:pt x="6286" y="7652"/>
                </a:cubicBezTo>
                <a:cubicBezTo>
                  <a:pt x="6286" y="7586"/>
                  <a:pt x="6310" y="7554"/>
                  <a:pt x="6318" y="7493"/>
                </a:cubicBezTo>
                <a:cubicBezTo>
                  <a:pt x="6331" y="7396"/>
                  <a:pt x="6366" y="7334"/>
                  <a:pt x="6382" y="7239"/>
                </a:cubicBezTo>
                <a:cubicBezTo>
                  <a:pt x="6395" y="7161"/>
                  <a:pt x="6432" y="7093"/>
                  <a:pt x="6445" y="7017"/>
                </a:cubicBezTo>
                <a:cubicBezTo>
                  <a:pt x="6450" y="6991"/>
                  <a:pt x="6463" y="6840"/>
                  <a:pt x="6477" y="6826"/>
                </a:cubicBezTo>
                <a:cubicBezTo>
                  <a:pt x="6488" y="6826"/>
                  <a:pt x="6498" y="6826"/>
                  <a:pt x="6509" y="6826"/>
                </a:cubicBezTo>
                <a:cubicBezTo>
                  <a:pt x="6509" y="6897"/>
                  <a:pt x="6487" y="6963"/>
                  <a:pt x="6477" y="7017"/>
                </a:cubicBezTo>
                <a:cubicBezTo>
                  <a:pt x="6465" y="7083"/>
                  <a:pt x="6453" y="7140"/>
                  <a:pt x="6445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2"/>
          <p:cNvSpPr/>
          <p:nvPr/>
        </p:nvSpPr>
        <p:spPr>
          <a:xfrm>
            <a:off x="2719440" y="2000160"/>
            <a:ext cx="162000" cy="182520"/>
          </a:xfrm>
          <a:custGeom>
            <a:avLst/>
            <a:gdLst/>
            <a:ahLst/>
            <a:rect l="l" t="t" r="r" b="b"/>
            <a:pathLst>
              <a:path w="446" h="509">
                <a:moveTo>
                  <a:pt x="7556" y="5620"/>
                </a:moveTo>
                <a:cubicBezTo>
                  <a:pt x="7607" y="5543"/>
                  <a:pt x="7597" y="5556"/>
                  <a:pt x="7684" y="5556"/>
                </a:cubicBezTo>
                <a:cubicBezTo>
                  <a:pt x="7749" y="5556"/>
                  <a:pt x="7722" y="5607"/>
                  <a:pt x="7747" y="5652"/>
                </a:cubicBezTo>
                <a:cubicBezTo>
                  <a:pt x="7758" y="5662"/>
                  <a:pt x="7768" y="5673"/>
                  <a:pt x="7779" y="5683"/>
                </a:cubicBezTo>
                <a:cubicBezTo>
                  <a:pt x="7737" y="5738"/>
                  <a:pt x="7746" y="5815"/>
                  <a:pt x="7715" y="5874"/>
                </a:cubicBezTo>
                <a:cubicBezTo>
                  <a:pt x="7689" y="5923"/>
                  <a:pt x="7663" y="5959"/>
                  <a:pt x="7620" y="6001"/>
                </a:cubicBezTo>
                <a:cubicBezTo>
                  <a:pt x="7573" y="6047"/>
                  <a:pt x="7606" y="6047"/>
                  <a:pt x="7556" y="6064"/>
                </a:cubicBezTo>
                <a:cubicBezTo>
                  <a:pt x="7570" y="6061"/>
                  <a:pt x="7712" y="6005"/>
                  <a:pt x="7715" y="6001"/>
                </a:cubicBezTo>
                <a:cubicBezTo>
                  <a:pt x="7715" y="5969"/>
                  <a:pt x="7715" y="5958"/>
                  <a:pt x="7747" y="5969"/>
                </a:cubicBezTo>
                <a:cubicBezTo>
                  <a:pt x="7778" y="5979"/>
                  <a:pt x="7805" y="5981"/>
                  <a:pt x="7842" y="6001"/>
                </a:cubicBezTo>
                <a:cubicBezTo>
                  <a:pt x="7873" y="6018"/>
                  <a:pt x="7924" y="6057"/>
                  <a:pt x="7969" y="6032"/>
                </a:cubicBezTo>
                <a:cubicBezTo>
                  <a:pt x="7980" y="6022"/>
                  <a:pt x="7990" y="6011"/>
                  <a:pt x="8001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3"/>
          <p:cNvSpPr/>
          <p:nvPr/>
        </p:nvSpPr>
        <p:spPr>
          <a:xfrm>
            <a:off x="811080" y="3224160"/>
            <a:ext cx="320760" cy="547920"/>
          </a:xfrm>
          <a:custGeom>
            <a:avLst/>
            <a:gdLst/>
            <a:ahLst/>
            <a:rect l="l" t="t" r="r" b="b"/>
            <a:pathLst>
              <a:path w="890" h="1525">
                <a:moveTo>
                  <a:pt x="2572" y="9208"/>
                </a:moveTo>
                <a:cubicBezTo>
                  <a:pt x="2588" y="9184"/>
                  <a:pt x="2598" y="9111"/>
                  <a:pt x="2635" y="9080"/>
                </a:cubicBezTo>
                <a:cubicBezTo>
                  <a:pt x="2644" y="9072"/>
                  <a:pt x="2747" y="8989"/>
                  <a:pt x="2762" y="8985"/>
                </a:cubicBezTo>
                <a:cubicBezTo>
                  <a:pt x="2798" y="8975"/>
                  <a:pt x="2879" y="8940"/>
                  <a:pt x="2921" y="8954"/>
                </a:cubicBezTo>
                <a:cubicBezTo>
                  <a:pt x="2969" y="8970"/>
                  <a:pt x="3005" y="9001"/>
                  <a:pt x="3016" y="9049"/>
                </a:cubicBezTo>
                <a:cubicBezTo>
                  <a:pt x="3038" y="9145"/>
                  <a:pt x="2972" y="9157"/>
                  <a:pt x="2953" y="9239"/>
                </a:cubicBezTo>
                <a:cubicBezTo>
                  <a:pt x="2930" y="9340"/>
                  <a:pt x="2871" y="9449"/>
                  <a:pt x="2826" y="9557"/>
                </a:cubicBezTo>
                <a:cubicBezTo>
                  <a:pt x="2780" y="9669"/>
                  <a:pt x="2709" y="9810"/>
                  <a:pt x="2635" y="9906"/>
                </a:cubicBezTo>
                <a:cubicBezTo>
                  <a:pt x="2562" y="10001"/>
                  <a:pt x="2495" y="10105"/>
                  <a:pt x="2413" y="10192"/>
                </a:cubicBezTo>
                <a:cubicBezTo>
                  <a:pt x="2362" y="10246"/>
                  <a:pt x="2307" y="10298"/>
                  <a:pt x="2254" y="10350"/>
                </a:cubicBezTo>
                <a:cubicBezTo>
                  <a:pt x="2278" y="10308"/>
                  <a:pt x="2299" y="10257"/>
                  <a:pt x="2350" y="10224"/>
                </a:cubicBezTo>
                <a:cubicBezTo>
                  <a:pt x="2386" y="10201"/>
                  <a:pt x="2429" y="10195"/>
                  <a:pt x="2476" y="10192"/>
                </a:cubicBezTo>
                <a:cubicBezTo>
                  <a:pt x="2523" y="10189"/>
                  <a:pt x="2569" y="10203"/>
                  <a:pt x="2604" y="10224"/>
                </a:cubicBezTo>
                <a:cubicBezTo>
                  <a:pt x="2658" y="10257"/>
                  <a:pt x="2662" y="10309"/>
                  <a:pt x="2699" y="10350"/>
                </a:cubicBezTo>
                <a:cubicBezTo>
                  <a:pt x="2736" y="10392"/>
                  <a:pt x="2779" y="10425"/>
                  <a:pt x="2826" y="10446"/>
                </a:cubicBezTo>
                <a:cubicBezTo>
                  <a:pt x="2888" y="10474"/>
                  <a:pt x="2948" y="10474"/>
                  <a:pt x="3016" y="10478"/>
                </a:cubicBezTo>
                <a:cubicBezTo>
                  <a:pt x="3082" y="10482"/>
                  <a:pt x="3085" y="10482"/>
                  <a:pt x="3112" y="10446"/>
                </a:cubicBezTo>
                <a:cubicBezTo>
                  <a:pt x="3112" y="10410"/>
                  <a:pt x="3115" y="10396"/>
                  <a:pt x="3143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4"/>
          <p:cNvSpPr/>
          <p:nvPr/>
        </p:nvSpPr>
        <p:spPr>
          <a:xfrm>
            <a:off x="1542960" y="2411280"/>
            <a:ext cx="1589040" cy="1417680"/>
          </a:xfrm>
          <a:custGeom>
            <a:avLst/>
            <a:gdLst/>
            <a:ahLst/>
            <a:rect l="l" t="t" r="r" b="b"/>
            <a:pathLst>
              <a:path w="4415" h="3938">
                <a:moveTo>
                  <a:pt x="4286" y="6699"/>
                </a:moveTo>
                <a:cubicBezTo>
                  <a:pt x="4286" y="6710"/>
                  <a:pt x="4286" y="6720"/>
                  <a:pt x="4286" y="6731"/>
                </a:cubicBezTo>
                <a:cubicBezTo>
                  <a:pt x="4324" y="6744"/>
                  <a:pt x="4341" y="6784"/>
                  <a:pt x="4382" y="6826"/>
                </a:cubicBezTo>
                <a:cubicBezTo>
                  <a:pt x="4432" y="6877"/>
                  <a:pt x="4489" y="6905"/>
                  <a:pt x="4540" y="6953"/>
                </a:cubicBezTo>
                <a:cubicBezTo>
                  <a:pt x="4617" y="7025"/>
                  <a:pt x="4680" y="7114"/>
                  <a:pt x="4762" y="7176"/>
                </a:cubicBezTo>
                <a:cubicBezTo>
                  <a:pt x="4833" y="7230"/>
                  <a:pt x="4913" y="7280"/>
                  <a:pt x="4985" y="7334"/>
                </a:cubicBezTo>
                <a:cubicBezTo>
                  <a:pt x="5015" y="7356"/>
                  <a:pt x="5133" y="7445"/>
                  <a:pt x="5144" y="7461"/>
                </a:cubicBezTo>
                <a:cubicBezTo>
                  <a:pt x="5144" y="7472"/>
                  <a:pt x="5144" y="7482"/>
                  <a:pt x="5144" y="7493"/>
                </a:cubicBezTo>
              </a:path>
              <a:path w="4415" h="3938">
                <a:moveTo>
                  <a:pt x="4985" y="9525"/>
                </a:moveTo>
                <a:cubicBezTo>
                  <a:pt x="5025" y="9579"/>
                  <a:pt x="5016" y="9613"/>
                  <a:pt x="5016" y="9684"/>
                </a:cubicBezTo>
                <a:cubicBezTo>
                  <a:pt x="5016" y="9764"/>
                  <a:pt x="5006" y="9893"/>
                  <a:pt x="4985" y="9970"/>
                </a:cubicBezTo>
                <a:cubicBezTo>
                  <a:pt x="4961" y="10061"/>
                  <a:pt x="4953" y="10126"/>
                  <a:pt x="4953" y="10224"/>
                </a:cubicBezTo>
                <a:cubicBezTo>
                  <a:pt x="4953" y="10255"/>
                  <a:pt x="4953" y="10266"/>
                  <a:pt x="4953" y="10287"/>
                </a:cubicBezTo>
              </a:path>
              <a:path w="4415" h="3938">
                <a:moveTo>
                  <a:pt x="4667" y="9842"/>
                </a:moveTo>
                <a:cubicBezTo>
                  <a:pt x="4667" y="9820"/>
                  <a:pt x="4674" y="9821"/>
                  <a:pt x="4731" y="9842"/>
                </a:cubicBezTo>
                <a:cubicBezTo>
                  <a:pt x="4810" y="9870"/>
                  <a:pt x="4867" y="9901"/>
                  <a:pt x="4953" y="9906"/>
                </a:cubicBezTo>
                <a:cubicBezTo>
                  <a:pt x="5046" y="9911"/>
                  <a:pt x="5056" y="9928"/>
                  <a:pt x="5144" y="9906"/>
                </a:cubicBezTo>
              </a:path>
              <a:path w="4415" h="3938">
                <a:moveTo>
                  <a:pt x="5493" y="9208"/>
                </a:moveTo>
                <a:cubicBezTo>
                  <a:pt x="5510" y="9183"/>
                  <a:pt x="5542" y="9159"/>
                  <a:pt x="5588" y="9144"/>
                </a:cubicBezTo>
                <a:cubicBezTo>
                  <a:pt x="5643" y="9126"/>
                  <a:pt x="5694" y="9087"/>
                  <a:pt x="5747" y="9080"/>
                </a:cubicBezTo>
                <a:cubicBezTo>
                  <a:pt x="5838" y="9068"/>
                  <a:pt x="5940" y="9080"/>
                  <a:pt x="6032" y="9080"/>
                </a:cubicBezTo>
                <a:cubicBezTo>
                  <a:pt x="6023" y="9148"/>
                  <a:pt x="6015" y="9189"/>
                  <a:pt x="5969" y="9239"/>
                </a:cubicBezTo>
                <a:cubicBezTo>
                  <a:pt x="5895" y="9319"/>
                  <a:pt x="5834" y="9373"/>
                  <a:pt x="5778" y="9462"/>
                </a:cubicBezTo>
                <a:cubicBezTo>
                  <a:pt x="5734" y="9533"/>
                  <a:pt x="5680" y="9560"/>
                  <a:pt x="5620" y="9620"/>
                </a:cubicBezTo>
                <a:cubicBezTo>
                  <a:pt x="5573" y="9667"/>
                  <a:pt x="5573" y="9633"/>
                  <a:pt x="5556" y="9684"/>
                </a:cubicBezTo>
                <a:cubicBezTo>
                  <a:pt x="5569" y="9645"/>
                  <a:pt x="5606" y="9647"/>
                  <a:pt x="5652" y="9620"/>
                </a:cubicBezTo>
                <a:cubicBezTo>
                  <a:pt x="5699" y="9593"/>
                  <a:pt x="5749" y="9588"/>
                  <a:pt x="5810" y="9588"/>
                </a:cubicBezTo>
                <a:cubicBezTo>
                  <a:pt x="5884" y="9588"/>
                  <a:pt x="5968" y="9640"/>
                  <a:pt x="6032" y="9684"/>
                </a:cubicBezTo>
                <a:cubicBezTo>
                  <a:pt x="6099" y="9731"/>
                  <a:pt x="6141" y="9813"/>
                  <a:pt x="6160" y="9874"/>
                </a:cubicBezTo>
                <a:cubicBezTo>
                  <a:pt x="6189" y="9965"/>
                  <a:pt x="6214" y="10095"/>
                  <a:pt x="6191" y="10192"/>
                </a:cubicBezTo>
                <a:cubicBezTo>
                  <a:pt x="6163" y="10310"/>
                  <a:pt x="6138" y="10357"/>
                  <a:pt x="6064" y="10446"/>
                </a:cubicBezTo>
                <a:cubicBezTo>
                  <a:pt x="6010" y="10511"/>
                  <a:pt x="5951" y="10509"/>
                  <a:pt x="5874" y="10509"/>
                </a:cubicBezTo>
                <a:cubicBezTo>
                  <a:pt x="5772" y="10509"/>
                  <a:pt x="5735" y="10447"/>
                  <a:pt x="5652" y="10414"/>
                </a:cubicBezTo>
                <a:cubicBezTo>
                  <a:pt x="5590" y="10389"/>
                  <a:pt x="5587" y="10372"/>
                  <a:pt x="5556" y="10319"/>
                </a:cubicBezTo>
              </a:path>
              <a:path w="4415" h="3938">
                <a:moveTo>
                  <a:pt x="6477" y="9398"/>
                </a:moveTo>
                <a:cubicBezTo>
                  <a:pt x="6523" y="9479"/>
                  <a:pt x="6542" y="9533"/>
                  <a:pt x="6572" y="9620"/>
                </a:cubicBezTo>
                <a:cubicBezTo>
                  <a:pt x="6618" y="9751"/>
                  <a:pt x="6679" y="9872"/>
                  <a:pt x="6731" y="10001"/>
                </a:cubicBezTo>
                <a:cubicBezTo>
                  <a:pt x="6787" y="10140"/>
                  <a:pt x="6838" y="10275"/>
                  <a:pt x="6890" y="10414"/>
                </a:cubicBezTo>
                <a:cubicBezTo>
                  <a:pt x="6923" y="10503"/>
                  <a:pt x="6965" y="10564"/>
                  <a:pt x="7017" y="10604"/>
                </a:cubicBezTo>
                <a:cubicBezTo>
                  <a:pt x="7045" y="10633"/>
                  <a:pt x="7055" y="10648"/>
                  <a:pt x="7048" y="10604"/>
                </a:cubicBezTo>
              </a:path>
              <a:path w="4415" h="3938">
                <a:moveTo>
                  <a:pt x="7080" y="9525"/>
                </a:moveTo>
                <a:cubicBezTo>
                  <a:pt x="7016" y="9557"/>
                  <a:pt x="6943" y="9677"/>
                  <a:pt x="6890" y="9747"/>
                </a:cubicBezTo>
                <a:cubicBezTo>
                  <a:pt x="6783" y="9889"/>
                  <a:pt x="6704" y="10047"/>
                  <a:pt x="6604" y="10192"/>
                </a:cubicBezTo>
                <a:cubicBezTo>
                  <a:pt x="6497" y="10348"/>
                  <a:pt x="6375" y="10494"/>
                  <a:pt x="6255" y="10636"/>
                </a:cubicBezTo>
              </a:path>
              <a:path w="4415" h="3938">
                <a:moveTo>
                  <a:pt x="7207" y="9938"/>
                </a:moveTo>
                <a:cubicBezTo>
                  <a:pt x="7256" y="9901"/>
                  <a:pt x="7272" y="9906"/>
                  <a:pt x="7334" y="9906"/>
                </a:cubicBezTo>
                <a:cubicBezTo>
                  <a:pt x="7440" y="9906"/>
                  <a:pt x="7546" y="9906"/>
                  <a:pt x="7652" y="9906"/>
                </a:cubicBezTo>
              </a:path>
              <a:path w="4415" h="3938">
                <a:moveTo>
                  <a:pt x="8572" y="9080"/>
                </a:moveTo>
                <a:cubicBezTo>
                  <a:pt x="8531" y="9130"/>
                  <a:pt x="8481" y="9164"/>
                  <a:pt x="8414" y="9176"/>
                </a:cubicBezTo>
                <a:cubicBezTo>
                  <a:pt x="8344" y="9189"/>
                  <a:pt x="8259" y="9197"/>
                  <a:pt x="8192" y="9208"/>
                </a:cubicBezTo>
                <a:cubicBezTo>
                  <a:pt x="8136" y="9217"/>
                  <a:pt x="8108" y="9193"/>
                  <a:pt x="8064" y="9176"/>
                </a:cubicBezTo>
                <a:cubicBezTo>
                  <a:pt x="8034" y="9227"/>
                  <a:pt x="8017" y="9278"/>
                  <a:pt x="8001" y="9334"/>
                </a:cubicBezTo>
                <a:cubicBezTo>
                  <a:pt x="7981" y="9403"/>
                  <a:pt x="7989" y="9490"/>
                  <a:pt x="7969" y="9557"/>
                </a:cubicBezTo>
                <a:cubicBezTo>
                  <a:pt x="7959" y="9591"/>
                  <a:pt x="7902" y="9728"/>
                  <a:pt x="7906" y="9747"/>
                </a:cubicBezTo>
                <a:cubicBezTo>
                  <a:pt x="7906" y="9779"/>
                  <a:pt x="7906" y="9790"/>
                  <a:pt x="7938" y="9779"/>
                </a:cubicBezTo>
                <a:cubicBezTo>
                  <a:pt x="7964" y="9725"/>
                  <a:pt x="7961" y="9728"/>
                  <a:pt x="8001" y="9684"/>
                </a:cubicBezTo>
                <a:cubicBezTo>
                  <a:pt x="8063" y="9615"/>
                  <a:pt x="8090" y="9622"/>
                  <a:pt x="8160" y="9588"/>
                </a:cubicBezTo>
                <a:cubicBezTo>
                  <a:pt x="8255" y="9542"/>
                  <a:pt x="8253" y="9573"/>
                  <a:pt x="8350" y="9588"/>
                </a:cubicBezTo>
                <a:cubicBezTo>
                  <a:pt x="8413" y="9598"/>
                  <a:pt x="8530" y="9677"/>
                  <a:pt x="8572" y="9747"/>
                </a:cubicBezTo>
                <a:cubicBezTo>
                  <a:pt x="8625" y="9836"/>
                  <a:pt x="8681" y="9995"/>
                  <a:pt x="8700" y="10096"/>
                </a:cubicBezTo>
                <a:cubicBezTo>
                  <a:pt x="8720" y="10203"/>
                  <a:pt x="8715" y="10359"/>
                  <a:pt x="8668" y="10446"/>
                </a:cubicBezTo>
                <a:cubicBezTo>
                  <a:pt x="8612" y="10550"/>
                  <a:pt x="8592" y="10541"/>
                  <a:pt x="8477" y="10541"/>
                </a:cubicBezTo>
                <a:cubicBezTo>
                  <a:pt x="8370" y="10541"/>
                  <a:pt x="8346" y="10526"/>
                  <a:pt x="8255" y="10478"/>
                </a:cubicBezTo>
                <a:cubicBezTo>
                  <a:pt x="8208" y="10453"/>
                  <a:pt x="8120" y="10404"/>
                  <a:pt x="8096" y="10350"/>
                </a:cubicBezTo>
                <a:cubicBezTo>
                  <a:pt x="8096" y="10340"/>
                  <a:pt x="8096" y="10329"/>
                  <a:pt x="8096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5"/>
          <p:cNvSpPr/>
          <p:nvPr/>
        </p:nvSpPr>
        <p:spPr>
          <a:xfrm>
            <a:off x="5462640" y="3224160"/>
            <a:ext cx="2424240" cy="1050840"/>
          </a:xfrm>
          <a:custGeom>
            <a:avLst/>
            <a:gdLst/>
            <a:ahLst/>
            <a:rect l="l" t="t" r="r" b="b"/>
            <a:pathLst>
              <a:path w="6733" h="2921">
                <a:moveTo>
                  <a:pt x="15272" y="9271"/>
                </a:moveTo>
                <a:cubicBezTo>
                  <a:pt x="15320" y="9287"/>
                  <a:pt x="15304" y="9309"/>
                  <a:pt x="15304" y="9366"/>
                </a:cubicBezTo>
                <a:cubicBezTo>
                  <a:pt x="15304" y="9562"/>
                  <a:pt x="15293" y="9748"/>
                  <a:pt x="15272" y="9938"/>
                </a:cubicBezTo>
                <a:cubicBezTo>
                  <a:pt x="15259" y="10058"/>
                  <a:pt x="15225" y="10168"/>
                  <a:pt x="15208" y="10287"/>
                </a:cubicBezTo>
                <a:cubicBezTo>
                  <a:pt x="15199" y="10350"/>
                  <a:pt x="15119" y="10418"/>
                  <a:pt x="15176" y="10446"/>
                </a:cubicBezTo>
                <a:cubicBezTo>
                  <a:pt x="15225" y="10470"/>
                  <a:pt x="15264" y="10386"/>
                  <a:pt x="15272" y="10382"/>
                </a:cubicBezTo>
                <a:cubicBezTo>
                  <a:pt x="15298" y="10369"/>
                  <a:pt x="15372" y="10352"/>
                  <a:pt x="15399" y="10350"/>
                </a:cubicBezTo>
                <a:cubicBezTo>
                  <a:pt x="15431" y="10348"/>
                  <a:pt x="15529" y="10365"/>
                  <a:pt x="15558" y="10382"/>
                </a:cubicBezTo>
                <a:cubicBezTo>
                  <a:pt x="15640" y="10429"/>
                  <a:pt x="15642" y="10407"/>
                  <a:pt x="15716" y="10382"/>
                </a:cubicBezTo>
                <a:cubicBezTo>
                  <a:pt x="15759" y="10368"/>
                  <a:pt x="15801" y="10361"/>
                  <a:pt x="15843" y="10350"/>
                </a:cubicBezTo>
              </a:path>
              <a:path w="6733" h="2921">
                <a:moveTo>
                  <a:pt x="15875" y="9239"/>
                </a:moveTo>
                <a:cubicBezTo>
                  <a:pt x="15824" y="9340"/>
                  <a:pt x="15834" y="9499"/>
                  <a:pt x="15812" y="9620"/>
                </a:cubicBezTo>
                <a:cubicBezTo>
                  <a:pt x="15770" y="9849"/>
                  <a:pt x="15752" y="10086"/>
                  <a:pt x="15748" y="10319"/>
                </a:cubicBezTo>
                <a:cubicBezTo>
                  <a:pt x="15744" y="10554"/>
                  <a:pt x="15721" y="10783"/>
                  <a:pt x="15716" y="11017"/>
                </a:cubicBezTo>
                <a:cubicBezTo>
                  <a:pt x="15712" y="11239"/>
                  <a:pt x="15716" y="11462"/>
                  <a:pt x="15716" y="11684"/>
                </a:cubicBezTo>
              </a:path>
              <a:path w="6733" h="2921">
                <a:moveTo>
                  <a:pt x="16351" y="9938"/>
                </a:moveTo>
                <a:lnTo>
                  <a:pt x="16351" y="9938"/>
                </a:lnTo>
              </a:path>
              <a:path w="6733" h="2921">
                <a:moveTo>
                  <a:pt x="16351" y="9938"/>
                </a:moveTo>
                <a:cubicBezTo>
                  <a:pt x="16330" y="9938"/>
                  <a:pt x="16309" y="9938"/>
                  <a:pt x="16288" y="9938"/>
                </a:cubicBezTo>
              </a:path>
              <a:path w="6733" h="2921">
                <a:moveTo>
                  <a:pt x="16288" y="9938"/>
                </a:moveTo>
                <a:cubicBezTo>
                  <a:pt x="16288" y="9998"/>
                  <a:pt x="16305" y="10040"/>
                  <a:pt x="16320" y="10096"/>
                </a:cubicBezTo>
                <a:cubicBezTo>
                  <a:pt x="16358" y="10237"/>
                  <a:pt x="16390" y="10367"/>
                  <a:pt x="16415" y="10509"/>
                </a:cubicBezTo>
                <a:cubicBezTo>
                  <a:pt x="16448" y="10693"/>
                  <a:pt x="16548" y="10865"/>
                  <a:pt x="16574" y="11049"/>
                </a:cubicBezTo>
                <a:cubicBezTo>
                  <a:pt x="16588" y="11146"/>
                  <a:pt x="16602" y="11242"/>
                  <a:pt x="16637" y="11335"/>
                </a:cubicBezTo>
                <a:cubicBezTo>
                  <a:pt x="16662" y="11400"/>
                  <a:pt x="16669" y="11400"/>
                  <a:pt x="16669" y="11462"/>
                </a:cubicBezTo>
              </a:path>
              <a:path w="6733" h="2921">
                <a:moveTo>
                  <a:pt x="16700" y="9938"/>
                </a:moveTo>
                <a:cubicBezTo>
                  <a:pt x="16664" y="10024"/>
                  <a:pt x="16661" y="10121"/>
                  <a:pt x="16637" y="10224"/>
                </a:cubicBezTo>
                <a:cubicBezTo>
                  <a:pt x="16589" y="10430"/>
                  <a:pt x="16500" y="10624"/>
                  <a:pt x="16446" y="10827"/>
                </a:cubicBezTo>
                <a:cubicBezTo>
                  <a:pt x="16378" y="11083"/>
                  <a:pt x="16297" y="11333"/>
                  <a:pt x="16224" y="11589"/>
                </a:cubicBezTo>
                <a:cubicBezTo>
                  <a:pt x="16197" y="11684"/>
                  <a:pt x="16159" y="11783"/>
                  <a:pt x="16129" y="11874"/>
                </a:cubicBezTo>
              </a:path>
              <a:path w="6733" h="2921">
                <a:moveTo>
                  <a:pt x="17018" y="8985"/>
                </a:moveTo>
                <a:cubicBezTo>
                  <a:pt x="16999" y="9077"/>
                  <a:pt x="16965" y="9175"/>
                  <a:pt x="16954" y="9271"/>
                </a:cubicBezTo>
                <a:cubicBezTo>
                  <a:pt x="16939" y="9407"/>
                  <a:pt x="16921" y="9552"/>
                  <a:pt x="16891" y="9684"/>
                </a:cubicBezTo>
                <a:cubicBezTo>
                  <a:pt x="16871" y="9774"/>
                  <a:pt x="16825" y="9906"/>
                  <a:pt x="16859" y="10001"/>
                </a:cubicBezTo>
                <a:cubicBezTo>
                  <a:pt x="16881" y="10062"/>
                  <a:pt x="16932" y="10094"/>
                  <a:pt x="16954" y="10128"/>
                </a:cubicBezTo>
                <a:cubicBezTo>
                  <a:pt x="16971" y="10154"/>
                  <a:pt x="16994" y="10180"/>
                  <a:pt x="17050" y="10160"/>
                </a:cubicBezTo>
                <a:cubicBezTo>
                  <a:pt x="17099" y="10142"/>
                  <a:pt x="17146" y="10081"/>
                  <a:pt x="17177" y="10033"/>
                </a:cubicBezTo>
                <a:cubicBezTo>
                  <a:pt x="17230" y="9950"/>
                  <a:pt x="17243" y="9864"/>
                  <a:pt x="17272" y="9779"/>
                </a:cubicBezTo>
                <a:cubicBezTo>
                  <a:pt x="17300" y="9695"/>
                  <a:pt x="17326" y="9660"/>
                  <a:pt x="17272" y="9588"/>
                </a:cubicBezTo>
                <a:cubicBezTo>
                  <a:pt x="17189" y="9588"/>
                  <a:pt x="17186" y="9607"/>
                  <a:pt x="17145" y="9684"/>
                </a:cubicBezTo>
                <a:cubicBezTo>
                  <a:pt x="17093" y="9782"/>
                  <a:pt x="17084" y="9869"/>
                  <a:pt x="17050" y="9970"/>
                </a:cubicBezTo>
                <a:cubicBezTo>
                  <a:pt x="17009" y="10093"/>
                  <a:pt x="16997" y="10222"/>
                  <a:pt x="16986" y="10350"/>
                </a:cubicBezTo>
              </a:path>
              <a:path w="6733" h="2921">
                <a:moveTo>
                  <a:pt x="17621" y="10478"/>
                </a:moveTo>
                <a:cubicBezTo>
                  <a:pt x="17611" y="10478"/>
                  <a:pt x="17600" y="10478"/>
                  <a:pt x="17590" y="10478"/>
                </a:cubicBezTo>
                <a:cubicBezTo>
                  <a:pt x="17654" y="10478"/>
                  <a:pt x="17665" y="10463"/>
                  <a:pt x="17716" y="10446"/>
                </a:cubicBezTo>
                <a:cubicBezTo>
                  <a:pt x="17861" y="10397"/>
                  <a:pt x="18100" y="10446"/>
                  <a:pt x="18256" y="10446"/>
                </a:cubicBezTo>
                <a:cubicBezTo>
                  <a:pt x="18224" y="10446"/>
                  <a:pt x="18213" y="10446"/>
                  <a:pt x="18224" y="10414"/>
                </a:cubicBezTo>
              </a:path>
              <a:path w="6733" h="2921">
                <a:moveTo>
                  <a:pt x="18383" y="9239"/>
                </a:moveTo>
                <a:lnTo>
                  <a:pt x="18352" y="9239"/>
                </a:lnTo>
                <a:lnTo>
                  <a:pt x="18352" y="9271"/>
                </a:lnTo>
                <a:lnTo>
                  <a:pt x="18383" y="9271"/>
                </a:lnTo>
                <a:lnTo>
                  <a:pt x="18383" y="9303"/>
                </a:lnTo>
                <a:lnTo>
                  <a:pt x="18415" y="9303"/>
                </a:lnTo>
                <a:lnTo>
                  <a:pt x="18447" y="9303"/>
                </a:lnTo>
                <a:lnTo>
                  <a:pt x="18510" y="9303"/>
                </a:lnTo>
                <a:lnTo>
                  <a:pt x="18542" y="9303"/>
                </a:lnTo>
                <a:lnTo>
                  <a:pt x="18574" y="9303"/>
                </a:lnTo>
                <a:lnTo>
                  <a:pt x="18637" y="9303"/>
                </a:lnTo>
                <a:lnTo>
                  <a:pt x="18669" y="9303"/>
                </a:lnTo>
                <a:lnTo>
                  <a:pt x="18732" y="9303"/>
                </a:lnTo>
                <a:lnTo>
                  <a:pt x="18796" y="9271"/>
                </a:lnTo>
                <a:lnTo>
                  <a:pt x="18860" y="9271"/>
                </a:lnTo>
                <a:lnTo>
                  <a:pt x="18923" y="9239"/>
                </a:lnTo>
                <a:lnTo>
                  <a:pt x="18955" y="9239"/>
                </a:lnTo>
                <a:lnTo>
                  <a:pt x="19018" y="9239"/>
                </a:lnTo>
                <a:lnTo>
                  <a:pt x="19050" y="9271"/>
                </a:lnTo>
                <a:lnTo>
                  <a:pt x="19114" y="9271"/>
                </a:lnTo>
                <a:lnTo>
                  <a:pt x="19114" y="9303"/>
                </a:lnTo>
                <a:lnTo>
                  <a:pt x="19145" y="9334"/>
                </a:lnTo>
                <a:lnTo>
                  <a:pt x="19177" y="9366"/>
                </a:lnTo>
                <a:lnTo>
                  <a:pt x="19177" y="9462"/>
                </a:lnTo>
                <a:lnTo>
                  <a:pt x="19177" y="9525"/>
                </a:lnTo>
                <a:lnTo>
                  <a:pt x="19145" y="9620"/>
                </a:lnTo>
                <a:lnTo>
                  <a:pt x="19114" y="9747"/>
                </a:lnTo>
                <a:lnTo>
                  <a:pt x="19082" y="9874"/>
                </a:lnTo>
                <a:lnTo>
                  <a:pt x="19050" y="10001"/>
                </a:lnTo>
                <a:lnTo>
                  <a:pt x="18986" y="10128"/>
                </a:lnTo>
                <a:lnTo>
                  <a:pt x="18955" y="10255"/>
                </a:lnTo>
                <a:lnTo>
                  <a:pt x="18891" y="10382"/>
                </a:lnTo>
                <a:lnTo>
                  <a:pt x="18860" y="10509"/>
                </a:lnTo>
                <a:lnTo>
                  <a:pt x="18828" y="10636"/>
                </a:lnTo>
                <a:lnTo>
                  <a:pt x="18796" y="10763"/>
                </a:lnTo>
                <a:lnTo>
                  <a:pt x="18764" y="10890"/>
                </a:lnTo>
                <a:lnTo>
                  <a:pt x="18732" y="10986"/>
                </a:lnTo>
                <a:lnTo>
                  <a:pt x="18701" y="11081"/>
                </a:lnTo>
                <a:lnTo>
                  <a:pt x="18701" y="11176"/>
                </a:lnTo>
                <a:lnTo>
                  <a:pt x="18669" y="11240"/>
                </a:lnTo>
                <a:lnTo>
                  <a:pt x="18669" y="11303"/>
                </a:lnTo>
                <a:lnTo>
                  <a:pt x="18669" y="11366"/>
                </a:lnTo>
                <a:lnTo>
                  <a:pt x="18637" y="11430"/>
                </a:lnTo>
                <a:lnTo>
                  <a:pt x="18637" y="11462"/>
                </a:lnTo>
                <a:lnTo>
                  <a:pt x="18637" y="11494"/>
                </a:lnTo>
                <a:lnTo>
                  <a:pt x="18637" y="11525"/>
                </a:lnTo>
                <a:lnTo>
                  <a:pt x="18637" y="11557"/>
                </a:lnTo>
                <a:lnTo>
                  <a:pt x="18637" y="11525"/>
                </a:lnTo>
                <a:lnTo>
                  <a:pt x="18637" y="11557"/>
                </a:lnTo>
                <a:lnTo>
                  <a:pt x="18637" y="11525"/>
                </a:lnTo>
                <a:lnTo>
                  <a:pt x="18637" y="11525"/>
                </a:lnTo>
              </a:path>
              <a:path w="6733" h="2921">
                <a:moveTo>
                  <a:pt x="19145" y="10033"/>
                </a:moveTo>
                <a:cubicBezTo>
                  <a:pt x="19164" y="10110"/>
                  <a:pt x="19227" y="10156"/>
                  <a:pt x="19272" y="10224"/>
                </a:cubicBezTo>
                <a:cubicBezTo>
                  <a:pt x="19349" y="10340"/>
                  <a:pt x="19412" y="10474"/>
                  <a:pt x="19463" y="10604"/>
                </a:cubicBezTo>
                <a:cubicBezTo>
                  <a:pt x="19514" y="10732"/>
                  <a:pt x="19549" y="10811"/>
                  <a:pt x="19622" y="10922"/>
                </a:cubicBezTo>
                <a:cubicBezTo>
                  <a:pt x="19656" y="10974"/>
                  <a:pt x="19672" y="11084"/>
                  <a:pt x="19717" y="11112"/>
                </a:cubicBezTo>
                <a:cubicBezTo>
                  <a:pt x="19752" y="11134"/>
                  <a:pt x="19739" y="11130"/>
                  <a:pt x="19780" y="11144"/>
                </a:cubicBezTo>
              </a:path>
              <a:path w="6733" h="2921">
                <a:moveTo>
                  <a:pt x="19748" y="9970"/>
                </a:moveTo>
                <a:cubicBezTo>
                  <a:pt x="19713" y="10040"/>
                  <a:pt x="19676" y="10143"/>
                  <a:pt x="19653" y="10224"/>
                </a:cubicBezTo>
                <a:cubicBezTo>
                  <a:pt x="19584" y="10468"/>
                  <a:pt x="19454" y="10681"/>
                  <a:pt x="19368" y="10922"/>
                </a:cubicBezTo>
                <a:cubicBezTo>
                  <a:pt x="19277" y="11178"/>
                  <a:pt x="19179" y="11429"/>
                  <a:pt x="19082" y="11684"/>
                </a:cubicBezTo>
              </a:path>
              <a:path w="6733" h="2921">
                <a:moveTo>
                  <a:pt x="20415" y="9842"/>
                </a:moveTo>
                <a:cubicBezTo>
                  <a:pt x="20433" y="9934"/>
                  <a:pt x="20447" y="9996"/>
                  <a:pt x="20447" y="10096"/>
                </a:cubicBezTo>
                <a:cubicBezTo>
                  <a:pt x="20447" y="10232"/>
                  <a:pt x="20437" y="10406"/>
                  <a:pt x="20415" y="10541"/>
                </a:cubicBezTo>
                <a:cubicBezTo>
                  <a:pt x="20397" y="10651"/>
                  <a:pt x="20384" y="10744"/>
                  <a:pt x="20384" y="10858"/>
                </a:cubicBezTo>
                <a:cubicBezTo>
                  <a:pt x="20384" y="10869"/>
                  <a:pt x="20384" y="10879"/>
                  <a:pt x="20384" y="10890"/>
                </a:cubicBezTo>
              </a:path>
              <a:path w="6733" h="2921">
                <a:moveTo>
                  <a:pt x="20225" y="10319"/>
                </a:moveTo>
                <a:cubicBezTo>
                  <a:pt x="20137" y="10319"/>
                  <a:pt x="20277" y="10315"/>
                  <a:pt x="20288" y="10319"/>
                </a:cubicBezTo>
                <a:cubicBezTo>
                  <a:pt x="20367" y="10347"/>
                  <a:pt x="20430" y="10377"/>
                  <a:pt x="20510" y="10382"/>
                </a:cubicBezTo>
                <a:cubicBezTo>
                  <a:pt x="20584" y="10386"/>
                  <a:pt x="20659" y="10382"/>
                  <a:pt x="20733" y="10382"/>
                </a:cubicBezTo>
              </a:path>
              <a:path w="6733" h="2921">
                <a:moveTo>
                  <a:pt x="21018" y="9271"/>
                </a:moveTo>
                <a:cubicBezTo>
                  <a:pt x="21026" y="9206"/>
                  <a:pt x="21020" y="9200"/>
                  <a:pt x="21050" y="9144"/>
                </a:cubicBezTo>
                <a:cubicBezTo>
                  <a:pt x="21102" y="9047"/>
                  <a:pt x="21151" y="9101"/>
                  <a:pt x="21241" y="9049"/>
                </a:cubicBezTo>
                <a:cubicBezTo>
                  <a:pt x="21298" y="9016"/>
                  <a:pt x="21419" y="8971"/>
                  <a:pt x="21495" y="8954"/>
                </a:cubicBezTo>
                <a:cubicBezTo>
                  <a:pt x="21557" y="8940"/>
                  <a:pt x="21638" y="8956"/>
                  <a:pt x="21685" y="8985"/>
                </a:cubicBezTo>
                <a:cubicBezTo>
                  <a:pt x="21754" y="9027"/>
                  <a:pt x="21703" y="9092"/>
                  <a:pt x="21685" y="9144"/>
                </a:cubicBezTo>
                <a:cubicBezTo>
                  <a:pt x="21643" y="9265"/>
                  <a:pt x="21589" y="9352"/>
                  <a:pt x="21526" y="9462"/>
                </a:cubicBezTo>
                <a:cubicBezTo>
                  <a:pt x="21485" y="9535"/>
                  <a:pt x="21459" y="9592"/>
                  <a:pt x="21400" y="9652"/>
                </a:cubicBezTo>
                <a:cubicBezTo>
                  <a:pt x="21441" y="9628"/>
                  <a:pt x="21511" y="9569"/>
                  <a:pt x="21558" y="9557"/>
                </a:cubicBezTo>
                <a:cubicBezTo>
                  <a:pt x="21617" y="9542"/>
                  <a:pt x="21700" y="9558"/>
                  <a:pt x="21749" y="9588"/>
                </a:cubicBezTo>
                <a:cubicBezTo>
                  <a:pt x="21811" y="9627"/>
                  <a:pt x="21819" y="9691"/>
                  <a:pt x="21844" y="9747"/>
                </a:cubicBezTo>
                <a:cubicBezTo>
                  <a:pt x="21893" y="9855"/>
                  <a:pt x="21908" y="9912"/>
                  <a:pt x="21908" y="10033"/>
                </a:cubicBezTo>
                <a:cubicBezTo>
                  <a:pt x="21908" y="10155"/>
                  <a:pt x="21928" y="10299"/>
                  <a:pt x="21876" y="10414"/>
                </a:cubicBezTo>
                <a:cubicBezTo>
                  <a:pt x="21826" y="10523"/>
                  <a:pt x="21760" y="10667"/>
                  <a:pt x="21685" y="10763"/>
                </a:cubicBezTo>
                <a:cubicBezTo>
                  <a:pt x="21638" y="10823"/>
                  <a:pt x="21544" y="10935"/>
                  <a:pt x="21463" y="10954"/>
                </a:cubicBezTo>
                <a:cubicBezTo>
                  <a:pt x="21392" y="10971"/>
                  <a:pt x="21325" y="10954"/>
                  <a:pt x="21272" y="10922"/>
                </a:cubicBezTo>
                <a:cubicBezTo>
                  <a:pt x="21311" y="10892"/>
                  <a:pt x="21357" y="10842"/>
                  <a:pt x="21431" y="10827"/>
                </a:cubicBezTo>
                <a:cubicBezTo>
                  <a:pt x="21512" y="10810"/>
                  <a:pt x="21576" y="10854"/>
                  <a:pt x="21654" y="10858"/>
                </a:cubicBezTo>
                <a:cubicBezTo>
                  <a:pt x="21720" y="10858"/>
                  <a:pt x="21743" y="10859"/>
                  <a:pt x="2178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6"/>
          <p:cNvSpPr/>
          <p:nvPr/>
        </p:nvSpPr>
        <p:spPr>
          <a:xfrm>
            <a:off x="6743880" y="2639880"/>
            <a:ext cx="114120" cy="149400"/>
          </a:xfrm>
          <a:custGeom>
            <a:avLst/>
            <a:gdLst/>
            <a:ahLst/>
            <a:rect l="l" t="t" r="r" b="b"/>
            <a:pathLst>
              <a:path w="319" h="414">
                <a:moveTo>
                  <a:pt x="18764" y="7430"/>
                </a:moveTo>
                <a:cubicBezTo>
                  <a:pt x="18776" y="7382"/>
                  <a:pt x="18811" y="7351"/>
                  <a:pt x="18860" y="7334"/>
                </a:cubicBezTo>
                <a:cubicBezTo>
                  <a:pt x="18923" y="7313"/>
                  <a:pt x="18978" y="7362"/>
                  <a:pt x="18955" y="7430"/>
                </a:cubicBezTo>
                <a:cubicBezTo>
                  <a:pt x="18938" y="7480"/>
                  <a:pt x="18889" y="7576"/>
                  <a:pt x="18860" y="7620"/>
                </a:cubicBezTo>
                <a:cubicBezTo>
                  <a:pt x="18838" y="7653"/>
                  <a:pt x="18770" y="7703"/>
                  <a:pt x="18764" y="7715"/>
                </a:cubicBezTo>
                <a:cubicBezTo>
                  <a:pt x="18764" y="7747"/>
                  <a:pt x="18764" y="7758"/>
                  <a:pt x="18732" y="7747"/>
                </a:cubicBezTo>
                <a:cubicBezTo>
                  <a:pt x="18737" y="7745"/>
                  <a:pt x="18824" y="7720"/>
                  <a:pt x="18828" y="7715"/>
                </a:cubicBezTo>
                <a:cubicBezTo>
                  <a:pt x="18871" y="7663"/>
                  <a:pt x="18854" y="7693"/>
                  <a:pt x="18923" y="7715"/>
                </a:cubicBezTo>
                <a:cubicBezTo>
                  <a:pt x="18955" y="7725"/>
                  <a:pt x="18963" y="7684"/>
                  <a:pt x="19018" y="7684"/>
                </a:cubicBezTo>
                <a:cubicBezTo>
                  <a:pt x="19029" y="7684"/>
                  <a:pt x="19039" y="7684"/>
                  <a:pt x="19050" y="7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EC Calculus"/>
              </a:rPr>
              <a:t>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57400" y="2895480"/>
            <a:ext cx="3886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90920" y="4343400"/>
            <a:ext cx="19810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6"/>
          <p:cNvSpPr/>
          <p:nvPr/>
        </p:nvSpPr>
        <p:spPr>
          <a:xfrm>
            <a:off x="2651040" y="2457360"/>
            <a:ext cx="1658880" cy="217440"/>
          </a:xfrm>
          <a:custGeom>
            <a:avLst/>
            <a:gdLst/>
            <a:ahLst/>
            <a:rect l="l" t="t" r="r" b="b"/>
            <a:pathLst>
              <a:path w="4605" h="605">
                <a:moveTo>
                  <a:pt x="10478" y="7239"/>
                </a:moveTo>
                <a:cubicBezTo>
                  <a:pt x="10490" y="7192"/>
                  <a:pt x="10524" y="7160"/>
                  <a:pt x="10573" y="7144"/>
                </a:cubicBezTo>
                <a:cubicBezTo>
                  <a:pt x="10604" y="7144"/>
                  <a:pt x="10615" y="7144"/>
                  <a:pt x="10636" y="7144"/>
                </a:cubicBezTo>
                <a:cubicBezTo>
                  <a:pt x="10636" y="7216"/>
                  <a:pt x="10620" y="7239"/>
                  <a:pt x="10604" y="7271"/>
                </a:cubicBezTo>
                <a:cubicBezTo>
                  <a:pt x="10599" y="7281"/>
                  <a:pt x="10552" y="7359"/>
                  <a:pt x="10541" y="7366"/>
                </a:cubicBezTo>
                <a:cubicBezTo>
                  <a:pt x="10505" y="7366"/>
                  <a:pt x="10491" y="7369"/>
                  <a:pt x="10478" y="7398"/>
                </a:cubicBezTo>
                <a:cubicBezTo>
                  <a:pt x="10496" y="7434"/>
                  <a:pt x="10507" y="7398"/>
                  <a:pt x="10573" y="7398"/>
                </a:cubicBezTo>
                <a:cubicBezTo>
                  <a:pt x="10622" y="7398"/>
                  <a:pt x="10598" y="7430"/>
                  <a:pt x="10668" y="7430"/>
                </a:cubicBezTo>
                <a:cubicBezTo>
                  <a:pt x="10735" y="7430"/>
                  <a:pt x="10732" y="7433"/>
                  <a:pt x="10732" y="7366"/>
                </a:cubicBezTo>
              </a:path>
              <a:path w="4605" h="605">
                <a:moveTo>
                  <a:pt x="7366" y="6890"/>
                </a:moveTo>
                <a:cubicBezTo>
                  <a:pt x="8309" y="6890"/>
                  <a:pt x="9255" y="6884"/>
                  <a:pt x="10192" y="6858"/>
                </a:cubicBezTo>
                <a:cubicBezTo>
                  <a:pt x="10502" y="6849"/>
                  <a:pt x="10806" y="6857"/>
                  <a:pt x="11112" y="6826"/>
                </a:cubicBezTo>
                <a:cubicBezTo>
                  <a:pt x="11306" y="6806"/>
                  <a:pt x="11497" y="6841"/>
                  <a:pt x="11684" y="6858"/>
                </a:cubicBezTo>
                <a:cubicBezTo>
                  <a:pt x="11777" y="6867"/>
                  <a:pt x="11876" y="6858"/>
                  <a:pt x="11970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7"/>
          <p:cNvSpPr/>
          <p:nvPr/>
        </p:nvSpPr>
        <p:spPr>
          <a:xfrm>
            <a:off x="6332400" y="1805040"/>
            <a:ext cx="2068560" cy="687240"/>
          </a:xfrm>
          <a:custGeom>
            <a:avLst/>
            <a:gdLst/>
            <a:ahLst/>
            <a:rect l="l" t="t" r="r" b="b"/>
            <a:pathLst>
              <a:path w="5747" h="1907">
                <a:moveTo>
                  <a:pt x="18129" y="5429"/>
                </a:moveTo>
                <a:cubicBezTo>
                  <a:pt x="18129" y="5500"/>
                  <a:pt x="18157" y="5549"/>
                  <a:pt x="18161" y="5620"/>
                </a:cubicBezTo>
                <a:cubicBezTo>
                  <a:pt x="18168" y="5743"/>
                  <a:pt x="18176" y="5849"/>
                  <a:pt x="18193" y="5969"/>
                </a:cubicBezTo>
                <a:cubicBezTo>
                  <a:pt x="18207" y="6064"/>
                  <a:pt x="18210" y="6164"/>
                  <a:pt x="18224" y="6255"/>
                </a:cubicBezTo>
                <a:cubicBezTo>
                  <a:pt x="18242" y="6371"/>
                  <a:pt x="18237" y="6492"/>
                  <a:pt x="18256" y="6604"/>
                </a:cubicBezTo>
                <a:cubicBezTo>
                  <a:pt x="18272" y="6703"/>
                  <a:pt x="18256" y="6821"/>
                  <a:pt x="18256" y="6922"/>
                </a:cubicBezTo>
              </a:path>
              <a:path w="5747" h="1907">
                <a:moveTo>
                  <a:pt x="17621" y="6064"/>
                </a:moveTo>
                <a:cubicBezTo>
                  <a:pt x="17606" y="6039"/>
                  <a:pt x="17571" y="6010"/>
                  <a:pt x="17590" y="5937"/>
                </a:cubicBezTo>
                <a:cubicBezTo>
                  <a:pt x="17605" y="5882"/>
                  <a:pt x="17627" y="5808"/>
                  <a:pt x="17653" y="5747"/>
                </a:cubicBezTo>
                <a:cubicBezTo>
                  <a:pt x="17687" y="5667"/>
                  <a:pt x="17689" y="5528"/>
                  <a:pt x="17748" y="5461"/>
                </a:cubicBezTo>
                <a:cubicBezTo>
                  <a:pt x="17811" y="5389"/>
                  <a:pt x="17900" y="5313"/>
                  <a:pt x="17970" y="5239"/>
                </a:cubicBezTo>
                <a:cubicBezTo>
                  <a:pt x="18066" y="5137"/>
                  <a:pt x="18131" y="5102"/>
                  <a:pt x="18256" y="5048"/>
                </a:cubicBezTo>
                <a:cubicBezTo>
                  <a:pt x="18320" y="5020"/>
                  <a:pt x="18438" y="4988"/>
                  <a:pt x="18510" y="5016"/>
                </a:cubicBezTo>
                <a:cubicBezTo>
                  <a:pt x="18582" y="5044"/>
                  <a:pt x="18634" y="5109"/>
                  <a:pt x="18669" y="5175"/>
                </a:cubicBezTo>
                <a:cubicBezTo>
                  <a:pt x="18705" y="5244"/>
                  <a:pt x="18725" y="5384"/>
                  <a:pt x="18701" y="5461"/>
                </a:cubicBezTo>
                <a:cubicBezTo>
                  <a:pt x="18672" y="5554"/>
                  <a:pt x="18605" y="5697"/>
                  <a:pt x="18542" y="5778"/>
                </a:cubicBezTo>
                <a:cubicBezTo>
                  <a:pt x="18462" y="5881"/>
                  <a:pt x="18420" y="5949"/>
                  <a:pt x="18320" y="6032"/>
                </a:cubicBezTo>
                <a:cubicBezTo>
                  <a:pt x="18296" y="6052"/>
                  <a:pt x="18201" y="6164"/>
                  <a:pt x="18161" y="6160"/>
                </a:cubicBezTo>
                <a:cubicBezTo>
                  <a:pt x="18129" y="6160"/>
                  <a:pt x="18118" y="6160"/>
                  <a:pt x="18129" y="6128"/>
                </a:cubicBezTo>
              </a:path>
              <a:path w="5747" h="1907">
                <a:moveTo>
                  <a:pt x="18828" y="6096"/>
                </a:moveTo>
                <a:lnTo>
                  <a:pt x="18828" y="6096"/>
                </a:lnTo>
              </a:path>
              <a:path w="5747" h="1907">
                <a:moveTo>
                  <a:pt x="18986" y="6032"/>
                </a:moveTo>
                <a:cubicBezTo>
                  <a:pt x="19081" y="6032"/>
                  <a:pt x="19177" y="6032"/>
                  <a:pt x="19272" y="6032"/>
                </a:cubicBezTo>
              </a:path>
              <a:path w="5747" h="1907">
                <a:moveTo>
                  <a:pt x="18860" y="6477"/>
                </a:moveTo>
                <a:cubicBezTo>
                  <a:pt x="18874" y="6420"/>
                  <a:pt x="18905" y="6411"/>
                  <a:pt x="18955" y="6382"/>
                </a:cubicBezTo>
                <a:cubicBezTo>
                  <a:pt x="19035" y="6336"/>
                  <a:pt x="19122" y="6306"/>
                  <a:pt x="19209" y="6286"/>
                </a:cubicBezTo>
                <a:cubicBezTo>
                  <a:pt x="19240" y="6286"/>
                  <a:pt x="19251" y="6286"/>
                  <a:pt x="19272" y="6286"/>
                </a:cubicBezTo>
              </a:path>
              <a:path w="5747" h="1907">
                <a:moveTo>
                  <a:pt x="19494" y="5810"/>
                </a:moveTo>
                <a:cubicBezTo>
                  <a:pt x="19504" y="5729"/>
                  <a:pt x="19514" y="5628"/>
                  <a:pt x="19558" y="5556"/>
                </a:cubicBezTo>
                <a:cubicBezTo>
                  <a:pt x="19602" y="5484"/>
                  <a:pt x="19657" y="5427"/>
                  <a:pt x="19717" y="5366"/>
                </a:cubicBezTo>
                <a:cubicBezTo>
                  <a:pt x="19757" y="5326"/>
                  <a:pt x="19815" y="5283"/>
                  <a:pt x="19876" y="5302"/>
                </a:cubicBezTo>
                <a:cubicBezTo>
                  <a:pt x="19951" y="5325"/>
                  <a:pt x="19982" y="5460"/>
                  <a:pt x="19971" y="5524"/>
                </a:cubicBezTo>
                <a:cubicBezTo>
                  <a:pt x="19946" y="5674"/>
                  <a:pt x="19920" y="5821"/>
                  <a:pt x="19876" y="5969"/>
                </a:cubicBezTo>
                <a:cubicBezTo>
                  <a:pt x="19822" y="6149"/>
                  <a:pt x="19776" y="6331"/>
                  <a:pt x="19717" y="6509"/>
                </a:cubicBezTo>
                <a:cubicBezTo>
                  <a:pt x="19686" y="6602"/>
                  <a:pt x="19647" y="6712"/>
                  <a:pt x="19590" y="6794"/>
                </a:cubicBezTo>
                <a:cubicBezTo>
                  <a:pt x="19560" y="6837"/>
                  <a:pt x="19529" y="6838"/>
                  <a:pt x="19494" y="6858"/>
                </a:cubicBezTo>
                <a:cubicBezTo>
                  <a:pt x="19517" y="6813"/>
                  <a:pt x="19521" y="6772"/>
                  <a:pt x="19558" y="6731"/>
                </a:cubicBezTo>
                <a:cubicBezTo>
                  <a:pt x="19609" y="6675"/>
                  <a:pt x="19665" y="6621"/>
                  <a:pt x="19748" y="6636"/>
                </a:cubicBezTo>
                <a:cubicBezTo>
                  <a:pt x="19816" y="6648"/>
                  <a:pt x="19910" y="6662"/>
                  <a:pt x="19971" y="6699"/>
                </a:cubicBezTo>
                <a:cubicBezTo>
                  <a:pt x="20014" y="6725"/>
                  <a:pt x="20063" y="6763"/>
                  <a:pt x="20098" y="6794"/>
                </a:cubicBezTo>
                <a:cubicBezTo>
                  <a:pt x="20127" y="6823"/>
                  <a:pt x="20133" y="6833"/>
                  <a:pt x="20161" y="6826"/>
                </a:cubicBezTo>
              </a:path>
              <a:path w="5747" h="1907">
                <a:moveTo>
                  <a:pt x="20256" y="6636"/>
                </a:moveTo>
                <a:cubicBezTo>
                  <a:pt x="20277" y="6677"/>
                  <a:pt x="20244" y="6687"/>
                  <a:pt x="20288" y="6699"/>
                </a:cubicBezTo>
                <a:cubicBezTo>
                  <a:pt x="20373" y="6723"/>
                  <a:pt x="20499" y="6699"/>
                  <a:pt x="20574" y="6668"/>
                </a:cubicBezTo>
                <a:cubicBezTo>
                  <a:pt x="20662" y="6631"/>
                  <a:pt x="20708" y="6576"/>
                  <a:pt x="20764" y="6509"/>
                </a:cubicBezTo>
                <a:cubicBezTo>
                  <a:pt x="20827" y="6433"/>
                  <a:pt x="20859" y="6318"/>
                  <a:pt x="20892" y="6223"/>
                </a:cubicBezTo>
                <a:cubicBezTo>
                  <a:pt x="20935" y="6097"/>
                  <a:pt x="20923" y="5974"/>
                  <a:pt x="20923" y="5842"/>
                </a:cubicBezTo>
                <a:cubicBezTo>
                  <a:pt x="20923" y="5698"/>
                  <a:pt x="20909" y="5533"/>
                  <a:pt x="20860" y="5398"/>
                </a:cubicBezTo>
                <a:cubicBezTo>
                  <a:pt x="20838" y="5337"/>
                  <a:pt x="20803" y="5287"/>
                  <a:pt x="20764" y="5239"/>
                </a:cubicBezTo>
                <a:cubicBezTo>
                  <a:pt x="20697" y="5286"/>
                  <a:pt x="20675" y="5295"/>
                  <a:pt x="20669" y="5398"/>
                </a:cubicBezTo>
                <a:cubicBezTo>
                  <a:pt x="20662" y="5525"/>
                  <a:pt x="20678" y="5655"/>
                  <a:pt x="20701" y="5778"/>
                </a:cubicBezTo>
                <a:cubicBezTo>
                  <a:pt x="20727" y="5915"/>
                  <a:pt x="20766" y="6058"/>
                  <a:pt x="20796" y="6191"/>
                </a:cubicBezTo>
                <a:cubicBezTo>
                  <a:pt x="20823" y="6309"/>
                  <a:pt x="20875" y="6420"/>
                  <a:pt x="20892" y="6540"/>
                </a:cubicBezTo>
                <a:cubicBezTo>
                  <a:pt x="20893" y="6544"/>
                  <a:pt x="20921" y="6698"/>
                  <a:pt x="20923" y="6699"/>
                </a:cubicBezTo>
                <a:cubicBezTo>
                  <a:pt x="20955" y="6699"/>
                  <a:pt x="20965" y="6699"/>
                  <a:pt x="20955" y="6668"/>
                </a:cubicBezTo>
              </a:path>
              <a:path w="5747" h="1907">
                <a:moveTo>
                  <a:pt x="21368" y="5683"/>
                </a:moveTo>
                <a:lnTo>
                  <a:pt x="21368" y="5683"/>
                </a:lnTo>
              </a:path>
              <a:path w="5747" h="1907">
                <a:moveTo>
                  <a:pt x="21368" y="5683"/>
                </a:moveTo>
                <a:lnTo>
                  <a:pt x="21368" y="5683"/>
                </a:lnTo>
              </a:path>
              <a:path w="5747" h="1907">
                <a:moveTo>
                  <a:pt x="21368" y="5715"/>
                </a:moveTo>
                <a:cubicBezTo>
                  <a:pt x="21384" y="5794"/>
                  <a:pt x="21400" y="5852"/>
                  <a:pt x="21400" y="5937"/>
                </a:cubicBezTo>
                <a:cubicBezTo>
                  <a:pt x="21400" y="6054"/>
                  <a:pt x="21431" y="6164"/>
                  <a:pt x="21431" y="6286"/>
                </a:cubicBezTo>
                <a:cubicBezTo>
                  <a:pt x="21431" y="6381"/>
                  <a:pt x="21431" y="6477"/>
                  <a:pt x="21431" y="6572"/>
                </a:cubicBezTo>
              </a:path>
              <a:path w="5747" h="1907">
                <a:moveTo>
                  <a:pt x="21272" y="6223"/>
                </a:moveTo>
                <a:cubicBezTo>
                  <a:pt x="21336" y="6207"/>
                  <a:pt x="21354" y="6191"/>
                  <a:pt x="21431" y="6191"/>
                </a:cubicBezTo>
                <a:cubicBezTo>
                  <a:pt x="21502" y="6191"/>
                  <a:pt x="21555" y="6140"/>
                  <a:pt x="21622" y="6128"/>
                </a:cubicBezTo>
                <a:cubicBezTo>
                  <a:pt x="21643" y="6128"/>
                  <a:pt x="21664" y="6128"/>
                  <a:pt x="21685" y="6128"/>
                </a:cubicBezTo>
              </a:path>
              <a:path w="5747" h="1907">
                <a:moveTo>
                  <a:pt x="21844" y="5493"/>
                </a:moveTo>
                <a:cubicBezTo>
                  <a:pt x="21858" y="5436"/>
                  <a:pt x="21892" y="5397"/>
                  <a:pt x="21908" y="5334"/>
                </a:cubicBezTo>
                <a:cubicBezTo>
                  <a:pt x="21920" y="5287"/>
                  <a:pt x="21981" y="5243"/>
                  <a:pt x="22034" y="5239"/>
                </a:cubicBezTo>
                <a:cubicBezTo>
                  <a:pt x="22125" y="5233"/>
                  <a:pt x="22181" y="5292"/>
                  <a:pt x="22225" y="5366"/>
                </a:cubicBezTo>
                <a:cubicBezTo>
                  <a:pt x="22285" y="5467"/>
                  <a:pt x="22308" y="5564"/>
                  <a:pt x="22288" y="5683"/>
                </a:cubicBezTo>
                <a:cubicBezTo>
                  <a:pt x="22263" y="5829"/>
                  <a:pt x="22205" y="5986"/>
                  <a:pt x="22162" y="6128"/>
                </a:cubicBezTo>
                <a:cubicBezTo>
                  <a:pt x="22125" y="6251"/>
                  <a:pt x="22060" y="6363"/>
                  <a:pt x="22003" y="6477"/>
                </a:cubicBezTo>
                <a:cubicBezTo>
                  <a:pt x="21975" y="6534"/>
                  <a:pt x="21951" y="6560"/>
                  <a:pt x="21908" y="6604"/>
                </a:cubicBezTo>
                <a:cubicBezTo>
                  <a:pt x="21950" y="6589"/>
                  <a:pt x="21947" y="6559"/>
                  <a:pt x="22003" y="6540"/>
                </a:cubicBezTo>
                <a:cubicBezTo>
                  <a:pt x="22058" y="6521"/>
                  <a:pt x="22095" y="6509"/>
                  <a:pt x="22162" y="6509"/>
                </a:cubicBezTo>
                <a:cubicBezTo>
                  <a:pt x="22229" y="6509"/>
                  <a:pt x="22279" y="6477"/>
                  <a:pt x="22352" y="6477"/>
                </a:cubicBezTo>
                <a:cubicBezTo>
                  <a:pt x="22386" y="6477"/>
                  <a:pt x="22464" y="6486"/>
                  <a:pt x="22479" y="6509"/>
                </a:cubicBezTo>
                <a:cubicBezTo>
                  <a:pt x="22503" y="6545"/>
                  <a:pt x="22496" y="6556"/>
                  <a:pt x="22542" y="6572"/>
                </a:cubicBezTo>
              </a:path>
              <a:path w="5747" h="1907">
                <a:moveTo>
                  <a:pt x="22606" y="5715"/>
                </a:moveTo>
                <a:cubicBezTo>
                  <a:pt x="22622" y="5809"/>
                  <a:pt x="22659" y="5907"/>
                  <a:pt x="22670" y="6001"/>
                </a:cubicBezTo>
                <a:cubicBezTo>
                  <a:pt x="22685" y="6130"/>
                  <a:pt x="22709" y="6230"/>
                  <a:pt x="22765" y="6350"/>
                </a:cubicBezTo>
                <a:cubicBezTo>
                  <a:pt x="22796" y="6417"/>
                  <a:pt x="22820" y="6481"/>
                  <a:pt x="22860" y="6540"/>
                </a:cubicBezTo>
                <a:cubicBezTo>
                  <a:pt x="22860" y="6457"/>
                  <a:pt x="22832" y="6399"/>
                  <a:pt x="22828" y="6318"/>
                </a:cubicBezTo>
                <a:cubicBezTo>
                  <a:pt x="22819" y="6122"/>
                  <a:pt x="22807" y="5890"/>
                  <a:pt x="22860" y="5715"/>
                </a:cubicBezTo>
                <a:cubicBezTo>
                  <a:pt x="22860" y="5704"/>
                  <a:pt x="22860" y="5694"/>
                  <a:pt x="22860" y="5683"/>
                </a:cubicBezTo>
                <a:cubicBezTo>
                  <a:pt x="22933" y="5701"/>
                  <a:pt x="22922" y="5740"/>
                  <a:pt x="22955" y="5810"/>
                </a:cubicBezTo>
                <a:cubicBezTo>
                  <a:pt x="23000" y="5906"/>
                  <a:pt x="22991" y="5997"/>
                  <a:pt x="23019" y="6096"/>
                </a:cubicBezTo>
                <a:cubicBezTo>
                  <a:pt x="23048" y="6199"/>
                  <a:pt x="23076" y="6305"/>
                  <a:pt x="23082" y="6414"/>
                </a:cubicBezTo>
                <a:cubicBezTo>
                  <a:pt x="23086" y="6489"/>
                  <a:pt x="23078" y="6512"/>
                  <a:pt x="23114" y="6572"/>
                </a:cubicBezTo>
                <a:cubicBezTo>
                  <a:pt x="23166" y="6555"/>
                  <a:pt x="23146" y="6510"/>
                  <a:pt x="23146" y="6445"/>
                </a:cubicBezTo>
                <a:cubicBezTo>
                  <a:pt x="23146" y="6333"/>
                  <a:pt x="23166" y="6236"/>
                  <a:pt x="23178" y="6128"/>
                </a:cubicBezTo>
                <a:cubicBezTo>
                  <a:pt x="23192" y="6006"/>
                  <a:pt x="23202" y="5893"/>
                  <a:pt x="23241" y="5778"/>
                </a:cubicBezTo>
                <a:cubicBezTo>
                  <a:pt x="23270" y="5691"/>
                  <a:pt x="23299" y="5608"/>
                  <a:pt x="23336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8"/>
          <p:cNvSpPr/>
          <p:nvPr/>
        </p:nvSpPr>
        <p:spPr>
          <a:xfrm>
            <a:off x="6446880" y="2435400"/>
            <a:ext cx="971640" cy="250560"/>
          </a:xfrm>
          <a:custGeom>
            <a:avLst/>
            <a:gdLst/>
            <a:ahLst/>
            <a:rect l="l" t="t" r="r" b="b"/>
            <a:pathLst>
              <a:path w="2700" h="699">
                <a:moveTo>
                  <a:pt x="17907" y="7398"/>
                </a:moveTo>
                <a:cubicBezTo>
                  <a:pt x="17933" y="7364"/>
                  <a:pt x="17984" y="7311"/>
                  <a:pt x="18002" y="7271"/>
                </a:cubicBezTo>
                <a:cubicBezTo>
                  <a:pt x="18035" y="7198"/>
                  <a:pt x="18060" y="7196"/>
                  <a:pt x="18129" y="7144"/>
                </a:cubicBezTo>
                <a:cubicBezTo>
                  <a:pt x="18182" y="7104"/>
                  <a:pt x="18227" y="7060"/>
                  <a:pt x="18288" y="7048"/>
                </a:cubicBezTo>
                <a:cubicBezTo>
                  <a:pt x="18375" y="7031"/>
                  <a:pt x="18450" y="7017"/>
                  <a:pt x="18542" y="7017"/>
                </a:cubicBezTo>
                <a:cubicBezTo>
                  <a:pt x="18626" y="7017"/>
                  <a:pt x="18668" y="7022"/>
                  <a:pt x="18732" y="7080"/>
                </a:cubicBezTo>
                <a:cubicBezTo>
                  <a:pt x="18787" y="7130"/>
                  <a:pt x="18825" y="7154"/>
                  <a:pt x="18860" y="7207"/>
                </a:cubicBezTo>
                <a:cubicBezTo>
                  <a:pt x="18877" y="7233"/>
                  <a:pt x="18927" y="7335"/>
                  <a:pt x="18923" y="7366"/>
                </a:cubicBezTo>
                <a:cubicBezTo>
                  <a:pt x="18912" y="7387"/>
                  <a:pt x="18902" y="7409"/>
                  <a:pt x="18891" y="7430"/>
                </a:cubicBezTo>
              </a:path>
              <a:path w="2700" h="699">
                <a:moveTo>
                  <a:pt x="18224" y="7048"/>
                </a:moveTo>
                <a:cubicBezTo>
                  <a:pt x="18267" y="7015"/>
                  <a:pt x="18310" y="6987"/>
                  <a:pt x="18352" y="6953"/>
                </a:cubicBezTo>
              </a:path>
              <a:path w="2700" h="699">
                <a:moveTo>
                  <a:pt x="18796" y="6826"/>
                </a:moveTo>
                <a:cubicBezTo>
                  <a:pt x="18893" y="6814"/>
                  <a:pt x="18988" y="6775"/>
                  <a:pt x="19082" y="6763"/>
                </a:cubicBezTo>
                <a:cubicBezTo>
                  <a:pt x="19223" y="6746"/>
                  <a:pt x="19363" y="6778"/>
                  <a:pt x="19494" y="6794"/>
                </a:cubicBezTo>
                <a:cubicBezTo>
                  <a:pt x="19607" y="6808"/>
                  <a:pt x="19704" y="6822"/>
                  <a:pt x="19812" y="6858"/>
                </a:cubicBezTo>
                <a:cubicBezTo>
                  <a:pt x="19922" y="6895"/>
                  <a:pt x="20026" y="6933"/>
                  <a:pt x="20130" y="6985"/>
                </a:cubicBezTo>
                <a:cubicBezTo>
                  <a:pt x="20220" y="7030"/>
                  <a:pt x="20281" y="7105"/>
                  <a:pt x="20352" y="7176"/>
                </a:cubicBezTo>
                <a:cubicBezTo>
                  <a:pt x="20443" y="7267"/>
                  <a:pt x="20542" y="7350"/>
                  <a:pt x="20606" y="7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6308640" y="2479680"/>
            <a:ext cx="2721240" cy="927000"/>
          </a:xfrm>
          <a:custGeom>
            <a:avLst/>
            <a:gdLst/>
            <a:ahLst/>
            <a:rect l="l" t="t" r="r" b="b"/>
            <a:pathLst>
              <a:path w="7557" h="2573">
                <a:moveTo>
                  <a:pt x="17526" y="8033"/>
                </a:moveTo>
                <a:cubicBezTo>
                  <a:pt x="17542" y="7971"/>
                  <a:pt x="17589" y="7905"/>
                  <a:pt x="17621" y="7842"/>
                </a:cubicBezTo>
                <a:cubicBezTo>
                  <a:pt x="17654" y="7775"/>
                  <a:pt x="17698" y="7707"/>
                  <a:pt x="17748" y="7652"/>
                </a:cubicBezTo>
                <a:cubicBezTo>
                  <a:pt x="17766" y="7632"/>
                  <a:pt x="17847" y="7576"/>
                  <a:pt x="17875" y="7588"/>
                </a:cubicBezTo>
                <a:cubicBezTo>
                  <a:pt x="17943" y="7618"/>
                  <a:pt x="17965" y="7636"/>
                  <a:pt x="17970" y="7715"/>
                </a:cubicBezTo>
                <a:cubicBezTo>
                  <a:pt x="17977" y="7845"/>
                  <a:pt x="17975" y="7972"/>
                  <a:pt x="17939" y="8096"/>
                </a:cubicBezTo>
                <a:cubicBezTo>
                  <a:pt x="17889" y="8265"/>
                  <a:pt x="17831" y="8420"/>
                  <a:pt x="17748" y="8572"/>
                </a:cubicBezTo>
                <a:cubicBezTo>
                  <a:pt x="17714" y="8634"/>
                  <a:pt x="17686" y="8758"/>
                  <a:pt x="17621" y="8795"/>
                </a:cubicBezTo>
                <a:cubicBezTo>
                  <a:pt x="17611" y="8795"/>
                  <a:pt x="17600" y="8795"/>
                  <a:pt x="17590" y="8795"/>
                </a:cubicBezTo>
                <a:cubicBezTo>
                  <a:pt x="17626" y="8758"/>
                  <a:pt x="17670" y="8715"/>
                  <a:pt x="17716" y="8700"/>
                </a:cubicBezTo>
                <a:cubicBezTo>
                  <a:pt x="17786" y="8677"/>
                  <a:pt x="17809" y="8689"/>
                  <a:pt x="17875" y="8700"/>
                </a:cubicBezTo>
                <a:cubicBezTo>
                  <a:pt x="17908" y="8706"/>
                  <a:pt x="17985" y="8706"/>
                  <a:pt x="18002" y="8731"/>
                </a:cubicBezTo>
                <a:cubicBezTo>
                  <a:pt x="18036" y="8783"/>
                  <a:pt x="18021" y="8795"/>
                  <a:pt x="18098" y="8795"/>
                </a:cubicBezTo>
                <a:cubicBezTo>
                  <a:pt x="18108" y="8795"/>
                  <a:pt x="18119" y="8795"/>
                  <a:pt x="18129" y="8795"/>
                </a:cubicBezTo>
              </a:path>
              <a:path w="7557" h="2573">
                <a:moveTo>
                  <a:pt x="18701" y="7334"/>
                </a:moveTo>
                <a:cubicBezTo>
                  <a:pt x="18653" y="7368"/>
                  <a:pt x="18612" y="7398"/>
                  <a:pt x="18574" y="7461"/>
                </a:cubicBezTo>
                <a:cubicBezTo>
                  <a:pt x="18517" y="7556"/>
                  <a:pt x="18483" y="7675"/>
                  <a:pt x="18447" y="7779"/>
                </a:cubicBezTo>
                <a:cubicBezTo>
                  <a:pt x="18396" y="7928"/>
                  <a:pt x="18379" y="8072"/>
                  <a:pt x="18352" y="8223"/>
                </a:cubicBezTo>
                <a:cubicBezTo>
                  <a:pt x="18323" y="8380"/>
                  <a:pt x="18318" y="8512"/>
                  <a:pt x="18352" y="8668"/>
                </a:cubicBezTo>
                <a:cubicBezTo>
                  <a:pt x="18374" y="8770"/>
                  <a:pt x="18418" y="8898"/>
                  <a:pt x="18478" y="8985"/>
                </a:cubicBezTo>
                <a:cubicBezTo>
                  <a:pt x="18504" y="9022"/>
                  <a:pt x="18564" y="9064"/>
                  <a:pt x="18574" y="9080"/>
                </a:cubicBezTo>
                <a:cubicBezTo>
                  <a:pt x="18610" y="9135"/>
                  <a:pt x="18616" y="9150"/>
                  <a:pt x="18637" y="9176"/>
                </a:cubicBezTo>
              </a:path>
              <a:path w="7557" h="2573">
                <a:moveTo>
                  <a:pt x="18764" y="8160"/>
                </a:moveTo>
                <a:cubicBezTo>
                  <a:pt x="18735" y="8189"/>
                  <a:pt x="18729" y="8199"/>
                  <a:pt x="18701" y="8192"/>
                </a:cubicBezTo>
                <a:cubicBezTo>
                  <a:pt x="18701" y="8119"/>
                  <a:pt x="18714" y="8067"/>
                  <a:pt x="18732" y="8001"/>
                </a:cubicBezTo>
                <a:cubicBezTo>
                  <a:pt x="18759" y="7901"/>
                  <a:pt x="18826" y="7860"/>
                  <a:pt x="18891" y="7810"/>
                </a:cubicBezTo>
                <a:cubicBezTo>
                  <a:pt x="18920" y="7782"/>
                  <a:pt x="18926" y="7772"/>
                  <a:pt x="18955" y="7779"/>
                </a:cubicBezTo>
                <a:cubicBezTo>
                  <a:pt x="18992" y="7829"/>
                  <a:pt x="19030" y="7899"/>
                  <a:pt x="19018" y="7969"/>
                </a:cubicBezTo>
                <a:cubicBezTo>
                  <a:pt x="18996" y="8097"/>
                  <a:pt x="18973" y="8227"/>
                  <a:pt x="18923" y="8350"/>
                </a:cubicBezTo>
                <a:cubicBezTo>
                  <a:pt x="18882" y="8449"/>
                  <a:pt x="18878" y="8536"/>
                  <a:pt x="18828" y="8636"/>
                </a:cubicBezTo>
                <a:cubicBezTo>
                  <a:pt x="18818" y="8655"/>
                  <a:pt x="18753" y="8789"/>
                  <a:pt x="18796" y="8731"/>
                </a:cubicBezTo>
                <a:cubicBezTo>
                  <a:pt x="18809" y="8713"/>
                  <a:pt x="18873" y="8645"/>
                  <a:pt x="18891" y="8636"/>
                </a:cubicBezTo>
                <a:cubicBezTo>
                  <a:pt x="18961" y="8600"/>
                  <a:pt x="18954" y="8615"/>
                  <a:pt x="19018" y="8636"/>
                </a:cubicBezTo>
                <a:cubicBezTo>
                  <a:pt x="19035" y="8642"/>
                  <a:pt x="19171" y="8693"/>
                  <a:pt x="19177" y="8700"/>
                </a:cubicBezTo>
                <a:cubicBezTo>
                  <a:pt x="19199" y="8726"/>
                  <a:pt x="19189" y="8759"/>
                  <a:pt x="19209" y="8700"/>
                </a:cubicBezTo>
              </a:path>
              <a:path w="7557" h="2573">
                <a:moveTo>
                  <a:pt x="19240" y="8033"/>
                </a:moveTo>
                <a:cubicBezTo>
                  <a:pt x="19251" y="8033"/>
                  <a:pt x="19261" y="8033"/>
                  <a:pt x="19272" y="8033"/>
                </a:cubicBezTo>
                <a:cubicBezTo>
                  <a:pt x="19287" y="8091"/>
                  <a:pt x="19316" y="8163"/>
                  <a:pt x="19336" y="8223"/>
                </a:cubicBezTo>
                <a:cubicBezTo>
                  <a:pt x="19361" y="8297"/>
                  <a:pt x="19417" y="8384"/>
                  <a:pt x="19463" y="8446"/>
                </a:cubicBezTo>
                <a:cubicBezTo>
                  <a:pt x="19509" y="8508"/>
                  <a:pt x="19553" y="8567"/>
                  <a:pt x="19590" y="8636"/>
                </a:cubicBezTo>
                <a:cubicBezTo>
                  <a:pt x="19622" y="8696"/>
                  <a:pt x="19622" y="8704"/>
                  <a:pt x="19622" y="8763"/>
                </a:cubicBezTo>
              </a:path>
              <a:path w="7557" h="2573">
                <a:moveTo>
                  <a:pt x="19622" y="8001"/>
                </a:moveTo>
                <a:cubicBezTo>
                  <a:pt x="19575" y="8079"/>
                  <a:pt x="19558" y="8192"/>
                  <a:pt x="19526" y="8287"/>
                </a:cubicBezTo>
                <a:cubicBezTo>
                  <a:pt x="19480" y="8424"/>
                  <a:pt x="19437" y="8542"/>
                  <a:pt x="19368" y="8668"/>
                </a:cubicBezTo>
                <a:cubicBezTo>
                  <a:pt x="19319" y="8758"/>
                  <a:pt x="19324" y="8831"/>
                  <a:pt x="19272" y="8922"/>
                </a:cubicBezTo>
              </a:path>
              <a:path w="7557" h="2573">
                <a:moveTo>
                  <a:pt x="19717" y="7652"/>
                </a:moveTo>
                <a:cubicBezTo>
                  <a:pt x="19762" y="7606"/>
                  <a:pt x="19773" y="7568"/>
                  <a:pt x="19812" y="7525"/>
                </a:cubicBezTo>
                <a:cubicBezTo>
                  <a:pt x="19836" y="7499"/>
                  <a:pt x="19900" y="7471"/>
                  <a:pt x="19939" y="7493"/>
                </a:cubicBezTo>
                <a:cubicBezTo>
                  <a:pt x="19978" y="7515"/>
                  <a:pt x="19987" y="7614"/>
                  <a:pt x="19971" y="7652"/>
                </a:cubicBezTo>
                <a:cubicBezTo>
                  <a:pt x="19951" y="7701"/>
                  <a:pt x="19907" y="7795"/>
                  <a:pt x="19876" y="7842"/>
                </a:cubicBezTo>
                <a:cubicBezTo>
                  <a:pt x="19850" y="7881"/>
                  <a:pt x="19770" y="7917"/>
                  <a:pt x="19812" y="7938"/>
                </a:cubicBezTo>
                <a:cubicBezTo>
                  <a:pt x="19835" y="7950"/>
                  <a:pt x="19915" y="7961"/>
                  <a:pt x="19939" y="7969"/>
                </a:cubicBezTo>
                <a:cubicBezTo>
                  <a:pt x="19973" y="7980"/>
                  <a:pt x="20020" y="7938"/>
                  <a:pt x="20066" y="7938"/>
                </a:cubicBezTo>
                <a:cubicBezTo>
                  <a:pt x="20077" y="7938"/>
                  <a:pt x="20087" y="7938"/>
                  <a:pt x="20098" y="7938"/>
                </a:cubicBezTo>
              </a:path>
              <a:path w="7557" h="2573">
                <a:moveTo>
                  <a:pt x="20415" y="7810"/>
                </a:moveTo>
                <a:cubicBezTo>
                  <a:pt x="20415" y="8022"/>
                  <a:pt x="20415" y="8234"/>
                  <a:pt x="20415" y="8446"/>
                </a:cubicBezTo>
              </a:path>
              <a:path w="7557" h="2573">
                <a:moveTo>
                  <a:pt x="20256" y="8192"/>
                </a:moveTo>
                <a:cubicBezTo>
                  <a:pt x="20321" y="8192"/>
                  <a:pt x="20331" y="8178"/>
                  <a:pt x="20384" y="8160"/>
                </a:cubicBezTo>
                <a:cubicBezTo>
                  <a:pt x="20429" y="8160"/>
                  <a:pt x="20451" y="8154"/>
                  <a:pt x="20479" y="8128"/>
                </a:cubicBezTo>
              </a:path>
              <a:path w="7557" h="2573">
                <a:moveTo>
                  <a:pt x="20606" y="7747"/>
                </a:moveTo>
                <a:cubicBezTo>
                  <a:pt x="20642" y="7724"/>
                  <a:pt x="20651" y="7670"/>
                  <a:pt x="20701" y="7620"/>
                </a:cubicBezTo>
                <a:cubicBezTo>
                  <a:pt x="20750" y="7571"/>
                  <a:pt x="20760" y="7556"/>
                  <a:pt x="20828" y="7556"/>
                </a:cubicBezTo>
                <a:cubicBezTo>
                  <a:pt x="20904" y="7556"/>
                  <a:pt x="20934" y="7648"/>
                  <a:pt x="20923" y="7715"/>
                </a:cubicBezTo>
                <a:cubicBezTo>
                  <a:pt x="20903" y="7831"/>
                  <a:pt x="20873" y="7954"/>
                  <a:pt x="20828" y="8064"/>
                </a:cubicBezTo>
                <a:cubicBezTo>
                  <a:pt x="20796" y="8141"/>
                  <a:pt x="20759" y="8197"/>
                  <a:pt x="20701" y="8255"/>
                </a:cubicBezTo>
                <a:cubicBezTo>
                  <a:pt x="20715" y="8200"/>
                  <a:pt x="20753" y="8171"/>
                  <a:pt x="20796" y="8128"/>
                </a:cubicBezTo>
                <a:cubicBezTo>
                  <a:pt x="20843" y="8080"/>
                  <a:pt x="20876" y="8086"/>
                  <a:pt x="20923" y="8128"/>
                </a:cubicBezTo>
                <a:cubicBezTo>
                  <a:pt x="20973" y="8173"/>
                  <a:pt x="20983" y="8252"/>
                  <a:pt x="20987" y="8318"/>
                </a:cubicBezTo>
                <a:cubicBezTo>
                  <a:pt x="20993" y="8419"/>
                  <a:pt x="20994" y="8512"/>
                  <a:pt x="20955" y="8604"/>
                </a:cubicBezTo>
                <a:cubicBezTo>
                  <a:pt x="20934" y="8653"/>
                  <a:pt x="20875" y="8769"/>
                  <a:pt x="20828" y="8795"/>
                </a:cubicBezTo>
                <a:cubicBezTo>
                  <a:pt x="20783" y="8820"/>
                  <a:pt x="20741" y="8767"/>
                  <a:pt x="20733" y="8731"/>
                </a:cubicBezTo>
                <a:cubicBezTo>
                  <a:pt x="20733" y="8710"/>
                  <a:pt x="20733" y="8689"/>
                  <a:pt x="20733" y="8668"/>
                </a:cubicBezTo>
              </a:path>
              <a:path w="7557" h="2573">
                <a:moveTo>
                  <a:pt x="21050" y="7969"/>
                </a:moveTo>
                <a:cubicBezTo>
                  <a:pt x="21085" y="8016"/>
                  <a:pt x="21132" y="8099"/>
                  <a:pt x="21146" y="8160"/>
                </a:cubicBezTo>
                <a:cubicBezTo>
                  <a:pt x="21171" y="8270"/>
                  <a:pt x="21217" y="8315"/>
                  <a:pt x="21272" y="8414"/>
                </a:cubicBezTo>
                <a:cubicBezTo>
                  <a:pt x="21309" y="8481"/>
                  <a:pt x="21347" y="8519"/>
                  <a:pt x="21400" y="8572"/>
                </a:cubicBezTo>
                <a:cubicBezTo>
                  <a:pt x="21437" y="8609"/>
                  <a:pt x="21451" y="8622"/>
                  <a:pt x="21463" y="8668"/>
                </a:cubicBezTo>
              </a:path>
              <a:path w="7557" h="2573">
                <a:moveTo>
                  <a:pt x="21400" y="7906"/>
                </a:moveTo>
                <a:cubicBezTo>
                  <a:pt x="21381" y="8022"/>
                  <a:pt x="21334" y="8139"/>
                  <a:pt x="21304" y="8255"/>
                </a:cubicBezTo>
                <a:cubicBezTo>
                  <a:pt x="21258" y="8434"/>
                  <a:pt x="21228" y="8617"/>
                  <a:pt x="21177" y="8795"/>
                </a:cubicBezTo>
                <a:cubicBezTo>
                  <a:pt x="21152" y="8883"/>
                  <a:pt x="21105" y="8972"/>
                  <a:pt x="21082" y="9049"/>
                </a:cubicBezTo>
                <a:cubicBezTo>
                  <a:pt x="21082" y="9059"/>
                  <a:pt x="21082" y="9070"/>
                  <a:pt x="21082" y="9080"/>
                </a:cubicBezTo>
              </a:path>
              <a:path w="7557" h="2573">
                <a:moveTo>
                  <a:pt x="21209" y="7176"/>
                </a:moveTo>
                <a:cubicBezTo>
                  <a:pt x="21296" y="7188"/>
                  <a:pt x="21295" y="7199"/>
                  <a:pt x="21368" y="7271"/>
                </a:cubicBezTo>
                <a:cubicBezTo>
                  <a:pt x="21450" y="7352"/>
                  <a:pt x="21524" y="7461"/>
                  <a:pt x="21590" y="7556"/>
                </a:cubicBezTo>
                <a:cubicBezTo>
                  <a:pt x="21679" y="7684"/>
                  <a:pt x="21782" y="7847"/>
                  <a:pt x="21812" y="8001"/>
                </a:cubicBezTo>
                <a:cubicBezTo>
                  <a:pt x="21845" y="8174"/>
                  <a:pt x="21865" y="8395"/>
                  <a:pt x="21844" y="8572"/>
                </a:cubicBezTo>
                <a:cubicBezTo>
                  <a:pt x="21825" y="8734"/>
                  <a:pt x="21781" y="8929"/>
                  <a:pt x="21717" y="9080"/>
                </a:cubicBezTo>
                <a:cubicBezTo>
                  <a:pt x="21663" y="9208"/>
                  <a:pt x="21606" y="9331"/>
                  <a:pt x="21558" y="9462"/>
                </a:cubicBezTo>
              </a:path>
              <a:path w="7557" h="2573">
                <a:moveTo>
                  <a:pt x="22288" y="7684"/>
                </a:moveTo>
                <a:cubicBezTo>
                  <a:pt x="22288" y="7910"/>
                  <a:pt x="22298" y="8128"/>
                  <a:pt x="22320" y="8350"/>
                </a:cubicBezTo>
                <a:cubicBezTo>
                  <a:pt x="22331" y="8464"/>
                  <a:pt x="22320" y="8585"/>
                  <a:pt x="22320" y="8700"/>
                </a:cubicBezTo>
              </a:path>
              <a:path w="7557" h="2573">
                <a:moveTo>
                  <a:pt x="22066" y="8318"/>
                </a:moveTo>
                <a:cubicBezTo>
                  <a:pt x="22107" y="8288"/>
                  <a:pt x="22181" y="8264"/>
                  <a:pt x="22225" y="8255"/>
                </a:cubicBezTo>
                <a:cubicBezTo>
                  <a:pt x="22290" y="8242"/>
                  <a:pt x="22349" y="8231"/>
                  <a:pt x="22416" y="8223"/>
                </a:cubicBezTo>
              </a:path>
              <a:path w="7557" h="2573">
                <a:moveTo>
                  <a:pt x="22511" y="7747"/>
                </a:moveTo>
                <a:cubicBezTo>
                  <a:pt x="22549" y="7682"/>
                  <a:pt x="22549" y="7619"/>
                  <a:pt x="22606" y="7556"/>
                </a:cubicBezTo>
                <a:cubicBezTo>
                  <a:pt x="22651" y="7506"/>
                  <a:pt x="22677" y="7480"/>
                  <a:pt x="22733" y="7430"/>
                </a:cubicBezTo>
                <a:cubicBezTo>
                  <a:pt x="22799" y="7371"/>
                  <a:pt x="22796" y="7409"/>
                  <a:pt x="22860" y="7430"/>
                </a:cubicBezTo>
                <a:cubicBezTo>
                  <a:pt x="22946" y="7459"/>
                  <a:pt x="22939" y="7599"/>
                  <a:pt x="22924" y="7684"/>
                </a:cubicBezTo>
                <a:cubicBezTo>
                  <a:pt x="22899" y="7830"/>
                  <a:pt x="22861" y="7983"/>
                  <a:pt x="22828" y="8128"/>
                </a:cubicBezTo>
                <a:cubicBezTo>
                  <a:pt x="22794" y="8278"/>
                  <a:pt x="22728" y="8429"/>
                  <a:pt x="22670" y="8572"/>
                </a:cubicBezTo>
                <a:cubicBezTo>
                  <a:pt x="22638" y="8650"/>
                  <a:pt x="22490" y="8798"/>
                  <a:pt x="22574" y="8795"/>
                </a:cubicBezTo>
                <a:cubicBezTo>
                  <a:pt x="22607" y="8794"/>
                  <a:pt x="22649" y="8740"/>
                  <a:pt x="22670" y="8731"/>
                </a:cubicBezTo>
                <a:cubicBezTo>
                  <a:pt x="22722" y="8708"/>
                  <a:pt x="22764" y="8700"/>
                  <a:pt x="22828" y="8700"/>
                </a:cubicBezTo>
                <a:cubicBezTo>
                  <a:pt x="22926" y="8700"/>
                  <a:pt x="22991" y="8689"/>
                  <a:pt x="23082" y="8668"/>
                </a:cubicBezTo>
                <a:cubicBezTo>
                  <a:pt x="23132" y="8656"/>
                  <a:pt x="23154" y="8641"/>
                  <a:pt x="23209" y="8636"/>
                </a:cubicBezTo>
                <a:cubicBezTo>
                  <a:pt x="23220" y="8636"/>
                  <a:pt x="23230" y="8636"/>
                  <a:pt x="23241" y="8636"/>
                </a:cubicBezTo>
              </a:path>
              <a:path w="7557" h="2573">
                <a:moveTo>
                  <a:pt x="23590" y="6890"/>
                </a:moveTo>
                <a:cubicBezTo>
                  <a:pt x="23551" y="6988"/>
                  <a:pt x="23500" y="7076"/>
                  <a:pt x="23463" y="7176"/>
                </a:cubicBezTo>
                <a:cubicBezTo>
                  <a:pt x="23412" y="7313"/>
                  <a:pt x="23380" y="7475"/>
                  <a:pt x="23368" y="7620"/>
                </a:cubicBezTo>
                <a:cubicBezTo>
                  <a:pt x="23353" y="7798"/>
                  <a:pt x="23340" y="7982"/>
                  <a:pt x="23336" y="8160"/>
                </a:cubicBezTo>
                <a:cubicBezTo>
                  <a:pt x="23330" y="8389"/>
                  <a:pt x="23277" y="8741"/>
                  <a:pt x="23368" y="8954"/>
                </a:cubicBezTo>
                <a:cubicBezTo>
                  <a:pt x="23386" y="8997"/>
                  <a:pt x="23423" y="9063"/>
                  <a:pt x="23432" y="9080"/>
                </a:cubicBezTo>
                <a:cubicBezTo>
                  <a:pt x="23464" y="9141"/>
                  <a:pt x="23481" y="9162"/>
                  <a:pt x="23527" y="9208"/>
                </a:cubicBezTo>
                <a:cubicBezTo>
                  <a:pt x="23537" y="9218"/>
                  <a:pt x="23548" y="9229"/>
                  <a:pt x="23558" y="9239"/>
                </a:cubicBezTo>
              </a:path>
              <a:path w="7557" h="2573">
                <a:moveTo>
                  <a:pt x="23590" y="7588"/>
                </a:moveTo>
                <a:cubicBezTo>
                  <a:pt x="23579" y="7588"/>
                  <a:pt x="23569" y="7588"/>
                  <a:pt x="23558" y="7588"/>
                </a:cubicBezTo>
                <a:cubicBezTo>
                  <a:pt x="23575" y="7656"/>
                  <a:pt x="23590" y="7697"/>
                  <a:pt x="23590" y="7779"/>
                </a:cubicBezTo>
                <a:cubicBezTo>
                  <a:pt x="23590" y="7937"/>
                  <a:pt x="23442" y="8249"/>
                  <a:pt x="23590" y="8192"/>
                </a:cubicBezTo>
                <a:cubicBezTo>
                  <a:pt x="23656" y="8166"/>
                  <a:pt x="23730" y="8206"/>
                  <a:pt x="23781" y="8223"/>
                </a:cubicBezTo>
                <a:cubicBezTo>
                  <a:pt x="23826" y="8238"/>
                  <a:pt x="23839" y="8250"/>
                  <a:pt x="23876" y="8287"/>
                </a:cubicBezTo>
              </a:path>
              <a:path w="7557" h="2573">
                <a:moveTo>
                  <a:pt x="23812" y="7525"/>
                </a:moveTo>
                <a:cubicBezTo>
                  <a:pt x="23812" y="7700"/>
                  <a:pt x="23825" y="7864"/>
                  <a:pt x="23844" y="8033"/>
                </a:cubicBezTo>
                <a:cubicBezTo>
                  <a:pt x="23857" y="8152"/>
                  <a:pt x="23849" y="8298"/>
                  <a:pt x="23876" y="8414"/>
                </a:cubicBezTo>
                <a:cubicBezTo>
                  <a:pt x="23895" y="8499"/>
                  <a:pt x="23934" y="8606"/>
                  <a:pt x="23908" y="8700"/>
                </a:cubicBezTo>
                <a:cubicBezTo>
                  <a:pt x="23905" y="8711"/>
                  <a:pt x="23876" y="8844"/>
                  <a:pt x="23876" y="8763"/>
                </a:cubicBezTo>
              </a:path>
              <a:path w="7557" h="2573">
                <a:moveTo>
                  <a:pt x="23971" y="7938"/>
                </a:moveTo>
                <a:cubicBezTo>
                  <a:pt x="24004" y="8024"/>
                  <a:pt x="24022" y="8078"/>
                  <a:pt x="24066" y="8160"/>
                </a:cubicBezTo>
                <a:cubicBezTo>
                  <a:pt x="24115" y="8252"/>
                  <a:pt x="24134" y="8359"/>
                  <a:pt x="24194" y="8446"/>
                </a:cubicBezTo>
                <a:cubicBezTo>
                  <a:pt x="24224" y="8490"/>
                  <a:pt x="24266" y="8553"/>
                  <a:pt x="24289" y="8604"/>
                </a:cubicBezTo>
                <a:cubicBezTo>
                  <a:pt x="24289" y="8640"/>
                  <a:pt x="24292" y="8654"/>
                  <a:pt x="24320" y="8668"/>
                </a:cubicBezTo>
              </a:path>
              <a:path w="7557" h="2573">
                <a:moveTo>
                  <a:pt x="24257" y="7874"/>
                </a:moveTo>
                <a:cubicBezTo>
                  <a:pt x="24244" y="7981"/>
                  <a:pt x="24225" y="8086"/>
                  <a:pt x="24194" y="8192"/>
                </a:cubicBezTo>
                <a:cubicBezTo>
                  <a:pt x="24156" y="8319"/>
                  <a:pt x="24145" y="8455"/>
                  <a:pt x="24098" y="8572"/>
                </a:cubicBezTo>
                <a:cubicBezTo>
                  <a:pt x="24072" y="8637"/>
                  <a:pt x="24066" y="8638"/>
                  <a:pt x="24066" y="8700"/>
                </a:cubicBezTo>
              </a:path>
              <a:path w="7557" h="2573">
                <a:moveTo>
                  <a:pt x="24320" y="8128"/>
                </a:moveTo>
                <a:cubicBezTo>
                  <a:pt x="24371" y="8115"/>
                  <a:pt x="24405" y="8096"/>
                  <a:pt x="24448" y="8064"/>
                </a:cubicBezTo>
              </a:path>
              <a:path w="7557" h="2573">
                <a:moveTo>
                  <a:pt x="24574" y="7747"/>
                </a:moveTo>
                <a:cubicBezTo>
                  <a:pt x="24574" y="7685"/>
                  <a:pt x="24569" y="7669"/>
                  <a:pt x="24606" y="7620"/>
                </a:cubicBezTo>
                <a:cubicBezTo>
                  <a:pt x="24680" y="7639"/>
                  <a:pt x="24697" y="7669"/>
                  <a:pt x="24702" y="7747"/>
                </a:cubicBezTo>
                <a:cubicBezTo>
                  <a:pt x="24709" y="7861"/>
                  <a:pt x="24685" y="7955"/>
                  <a:pt x="24670" y="8064"/>
                </a:cubicBezTo>
                <a:cubicBezTo>
                  <a:pt x="24657" y="8162"/>
                  <a:pt x="24622" y="8256"/>
                  <a:pt x="24606" y="8350"/>
                </a:cubicBezTo>
                <a:cubicBezTo>
                  <a:pt x="24596" y="8412"/>
                  <a:pt x="24581" y="8464"/>
                  <a:pt x="24606" y="8446"/>
                </a:cubicBezTo>
                <a:cubicBezTo>
                  <a:pt x="24656" y="8411"/>
                  <a:pt x="24671" y="8414"/>
                  <a:pt x="24733" y="8414"/>
                </a:cubicBezTo>
                <a:cubicBezTo>
                  <a:pt x="24789" y="8414"/>
                  <a:pt x="24784" y="8412"/>
                  <a:pt x="24828" y="8446"/>
                </a:cubicBezTo>
              </a:path>
              <a:path w="7557" h="2573">
                <a:moveTo>
                  <a:pt x="24733" y="7144"/>
                </a:moveTo>
                <a:cubicBezTo>
                  <a:pt x="24827" y="7158"/>
                  <a:pt x="24795" y="7162"/>
                  <a:pt x="24860" y="7239"/>
                </a:cubicBezTo>
                <a:cubicBezTo>
                  <a:pt x="24952" y="7350"/>
                  <a:pt x="24985" y="7477"/>
                  <a:pt x="25019" y="7620"/>
                </a:cubicBezTo>
                <a:cubicBezTo>
                  <a:pt x="25075" y="7897"/>
                  <a:pt x="24969" y="7979"/>
                  <a:pt x="24543" y="7906"/>
                </a:cubicBezTo>
                <a:cubicBezTo>
                  <a:pt x="25017" y="8139"/>
                  <a:pt x="25144" y="8030"/>
                  <a:pt x="25082" y="8477"/>
                </a:cubicBezTo>
                <a:cubicBezTo>
                  <a:pt x="25063" y="8616"/>
                  <a:pt x="25013" y="8828"/>
                  <a:pt x="24956" y="8954"/>
                </a:cubicBezTo>
                <a:cubicBezTo>
                  <a:pt x="24935" y="8986"/>
                  <a:pt x="24913" y="9017"/>
                  <a:pt x="24892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6389640" y="3371760"/>
            <a:ext cx="2468520" cy="628920"/>
          </a:xfrm>
          <a:custGeom>
            <a:avLst/>
            <a:gdLst/>
            <a:ahLst/>
            <a:rect l="l" t="t" r="r" b="b"/>
            <a:pathLst>
              <a:path w="6859" h="1747">
                <a:moveTo>
                  <a:pt x="17844" y="9557"/>
                </a:moveTo>
                <a:cubicBezTo>
                  <a:pt x="17844" y="9773"/>
                  <a:pt x="17842" y="9982"/>
                  <a:pt x="17812" y="10192"/>
                </a:cubicBezTo>
                <a:cubicBezTo>
                  <a:pt x="17802" y="10262"/>
                  <a:pt x="17818" y="10326"/>
                  <a:pt x="17780" y="10382"/>
                </a:cubicBezTo>
                <a:cubicBezTo>
                  <a:pt x="17751" y="10411"/>
                  <a:pt x="17736" y="10422"/>
                  <a:pt x="17780" y="10414"/>
                </a:cubicBezTo>
                <a:cubicBezTo>
                  <a:pt x="17780" y="10320"/>
                  <a:pt x="17809" y="10389"/>
                  <a:pt x="17844" y="10319"/>
                </a:cubicBezTo>
                <a:cubicBezTo>
                  <a:pt x="17861" y="10284"/>
                  <a:pt x="17883" y="10261"/>
                  <a:pt x="17939" y="10255"/>
                </a:cubicBezTo>
                <a:cubicBezTo>
                  <a:pt x="17990" y="10249"/>
                  <a:pt x="18008" y="10224"/>
                  <a:pt x="18066" y="10224"/>
                </a:cubicBezTo>
                <a:cubicBezTo>
                  <a:pt x="18126" y="10224"/>
                  <a:pt x="18176" y="10243"/>
                  <a:pt x="18193" y="10192"/>
                </a:cubicBezTo>
              </a:path>
              <a:path w="6859" h="1747">
                <a:moveTo>
                  <a:pt x="18256" y="9398"/>
                </a:moveTo>
                <a:cubicBezTo>
                  <a:pt x="18256" y="9523"/>
                  <a:pt x="18237" y="9625"/>
                  <a:pt x="18224" y="9747"/>
                </a:cubicBezTo>
                <a:cubicBezTo>
                  <a:pt x="18185" y="10119"/>
                  <a:pt x="18224" y="10515"/>
                  <a:pt x="18224" y="10890"/>
                </a:cubicBezTo>
              </a:path>
              <a:path w="6859" h="1747">
                <a:moveTo>
                  <a:pt x="18383" y="10001"/>
                </a:moveTo>
                <a:cubicBezTo>
                  <a:pt x="18444" y="10021"/>
                  <a:pt x="18425" y="10063"/>
                  <a:pt x="18447" y="10128"/>
                </a:cubicBezTo>
                <a:cubicBezTo>
                  <a:pt x="18480" y="10224"/>
                  <a:pt x="18497" y="10318"/>
                  <a:pt x="18542" y="10414"/>
                </a:cubicBezTo>
                <a:cubicBezTo>
                  <a:pt x="18582" y="10499"/>
                  <a:pt x="18593" y="10580"/>
                  <a:pt x="18637" y="10668"/>
                </a:cubicBezTo>
                <a:cubicBezTo>
                  <a:pt x="18671" y="10737"/>
                  <a:pt x="18713" y="10793"/>
                  <a:pt x="18732" y="10858"/>
                </a:cubicBezTo>
                <a:cubicBezTo>
                  <a:pt x="18732" y="10869"/>
                  <a:pt x="18732" y="10879"/>
                  <a:pt x="18732" y="10890"/>
                </a:cubicBezTo>
              </a:path>
              <a:path w="6859" h="1747">
                <a:moveTo>
                  <a:pt x="18732" y="10001"/>
                </a:moveTo>
                <a:cubicBezTo>
                  <a:pt x="18713" y="10116"/>
                  <a:pt x="18681" y="10233"/>
                  <a:pt x="18669" y="10350"/>
                </a:cubicBezTo>
                <a:cubicBezTo>
                  <a:pt x="18652" y="10523"/>
                  <a:pt x="18634" y="10726"/>
                  <a:pt x="18574" y="10890"/>
                </a:cubicBezTo>
                <a:cubicBezTo>
                  <a:pt x="18547" y="10964"/>
                  <a:pt x="18526" y="11035"/>
                  <a:pt x="18510" y="11112"/>
                </a:cubicBezTo>
              </a:path>
              <a:path w="6859" h="1747">
                <a:moveTo>
                  <a:pt x="18923" y="9652"/>
                </a:moveTo>
                <a:cubicBezTo>
                  <a:pt x="18923" y="9611"/>
                  <a:pt x="18933" y="9568"/>
                  <a:pt x="18955" y="9557"/>
                </a:cubicBezTo>
                <a:cubicBezTo>
                  <a:pt x="18991" y="9539"/>
                  <a:pt x="19047" y="9548"/>
                  <a:pt x="19082" y="9525"/>
                </a:cubicBezTo>
                <a:cubicBezTo>
                  <a:pt x="19093" y="9514"/>
                  <a:pt x="19103" y="9504"/>
                  <a:pt x="19114" y="9493"/>
                </a:cubicBezTo>
                <a:cubicBezTo>
                  <a:pt x="19165" y="9511"/>
                  <a:pt x="19171" y="9520"/>
                  <a:pt x="19177" y="9588"/>
                </a:cubicBezTo>
                <a:cubicBezTo>
                  <a:pt x="19182" y="9644"/>
                  <a:pt x="19133" y="9760"/>
                  <a:pt x="19114" y="9811"/>
                </a:cubicBezTo>
                <a:cubicBezTo>
                  <a:pt x="19091" y="9871"/>
                  <a:pt x="19057" y="9921"/>
                  <a:pt x="19018" y="9970"/>
                </a:cubicBezTo>
                <a:cubicBezTo>
                  <a:pt x="19074" y="9970"/>
                  <a:pt x="19083" y="9962"/>
                  <a:pt x="19114" y="9938"/>
                </a:cubicBezTo>
                <a:cubicBezTo>
                  <a:pt x="19153" y="9908"/>
                  <a:pt x="19191" y="9880"/>
                  <a:pt x="19240" y="9874"/>
                </a:cubicBezTo>
                <a:cubicBezTo>
                  <a:pt x="19291" y="9868"/>
                  <a:pt x="19347" y="9874"/>
                  <a:pt x="19399" y="9874"/>
                </a:cubicBezTo>
              </a:path>
              <a:path w="6859" h="1747">
                <a:moveTo>
                  <a:pt x="19717" y="9938"/>
                </a:moveTo>
                <a:cubicBezTo>
                  <a:pt x="19717" y="10110"/>
                  <a:pt x="19731" y="10294"/>
                  <a:pt x="19685" y="10446"/>
                </a:cubicBezTo>
                <a:cubicBezTo>
                  <a:pt x="19685" y="10457"/>
                  <a:pt x="19685" y="10467"/>
                  <a:pt x="19685" y="10478"/>
                </a:cubicBezTo>
              </a:path>
              <a:path w="6859" h="1747">
                <a:moveTo>
                  <a:pt x="19526" y="10224"/>
                </a:moveTo>
                <a:cubicBezTo>
                  <a:pt x="19584" y="10224"/>
                  <a:pt x="19601" y="10198"/>
                  <a:pt x="19653" y="10192"/>
                </a:cubicBezTo>
                <a:cubicBezTo>
                  <a:pt x="19705" y="10186"/>
                  <a:pt x="19769" y="10186"/>
                  <a:pt x="19812" y="10160"/>
                </a:cubicBezTo>
                <a:cubicBezTo>
                  <a:pt x="19823" y="10149"/>
                  <a:pt x="19833" y="10139"/>
                  <a:pt x="19844" y="10128"/>
                </a:cubicBezTo>
              </a:path>
              <a:path w="6859" h="1747">
                <a:moveTo>
                  <a:pt x="20225" y="9588"/>
                </a:moveTo>
                <a:cubicBezTo>
                  <a:pt x="20225" y="9599"/>
                  <a:pt x="20225" y="9609"/>
                  <a:pt x="20225" y="9620"/>
                </a:cubicBezTo>
              </a:path>
              <a:path w="6859" h="1747">
                <a:moveTo>
                  <a:pt x="20193" y="9779"/>
                </a:moveTo>
                <a:cubicBezTo>
                  <a:pt x="20149" y="9900"/>
                  <a:pt x="20134" y="10006"/>
                  <a:pt x="20098" y="10128"/>
                </a:cubicBezTo>
                <a:cubicBezTo>
                  <a:pt x="20073" y="10213"/>
                  <a:pt x="20025" y="10397"/>
                  <a:pt x="20034" y="10478"/>
                </a:cubicBezTo>
                <a:cubicBezTo>
                  <a:pt x="20040" y="10531"/>
                  <a:pt x="20072" y="10642"/>
                  <a:pt x="20130" y="10668"/>
                </a:cubicBezTo>
                <a:cubicBezTo>
                  <a:pt x="20179" y="10690"/>
                  <a:pt x="20209" y="10700"/>
                  <a:pt x="20256" y="10668"/>
                </a:cubicBezTo>
                <a:cubicBezTo>
                  <a:pt x="20312" y="10630"/>
                  <a:pt x="20354" y="10567"/>
                  <a:pt x="20384" y="10509"/>
                </a:cubicBezTo>
                <a:cubicBezTo>
                  <a:pt x="20428" y="10426"/>
                  <a:pt x="20447" y="10379"/>
                  <a:pt x="20447" y="10287"/>
                </a:cubicBezTo>
                <a:cubicBezTo>
                  <a:pt x="20447" y="10225"/>
                  <a:pt x="20445" y="10209"/>
                  <a:pt x="20415" y="10160"/>
                </a:cubicBezTo>
                <a:cubicBezTo>
                  <a:pt x="20354" y="10176"/>
                  <a:pt x="20310" y="10221"/>
                  <a:pt x="20288" y="10287"/>
                </a:cubicBezTo>
                <a:cubicBezTo>
                  <a:pt x="20266" y="10353"/>
                  <a:pt x="20236" y="10440"/>
                  <a:pt x="20225" y="10509"/>
                </a:cubicBezTo>
                <a:cubicBezTo>
                  <a:pt x="20212" y="10590"/>
                  <a:pt x="20239" y="10633"/>
                  <a:pt x="20256" y="10668"/>
                </a:cubicBezTo>
                <a:cubicBezTo>
                  <a:pt x="20256" y="10704"/>
                  <a:pt x="20259" y="10712"/>
                  <a:pt x="20288" y="10668"/>
                </a:cubicBezTo>
              </a:path>
              <a:path w="6859" h="1747">
                <a:moveTo>
                  <a:pt x="20542" y="10001"/>
                </a:moveTo>
                <a:cubicBezTo>
                  <a:pt x="20607" y="10066"/>
                  <a:pt x="20601" y="10108"/>
                  <a:pt x="20638" y="10192"/>
                </a:cubicBezTo>
                <a:cubicBezTo>
                  <a:pt x="20673" y="10272"/>
                  <a:pt x="20721" y="10342"/>
                  <a:pt x="20764" y="10414"/>
                </a:cubicBezTo>
                <a:cubicBezTo>
                  <a:pt x="20803" y="10480"/>
                  <a:pt x="20824" y="10576"/>
                  <a:pt x="20860" y="10636"/>
                </a:cubicBezTo>
                <a:cubicBezTo>
                  <a:pt x="20887" y="10681"/>
                  <a:pt x="20911" y="10681"/>
                  <a:pt x="20923" y="10732"/>
                </a:cubicBezTo>
              </a:path>
              <a:path w="6859" h="1747">
                <a:moveTo>
                  <a:pt x="21018" y="9906"/>
                </a:moveTo>
                <a:cubicBezTo>
                  <a:pt x="20998" y="9989"/>
                  <a:pt x="20959" y="10042"/>
                  <a:pt x="20923" y="10128"/>
                </a:cubicBezTo>
                <a:cubicBezTo>
                  <a:pt x="20863" y="10272"/>
                  <a:pt x="20822" y="10427"/>
                  <a:pt x="20764" y="10573"/>
                </a:cubicBezTo>
                <a:cubicBezTo>
                  <a:pt x="20723" y="10675"/>
                  <a:pt x="20702" y="10785"/>
                  <a:pt x="20669" y="10890"/>
                </a:cubicBezTo>
              </a:path>
              <a:path w="6859" h="1747">
                <a:moveTo>
                  <a:pt x="21622" y="10065"/>
                </a:moveTo>
                <a:cubicBezTo>
                  <a:pt x="21622" y="10266"/>
                  <a:pt x="21622" y="10467"/>
                  <a:pt x="21622" y="10668"/>
                </a:cubicBezTo>
              </a:path>
              <a:path w="6859" h="1747">
                <a:moveTo>
                  <a:pt x="21463" y="10319"/>
                </a:moveTo>
                <a:cubicBezTo>
                  <a:pt x="21568" y="10319"/>
                  <a:pt x="21651" y="10303"/>
                  <a:pt x="21749" y="10287"/>
                </a:cubicBezTo>
                <a:cubicBezTo>
                  <a:pt x="21812" y="10287"/>
                  <a:pt x="21834" y="10287"/>
                  <a:pt x="21876" y="10287"/>
                </a:cubicBezTo>
              </a:path>
              <a:path w="6859" h="1747">
                <a:moveTo>
                  <a:pt x="22765" y="9811"/>
                </a:moveTo>
                <a:cubicBezTo>
                  <a:pt x="22739" y="9776"/>
                  <a:pt x="22688" y="9725"/>
                  <a:pt x="22670" y="9684"/>
                </a:cubicBezTo>
                <a:cubicBezTo>
                  <a:pt x="22644" y="9625"/>
                  <a:pt x="22646" y="9620"/>
                  <a:pt x="22574" y="9620"/>
                </a:cubicBezTo>
                <a:cubicBezTo>
                  <a:pt x="22451" y="9620"/>
                  <a:pt x="22469" y="9649"/>
                  <a:pt x="22384" y="9716"/>
                </a:cubicBezTo>
                <a:cubicBezTo>
                  <a:pt x="22339" y="9752"/>
                  <a:pt x="22252" y="9781"/>
                  <a:pt x="22225" y="9842"/>
                </a:cubicBezTo>
                <a:cubicBezTo>
                  <a:pt x="22225" y="9853"/>
                  <a:pt x="22225" y="9863"/>
                  <a:pt x="22225" y="9874"/>
                </a:cubicBezTo>
                <a:cubicBezTo>
                  <a:pt x="22276" y="9912"/>
                  <a:pt x="22328" y="9929"/>
                  <a:pt x="22384" y="9970"/>
                </a:cubicBezTo>
                <a:cubicBezTo>
                  <a:pt x="22440" y="10011"/>
                  <a:pt x="22480" y="10068"/>
                  <a:pt x="22511" y="10128"/>
                </a:cubicBezTo>
                <a:cubicBezTo>
                  <a:pt x="22560" y="10222"/>
                  <a:pt x="22574" y="10277"/>
                  <a:pt x="22574" y="10382"/>
                </a:cubicBezTo>
                <a:cubicBezTo>
                  <a:pt x="22574" y="10421"/>
                  <a:pt x="22574" y="10519"/>
                  <a:pt x="22542" y="10541"/>
                </a:cubicBezTo>
                <a:cubicBezTo>
                  <a:pt x="22504" y="10567"/>
                  <a:pt x="22440" y="10530"/>
                  <a:pt x="22416" y="10509"/>
                </a:cubicBezTo>
                <a:cubicBezTo>
                  <a:pt x="22366" y="10465"/>
                  <a:pt x="22356" y="10385"/>
                  <a:pt x="22352" y="10319"/>
                </a:cubicBezTo>
                <a:cubicBezTo>
                  <a:pt x="22345" y="10188"/>
                  <a:pt x="22393" y="10123"/>
                  <a:pt x="22416" y="10001"/>
                </a:cubicBezTo>
                <a:cubicBezTo>
                  <a:pt x="22433" y="9913"/>
                  <a:pt x="22455" y="9854"/>
                  <a:pt x="22511" y="9779"/>
                </a:cubicBezTo>
                <a:cubicBezTo>
                  <a:pt x="22548" y="9741"/>
                  <a:pt x="22566" y="9726"/>
                  <a:pt x="22606" y="9716"/>
                </a:cubicBezTo>
              </a:path>
              <a:path w="6859" h="1747">
                <a:moveTo>
                  <a:pt x="22892" y="9684"/>
                </a:moveTo>
                <a:cubicBezTo>
                  <a:pt x="22881" y="9684"/>
                  <a:pt x="22871" y="9684"/>
                  <a:pt x="22860" y="9684"/>
                </a:cubicBezTo>
              </a:path>
              <a:path w="6859" h="1747">
                <a:moveTo>
                  <a:pt x="23241" y="9588"/>
                </a:moveTo>
                <a:cubicBezTo>
                  <a:pt x="23241" y="9599"/>
                  <a:pt x="23241" y="9609"/>
                  <a:pt x="23241" y="9620"/>
                </a:cubicBezTo>
              </a:path>
              <a:path w="6859" h="1747">
                <a:moveTo>
                  <a:pt x="23178" y="9906"/>
                </a:moveTo>
                <a:cubicBezTo>
                  <a:pt x="23137" y="10059"/>
                  <a:pt x="23091" y="10197"/>
                  <a:pt x="23050" y="10350"/>
                </a:cubicBezTo>
              </a:path>
              <a:path w="6859" h="1747">
                <a:moveTo>
                  <a:pt x="23019" y="10478"/>
                </a:moveTo>
                <a:cubicBezTo>
                  <a:pt x="22956" y="10601"/>
                  <a:pt x="22936" y="10640"/>
                  <a:pt x="22924" y="10732"/>
                </a:cubicBezTo>
              </a:path>
              <a:path w="6859" h="1747">
                <a:moveTo>
                  <a:pt x="22892" y="9716"/>
                </a:moveTo>
                <a:cubicBezTo>
                  <a:pt x="22881" y="9716"/>
                  <a:pt x="22871" y="9716"/>
                  <a:pt x="22860" y="9716"/>
                </a:cubicBezTo>
              </a:path>
              <a:path w="6859" h="1747">
                <a:moveTo>
                  <a:pt x="22892" y="9716"/>
                </a:moveTo>
                <a:lnTo>
                  <a:pt x="22892" y="9716"/>
                </a:lnTo>
              </a:path>
              <a:path w="6859" h="1747">
                <a:moveTo>
                  <a:pt x="22892" y="9747"/>
                </a:moveTo>
                <a:cubicBezTo>
                  <a:pt x="22948" y="9804"/>
                  <a:pt x="22953" y="9834"/>
                  <a:pt x="22987" y="9906"/>
                </a:cubicBezTo>
                <a:cubicBezTo>
                  <a:pt x="23019" y="9974"/>
                  <a:pt x="23055" y="10029"/>
                  <a:pt x="23082" y="10096"/>
                </a:cubicBezTo>
                <a:cubicBezTo>
                  <a:pt x="23111" y="10168"/>
                  <a:pt x="23170" y="10222"/>
                  <a:pt x="23209" y="10287"/>
                </a:cubicBezTo>
                <a:cubicBezTo>
                  <a:pt x="23237" y="10333"/>
                  <a:pt x="23281" y="10421"/>
                  <a:pt x="23336" y="10446"/>
                </a:cubicBezTo>
                <a:cubicBezTo>
                  <a:pt x="23381" y="10466"/>
                  <a:pt x="23352" y="10462"/>
                  <a:pt x="23400" y="10478"/>
                </a:cubicBezTo>
              </a:path>
              <a:path w="6859" h="1747">
                <a:moveTo>
                  <a:pt x="23717" y="10033"/>
                </a:moveTo>
                <a:cubicBezTo>
                  <a:pt x="23707" y="10022"/>
                  <a:pt x="23696" y="10012"/>
                  <a:pt x="23686" y="10001"/>
                </a:cubicBezTo>
                <a:cubicBezTo>
                  <a:pt x="23702" y="10049"/>
                  <a:pt x="23724" y="10033"/>
                  <a:pt x="23781" y="10033"/>
                </a:cubicBezTo>
                <a:cubicBezTo>
                  <a:pt x="23845" y="10033"/>
                  <a:pt x="23922" y="10012"/>
                  <a:pt x="23940" y="10065"/>
                </a:cubicBezTo>
                <a:cubicBezTo>
                  <a:pt x="23950" y="10054"/>
                  <a:pt x="23961" y="10044"/>
                  <a:pt x="23971" y="10033"/>
                </a:cubicBezTo>
              </a:path>
              <a:path w="6859" h="1747">
                <a:moveTo>
                  <a:pt x="24194" y="9525"/>
                </a:moveTo>
                <a:cubicBezTo>
                  <a:pt x="24234" y="9579"/>
                  <a:pt x="24225" y="9613"/>
                  <a:pt x="24225" y="9684"/>
                </a:cubicBezTo>
                <a:cubicBezTo>
                  <a:pt x="24225" y="9811"/>
                  <a:pt x="24225" y="9938"/>
                  <a:pt x="24225" y="10065"/>
                </a:cubicBezTo>
                <a:cubicBezTo>
                  <a:pt x="24352" y="10065"/>
                  <a:pt x="24479" y="10065"/>
                  <a:pt x="24606" y="10065"/>
                </a:cubicBezTo>
              </a:path>
              <a:path w="6859" h="1747">
                <a:moveTo>
                  <a:pt x="24479" y="9366"/>
                </a:moveTo>
                <a:cubicBezTo>
                  <a:pt x="24465" y="9455"/>
                  <a:pt x="24448" y="9528"/>
                  <a:pt x="24448" y="9620"/>
                </a:cubicBezTo>
                <a:cubicBezTo>
                  <a:pt x="24448" y="9755"/>
                  <a:pt x="24462" y="9871"/>
                  <a:pt x="24479" y="10001"/>
                </a:cubicBezTo>
                <a:cubicBezTo>
                  <a:pt x="24492" y="10099"/>
                  <a:pt x="24486" y="10225"/>
                  <a:pt x="24511" y="10319"/>
                </a:cubicBezTo>
                <a:cubicBezTo>
                  <a:pt x="24528" y="10384"/>
                  <a:pt x="24536" y="10458"/>
                  <a:pt x="24574" y="10509"/>
                </a:cubicBezTo>
              </a:path>
              <a:path w="6859" h="1747">
                <a:moveTo>
                  <a:pt x="23019" y="9652"/>
                </a:moveTo>
                <a:cubicBezTo>
                  <a:pt x="23019" y="9663"/>
                  <a:pt x="23019" y="9673"/>
                  <a:pt x="23019" y="9684"/>
                </a:cubicBezTo>
                <a:cubicBezTo>
                  <a:pt x="23069" y="9701"/>
                  <a:pt x="23031" y="9699"/>
                  <a:pt x="23082" y="9716"/>
                </a:cubicBezTo>
                <a:cubicBezTo>
                  <a:pt x="23082" y="9770"/>
                  <a:pt x="23069" y="9764"/>
                  <a:pt x="23114" y="9779"/>
                </a:cubicBezTo>
                <a:cubicBezTo>
                  <a:pt x="23114" y="9843"/>
                  <a:pt x="23129" y="9854"/>
                  <a:pt x="23146" y="9906"/>
                </a:cubicBezTo>
                <a:cubicBezTo>
                  <a:pt x="23162" y="9953"/>
                  <a:pt x="23174" y="9993"/>
                  <a:pt x="23209" y="10033"/>
                </a:cubicBezTo>
                <a:cubicBezTo>
                  <a:pt x="23245" y="10074"/>
                  <a:pt x="23247" y="10120"/>
                  <a:pt x="23273" y="10160"/>
                </a:cubicBezTo>
                <a:cubicBezTo>
                  <a:pt x="23303" y="10206"/>
                  <a:pt x="23304" y="10199"/>
                  <a:pt x="23304" y="10255"/>
                </a:cubicBezTo>
                <a:cubicBezTo>
                  <a:pt x="23340" y="10267"/>
                  <a:pt x="23362" y="10298"/>
                  <a:pt x="23368" y="10350"/>
                </a:cubicBezTo>
                <a:cubicBezTo>
                  <a:pt x="23369" y="10357"/>
                  <a:pt x="23398" y="10476"/>
                  <a:pt x="23400" y="10478"/>
                </a:cubicBezTo>
                <a:cubicBezTo>
                  <a:pt x="23411" y="10478"/>
                  <a:pt x="23421" y="10478"/>
                  <a:pt x="23432" y="10478"/>
                </a:cubicBezTo>
              </a:path>
              <a:path w="6859" h="1747">
                <a:moveTo>
                  <a:pt x="23400" y="9462"/>
                </a:moveTo>
                <a:cubicBezTo>
                  <a:pt x="23385" y="9537"/>
                  <a:pt x="23368" y="9613"/>
                  <a:pt x="23336" y="9684"/>
                </a:cubicBezTo>
                <a:cubicBezTo>
                  <a:pt x="23298" y="9768"/>
                  <a:pt x="23301" y="9854"/>
                  <a:pt x="23273" y="9938"/>
                </a:cubicBezTo>
                <a:cubicBezTo>
                  <a:pt x="23237" y="10046"/>
                  <a:pt x="23208" y="10150"/>
                  <a:pt x="23178" y="10255"/>
                </a:cubicBezTo>
                <a:cubicBezTo>
                  <a:pt x="23151" y="10349"/>
                  <a:pt x="23085" y="10452"/>
                  <a:pt x="23050" y="10541"/>
                </a:cubicBezTo>
                <a:cubicBezTo>
                  <a:pt x="23026" y="10601"/>
                  <a:pt x="22898" y="10729"/>
                  <a:pt x="22955" y="10700"/>
                </a:cubicBezTo>
                <a:cubicBezTo>
                  <a:pt x="23013" y="10671"/>
                  <a:pt x="22998" y="10585"/>
                  <a:pt x="23019" y="10541"/>
                </a:cubicBezTo>
                <a:cubicBezTo>
                  <a:pt x="23048" y="10481"/>
                  <a:pt x="23062" y="10418"/>
                  <a:pt x="23082" y="10350"/>
                </a:cubicBezTo>
                <a:cubicBezTo>
                  <a:pt x="23108" y="10263"/>
                  <a:pt x="23116" y="10143"/>
                  <a:pt x="23146" y="10065"/>
                </a:cubicBezTo>
                <a:cubicBezTo>
                  <a:pt x="23173" y="9994"/>
                  <a:pt x="23203" y="9928"/>
                  <a:pt x="23209" y="9842"/>
                </a:cubicBezTo>
                <a:cubicBezTo>
                  <a:pt x="23214" y="9774"/>
                  <a:pt x="23262" y="9708"/>
                  <a:pt x="23273" y="9652"/>
                </a:cubicBezTo>
                <a:cubicBezTo>
                  <a:pt x="23281" y="9614"/>
                  <a:pt x="23304" y="9515"/>
                  <a:pt x="23336" y="9493"/>
                </a:cubicBezTo>
                <a:cubicBezTo>
                  <a:pt x="23368" y="9493"/>
                  <a:pt x="23378" y="9493"/>
                  <a:pt x="23368" y="9462"/>
                </a:cubicBezTo>
              </a:path>
              <a:path w="6859" h="1747">
                <a:moveTo>
                  <a:pt x="23050" y="9874"/>
                </a:moveTo>
                <a:cubicBezTo>
                  <a:pt x="23114" y="9938"/>
                  <a:pt x="23111" y="9964"/>
                  <a:pt x="23146" y="10033"/>
                </a:cubicBezTo>
                <a:cubicBezTo>
                  <a:pt x="23175" y="10090"/>
                  <a:pt x="23228" y="10129"/>
                  <a:pt x="23241" y="10192"/>
                </a:cubicBezTo>
                <a:cubicBezTo>
                  <a:pt x="23254" y="10258"/>
                  <a:pt x="23269" y="10329"/>
                  <a:pt x="23304" y="10382"/>
                </a:cubicBezTo>
                <a:cubicBezTo>
                  <a:pt x="23336" y="10431"/>
                  <a:pt x="23355" y="10464"/>
                  <a:pt x="23400" y="10509"/>
                </a:cubicBezTo>
                <a:cubicBezTo>
                  <a:pt x="23411" y="10520"/>
                  <a:pt x="23421" y="10530"/>
                  <a:pt x="23432" y="10541"/>
                </a:cubicBezTo>
              </a:path>
              <a:path w="6859" h="1747">
                <a:moveTo>
                  <a:pt x="19812" y="11017"/>
                </a:moveTo>
                <a:cubicBezTo>
                  <a:pt x="19801" y="11017"/>
                  <a:pt x="19791" y="11017"/>
                  <a:pt x="19780" y="11017"/>
                </a:cubicBezTo>
                <a:cubicBezTo>
                  <a:pt x="19808" y="11001"/>
                  <a:pt x="19821" y="11001"/>
                  <a:pt x="19876" y="10986"/>
                </a:cubicBezTo>
                <a:cubicBezTo>
                  <a:pt x="19934" y="10970"/>
                  <a:pt x="20010" y="10972"/>
                  <a:pt x="20066" y="10954"/>
                </a:cubicBezTo>
                <a:cubicBezTo>
                  <a:pt x="20165" y="10923"/>
                  <a:pt x="20244" y="10922"/>
                  <a:pt x="20352" y="10922"/>
                </a:cubicBezTo>
                <a:cubicBezTo>
                  <a:pt x="20486" y="10922"/>
                  <a:pt x="20605" y="10902"/>
                  <a:pt x="20733" y="10890"/>
                </a:cubicBezTo>
                <a:cubicBezTo>
                  <a:pt x="20884" y="10876"/>
                  <a:pt x="21023" y="10858"/>
                  <a:pt x="21177" y="10858"/>
                </a:cubicBezTo>
                <a:cubicBezTo>
                  <a:pt x="21477" y="10858"/>
                  <a:pt x="21771" y="10848"/>
                  <a:pt x="22066" y="10827"/>
                </a:cubicBezTo>
                <a:cubicBezTo>
                  <a:pt x="22247" y="10814"/>
                  <a:pt x="22428" y="10810"/>
                  <a:pt x="22606" y="10795"/>
                </a:cubicBezTo>
                <a:cubicBezTo>
                  <a:pt x="22929" y="10768"/>
                  <a:pt x="23265" y="10795"/>
                  <a:pt x="23590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2697120" y="4046400"/>
            <a:ext cx="846360" cy="46080"/>
          </a:xfrm>
          <a:custGeom>
            <a:avLst/>
            <a:gdLst/>
            <a:ahLst/>
            <a:rect l="l" t="t" r="r" b="b"/>
            <a:pathLst>
              <a:path w="2350" h="127">
                <a:moveTo>
                  <a:pt x="7493" y="11366"/>
                </a:moveTo>
                <a:cubicBezTo>
                  <a:pt x="7532" y="11343"/>
                  <a:pt x="7528" y="11338"/>
                  <a:pt x="7588" y="11335"/>
                </a:cubicBezTo>
                <a:cubicBezTo>
                  <a:pt x="7644" y="11332"/>
                  <a:pt x="7673" y="11312"/>
                  <a:pt x="7715" y="11303"/>
                </a:cubicBezTo>
                <a:cubicBezTo>
                  <a:pt x="8043" y="11237"/>
                  <a:pt x="8432" y="11308"/>
                  <a:pt x="8763" y="11271"/>
                </a:cubicBezTo>
                <a:cubicBezTo>
                  <a:pt x="8889" y="11257"/>
                  <a:pt x="9024" y="11254"/>
                  <a:pt x="9144" y="11240"/>
                </a:cubicBezTo>
                <a:cubicBezTo>
                  <a:pt x="9370" y="11213"/>
                  <a:pt x="9613" y="11240"/>
                  <a:pt x="9842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2"/>
          <p:cNvSpPr/>
          <p:nvPr/>
        </p:nvSpPr>
        <p:spPr>
          <a:xfrm>
            <a:off x="4903920" y="3633840"/>
            <a:ext cx="936360" cy="824040"/>
          </a:xfrm>
          <a:custGeom>
            <a:avLst/>
            <a:gdLst/>
            <a:ahLst/>
            <a:rect l="l" t="t" r="r" b="b"/>
            <a:pathLst>
              <a:path w="2604" h="2287">
                <a:moveTo>
                  <a:pt x="13716" y="11017"/>
                </a:moveTo>
                <a:cubicBezTo>
                  <a:pt x="13716" y="11088"/>
                  <a:pt x="13745" y="11136"/>
                  <a:pt x="13748" y="11208"/>
                </a:cubicBezTo>
                <a:cubicBezTo>
                  <a:pt x="13755" y="11361"/>
                  <a:pt x="13720" y="11500"/>
                  <a:pt x="13716" y="11652"/>
                </a:cubicBezTo>
                <a:cubicBezTo>
                  <a:pt x="13712" y="11802"/>
                  <a:pt x="13710" y="11981"/>
                  <a:pt x="13684" y="12128"/>
                </a:cubicBezTo>
                <a:cubicBezTo>
                  <a:pt x="13669" y="12211"/>
                  <a:pt x="13652" y="12267"/>
                  <a:pt x="13652" y="12351"/>
                </a:cubicBezTo>
                <a:cubicBezTo>
                  <a:pt x="13600" y="12279"/>
                  <a:pt x="13621" y="12190"/>
                  <a:pt x="13621" y="12097"/>
                </a:cubicBezTo>
                <a:cubicBezTo>
                  <a:pt x="13621" y="11908"/>
                  <a:pt x="13624" y="11711"/>
                  <a:pt x="13652" y="11525"/>
                </a:cubicBezTo>
                <a:cubicBezTo>
                  <a:pt x="13678" y="11354"/>
                  <a:pt x="13683" y="11181"/>
                  <a:pt x="13748" y="11017"/>
                </a:cubicBezTo>
                <a:cubicBezTo>
                  <a:pt x="13762" y="10983"/>
                  <a:pt x="13819" y="10842"/>
                  <a:pt x="13843" y="10827"/>
                </a:cubicBezTo>
                <a:cubicBezTo>
                  <a:pt x="13854" y="10827"/>
                  <a:pt x="13864" y="10827"/>
                  <a:pt x="13875" y="10827"/>
                </a:cubicBezTo>
                <a:cubicBezTo>
                  <a:pt x="13945" y="10897"/>
                  <a:pt x="13960" y="10924"/>
                  <a:pt x="14002" y="11017"/>
                </a:cubicBezTo>
                <a:cubicBezTo>
                  <a:pt x="14063" y="11153"/>
                  <a:pt x="14093" y="11283"/>
                  <a:pt x="14097" y="11430"/>
                </a:cubicBezTo>
                <a:cubicBezTo>
                  <a:pt x="14102" y="11603"/>
                  <a:pt x="14124" y="11767"/>
                  <a:pt x="14129" y="11938"/>
                </a:cubicBezTo>
                <a:cubicBezTo>
                  <a:pt x="14132" y="12028"/>
                  <a:pt x="14129" y="12361"/>
                  <a:pt x="14129" y="12351"/>
                </a:cubicBezTo>
                <a:cubicBezTo>
                  <a:pt x="14129" y="12330"/>
                  <a:pt x="14129" y="12308"/>
                  <a:pt x="14129" y="12287"/>
                </a:cubicBezTo>
              </a:path>
              <a:path w="2604" h="2287">
                <a:moveTo>
                  <a:pt x="13684" y="11620"/>
                </a:moveTo>
                <a:cubicBezTo>
                  <a:pt x="13684" y="11610"/>
                  <a:pt x="13684" y="11599"/>
                  <a:pt x="13684" y="11589"/>
                </a:cubicBezTo>
                <a:cubicBezTo>
                  <a:pt x="13754" y="11589"/>
                  <a:pt x="13775" y="11574"/>
                  <a:pt x="13843" y="11557"/>
                </a:cubicBezTo>
                <a:cubicBezTo>
                  <a:pt x="13911" y="11540"/>
                  <a:pt x="13995" y="11529"/>
                  <a:pt x="14065" y="11525"/>
                </a:cubicBezTo>
                <a:cubicBezTo>
                  <a:pt x="14086" y="11525"/>
                  <a:pt x="14108" y="11525"/>
                  <a:pt x="14129" y="11525"/>
                </a:cubicBezTo>
              </a:path>
              <a:path w="2604" h="2287">
                <a:moveTo>
                  <a:pt x="14383" y="11525"/>
                </a:moveTo>
                <a:cubicBezTo>
                  <a:pt x="14383" y="11515"/>
                  <a:pt x="14383" y="11504"/>
                  <a:pt x="14383" y="11494"/>
                </a:cubicBezTo>
                <a:cubicBezTo>
                  <a:pt x="14478" y="11494"/>
                  <a:pt x="14573" y="11494"/>
                  <a:pt x="14668" y="11494"/>
                </a:cubicBezTo>
              </a:path>
              <a:path w="2604" h="2287">
                <a:moveTo>
                  <a:pt x="14446" y="11938"/>
                </a:moveTo>
                <a:cubicBezTo>
                  <a:pt x="14496" y="11926"/>
                  <a:pt x="14516" y="11906"/>
                  <a:pt x="14573" y="11906"/>
                </a:cubicBezTo>
                <a:cubicBezTo>
                  <a:pt x="14610" y="11906"/>
                  <a:pt x="14692" y="11887"/>
                  <a:pt x="14732" y="11874"/>
                </a:cubicBezTo>
                <a:cubicBezTo>
                  <a:pt x="14753" y="11864"/>
                  <a:pt x="14775" y="11853"/>
                  <a:pt x="14796" y="11843"/>
                </a:cubicBezTo>
              </a:path>
              <a:path w="2604" h="2287">
                <a:moveTo>
                  <a:pt x="15494" y="10922"/>
                </a:moveTo>
                <a:cubicBezTo>
                  <a:pt x="15446" y="10906"/>
                  <a:pt x="15467" y="10890"/>
                  <a:pt x="15399" y="10890"/>
                </a:cubicBezTo>
                <a:cubicBezTo>
                  <a:pt x="15312" y="10890"/>
                  <a:pt x="15280" y="10943"/>
                  <a:pt x="15208" y="10986"/>
                </a:cubicBezTo>
                <a:cubicBezTo>
                  <a:pt x="15161" y="11014"/>
                  <a:pt x="15075" y="11056"/>
                  <a:pt x="15050" y="11112"/>
                </a:cubicBezTo>
                <a:cubicBezTo>
                  <a:pt x="15018" y="11186"/>
                  <a:pt x="15027" y="11173"/>
                  <a:pt x="15050" y="11240"/>
                </a:cubicBezTo>
                <a:cubicBezTo>
                  <a:pt x="15069" y="11295"/>
                  <a:pt x="15101" y="11321"/>
                  <a:pt x="15145" y="11366"/>
                </a:cubicBezTo>
                <a:cubicBezTo>
                  <a:pt x="15218" y="11439"/>
                  <a:pt x="15275" y="11509"/>
                  <a:pt x="15335" y="11589"/>
                </a:cubicBezTo>
                <a:cubicBezTo>
                  <a:pt x="15385" y="11656"/>
                  <a:pt x="15397" y="11682"/>
                  <a:pt x="15430" y="11748"/>
                </a:cubicBezTo>
                <a:cubicBezTo>
                  <a:pt x="15480" y="11847"/>
                  <a:pt x="15494" y="11834"/>
                  <a:pt x="15494" y="11970"/>
                </a:cubicBezTo>
                <a:cubicBezTo>
                  <a:pt x="15494" y="12045"/>
                  <a:pt x="15474" y="12170"/>
                  <a:pt x="15430" y="12224"/>
                </a:cubicBezTo>
                <a:cubicBezTo>
                  <a:pt x="15377" y="12290"/>
                  <a:pt x="15320" y="12331"/>
                  <a:pt x="15240" y="12351"/>
                </a:cubicBezTo>
                <a:cubicBezTo>
                  <a:pt x="15203" y="12360"/>
                  <a:pt x="15139" y="12310"/>
                  <a:pt x="15113" y="12287"/>
                </a:cubicBezTo>
                <a:cubicBezTo>
                  <a:pt x="15048" y="12230"/>
                  <a:pt x="15050" y="12176"/>
                  <a:pt x="15050" y="12097"/>
                </a:cubicBezTo>
                <a:cubicBezTo>
                  <a:pt x="15050" y="11981"/>
                  <a:pt x="15093" y="11913"/>
                  <a:pt x="15145" y="11811"/>
                </a:cubicBezTo>
              </a:path>
              <a:path w="2604" h="2287">
                <a:moveTo>
                  <a:pt x="15684" y="10319"/>
                </a:moveTo>
                <a:cubicBezTo>
                  <a:pt x="15623" y="10298"/>
                  <a:pt x="15647" y="10296"/>
                  <a:pt x="15653" y="10287"/>
                </a:cubicBezTo>
                <a:cubicBezTo>
                  <a:pt x="15709" y="10206"/>
                  <a:pt x="15677" y="10208"/>
                  <a:pt x="15748" y="10160"/>
                </a:cubicBezTo>
                <a:cubicBezTo>
                  <a:pt x="15793" y="10130"/>
                  <a:pt x="15823" y="10109"/>
                  <a:pt x="15875" y="10096"/>
                </a:cubicBezTo>
                <a:cubicBezTo>
                  <a:pt x="15891" y="10160"/>
                  <a:pt x="15907" y="10178"/>
                  <a:pt x="15907" y="10255"/>
                </a:cubicBezTo>
                <a:cubicBezTo>
                  <a:pt x="15907" y="10367"/>
                  <a:pt x="15881" y="10497"/>
                  <a:pt x="15843" y="10604"/>
                </a:cubicBezTo>
                <a:cubicBezTo>
                  <a:pt x="15807" y="10705"/>
                  <a:pt x="15798" y="10790"/>
                  <a:pt x="15748" y="10890"/>
                </a:cubicBezTo>
                <a:cubicBezTo>
                  <a:pt x="15717" y="10951"/>
                  <a:pt x="15721" y="10969"/>
                  <a:pt x="15684" y="11017"/>
                </a:cubicBezTo>
                <a:cubicBezTo>
                  <a:pt x="15725" y="10977"/>
                  <a:pt x="15756" y="10928"/>
                  <a:pt x="15812" y="10922"/>
                </a:cubicBezTo>
                <a:cubicBezTo>
                  <a:pt x="15876" y="10915"/>
                  <a:pt x="15888" y="10937"/>
                  <a:pt x="15938" y="10954"/>
                </a:cubicBezTo>
                <a:cubicBezTo>
                  <a:pt x="15959" y="10961"/>
                  <a:pt x="16055" y="10991"/>
                  <a:pt x="16066" y="10986"/>
                </a:cubicBezTo>
                <a:cubicBezTo>
                  <a:pt x="16120" y="10962"/>
                  <a:pt x="16167" y="10874"/>
                  <a:pt x="16192" y="10827"/>
                </a:cubicBezTo>
                <a:cubicBezTo>
                  <a:pt x="16203" y="10806"/>
                  <a:pt x="16213" y="10784"/>
                  <a:pt x="16224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3"/>
          <p:cNvSpPr/>
          <p:nvPr/>
        </p:nvSpPr>
        <p:spPr>
          <a:xfrm>
            <a:off x="6778800" y="3978360"/>
            <a:ext cx="1896840" cy="903240"/>
          </a:xfrm>
          <a:custGeom>
            <a:avLst/>
            <a:gdLst/>
            <a:ahLst/>
            <a:rect l="l" t="t" r="r" b="b"/>
            <a:pathLst>
              <a:path w="5271" h="2509">
                <a:moveTo>
                  <a:pt x="19114" y="11525"/>
                </a:moveTo>
                <a:cubicBezTo>
                  <a:pt x="19066" y="11541"/>
                  <a:pt x="19082" y="11563"/>
                  <a:pt x="19082" y="11620"/>
                </a:cubicBezTo>
                <a:cubicBezTo>
                  <a:pt x="19082" y="11672"/>
                  <a:pt x="19065" y="11790"/>
                  <a:pt x="19050" y="11843"/>
                </a:cubicBezTo>
                <a:cubicBezTo>
                  <a:pt x="19027" y="11927"/>
                  <a:pt x="19018" y="12013"/>
                  <a:pt x="18986" y="12097"/>
                </a:cubicBezTo>
                <a:cubicBezTo>
                  <a:pt x="18952" y="12187"/>
                  <a:pt x="18962" y="12299"/>
                  <a:pt x="18923" y="12382"/>
                </a:cubicBezTo>
                <a:cubicBezTo>
                  <a:pt x="18904" y="12422"/>
                  <a:pt x="18852" y="12470"/>
                  <a:pt x="18828" y="12478"/>
                </a:cubicBezTo>
                <a:cubicBezTo>
                  <a:pt x="18874" y="12463"/>
                  <a:pt x="18864" y="12408"/>
                  <a:pt x="18923" y="12382"/>
                </a:cubicBezTo>
                <a:cubicBezTo>
                  <a:pt x="18960" y="12365"/>
                  <a:pt x="18966" y="12336"/>
                  <a:pt x="19018" y="12319"/>
                </a:cubicBezTo>
                <a:cubicBezTo>
                  <a:pt x="19072" y="12301"/>
                  <a:pt x="19159" y="12307"/>
                  <a:pt x="19209" y="12287"/>
                </a:cubicBezTo>
                <a:cubicBezTo>
                  <a:pt x="19293" y="12253"/>
                  <a:pt x="19291" y="12262"/>
                  <a:pt x="19368" y="12287"/>
                </a:cubicBezTo>
                <a:cubicBezTo>
                  <a:pt x="19392" y="12295"/>
                  <a:pt x="19437" y="12287"/>
                  <a:pt x="19463" y="12287"/>
                </a:cubicBezTo>
              </a:path>
              <a:path w="5271" h="2509">
                <a:moveTo>
                  <a:pt x="19526" y="11398"/>
                </a:moveTo>
                <a:cubicBezTo>
                  <a:pt x="19526" y="11501"/>
                  <a:pt x="19503" y="11582"/>
                  <a:pt x="19494" y="11684"/>
                </a:cubicBezTo>
                <a:cubicBezTo>
                  <a:pt x="19476" y="11884"/>
                  <a:pt x="19491" y="12088"/>
                  <a:pt x="19463" y="12287"/>
                </a:cubicBezTo>
                <a:cubicBezTo>
                  <a:pt x="19435" y="12488"/>
                  <a:pt x="19405" y="12687"/>
                  <a:pt x="19399" y="12890"/>
                </a:cubicBezTo>
                <a:cubicBezTo>
                  <a:pt x="19395" y="13012"/>
                  <a:pt x="19376" y="13121"/>
                  <a:pt x="19368" y="13240"/>
                </a:cubicBezTo>
                <a:cubicBezTo>
                  <a:pt x="19368" y="13272"/>
                  <a:pt x="19368" y="13282"/>
                  <a:pt x="19399" y="13272"/>
                </a:cubicBezTo>
              </a:path>
              <a:path w="5271" h="2509">
                <a:moveTo>
                  <a:pt x="19717" y="12002"/>
                </a:moveTo>
                <a:cubicBezTo>
                  <a:pt x="19734" y="12070"/>
                  <a:pt x="19759" y="12153"/>
                  <a:pt x="19780" y="12224"/>
                </a:cubicBezTo>
                <a:cubicBezTo>
                  <a:pt x="19813" y="12339"/>
                  <a:pt x="19837" y="12454"/>
                  <a:pt x="19876" y="12573"/>
                </a:cubicBezTo>
                <a:cubicBezTo>
                  <a:pt x="19915" y="12692"/>
                  <a:pt x="19934" y="12808"/>
                  <a:pt x="19971" y="12922"/>
                </a:cubicBezTo>
                <a:cubicBezTo>
                  <a:pt x="19999" y="13007"/>
                  <a:pt x="20002" y="13096"/>
                  <a:pt x="20034" y="13176"/>
                </a:cubicBezTo>
                <a:cubicBezTo>
                  <a:pt x="20045" y="13197"/>
                  <a:pt x="20055" y="13219"/>
                  <a:pt x="20066" y="13240"/>
                </a:cubicBezTo>
              </a:path>
              <a:path w="5271" h="2509">
                <a:moveTo>
                  <a:pt x="20130" y="11906"/>
                </a:moveTo>
                <a:cubicBezTo>
                  <a:pt x="20084" y="11921"/>
                  <a:pt x="20042" y="12033"/>
                  <a:pt x="20034" y="12097"/>
                </a:cubicBezTo>
                <a:cubicBezTo>
                  <a:pt x="20012" y="12269"/>
                  <a:pt x="19975" y="12432"/>
                  <a:pt x="19939" y="12605"/>
                </a:cubicBezTo>
                <a:cubicBezTo>
                  <a:pt x="19899" y="12800"/>
                  <a:pt x="19828" y="12981"/>
                  <a:pt x="19780" y="13176"/>
                </a:cubicBezTo>
                <a:cubicBezTo>
                  <a:pt x="19750" y="13299"/>
                  <a:pt x="19736" y="13456"/>
                  <a:pt x="19685" y="13557"/>
                </a:cubicBezTo>
              </a:path>
              <a:path w="5271" h="2509">
                <a:moveTo>
                  <a:pt x="20320" y="11494"/>
                </a:moveTo>
                <a:cubicBezTo>
                  <a:pt x="20286" y="11477"/>
                  <a:pt x="20329" y="11423"/>
                  <a:pt x="20384" y="11398"/>
                </a:cubicBezTo>
                <a:cubicBezTo>
                  <a:pt x="20441" y="11372"/>
                  <a:pt x="20457" y="11432"/>
                  <a:pt x="20479" y="11366"/>
                </a:cubicBezTo>
                <a:cubicBezTo>
                  <a:pt x="20511" y="11377"/>
                  <a:pt x="20539" y="11390"/>
                  <a:pt x="20542" y="11430"/>
                </a:cubicBezTo>
                <a:cubicBezTo>
                  <a:pt x="20547" y="11499"/>
                  <a:pt x="20508" y="11586"/>
                  <a:pt x="20479" y="11652"/>
                </a:cubicBezTo>
                <a:cubicBezTo>
                  <a:pt x="20448" y="11723"/>
                  <a:pt x="20404" y="11776"/>
                  <a:pt x="20384" y="11843"/>
                </a:cubicBezTo>
                <a:cubicBezTo>
                  <a:pt x="20384" y="11879"/>
                  <a:pt x="20381" y="11892"/>
                  <a:pt x="20352" y="11906"/>
                </a:cubicBezTo>
                <a:cubicBezTo>
                  <a:pt x="20410" y="11906"/>
                  <a:pt x="20427" y="11880"/>
                  <a:pt x="20479" y="11874"/>
                </a:cubicBezTo>
                <a:cubicBezTo>
                  <a:pt x="20531" y="11868"/>
                  <a:pt x="20558" y="11846"/>
                  <a:pt x="20606" y="11843"/>
                </a:cubicBezTo>
                <a:cubicBezTo>
                  <a:pt x="20692" y="11837"/>
                  <a:pt x="20682" y="11847"/>
                  <a:pt x="20764" y="11811"/>
                </a:cubicBezTo>
              </a:path>
              <a:path w="5271" h="2509">
                <a:moveTo>
                  <a:pt x="21146" y="11748"/>
                </a:moveTo>
                <a:cubicBezTo>
                  <a:pt x="21146" y="12030"/>
                  <a:pt x="21116" y="12335"/>
                  <a:pt x="21177" y="12605"/>
                </a:cubicBezTo>
                <a:cubicBezTo>
                  <a:pt x="21177" y="12615"/>
                  <a:pt x="21177" y="12626"/>
                  <a:pt x="21177" y="12636"/>
                </a:cubicBezTo>
              </a:path>
              <a:path w="5271" h="2509">
                <a:moveTo>
                  <a:pt x="21050" y="12287"/>
                </a:moveTo>
                <a:cubicBezTo>
                  <a:pt x="21105" y="12328"/>
                  <a:pt x="21137" y="12345"/>
                  <a:pt x="21209" y="12351"/>
                </a:cubicBezTo>
                <a:cubicBezTo>
                  <a:pt x="21247" y="12354"/>
                  <a:pt x="21337" y="12279"/>
                  <a:pt x="21368" y="12256"/>
                </a:cubicBezTo>
                <a:cubicBezTo>
                  <a:pt x="21379" y="12245"/>
                  <a:pt x="21389" y="12235"/>
                  <a:pt x="21400" y="12224"/>
                </a:cubicBezTo>
              </a:path>
              <a:path w="5271" h="2509">
                <a:moveTo>
                  <a:pt x="21654" y="11557"/>
                </a:moveTo>
                <a:cubicBezTo>
                  <a:pt x="21654" y="11804"/>
                  <a:pt x="21646" y="12044"/>
                  <a:pt x="21622" y="12287"/>
                </a:cubicBezTo>
                <a:cubicBezTo>
                  <a:pt x="21605" y="12463"/>
                  <a:pt x="21622" y="12649"/>
                  <a:pt x="21622" y="12827"/>
                </a:cubicBezTo>
              </a:path>
              <a:path w="5271" h="2509">
                <a:moveTo>
                  <a:pt x="21876" y="11462"/>
                </a:moveTo>
                <a:cubicBezTo>
                  <a:pt x="21876" y="11573"/>
                  <a:pt x="21854" y="11673"/>
                  <a:pt x="21844" y="11779"/>
                </a:cubicBezTo>
                <a:cubicBezTo>
                  <a:pt x="21831" y="11916"/>
                  <a:pt x="21848" y="12060"/>
                  <a:pt x="21812" y="12192"/>
                </a:cubicBezTo>
                <a:cubicBezTo>
                  <a:pt x="21793" y="12261"/>
                  <a:pt x="21765" y="12319"/>
                  <a:pt x="21749" y="12382"/>
                </a:cubicBezTo>
                <a:cubicBezTo>
                  <a:pt x="21781" y="12339"/>
                  <a:pt x="21790" y="12305"/>
                  <a:pt x="21844" y="12287"/>
                </a:cubicBezTo>
                <a:cubicBezTo>
                  <a:pt x="21914" y="12264"/>
                  <a:pt x="21981" y="12301"/>
                  <a:pt x="22034" y="12319"/>
                </a:cubicBezTo>
                <a:cubicBezTo>
                  <a:pt x="22074" y="12333"/>
                  <a:pt x="22090" y="12364"/>
                  <a:pt x="22130" y="12351"/>
                </a:cubicBezTo>
                <a:cubicBezTo>
                  <a:pt x="22159" y="12322"/>
                  <a:pt x="22165" y="12312"/>
                  <a:pt x="22193" y="12319"/>
                </a:cubicBezTo>
              </a:path>
              <a:path w="5271" h="2509">
                <a:moveTo>
                  <a:pt x="22162" y="11398"/>
                </a:moveTo>
                <a:cubicBezTo>
                  <a:pt x="22151" y="11398"/>
                  <a:pt x="22141" y="11398"/>
                  <a:pt x="22130" y="11398"/>
                </a:cubicBezTo>
              </a:path>
              <a:path w="5271" h="2509">
                <a:moveTo>
                  <a:pt x="22162" y="11652"/>
                </a:moveTo>
                <a:cubicBezTo>
                  <a:pt x="22162" y="11826"/>
                  <a:pt x="22178" y="11992"/>
                  <a:pt x="22193" y="12160"/>
                </a:cubicBezTo>
                <a:cubicBezTo>
                  <a:pt x="22209" y="12335"/>
                  <a:pt x="22195" y="12497"/>
                  <a:pt x="22225" y="12668"/>
                </a:cubicBezTo>
                <a:cubicBezTo>
                  <a:pt x="22225" y="12711"/>
                  <a:pt x="22225" y="12732"/>
                  <a:pt x="22225" y="12764"/>
                </a:cubicBezTo>
              </a:path>
              <a:path w="5271" h="2509">
                <a:moveTo>
                  <a:pt x="22416" y="11748"/>
                </a:moveTo>
                <a:cubicBezTo>
                  <a:pt x="22463" y="11807"/>
                  <a:pt x="22485" y="11867"/>
                  <a:pt x="22511" y="11938"/>
                </a:cubicBezTo>
                <a:cubicBezTo>
                  <a:pt x="22550" y="12046"/>
                  <a:pt x="22589" y="12153"/>
                  <a:pt x="22638" y="12256"/>
                </a:cubicBezTo>
                <a:cubicBezTo>
                  <a:pt x="22677" y="12337"/>
                  <a:pt x="22686" y="12401"/>
                  <a:pt x="22733" y="12478"/>
                </a:cubicBezTo>
                <a:cubicBezTo>
                  <a:pt x="22772" y="12543"/>
                  <a:pt x="22788" y="12587"/>
                  <a:pt x="22860" y="12605"/>
                </a:cubicBezTo>
              </a:path>
              <a:path w="5271" h="2509">
                <a:moveTo>
                  <a:pt x="22765" y="12002"/>
                </a:moveTo>
                <a:cubicBezTo>
                  <a:pt x="22716" y="12161"/>
                  <a:pt x="22670" y="12326"/>
                  <a:pt x="22606" y="12478"/>
                </a:cubicBezTo>
                <a:cubicBezTo>
                  <a:pt x="22536" y="12646"/>
                  <a:pt x="22492" y="12808"/>
                  <a:pt x="22447" y="12986"/>
                </a:cubicBezTo>
              </a:path>
              <a:path w="5271" h="2509">
                <a:moveTo>
                  <a:pt x="23082" y="12033"/>
                </a:moveTo>
                <a:cubicBezTo>
                  <a:pt x="23140" y="12047"/>
                  <a:pt x="23172" y="12065"/>
                  <a:pt x="23241" y="12065"/>
                </a:cubicBezTo>
                <a:cubicBezTo>
                  <a:pt x="23326" y="12065"/>
                  <a:pt x="23352" y="12090"/>
                  <a:pt x="23432" y="12097"/>
                </a:cubicBezTo>
                <a:cubicBezTo>
                  <a:pt x="23471" y="12100"/>
                  <a:pt x="23490" y="12074"/>
                  <a:pt x="23527" y="12065"/>
                </a:cubicBezTo>
              </a:path>
              <a:path w="5271" h="2509">
                <a:moveTo>
                  <a:pt x="23686" y="11335"/>
                </a:moveTo>
                <a:cubicBezTo>
                  <a:pt x="23730" y="11394"/>
                  <a:pt x="23717" y="11447"/>
                  <a:pt x="23717" y="11525"/>
                </a:cubicBezTo>
                <a:cubicBezTo>
                  <a:pt x="23717" y="11631"/>
                  <a:pt x="23702" y="11714"/>
                  <a:pt x="23686" y="11811"/>
                </a:cubicBezTo>
                <a:cubicBezTo>
                  <a:pt x="23682" y="11838"/>
                  <a:pt x="23687" y="12031"/>
                  <a:pt x="23654" y="12033"/>
                </a:cubicBezTo>
                <a:cubicBezTo>
                  <a:pt x="23626" y="12035"/>
                  <a:pt x="23748" y="11970"/>
                  <a:pt x="23749" y="11970"/>
                </a:cubicBezTo>
                <a:cubicBezTo>
                  <a:pt x="23800" y="11936"/>
                  <a:pt x="23812" y="11938"/>
                  <a:pt x="23876" y="11938"/>
                </a:cubicBezTo>
                <a:cubicBezTo>
                  <a:pt x="23928" y="11938"/>
                  <a:pt x="24039" y="11962"/>
                  <a:pt x="24066" y="11906"/>
                </a:cubicBezTo>
                <a:cubicBezTo>
                  <a:pt x="24066" y="11895"/>
                  <a:pt x="24066" y="11885"/>
                  <a:pt x="24066" y="11874"/>
                </a:cubicBezTo>
              </a:path>
              <a:path w="5271" h="2509">
                <a:moveTo>
                  <a:pt x="24098" y="11049"/>
                </a:moveTo>
                <a:cubicBezTo>
                  <a:pt x="24098" y="11149"/>
                  <a:pt x="24073" y="11237"/>
                  <a:pt x="24066" y="11335"/>
                </a:cubicBezTo>
                <a:cubicBezTo>
                  <a:pt x="24048" y="11576"/>
                  <a:pt x="24048" y="11825"/>
                  <a:pt x="24035" y="12065"/>
                </a:cubicBezTo>
                <a:cubicBezTo>
                  <a:pt x="24021" y="12322"/>
                  <a:pt x="24061" y="12571"/>
                  <a:pt x="24066" y="12827"/>
                </a:cubicBezTo>
                <a:cubicBezTo>
                  <a:pt x="24066" y="12880"/>
                  <a:pt x="24066" y="12933"/>
                  <a:pt x="24066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4"/>
          <p:cNvSpPr/>
          <p:nvPr/>
        </p:nvSpPr>
        <p:spPr>
          <a:xfrm>
            <a:off x="4765680" y="4778280"/>
            <a:ext cx="355680" cy="503280"/>
          </a:xfrm>
          <a:custGeom>
            <a:avLst/>
            <a:gdLst/>
            <a:ahLst/>
            <a:rect l="l" t="t" r="r" b="b"/>
            <a:pathLst>
              <a:path w="985" h="1397">
                <a:moveTo>
                  <a:pt x="13335" y="13335"/>
                </a:moveTo>
                <a:cubicBezTo>
                  <a:pt x="13310" y="13409"/>
                  <a:pt x="13335" y="13521"/>
                  <a:pt x="13335" y="13621"/>
                </a:cubicBezTo>
                <a:cubicBezTo>
                  <a:pt x="13335" y="13761"/>
                  <a:pt x="13303" y="13890"/>
                  <a:pt x="13303" y="14034"/>
                </a:cubicBezTo>
                <a:cubicBezTo>
                  <a:pt x="13303" y="14245"/>
                  <a:pt x="13303" y="14457"/>
                  <a:pt x="13303" y="14668"/>
                </a:cubicBezTo>
                <a:cubicBezTo>
                  <a:pt x="13284" y="14570"/>
                  <a:pt x="13272" y="14489"/>
                  <a:pt x="13272" y="14383"/>
                </a:cubicBezTo>
                <a:cubicBezTo>
                  <a:pt x="13272" y="14221"/>
                  <a:pt x="13240" y="14070"/>
                  <a:pt x="13240" y="13906"/>
                </a:cubicBezTo>
                <a:cubicBezTo>
                  <a:pt x="13240" y="13795"/>
                  <a:pt x="13244" y="13634"/>
                  <a:pt x="13272" y="13526"/>
                </a:cubicBezTo>
                <a:cubicBezTo>
                  <a:pt x="13284" y="13480"/>
                  <a:pt x="13335" y="13325"/>
                  <a:pt x="13367" y="13303"/>
                </a:cubicBezTo>
                <a:cubicBezTo>
                  <a:pt x="13403" y="13303"/>
                  <a:pt x="13416" y="13300"/>
                  <a:pt x="13430" y="13272"/>
                </a:cubicBezTo>
                <a:cubicBezTo>
                  <a:pt x="13470" y="13301"/>
                  <a:pt x="13533" y="13315"/>
                  <a:pt x="13557" y="13367"/>
                </a:cubicBezTo>
                <a:cubicBezTo>
                  <a:pt x="13608" y="13474"/>
                  <a:pt x="13617" y="13632"/>
                  <a:pt x="13621" y="13748"/>
                </a:cubicBezTo>
                <a:cubicBezTo>
                  <a:pt x="13632" y="14044"/>
                  <a:pt x="13621" y="14869"/>
                  <a:pt x="13621" y="14573"/>
                </a:cubicBezTo>
                <a:cubicBezTo>
                  <a:pt x="13621" y="14563"/>
                  <a:pt x="13621" y="14552"/>
                  <a:pt x="13621" y="14542"/>
                </a:cubicBezTo>
              </a:path>
              <a:path w="985" h="1397">
                <a:moveTo>
                  <a:pt x="13272" y="14034"/>
                </a:moveTo>
                <a:cubicBezTo>
                  <a:pt x="13261" y="14034"/>
                  <a:pt x="13251" y="14034"/>
                  <a:pt x="13240" y="14034"/>
                </a:cubicBezTo>
                <a:cubicBezTo>
                  <a:pt x="13296" y="14023"/>
                  <a:pt x="13375" y="14018"/>
                  <a:pt x="13430" y="14002"/>
                </a:cubicBezTo>
                <a:cubicBezTo>
                  <a:pt x="13512" y="13978"/>
                  <a:pt x="13582" y="13917"/>
                  <a:pt x="13652" y="13875"/>
                </a:cubicBezTo>
                <a:cubicBezTo>
                  <a:pt x="13673" y="13864"/>
                  <a:pt x="13695" y="13854"/>
                  <a:pt x="13716" y="13843"/>
                </a:cubicBezTo>
              </a:path>
              <a:path w="985" h="1397">
                <a:moveTo>
                  <a:pt x="13811" y="13906"/>
                </a:moveTo>
                <a:cubicBezTo>
                  <a:pt x="13883" y="13924"/>
                  <a:pt x="13889" y="13914"/>
                  <a:pt x="13970" y="13906"/>
                </a:cubicBezTo>
                <a:cubicBezTo>
                  <a:pt x="14026" y="13900"/>
                  <a:pt x="14069" y="13855"/>
                  <a:pt x="14129" y="13843"/>
                </a:cubicBezTo>
              </a:path>
              <a:path w="985" h="1397">
                <a:moveTo>
                  <a:pt x="13906" y="14192"/>
                </a:moveTo>
                <a:cubicBezTo>
                  <a:pt x="13977" y="14192"/>
                  <a:pt x="14034" y="14202"/>
                  <a:pt x="14097" y="14160"/>
                </a:cubicBezTo>
                <a:cubicBezTo>
                  <a:pt x="14141" y="14131"/>
                  <a:pt x="14183" y="14098"/>
                  <a:pt x="14224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5"/>
          <p:cNvSpPr/>
          <p:nvPr/>
        </p:nvSpPr>
        <p:spPr>
          <a:xfrm>
            <a:off x="5292720" y="4354560"/>
            <a:ext cx="903240" cy="927000"/>
          </a:xfrm>
          <a:custGeom>
            <a:avLst/>
            <a:gdLst/>
            <a:ahLst/>
            <a:rect l="l" t="t" r="r" b="b"/>
            <a:pathLst>
              <a:path w="2509" h="2572">
                <a:moveTo>
                  <a:pt x="14922" y="12764"/>
                </a:moveTo>
                <a:cubicBezTo>
                  <a:pt x="14899" y="12826"/>
                  <a:pt x="14889" y="12886"/>
                  <a:pt x="14859" y="12954"/>
                </a:cubicBezTo>
                <a:cubicBezTo>
                  <a:pt x="14805" y="13075"/>
                  <a:pt x="14785" y="13176"/>
                  <a:pt x="14764" y="13303"/>
                </a:cubicBezTo>
                <a:cubicBezTo>
                  <a:pt x="14734" y="13486"/>
                  <a:pt x="14705" y="13658"/>
                  <a:pt x="14700" y="13843"/>
                </a:cubicBezTo>
                <a:cubicBezTo>
                  <a:pt x="14696" y="13991"/>
                  <a:pt x="14722" y="14148"/>
                  <a:pt x="14764" y="14288"/>
                </a:cubicBezTo>
                <a:cubicBezTo>
                  <a:pt x="14793" y="14384"/>
                  <a:pt x="14790" y="14467"/>
                  <a:pt x="14859" y="14542"/>
                </a:cubicBezTo>
                <a:cubicBezTo>
                  <a:pt x="14906" y="14594"/>
                  <a:pt x="14920" y="14601"/>
                  <a:pt x="14986" y="14605"/>
                </a:cubicBezTo>
                <a:cubicBezTo>
                  <a:pt x="15043" y="14608"/>
                  <a:pt x="15035" y="14601"/>
                  <a:pt x="15081" y="14573"/>
                </a:cubicBezTo>
              </a:path>
              <a:path w="2509" h="2572">
                <a:moveTo>
                  <a:pt x="15050" y="13335"/>
                </a:moveTo>
                <a:cubicBezTo>
                  <a:pt x="15158" y="13363"/>
                  <a:pt x="15103" y="13454"/>
                  <a:pt x="15145" y="13526"/>
                </a:cubicBezTo>
                <a:cubicBezTo>
                  <a:pt x="15206" y="13631"/>
                  <a:pt x="15254" y="13726"/>
                  <a:pt x="15304" y="13843"/>
                </a:cubicBezTo>
                <a:cubicBezTo>
                  <a:pt x="15343" y="13935"/>
                  <a:pt x="15401" y="14033"/>
                  <a:pt x="15430" y="14129"/>
                </a:cubicBezTo>
                <a:cubicBezTo>
                  <a:pt x="15448" y="14190"/>
                  <a:pt x="15457" y="14239"/>
                  <a:pt x="15494" y="14288"/>
                </a:cubicBezTo>
              </a:path>
              <a:path w="2509" h="2572">
                <a:moveTo>
                  <a:pt x="15462" y="13113"/>
                </a:moveTo>
                <a:cubicBezTo>
                  <a:pt x="15462" y="13205"/>
                  <a:pt x="15420" y="13278"/>
                  <a:pt x="15399" y="13367"/>
                </a:cubicBezTo>
                <a:cubicBezTo>
                  <a:pt x="15356" y="13545"/>
                  <a:pt x="15289" y="13700"/>
                  <a:pt x="15240" y="13875"/>
                </a:cubicBezTo>
                <a:cubicBezTo>
                  <a:pt x="15203" y="14008"/>
                  <a:pt x="15141" y="14155"/>
                  <a:pt x="15113" y="14288"/>
                </a:cubicBezTo>
                <a:cubicBezTo>
                  <a:pt x="15113" y="14345"/>
                  <a:pt x="15117" y="14362"/>
                  <a:pt x="15081" y="14383"/>
                </a:cubicBezTo>
              </a:path>
              <a:path w="2509" h="2572">
                <a:moveTo>
                  <a:pt x="15716" y="13081"/>
                </a:moveTo>
                <a:cubicBezTo>
                  <a:pt x="15716" y="13171"/>
                  <a:pt x="15692" y="13254"/>
                  <a:pt x="15684" y="13335"/>
                </a:cubicBezTo>
                <a:cubicBezTo>
                  <a:pt x="15671" y="13456"/>
                  <a:pt x="15653" y="13561"/>
                  <a:pt x="15653" y="13684"/>
                </a:cubicBezTo>
                <a:cubicBezTo>
                  <a:pt x="15653" y="13748"/>
                  <a:pt x="15653" y="13811"/>
                  <a:pt x="15653" y="13875"/>
                </a:cubicBezTo>
              </a:path>
              <a:path w="2509" h="2572">
                <a:moveTo>
                  <a:pt x="15526" y="13621"/>
                </a:moveTo>
                <a:cubicBezTo>
                  <a:pt x="15537" y="13621"/>
                  <a:pt x="15547" y="13621"/>
                  <a:pt x="15558" y="13621"/>
                </a:cubicBezTo>
                <a:cubicBezTo>
                  <a:pt x="15579" y="13556"/>
                  <a:pt x="15622" y="13587"/>
                  <a:pt x="15684" y="13557"/>
                </a:cubicBezTo>
                <a:cubicBezTo>
                  <a:pt x="15740" y="13530"/>
                  <a:pt x="15790" y="13526"/>
                  <a:pt x="15843" y="13494"/>
                </a:cubicBezTo>
              </a:path>
              <a:path w="2509" h="2572">
                <a:moveTo>
                  <a:pt x="16097" y="12827"/>
                </a:moveTo>
                <a:cubicBezTo>
                  <a:pt x="16037" y="12848"/>
                  <a:pt x="16051" y="12919"/>
                  <a:pt x="16034" y="12986"/>
                </a:cubicBezTo>
                <a:cubicBezTo>
                  <a:pt x="15996" y="13132"/>
                  <a:pt x="15974" y="13278"/>
                  <a:pt x="15970" y="13430"/>
                </a:cubicBezTo>
                <a:cubicBezTo>
                  <a:pt x="15966" y="13578"/>
                  <a:pt x="15970" y="13733"/>
                  <a:pt x="16002" y="13875"/>
                </a:cubicBezTo>
                <a:cubicBezTo>
                  <a:pt x="16027" y="13986"/>
                  <a:pt x="16056" y="14037"/>
                  <a:pt x="16129" y="14097"/>
                </a:cubicBezTo>
                <a:cubicBezTo>
                  <a:pt x="16160" y="14122"/>
                  <a:pt x="16246" y="14110"/>
                  <a:pt x="16288" y="14065"/>
                </a:cubicBezTo>
                <a:cubicBezTo>
                  <a:pt x="16359" y="13989"/>
                  <a:pt x="16383" y="13813"/>
                  <a:pt x="16415" y="13716"/>
                </a:cubicBezTo>
                <a:cubicBezTo>
                  <a:pt x="16448" y="13615"/>
                  <a:pt x="16446" y="13535"/>
                  <a:pt x="16446" y="13430"/>
                </a:cubicBezTo>
                <a:cubicBezTo>
                  <a:pt x="16446" y="13354"/>
                  <a:pt x="16447" y="13351"/>
                  <a:pt x="16383" y="13335"/>
                </a:cubicBezTo>
                <a:cubicBezTo>
                  <a:pt x="16311" y="13353"/>
                  <a:pt x="16285" y="13427"/>
                  <a:pt x="16256" y="13494"/>
                </a:cubicBezTo>
                <a:cubicBezTo>
                  <a:pt x="16211" y="13599"/>
                  <a:pt x="16197" y="13731"/>
                  <a:pt x="16192" y="13843"/>
                </a:cubicBezTo>
                <a:cubicBezTo>
                  <a:pt x="16187" y="13951"/>
                  <a:pt x="16201" y="14030"/>
                  <a:pt x="16224" y="14129"/>
                </a:cubicBezTo>
                <a:cubicBezTo>
                  <a:pt x="16224" y="14160"/>
                  <a:pt x="16224" y="14171"/>
                  <a:pt x="16256" y="14160"/>
                </a:cubicBezTo>
              </a:path>
              <a:path w="2509" h="2572">
                <a:moveTo>
                  <a:pt x="16320" y="12287"/>
                </a:moveTo>
                <a:cubicBezTo>
                  <a:pt x="16404" y="12373"/>
                  <a:pt x="16451" y="12439"/>
                  <a:pt x="16510" y="12541"/>
                </a:cubicBezTo>
                <a:cubicBezTo>
                  <a:pt x="16595" y="12687"/>
                  <a:pt x="16655" y="12853"/>
                  <a:pt x="16700" y="13018"/>
                </a:cubicBezTo>
                <a:cubicBezTo>
                  <a:pt x="16761" y="13241"/>
                  <a:pt x="16764" y="13454"/>
                  <a:pt x="16764" y="13684"/>
                </a:cubicBezTo>
                <a:cubicBezTo>
                  <a:pt x="16764" y="13902"/>
                  <a:pt x="16749" y="14105"/>
                  <a:pt x="16732" y="14319"/>
                </a:cubicBezTo>
                <a:cubicBezTo>
                  <a:pt x="16723" y="14440"/>
                  <a:pt x="16699" y="14534"/>
                  <a:pt x="16669" y="14637"/>
                </a:cubicBezTo>
                <a:cubicBezTo>
                  <a:pt x="16669" y="14647"/>
                  <a:pt x="16669" y="14658"/>
                  <a:pt x="16669" y="14668"/>
                </a:cubicBezTo>
              </a:path>
              <a:path w="2509" h="2572">
                <a:moveTo>
                  <a:pt x="16796" y="12351"/>
                </a:moveTo>
                <a:cubicBezTo>
                  <a:pt x="16726" y="12328"/>
                  <a:pt x="16779" y="12306"/>
                  <a:pt x="16796" y="12256"/>
                </a:cubicBezTo>
                <a:cubicBezTo>
                  <a:pt x="16816" y="12196"/>
                  <a:pt x="16856" y="12154"/>
                  <a:pt x="16891" y="12128"/>
                </a:cubicBezTo>
                <a:cubicBezTo>
                  <a:pt x="16942" y="12091"/>
                  <a:pt x="16981" y="12126"/>
                  <a:pt x="16986" y="12192"/>
                </a:cubicBezTo>
                <a:cubicBezTo>
                  <a:pt x="16995" y="12322"/>
                  <a:pt x="16946" y="12389"/>
                  <a:pt x="16923" y="12510"/>
                </a:cubicBezTo>
                <a:cubicBezTo>
                  <a:pt x="16903" y="12615"/>
                  <a:pt x="16858" y="12694"/>
                  <a:pt x="16828" y="12795"/>
                </a:cubicBezTo>
                <a:cubicBezTo>
                  <a:pt x="16812" y="12849"/>
                  <a:pt x="16774" y="12902"/>
                  <a:pt x="16764" y="12922"/>
                </a:cubicBezTo>
                <a:cubicBezTo>
                  <a:pt x="16745" y="12960"/>
                  <a:pt x="16777" y="12928"/>
                  <a:pt x="16796" y="12890"/>
                </a:cubicBezTo>
                <a:cubicBezTo>
                  <a:pt x="16818" y="12847"/>
                  <a:pt x="16830" y="12859"/>
                  <a:pt x="16891" y="12859"/>
                </a:cubicBezTo>
                <a:cubicBezTo>
                  <a:pt x="16962" y="12859"/>
                  <a:pt x="17029" y="12875"/>
                  <a:pt x="17082" y="12827"/>
                </a:cubicBezTo>
                <a:cubicBezTo>
                  <a:pt x="17150" y="12766"/>
                  <a:pt x="17145" y="12701"/>
                  <a:pt x="17177" y="12636"/>
                </a:cubicBezTo>
                <a:cubicBezTo>
                  <a:pt x="17206" y="12577"/>
                  <a:pt x="17208" y="12552"/>
                  <a:pt x="1720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6"/>
          <p:cNvSpPr/>
          <p:nvPr/>
        </p:nvSpPr>
        <p:spPr>
          <a:xfrm>
            <a:off x="5565600" y="5018040"/>
            <a:ext cx="835200" cy="457200"/>
          </a:xfrm>
          <a:custGeom>
            <a:avLst/>
            <a:gdLst/>
            <a:ahLst/>
            <a:rect l="l" t="t" r="r" b="b"/>
            <a:pathLst>
              <a:path w="2319" h="1271">
                <a:moveTo>
                  <a:pt x="15494" y="15145"/>
                </a:moveTo>
                <a:cubicBezTo>
                  <a:pt x="15468" y="15197"/>
                  <a:pt x="15444" y="15218"/>
                  <a:pt x="15494" y="15208"/>
                </a:cubicBezTo>
                <a:cubicBezTo>
                  <a:pt x="15511" y="15142"/>
                  <a:pt x="15531" y="15108"/>
                  <a:pt x="15558" y="15050"/>
                </a:cubicBezTo>
                <a:cubicBezTo>
                  <a:pt x="15608" y="14944"/>
                  <a:pt x="15694" y="14871"/>
                  <a:pt x="15748" y="14764"/>
                </a:cubicBezTo>
                <a:cubicBezTo>
                  <a:pt x="15794" y="14672"/>
                  <a:pt x="15867" y="14585"/>
                  <a:pt x="15938" y="14510"/>
                </a:cubicBezTo>
                <a:cubicBezTo>
                  <a:pt x="16032" y="14410"/>
                  <a:pt x="16121" y="14361"/>
                  <a:pt x="16224" y="14288"/>
                </a:cubicBezTo>
                <a:cubicBezTo>
                  <a:pt x="16328" y="14214"/>
                  <a:pt x="16423" y="14120"/>
                  <a:pt x="16542" y="14065"/>
                </a:cubicBezTo>
                <a:cubicBezTo>
                  <a:pt x="16680" y="14002"/>
                  <a:pt x="16813" y="13998"/>
                  <a:pt x="16954" y="13970"/>
                </a:cubicBezTo>
                <a:cubicBezTo>
                  <a:pt x="17084" y="13944"/>
                  <a:pt x="17174" y="13937"/>
                  <a:pt x="17304" y="13970"/>
                </a:cubicBezTo>
                <a:cubicBezTo>
                  <a:pt x="17440" y="14004"/>
                  <a:pt x="17477" y="14094"/>
                  <a:pt x="17558" y="14192"/>
                </a:cubicBezTo>
                <a:cubicBezTo>
                  <a:pt x="17635" y="14285"/>
                  <a:pt x="17639" y="14349"/>
                  <a:pt x="17685" y="14446"/>
                </a:cubicBezTo>
                <a:cubicBezTo>
                  <a:pt x="17706" y="14490"/>
                  <a:pt x="17755" y="14531"/>
                  <a:pt x="17780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7"/>
          <p:cNvSpPr/>
          <p:nvPr/>
        </p:nvSpPr>
        <p:spPr>
          <a:xfrm>
            <a:off x="5018040" y="5029200"/>
            <a:ext cx="1600200" cy="982800"/>
          </a:xfrm>
          <a:custGeom>
            <a:avLst/>
            <a:gdLst/>
            <a:ahLst/>
            <a:rect l="l" t="t" r="r" b="b"/>
            <a:pathLst>
              <a:path w="4446" h="2731">
                <a:moveTo>
                  <a:pt x="14573" y="14891"/>
                </a:moveTo>
                <a:cubicBezTo>
                  <a:pt x="14527" y="14917"/>
                  <a:pt x="14490" y="14942"/>
                  <a:pt x="14446" y="14986"/>
                </a:cubicBezTo>
                <a:cubicBezTo>
                  <a:pt x="14357" y="15075"/>
                  <a:pt x="14353" y="15141"/>
                  <a:pt x="14288" y="15240"/>
                </a:cubicBezTo>
                <a:cubicBezTo>
                  <a:pt x="14226" y="15336"/>
                  <a:pt x="14143" y="15415"/>
                  <a:pt x="14097" y="15526"/>
                </a:cubicBezTo>
                <a:cubicBezTo>
                  <a:pt x="14049" y="15640"/>
                  <a:pt x="14009" y="15758"/>
                  <a:pt x="13970" y="15875"/>
                </a:cubicBezTo>
                <a:cubicBezTo>
                  <a:pt x="13933" y="15985"/>
                  <a:pt x="13938" y="16077"/>
                  <a:pt x="13938" y="16192"/>
                </a:cubicBezTo>
                <a:cubicBezTo>
                  <a:pt x="13938" y="16324"/>
                  <a:pt x="13944" y="16393"/>
                  <a:pt x="14002" y="16510"/>
                </a:cubicBezTo>
                <a:cubicBezTo>
                  <a:pt x="14032" y="16570"/>
                  <a:pt x="14035" y="16630"/>
                  <a:pt x="14097" y="16669"/>
                </a:cubicBezTo>
                <a:cubicBezTo>
                  <a:pt x="14135" y="16693"/>
                  <a:pt x="14177" y="16693"/>
                  <a:pt x="14224" y="16700"/>
                </a:cubicBezTo>
              </a:path>
              <a:path w="4446" h="2731">
                <a:moveTo>
                  <a:pt x="14478" y="15430"/>
                </a:moveTo>
                <a:cubicBezTo>
                  <a:pt x="14478" y="15522"/>
                  <a:pt x="14523" y="15521"/>
                  <a:pt x="14542" y="15589"/>
                </a:cubicBezTo>
                <a:cubicBezTo>
                  <a:pt x="14564" y="15666"/>
                  <a:pt x="14584" y="15709"/>
                  <a:pt x="14637" y="15780"/>
                </a:cubicBezTo>
                <a:cubicBezTo>
                  <a:pt x="14678" y="15836"/>
                  <a:pt x="14714" y="15888"/>
                  <a:pt x="14764" y="15938"/>
                </a:cubicBezTo>
                <a:cubicBezTo>
                  <a:pt x="14803" y="15977"/>
                  <a:pt x="14800" y="16026"/>
                  <a:pt x="14827" y="16066"/>
                </a:cubicBezTo>
                <a:cubicBezTo>
                  <a:pt x="14838" y="16076"/>
                  <a:pt x="14848" y="16087"/>
                  <a:pt x="14859" y="16097"/>
                </a:cubicBezTo>
              </a:path>
              <a:path w="4446" h="2731">
                <a:moveTo>
                  <a:pt x="14859" y="15240"/>
                </a:moveTo>
                <a:cubicBezTo>
                  <a:pt x="14843" y="15288"/>
                  <a:pt x="14824" y="15291"/>
                  <a:pt x="14796" y="15367"/>
                </a:cubicBezTo>
                <a:cubicBezTo>
                  <a:pt x="14735" y="15534"/>
                  <a:pt x="14681" y="15703"/>
                  <a:pt x="14637" y="15875"/>
                </a:cubicBezTo>
                <a:cubicBezTo>
                  <a:pt x="14596" y="16034"/>
                  <a:pt x="14561" y="16195"/>
                  <a:pt x="14510" y="16351"/>
                </a:cubicBezTo>
                <a:cubicBezTo>
                  <a:pt x="14482" y="16435"/>
                  <a:pt x="14471" y="16454"/>
                  <a:pt x="14478" y="16510"/>
                </a:cubicBezTo>
              </a:path>
              <a:path w="4446" h="2731">
                <a:moveTo>
                  <a:pt x="15145" y="15272"/>
                </a:moveTo>
                <a:cubicBezTo>
                  <a:pt x="15203" y="15351"/>
                  <a:pt x="15160" y="15359"/>
                  <a:pt x="15145" y="15462"/>
                </a:cubicBezTo>
                <a:cubicBezTo>
                  <a:pt x="15120" y="15635"/>
                  <a:pt x="15145" y="15827"/>
                  <a:pt x="15145" y="16002"/>
                </a:cubicBezTo>
              </a:path>
              <a:path w="4446" h="2731">
                <a:moveTo>
                  <a:pt x="15018" y="15716"/>
                </a:moveTo>
                <a:cubicBezTo>
                  <a:pt x="15018" y="15727"/>
                  <a:pt x="15018" y="15737"/>
                  <a:pt x="15018" y="15748"/>
                </a:cubicBezTo>
                <a:cubicBezTo>
                  <a:pt x="15068" y="15761"/>
                  <a:pt x="15088" y="15780"/>
                  <a:pt x="15145" y="15780"/>
                </a:cubicBezTo>
                <a:cubicBezTo>
                  <a:pt x="15206" y="15780"/>
                  <a:pt x="15209" y="15775"/>
                  <a:pt x="15272" y="15748"/>
                </a:cubicBezTo>
              </a:path>
              <a:path w="4446" h="2731">
                <a:moveTo>
                  <a:pt x="15589" y="15018"/>
                </a:moveTo>
                <a:cubicBezTo>
                  <a:pt x="15545" y="15033"/>
                  <a:pt x="15532" y="15183"/>
                  <a:pt x="15526" y="15240"/>
                </a:cubicBezTo>
                <a:cubicBezTo>
                  <a:pt x="15512" y="15373"/>
                  <a:pt x="15516" y="15520"/>
                  <a:pt x="15494" y="15653"/>
                </a:cubicBezTo>
                <a:cubicBezTo>
                  <a:pt x="15472" y="15783"/>
                  <a:pt x="15437" y="15930"/>
                  <a:pt x="15462" y="16066"/>
                </a:cubicBezTo>
                <a:cubicBezTo>
                  <a:pt x="15477" y="16145"/>
                  <a:pt x="15510" y="16190"/>
                  <a:pt x="15526" y="16256"/>
                </a:cubicBezTo>
                <a:cubicBezTo>
                  <a:pt x="15569" y="16256"/>
                  <a:pt x="15623" y="16247"/>
                  <a:pt x="15653" y="16224"/>
                </a:cubicBezTo>
                <a:cubicBezTo>
                  <a:pt x="15748" y="16149"/>
                  <a:pt x="15735" y="16102"/>
                  <a:pt x="15780" y="16002"/>
                </a:cubicBezTo>
                <a:cubicBezTo>
                  <a:pt x="15824" y="15904"/>
                  <a:pt x="15843" y="15856"/>
                  <a:pt x="15843" y="15748"/>
                </a:cubicBezTo>
                <a:cubicBezTo>
                  <a:pt x="15843" y="15677"/>
                  <a:pt x="15851" y="15643"/>
                  <a:pt x="15812" y="15589"/>
                </a:cubicBezTo>
                <a:cubicBezTo>
                  <a:pt x="15777" y="15601"/>
                  <a:pt x="15752" y="15632"/>
                  <a:pt x="15748" y="15684"/>
                </a:cubicBezTo>
                <a:cubicBezTo>
                  <a:pt x="15742" y="15774"/>
                  <a:pt x="15716" y="15844"/>
                  <a:pt x="15716" y="15938"/>
                </a:cubicBezTo>
                <a:cubicBezTo>
                  <a:pt x="15716" y="15990"/>
                  <a:pt x="15688" y="16131"/>
                  <a:pt x="15748" y="16161"/>
                </a:cubicBezTo>
                <a:cubicBezTo>
                  <a:pt x="15759" y="16161"/>
                  <a:pt x="15769" y="16161"/>
                  <a:pt x="15780" y="16161"/>
                </a:cubicBezTo>
              </a:path>
              <a:path w="4446" h="2731">
                <a:moveTo>
                  <a:pt x="15716" y="14700"/>
                </a:moveTo>
                <a:cubicBezTo>
                  <a:pt x="15734" y="14723"/>
                  <a:pt x="15783" y="14778"/>
                  <a:pt x="15812" y="14827"/>
                </a:cubicBezTo>
                <a:cubicBezTo>
                  <a:pt x="15865" y="14916"/>
                  <a:pt x="15914" y="14997"/>
                  <a:pt x="15970" y="15081"/>
                </a:cubicBezTo>
                <a:cubicBezTo>
                  <a:pt x="16041" y="15187"/>
                  <a:pt x="16110" y="15315"/>
                  <a:pt x="16161" y="15430"/>
                </a:cubicBezTo>
                <a:cubicBezTo>
                  <a:pt x="16216" y="15556"/>
                  <a:pt x="16264" y="15773"/>
                  <a:pt x="16256" y="15907"/>
                </a:cubicBezTo>
                <a:cubicBezTo>
                  <a:pt x="16246" y="16081"/>
                  <a:pt x="16235" y="16309"/>
                  <a:pt x="16192" y="16478"/>
                </a:cubicBezTo>
                <a:cubicBezTo>
                  <a:pt x="16167" y="16530"/>
                  <a:pt x="16156" y="16539"/>
                  <a:pt x="16161" y="16574"/>
                </a:cubicBezTo>
              </a:path>
              <a:path w="4446" h="2731">
                <a:moveTo>
                  <a:pt x="16542" y="14478"/>
                </a:moveTo>
                <a:cubicBezTo>
                  <a:pt x="16525" y="14507"/>
                  <a:pt x="16501" y="14572"/>
                  <a:pt x="16478" y="14637"/>
                </a:cubicBezTo>
                <a:cubicBezTo>
                  <a:pt x="16430" y="14774"/>
                  <a:pt x="16392" y="14912"/>
                  <a:pt x="16351" y="15050"/>
                </a:cubicBezTo>
                <a:cubicBezTo>
                  <a:pt x="16303" y="15213"/>
                  <a:pt x="16259" y="15363"/>
                  <a:pt x="16224" y="15526"/>
                </a:cubicBezTo>
                <a:cubicBezTo>
                  <a:pt x="16194" y="15666"/>
                  <a:pt x="16161" y="15761"/>
                  <a:pt x="16161" y="15907"/>
                </a:cubicBezTo>
                <a:cubicBezTo>
                  <a:pt x="16161" y="16027"/>
                  <a:pt x="16198" y="16066"/>
                  <a:pt x="16256" y="16161"/>
                </a:cubicBezTo>
                <a:cubicBezTo>
                  <a:pt x="16291" y="16218"/>
                  <a:pt x="16275" y="16212"/>
                  <a:pt x="16351" y="16256"/>
                </a:cubicBezTo>
              </a:path>
              <a:path w="4446" h="2731">
                <a:moveTo>
                  <a:pt x="16446" y="15050"/>
                </a:moveTo>
                <a:cubicBezTo>
                  <a:pt x="16446" y="15113"/>
                  <a:pt x="16440" y="15151"/>
                  <a:pt x="16478" y="15208"/>
                </a:cubicBezTo>
                <a:cubicBezTo>
                  <a:pt x="16526" y="15279"/>
                  <a:pt x="16566" y="15351"/>
                  <a:pt x="16605" y="15430"/>
                </a:cubicBezTo>
                <a:cubicBezTo>
                  <a:pt x="16650" y="15521"/>
                  <a:pt x="16717" y="15591"/>
                  <a:pt x="16764" y="15684"/>
                </a:cubicBezTo>
                <a:cubicBezTo>
                  <a:pt x="16805" y="15766"/>
                  <a:pt x="16858" y="15825"/>
                  <a:pt x="16891" y="15907"/>
                </a:cubicBezTo>
                <a:cubicBezTo>
                  <a:pt x="16917" y="15959"/>
                  <a:pt x="16928" y="15967"/>
                  <a:pt x="16923" y="16002"/>
                </a:cubicBezTo>
              </a:path>
              <a:path w="4446" h="2731">
                <a:moveTo>
                  <a:pt x="16954" y="14891"/>
                </a:moveTo>
                <a:cubicBezTo>
                  <a:pt x="16909" y="14906"/>
                  <a:pt x="16912" y="14989"/>
                  <a:pt x="16891" y="15050"/>
                </a:cubicBezTo>
                <a:cubicBezTo>
                  <a:pt x="16834" y="15214"/>
                  <a:pt x="16807" y="15389"/>
                  <a:pt x="16764" y="15558"/>
                </a:cubicBezTo>
                <a:cubicBezTo>
                  <a:pt x="16720" y="15732"/>
                  <a:pt x="16660" y="15919"/>
                  <a:pt x="16637" y="16097"/>
                </a:cubicBezTo>
                <a:cubicBezTo>
                  <a:pt x="16626" y="16183"/>
                  <a:pt x="16615" y="16265"/>
                  <a:pt x="16605" y="16351"/>
                </a:cubicBezTo>
              </a:path>
              <a:path w="4446" h="2731">
                <a:moveTo>
                  <a:pt x="17240" y="14827"/>
                </a:moveTo>
                <a:lnTo>
                  <a:pt x="17240" y="14827"/>
                </a:lnTo>
              </a:path>
              <a:path w="4446" h="2731">
                <a:moveTo>
                  <a:pt x="17050" y="15367"/>
                </a:moveTo>
                <a:cubicBezTo>
                  <a:pt x="17151" y="15367"/>
                  <a:pt x="17280" y="15393"/>
                  <a:pt x="17367" y="15335"/>
                </a:cubicBezTo>
                <a:cubicBezTo>
                  <a:pt x="17402" y="15312"/>
                  <a:pt x="17433" y="15270"/>
                  <a:pt x="17462" y="15240"/>
                </a:cubicBezTo>
              </a:path>
              <a:path w="4446" h="2731">
                <a:moveTo>
                  <a:pt x="17685" y="14319"/>
                </a:moveTo>
                <a:cubicBezTo>
                  <a:pt x="17657" y="14393"/>
                  <a:pt x="17603" y="14495"/>
                  <a:pt x="17590" y="14573"/>
                </a:cubicBezTo>
                <a:cubicBezTo>
                  <a:pt x="17569" y="14697"/>
                  <a:pt x="17581" y="14830"/>
                  <a:pt x="17558" y="14954"/>
                </a:cubicBezTo>
                <a:cubicBezTo>
                  <a:pt x="17532" y="15095"/>
                  <a:pt x="17526" y="15220"/>
                  <a:pt x="17526" y="15367"/>
                </a:cubicBezTo>
                <a:cubicBezTo>
                  <a:pt x="17526" y="15466"/>
                  <a:pt x="17517" y="15596"/>
                  <a:pt x="17558" y="15684"/>
                </a:cubicBezTo>
                <a:cubicBezTo>
                  <a:pt x="17595" y="15764"/>
                  <a:pt x="17632" y="15805"/>
                  <a:pt x="17716" y="15812"/>
                </a:cubicBezTo>
                <a:cubicBezTo>
                  <a:pt x="17764" y="15816"/>
                  <a:pt x="17814" y="15824"/>
                  <a:pt x="17844" y="15780"/>
                </a:cubicBezTo>
                <a:cubicBezTo>
                  <a:pt x="17892" y="15710"/>
                  <a:pt x="17932" y="15635"/>
                  <a:pt x="17970" y="15558"/>
                </a:cubicBezTo>
                <a:cubicBezTo>
                  <a:pt x="18008" y="15482"/>
                  <a:pt x="18030" y="15388"/>
                  <a:pt x="18034" y="15304"/>
                </a:cubicBezTo>
                <a:cubicBezTo>
                  <a:pt x="18038" y="15212"/>
                  <a:pt x="18056" y="15099"/>
                  <a:pt x="18002" y="15018"/>
                </a:cubicBezTo>
                <a:cubicBezTo>
                  <a:pt x="17973" y="14989"/>
                  <a:pt x="17967" y="14979"/>
                  <a:pt x="17939" y="14986"/>
                </a:cubicBezTo>
                <a:cubicBezTo>
                  <a:pt x="17923" y="15035"/>
                  <a:pt x="17869" y="15036"/>
                  <a:pt x="17844" y="15113"/>
                </a:cubicBezTo>
                <a:cubicBezTo>
                  <a:pt x="17817" y="15195"/>
                  <a:pt x="17834" y="15288"/>
                  <a:pt x="17812" y="15367"/>
                </a:cubicBezTo>
                <a:cubicBezTo>
                  <a:pt x="17790" y="15444"/>
                  <a:pt x="17756" y="15535"/>
                  <a:pt x="17780" y="15621"/>
                </a:cubicBezTo>
                <a:cubicBezTo>
                  <a:pt x="17798" y="15685"/>
                  <a:pt x="17812" y="15711"/>
                  <a:pt x="17812" y="15780"/>
                </a:cubicBezTo>
              </a:path>
              <a:path w="4446" h="2731">
                <a:moveTo>
                  <a:pt x="17208" y="14859"/>
                </a:moveTo>
                <a:cubicBezTo>
                  <a:pt x="17208" y="15229"/>
                  <a:pt x="17208" y="15600"/>
                  <a:pt x="17208" y="15970"/>
                </a:cubicBezTo>
              </a:path>
              <a:path w="4446" h="2731">
                <a:moveTo>
                  <a:pt x="17780" y="13970"/>
                </a:moveTo>
                <a:cubicBezTo>
                  <a:pt x="17852" y="13979"/>
                  <a:pt x="17877" y="13997"/>
                  <a:pt x="17939" y="14034"/>
                </a:cubicBezTo>
                <a:cubicBezTo>
                  <a:pt x="18017" y="14081"/>
                  <a:pt x="18104" y="14178"/>
                  <a:pt x="18161" y="14256"/>
                </a:cubicBezTo>
                <a:cubicBezTo>
                  <a:pt x="18237" y="14360"/>
                  <a:pt x="18285" y="14481"/>
                  <a:pt x="18320" y="14605"/>
                </a:cubicBezTo>
                <a:cubicBezTo>
                  <a:pt x="18370" y="14781"/>
                  <a:pt x="18383" y="14931"/>
                  <a:pt x="18383" y="15113"/>
                </a:cubicBezTo>
                <a:cubicBezTo>
                  <a:pt x="18383" y="15318"/>
                  <a:pt x="18370" y="15485"/>
                  <a:pt x="18320" y="15684"/>
                </a:cubicBezTo>
                <a:cubicBezTo>
                  <a:pt x="18280" y="15844"/>
                  <a:pt x="18224" y="16008"/>
                  <a:pt x="18161" y="16161"/>
                </a:cubicBezTo>
                <a:cubicBezTo>
                  <a:pt x="18136" y="16221"/>
                  <a:pt x="18092" y="16258"/>
                  <a:pt x="18066" y="16288"/>
                </a:cubicBezTo>
              </a:path>
              <a:path w="4446" h="2731">
                <a:moveTo>
                  <a:pt x="14700" y="15272"/>
                </a:moveTo>
                <a:cubicBezTo>
                  <a:pt x="14718" y="15225"/>
                  <a:pt x="14755" y="15158"/>
                  <a:pt x="14764" y="15113"/>
                </a:cubicBezTo>
                <a:cubicBezTo>
                  <a:pt x="14779" y="15038"/>
                  <a:pt x="14808" y="14989"/>
                  <a:pt x="14859" y="14922"/>
                </a:cubicBezTo>
                <a:cubicBezTo>
                  <a:pt x="14905" y="14861"/>
                  <a:pt x="14940" y="14793"/>
                  <a:pt x="14986" y="14732"/>
                </a:cubicBezTo>
                <a:cubicBezTo>
                  <a:pt x="15037" y="14664"/>
                  <a:pt x="15126" y="14631"/>
                  <a:pt x="15176" y="14573"/>
                </a:cubicBezTo>
                <a:cubicBezTo>
                  <a:pt x="15244" y="14494"/>
                  <a:pt x="15299" y="14464"/>
                  <a:pt x="15399" y="14414"/>
                </a:cubicBezTo>
                <a:cubicBezTo>
                  <a:pt x="15462" y="14383"/>
                  <a:pt x="15553" y="14300"/>
                  <a:pt x="15621" y="14288"/>
                </a:cubicBezTo>
                <a:cubicBezTo>
                  <a:pt x="15767" y="14262"/>
                  <a:pt x="15930" y="14297"/>
                  <a:pt x="16066" y="14319"/>
                </a:cubicBezTo>
                <a:cubicBezTo>
                  <a:pt x="16139" y="14331"/>
                  <a:pt x="16265" y="14354"/>
                  <a:pt x="16320" y="14414"/>
                </a:cubicBezTo>
                <a:cubicBezTo>
                  <a:pt x="16348" y="14444"/>
                  <a:pt x="16436" y="14568"/>
                  <a:pt x="16446" y="14605"/>
                </a:cubicBezTo>
                <a:cubicBezTo>
                  <a:pt x="16466" y="14679"/>
                  <a:pt x="16470" y="14730"/>
                  <a:pt x="16510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8"/>
          <p:cNvSpPr/>
          <p:nvPr/>
        </p:nvSpPr>
        <p:spPr>
          <a:xfrm>
            <a:off x="5257800" y="5635800"/>
            <a:ext cx="3749760" cy="925200"/>
          </a:xfrm>
          <a:custGeom>
            <a:avLst/>
            <a:gdLst/>
            <a:ahLst/>
            <a:rect l="l" t="t" r="r" b="b"/>
            <a:pathLst>
              <a:path w="10415" h="2572">
                <a:moveTo>
                  <a:pt x="14732" y="16986"/>
                </a:moveTo>
                <a:cubicBezTo>
                  <a:pt x="14792" y="17046"/>
                  <a:pt x="14814" y="17085"/>
                  <a:pt x="14827" y="17177"/>
                </a:cubicBezTo>
                <a:cubicBezTo>
                  <a:pt x="14842" y="17279"/>
                  <a:pt x="14855" y="17392"/>
                  <a:pt x="14859" y="17494"/>
                </a:cubicBezTo>
                <a:cubicBezTo>
                  <a:pt x="14864" y="17608"/>
                  <a:pt x="14905" y="17703"/>
                  <a:pt x="14922" y="17812"/>
                </a:cubicBezTo>
                <a:cubicBezTo>
                  <a:pt x="14935" y="17895"/>
                  <a:pt x="14932" y="17962"/>
                  <a:pt x="14954" y="18034"/>
                </a:cubicBezTo>
                <a:cubicBezTo>
                  <a:pt x="14970" y="18086"/>
                  <a:pt x="14969" y="18046"/>
                  <a:pt x="14986" y="18098"/>
                </a:cubicBezTo>
              </a:path>
              <a:path w="10415" h="2572">
                <a:moveTo>
                  <a:pt x="15050" y="17082"/>
                </a:moveTo>
                <a:cubicBezTo>
                  <a:pt x="15050" y="17009"/>
                  <a:pt x="15021" y="17132"/>
                  <a:pt x="15018" y="17145"/>
                </a:cubicBezTo>
                <a:cubicBezTo>
                  <a:pt x="14995" y="17250"/>
                  <a:pt x="14974" y="17355"/>
                  <a:pt x="14954" y="17462"/>
                </a:cubicBezTo>
                <a:cubicBezTo>
                  <a:pt x="14921" y="17637"/>
                  <a:pt x="14870" y="17833"/>
                  <a:pt x="14827" y="18002"/>
                </a:cubicBezTo>
                <a:cubicBezTo>
                  <a:pt x="14812" y="18062"/>
                  <a:pt x="14793" y="18113"/>
                  <a:pt x="14764" y="18161"/>
                </a:cubicBezTo>
              </a:path>
              <a:path w="10415" h="2572">
                <a:moveTo>
                  <a:pt x="15113" y="17050"/>
                </a:moveTo>
                <a:cubicBezTo>
                  <a:pt x="15125" y="17013"/>
                  <a:pt x="15139" y="16995"/>
                  <a:pt x="15176" y="16954"/>
                </a:cubicBezTo>
                <a:cubicBezTo>
                  <a:pt x="15218" y="16907"/>
                  <a:pt x="15225" y="16848"/>
                  <a:pt x="15272" y="16796"/>
                </a:cubicBezTo>
                <a:cubicBezTo>
                  <a:pt x="15308" y="16756"/>
                  <a:pt x="15318" y="16764"/>
                  <a:pt x="15367" y="16764"/>
                </a:cubicBezTo>
                <a:cubicBezTo>
                  <a:pt x="15367" y="16844"/>
                  <a:pt x="15356" y="16943"/>
                  <a:pt x="15335" y="17018"/>
                </a:cubicBezTo>
                <a:cubicBezTo>
                  <a:pt x="15312" y="17101"/>
                  <a:pt x="15270" y="17165"/>
                  <a:pt x="15240" y="17240"/>
                </a:cubicBezTo>
                <a:cubicBezTo>
                  <a:pt x="15210" y="17315"/>
                  <a:pt x="15218" y="17251"/>
                  <a:pt x="15240" y="17240"/>
                </a:cubicBezTo>
                <a:cubicBezTo>
                  <a:pt x="15272" y="17224"/>
                  <a:pt x="15312" y="17211"/>
                  <a:pt x="15335" y="17208"/>
                </a:cubicBezTo>
                <a:cubicBezTo>
                  <a:pt x="15386" y="17202"/>
                  <a:pt x="15442" y="17208"/>
                  <a:pt x="15494" y="17208"/>
                </a:cubicBezTo>
              </a:path>
              <a:path w="10415" h="2572">
                <a:moveTo>
                  <a:pt x="14637" y="16224"/>
                </a:moveTo>
                <a:cubicBezTo>
                  <a:pt x="14626" y="16235"/>
                  <a:pt x="14616" y="16245"/>
                  <a:pt x="14605" y="16256"/>
                </a:cubicBezTo>
              </a:path>
              <a:path w="10415" h="2572">
                <a:moveTo>
                  <a:pt x="14637" y="16224"/>
                </a:moveTo>
                <a:lnTo>
                  <a:pt x="14637" y="16224"/>
                </a:lnTo>
              </a:path>
              <a:path w="10415" h="2572">
                <a:moveTo>
                  <a:pt x="14637" y="16256"/>
                </a:moveTo>
                <a:cubicBezTo>
                  <a:pt x="14669" y="16272"/>
                  <a:pt x="14739" y="16301"/>
                  <a:pt x="14764" y="16320"/>
                </a:cubicBezTo>
                <a:cubicBezTo>
                  <a:pt x="14812" y="16357"/>
                  <a:pt x="14841" y="16387"/>
                  <a:pt x="14891" y="16415"/>
                </a:cubicBezTo>
                <a:cubicBezTo>
                  <a:pt x="14935" y="16439"/>
                  <a:pt x="15003" y="16462"/>
                  <a:pt x="15050" y="16478"/>
                </a:cubicBezTo>
                <a:cubicBezTo>
                  <a:pt x="15114" y="16500"/>
                  <a:pt x="15170" y="16507"/>
                  <a:pt x="15240" y="16510"/>
                </a:cubicBezTo>
                <a:cubicBezTo>
                  <a:pt x="15334" y="16514"/>
                  <a:pt x="15407" y="16527"/>
                  <a:pt x="15494" y="16542"/>
                </a:cubicBezTo>
                <a:cubicBezTo>
                  <a:pt x="15595" y="16559"/>
                  <a:pt x="15681" y="16515"/>
                  <a:pt x="15780" y="16510"/>
                </a:cubicBezTo>
                <a:cubicBezTo>
                  <a:pt x="16100" y="16495"/>
                  <a:pt x="16418" y="16521"/>
                  <a:pt x="16732" y="16478"/>
                </a:cubicBezTo>
                <a:cubicBezTo>
                  <a:pt x="16826" y="16465"/>
                  <a:pt x="16929" y="16458"/>
                  <a:pt x="17018" y="16446"/>
                </a:cubicBezTo>
                <a:cubicBezTo>
                  <a:pt x="17142" y="16430"/>
                  <a:pt x="17206" y="16402"/>
                  <a:pt x="17304" y="16320"/>
                </a:cubicBezTo>
                <a:cubicBezTo>
                  <a:pt x="17378" y="16258"/>
                  <a:pt x="17496" y="16198"/>
                  <a:pt x="17558" y="16129"/>
                </a:cubicBezTo>
                <a:cubicBezTo>
                  <a:pt x="17595" y="16088"/>
                  <a:pt x="17618" y="16044"/>
                  <a:pt x="17653" y="16002"/>
                </a:cubicBezTo>
              </a:path>
              <a:path w="10415" h="2572">
                <a:moveTo>
                  <a:pt x="15780" y="17272"/>
                </a:moveTo>
                <a:cubicBezTo>
                  <a:pt x="15780" y="17240"/>
                  <a:pt x="15780" y="17229"/>
                  <a:pt x="15748" y="17240"/>
                </a:cubicBezTo>
              </a:path>
              <a:path w="10415" h="2572">
                <a:moveTo>
                  <a:pt x="15780" y="17272"/>
                </a:moveTo>
                <a:cubicBezTo>
                  <a:pt x="15759" y="17261"/>
                  <a:pt x="15737" y="17251"/>
                  <a:pt x="15716" y="17240"/>
                </a:cubicBezTo>
              </a:path>
              <a:path w="10415" h="2572">
                <a:moveTo>
                  <a:pt x="15716" y="17240"/>
                </a:moveTo>
                <a:cubicBezTo>
                  <a:pt x="15716" y="17323"/>
                  <a:pt x="15743" y="17382"/>
                  <a:pt x="15748" y="17462"/>
                </a:cubicBezTo>
                <a:cubicBezTo>
                  <a:pt x="15754" y="17575"/>
                  <a:pt x="15761" y="17674"/>
                  <a:pt x="15780" y="17780"/>
                </a:cubicBezTo>
                <a:cubicBezTo>
                  <a:pt x="15788" y="17828"/>
                  <a:pt x="15780" y="17890"/>
                  <a:pt x="15780" y="17939"/>
                </a:cubicBezTo>
              </a:path>
              <a:path w="10415" h="2572">
                <a:moveTo>
                  <a:pt x="15684" y="17716"/>
                </a:moveTo>
                <a:cubicBezTo>
                  <a:pt x="15711" y="17710"/>
                  <a:pt x="15799" y="17669"/>
                  <a:pt x="15812" y="17653"/>
                </a:cubicBezTo>
                <a:cubicBezTo>
                  <a:pt x="15848" y="17608"/>
                  <a:pt x="15865" y="17568"/>
                  <a:pt x="15907" y="17526"/>
                </a:cubicBezTo>
              </a:path>
              <a:path w="10415" h="2572">
                <a:moveTo>
                  <a:pt x="16129" y="16986"/>
                </a:moveTo>
                <a:cubicBezTo>
                  <a:pt x="16129" y="17162"/>
                  <a:pt x="16137" y="17324"/>
                  <a:pt x="16161" y="17494"/>
                </a:cubicBezTo>
                <a:cubicBezTo>
                  <a:pt x="16172" y="17573"/>
                  <a:pt x="16162" y="17641"/>
                  <a:pt x="16192" y="17716"/>
                </a:cubicBezTo>
                <a:cubicBezTo>
                  <a:pt x="16217" y="17777"/>
                  <a:pt x="16219" y="17836"/>
                  <a:pt x="16288" y="17844"/>
                </a:cubicBezTo>
                <a:cubicBezTo>
                  <a:pt x="16327" y="17848"/>
                  <a:pt x="16374" y="17831"/>
                  <a:pt x="16383" y="17812"/>
                </a:cubicBezTo>
                <a:cubicBezTo>
                  <a:pt x="16396" y="17785"/>
                  <a:pt x="16412" y="17713"/>
                  <a:pt x="16415" y="17685"/>
                </a:cubicBezTo>
                <a:cubicBezTo>
                  <a:pt x="16424" y="17606"/>
                  <a:pt x="16404" y="17556"/>
                  <a:pt x="16383" y="17494"/>
                </a:cubicBezTo>
                <a:cubicBezTo>
                  <a:pt x="16375" y="17470"/>
                  <a:pt x="16383" y="17424"/>
                  <a:pt x="16383" y="17399"/>
                </a:cubicBezTo>
                <a:cubicBezTo>
                  <a:pt x="16346" y="17411"/>
                  <a:pt x="16326" y="17442"/>
                  <a:pt x="16320" y="17494"/>
                </a:cubicBezTo>
                <a:cubicBezTo>
                  <a:pt x="16312" y="17565"/>
                  <a:pt x="16288" y="17609"/>
                  <a:pt x="16288" y="17685"/>
                </a:cubicBezTo>
                <a:cubicBezTo>
                  <a:pt x="16288" y="17742"/>
                  <a:pt x="16326" y="17761"/>
                  <a:pt x="16351" y="17780"/>
                </a:cubicBezTo>
                <a:cubicBezTo>
                  <a:pt x="16362" y="17791"/>
                  <a:pt x="16372" y="17801"/>
                  <a:pt x="16383" y="17812"/>
                </a:cubicBezTo>
              </a:path>
              <a:path w="10415" h="2572">
                <a:moveTo>
                  <a:pt x="16574" y="17240"/>
                </a:moveTo>
                <a:cubicBezTo>
                  <a:pt x="16587" y="17294"/>
                  <a:pt x="16610" y="17320"/>
                  <a:pt x="16637" y="17367"/>
                </a:cubicBezTo>
                <a:cubicBezTo>
                  <a:pt x="16666" y="17418"/>
                  <a:pt x="16704" y="17484"/>
                  <a:pt x="16732" y="17526"/>
                </a:cubicBezTo>
                <a:cubicBezTo>
                  <a:pt x="16763" y="17572"/>
                  <a:pt x="16837" y="17603"/>
                  <a:pt x="16859" y="17653"/>
                </a:cubicBezTo>
                <a:cubicBezTo>
                  <a:pt x="16859" y="17689"/>
                  <a:pt x="16862" y="17703"/>
                  <a:pt x="16891" y="17716"/>
                </a:cubicBezTo>
              </a:path>
              <a:path w="10415" h="2572">
                <a:moveTo>
                  <a:pt x="16796" y="17050"/>
                </a:moveTo>
                <a:cubicBezTo>
                  <a:pt x="16796" y="17153"/>
                  <a:pt x="16781" y="17267"/>
                  <a:pt x="16764" y="17367"/>
                </a:cubicBezTo>
                <a:cubicBezTo>
                  <a:pt x="16738" y="17520"/>
                  <a:pt x="16732" y="17655"/>
                  <a:pt x="16732" y="17812"/>
                </a:cubicBezTo>
                <a:cubicBezTo>
                  <a:pt x="16732" y="17907"/>
                  <a:pt x="16732" y="17939"/>
                  <a:pt x="16732" y="18002"/>
                </a:cubicBezTo>
              </a:path>
              <a:path w="10415" h="2572">
                <a:moveTo>
                  <a:pt x="15526" y="16224"/>
                </a:moveTo>
                <a:cubicBezTo>
                  <a:pt x="15537" y="16269"/>
                  <a:pt x="15580" y="16309"/>
                  <a:pt x="15589" y="16351"/>
                </a:cubicBezTo>
                <a:cubicBezTo>
                  <a:pt x="15612" y="16459"/>
                  <a:pt x="15627" y="16443"/>
                  <a:pt x="15716" y="16510"/>
                </a:cubicBezTo>
                <a:cubicBezTo>
                  <a:pt x="15763" y="16546"/>
                  <a:pt x="15821" y="16572"/>
                  <a:pt x="15875" y="16605"/>
                </a:cubicBezTo>
                <a:cubicBezTo>
                  <a:pt x="15939" y="16643"/>
                  <a:pt x="16027" y="16665"/>
                  <a:pt x="16097" y="16669"/>
                </a:cubicBezTo>
                <a:cubicBezTo>
                  <a:pt x="16170" y="16673"/>
                  <a:pt x="16255" y="16659"/>
                  <a:pt x="16320" y="16637"/>
                </a:cubicBezTo>
                <a:cubicBezTo>
                  <a:pt x="16384" y="16616"/>
                  <a:pt x="16462" y="16555"/>
                  <a:pt x="16510" y="16510"/>
                </a:cubicBezTo>
                <a:cubicBezTo>
                  <a:pt x="16604" y="16422"/>
                  <a:pt x="16666" y="16328"/>
                  <a:pt x="16732" y="16224"/>
                </a:cubicBezTo>
                <a:cubicBezTo>
                  <a:pt x="16764" y="16161"/>
                  <a:pt x="16775" y="16139"/>
                  <a:pt x="16796" y="16097"/>
                </a:cubicBezTo>
              </a:path>
              <a:path w="10415" h="2572">
                <a:moveTo>
                  <a:pt x="17113" y="17018"/>
                </a:moveTo>
                <a:cubicBezTo>
                  <a:pt x="17113" y="17103"/>
                  <a:pt x="17132" y="17162"/>
                  <a:pt x="17145" y="17240"/>
                </a:cubicBezTo>
                <a:cubicBezTo>
                  <a:pt x="17159" y="17326"/>
                  <a:pt x="17150" y="17412"/>
                  <a:pt x="17177" y="17494"/>
                </a:cubicBezTo>
                <a:cubicBezTo>
                  <a:pt x="17203" y="17573"/>
                  <a:pt x="17213" y="17677"/>
                  <a:pt x="17240" y="17748"/>
                </a:cubicBezTo>
                <a:cubicBezTo>
                  <a:pt x="17251" y="17759"/>
                  <a:pt x="17261" y="17769"/>
                  <a:pt x="17272" y="17780"/>
                </a:cubicBezTo>
              </a:path>
              <a:path w="10415" h="2572">
                <a:moveTo>
                  <a:pt x="17113" y="17462"/>
                </a:moveTo>
                <a:cubicBezTo>
                  <a:pt x="17124" y="17462"/>
                  <a:pt x="17134" y="17462"/>
                  <a:pt x="17145" y="17462"/>
                </a:cubicBezTo>
                <a:cubicBezTo>
                  <a:pt x="17168" y="17532"/>
                  <a:pt x="17190" y="17479"/>
                  <a:pt x="17240" y="17462"/>
                </a:cubicBezTo>
                <a:cubicBezTo>
                  <a:pt x="17251" y="17462"/>
                  <a:pt x="17261" y="17462"/>
                  <a:pt x="17272" y="17462"/>
                </a:cubicBezTo>
              </a:path>
              <a:path w="10415" h="2572">
                <a:moveTo>
                  <a:pt x="17526" y="16637"/>
                </a:moveTo>
                <a:cubicBezTo>
                  <a:pt x="17526" y="16875"/>
                  <a:pt x="17526" y="17105"/>
                  <a:pt x="17558" y="17336"/>
                </a:cubicBezTo>
                <a:cubicBezTo>
                  <a:pt x="17571" y="17427"/>
                  <a:pt x="17598" y="17512"/>
                  <a:pt x="17621" y="17590"/>
                </a:cubicBezTo>
                <a:cubicBezTo>
                  <a:pt x="17632" y="17627"/>
                  <a:pt x="17660" y="17685"/>
                  <a:pt x="17716" y="17653"/>
                </a:cubicBezTo>
                <a:cubicBezTo>
                  <a:pt x="17768" y="17624"/>
                  <a:pt x="17803" y="17539"/>
                  <a:pt x="17812" y="17494"/>
                </a:cubicBezTo>
                <a:cubicBezTo>
                  <a:pt x="17836" y="17373"/>
                  <a:pt x="17815" y="17215"/>
                  <a:pt x="17780" y="17113"/>
                </a:cubicBezTo>
                <a:cubicBezTo>
                  <a:pt x="17763" y="17062"/>
                  <a:pt x="17759" y="17032"/>
                  <a:pt x="17716" y="17018"/>
                </a:cubicBezTo>
                <a:cubicBezTo>
                  <a:pt x="17681" y="17065"/>
                  <a:pt x="17663" y="17148"/>
                  <a:pt x="17653" y="17208"/>
                </a:cubicBezTo>
                <a:cubicBezTo>
                  <a:pt x="17637" y="17304"/>
                  <a:pt x="17671" y="17376"/>
                  <a:pt x="17685" y="17462"/>
                </a:cubicBezTo>
                <a:cubicBezTo>
                  <a:pt x="17699" y="17545"/>
                  <a:pt x="17653" y="17598"/>
                  <a:pt x="17748" y="17621"/>
                </a:cubicBezTo>
              </a:path>
              <a:path w="10415" h="2572">
                <a:moveTo>
                  <a:pt x="17844" y="16923"/>
                </a:moveTo>
                <a:cubicBezTo>
                  <a:pt x="17854" y="16923"/>
                  <a:pt x="17865" y="16923"/>
                  <a:pt x="17875" y="16923"/>
                </a:cubicBezTo>
                <a:cubicBezTo>
                  <a:pt x="17888" y="16987"/>
                  <a:pt x="17919" y="17054"/>
                  <a:pt x="17939" y="17113"/>
                </a:cubicBezTo>
                <a:cubicBezTo>
                  <a:pt x="17967" y="17193"/>
                  <a:pt x="18018" y="17298"/>
                  <a:pt x="18066" y="17367"/>
                </a:cubicBezTo>
                <a:cubicBezTo>
                  <a:pt x="18106" y="17424"/>
                  <a:pt x="18143" y="17476"/>
                  <a:pt x="18193" y="17526"/>
                </a:cubicBezTo>
              </a:path>
              <a:path w="10415" h="2572">
                <a:moveTo>
                  <a:pt x="18224" y="17018"/>
                </a:moveTo>
                <a:cubicBezTo>
                  <a:pt x="18224" y="17193"/>
                  <a:pt x="18238" y="17357"/>
                  <a:pt x="18256" y="17526"/>
                </a:cubicBezTo>
                <a:cubicBezTo>
                  <a:pt x="18270" y="17652"/>
                  <a:pt x="18248" y="17756"/>
                  <a:pt x="18288" y="17875"/>
                </a:cubicBezTo>
              </a:path>
              <a:path w="10415" h="2572">
                <a:moveTo>
                  <a:pt x="18606" y="16764"/>
                </a:moveTo>
                <a:cubicBezTo>
                  <a:pt x="18573" y="16775"/>
                  <a:pt x="18545" y="16788"/>
                  <a:pt x="18542" y="16828"/>
                </a:cubicBezTo>
                <a:cubicBezTo>
                  <a:pt x="18535" y="16915"/>
                  <a:pt x="18561" y="16971"/>
                  <a:pt x="18574" y="17050"/>
                </a:cubicBezTo>
                <a:cubicBezTo>
                  <a:pt x="18590" y="17144"/>
                  <a:pt x="18591" y="17245"/>
                  <a:pt x="18606" y="17336"/>
                </a:cubicBezTo>
                <a:cubicBezTo>
                  <a:pt x="18621" y="17425"/>
                  <a:pt x="18606" y="17530"/>
                  <a:pt x="18606" y="17621"/>
                </a:cubicBezTo>
              </a:path>
              <a:path w="10415" h="2572">
                <a:moveTo>
                  <a:pt x="18478" y="17208"/>
                </a:moveTo>
                <a:cubicBezTo>
                  <a:pt x="18535" y="17194"/>
                  <a:pt x="18562" y="17157"/>
                  <a:pt x="18606" y="17113"/>
                </a:cubicBezTo>
                <a:cubicBezTo>
                  <a:pt x="18650" y="17069"/>
                  <a:pt x="18677" y="17050"/>
                  <a:pt x="18732" y="17018"/>
                </a:cubicBezTo>
              </a:path>
              <a:path w="10415" h="2572">
                <a:moveTo>
                  <a:pt x="18860" y="16320"/>
                </a:moveTo>
                <a:cubicBezTo>
                  <a:pt x="18860" y="16277"/>
                  <a:pt x="18843" y="16216"/>
                  <a:pt x="18891" y="16192"/>
                </a:cubicBezTo>
                <a:cubicBezTo>
                  <a:pt x="18923" y="16176"/>
                  <a:pt x="19038" y="16185"/>
                  <a:pt x="19050" y="16224"/>
                </a:cubicBezTo>
                <a:cubicBezTo>
                  <a:pt x="19079" y="16318"/>
                  <a:pt x="19029" y="16425"/>
                  <a:pt x="19018" y="16510"/>
                </a:cubicBezTo>
                <a:cubicBezTo>
                  <a:pt x="19011" y="16568"/>
                  <a:pt x="18959" y="16706"/>
                  <a:pt x="18986" y="16669"/>
                </a:cubicBezTo>
                <a:cubicBezTo>
                  <a:pt x="19029" y="16609"/>
                  <a:pt x="19073" y="16628"/>
                  <a:pt x="19114" y="16637"/>
                </a:cubicBezTo>
                <a:cubicBezTo>
                  <a:pt x="19202" y="16657"/>
                  <a:pt x="19184" y="16692"/>
                  <a:pt x="19209" y="16764"/>
                </a:cubicBezTo>
                <a:cubicBezTo>
                  <a:pt x="19252" y="16889"/>
                  <a:pt x="19226" y="16953"/>
                  <a:pt x="19209" y="17082"/>
                </a:cubicBezTo>
                <a:cubicBezTo>
                  <a:pt x="19198" y="17161"/>
                  <a:pt x="19159" y="17237"/>
                  <a:pt x="19145" y="17304"/>
                </a:cubicBezTo>
                <a:cubicBezTo>
                  <a:pt x="19125" y="17405"/>
                  <a:pt x="19090" y="17372"/>
                  <a:pt x="19050" y="17431"/>
                </a:cubicBezTo>
                <a:cubicBezTo>
                  <a:pt x="19019" y="17476"/>
                  <a:pt x="19003" y="17465"/>
                  <a:pt x="18986" y="17399"/>
                </a:cubicBezTo>
              </a:path>
              <a:path w="10415" h="2572">
                <a:moveTo>
                  <a:pt x="19304" y="16351"/>
                </a:moveTo>
                <a:cubicBezTo>
                  <a:pt x="19304" y="16463"/>
                  <a:pt x="19275" y="16558"/>
                  <a:pt x="19272" y="16669"/>
                </a:cubicBezTo>
                <a:cubicBezTo>
                  <a:pt x="19268" y="16797"/>
                  <a:pt x="19289" y="16901"/>
                  <a:pt x="19304" y="17018"/>
                </a:cubicBezTo>
                <a:cubicBezTo>
                  <a:pt x="19317" y="17121"/>
                  <a:pt x="19312" y="17245"/>
                  <a:pt x="19368" y="17336"/>
                </a:cubicBezTo>
                <a:cubicBezTo>
                  <a:pt x="19401" y="17390"/>
                  <a:pt x="19437" y="17399"/>
                  <a:pt x="19494" y="17399"/>
                </a:cubicBezTo>
                <a:cubicBezTo>
                  <a:pt x="19550" y="17399"/>
                  <a:pt x="19566" y="17346"/>
                  <a:pt x="19590" y="17304"/>
                </a:cubicBezTo>
                <a:cubicBezTo>
                  <a:pt x="19642" y="17214"/>
                  <a:pt x="19648" y="17089"/>
                  <a:pt x="19653" y="16986"/>
                </a:cubicBezTo>
                <a:cubicBezTo>
                  <a:pt x="19657" y="16906"/>
                  <a:pt x="19686" y="16659"/>
                  <a:pt x="19622" y="16637"/>
                </a:cubicBezTo>
                <a:cubicBezTo>
                  <a:pt x="19590" y="16648"/>
                  <a:pt x="19536" y="16710"/>
                  <a:pt x="19526" y="16764"/>
                </a:cubicBezTo>
                <a:cubicBezTo>
                  <a:pt x="19507" y="16868"/>
                  <a:pt x="19469" y="16974"/>
                  <a:pt x="19463" y="17082"/>
                </a:cubicBezTo>
                <a:cubicBezTo>
                  <a:pt x="19459" y="17162"/>
                  <a:pt x="19477" y="17210"/>
                  <a:pt x="19431" y="17272"/>
                </a:cubicBezTo>
              </a:path>
              <a:path w="10415" h="2572">
                <a:moveTo>
                  <a:pt x="18002" y="17431"/>
                </a:moveTo>
                <a:cubicBezTo>
                  <a:pt x="18002" y="17441"/>
                  <a:pt x="18002" y="17452"/>
                  <a:pt x="18002" y="17462"/>
                </a:cubicBezTo>
                <a:cubicBezTo>
                  <a:pt x="18017" y="17417"/>
                  <a:pt x="18019" y="17417"/>
                  <a:pt x="18034" y="17462"/>
                </a:cubicBezTo>
                <a:cubicBezTo>
                  <a:pt x="18085" y="17479"/>
                  <a:pt x="18047" y="17477"/>
                  <a:pt x="18098" y="17494"/>
                </a:cubicBezTo>
                <a:cubicBezTo>
                  <a:pt x="18106" y="17518"/>
                  <a:pt x="18153" y="17572"/>
                  <a:pt x="18193" y="17590"/>
                </a:cubicBezTo>
                <a:cubicBezTo>
                  <a:pt x="18203" y="17590"/>
                  <a:pt x="18214" y="17590"/>
                  <a:pt x="18224" y="17590"/>
                </a:cubicBezTo>
                <a:cubicBezTo>
                  <a:pt x="18241" y="17657"/>
                  <a:pt x="18272" y="17654"/>
                  <a:pt x="18320" y="17685"/>
                </a:cubicBezTo>
                <a:cubicBezTo>
                  <a:pt x="18371" y="17718"/>
                  <a:pt x="18372" y="17734"/>
                  <a:pt x="18415" y="17748"/>
                </a:cubicBezTo>
              </a:path>
              <a:path w="10415" h="2572">
                <a:moveTo>
                  <a:pt x="18256" y="16923"/>
                </a:moveTo>
                <a:cubicBezTo>
                  <a:pt x="18256" y="17027"/>
                  <a:pt x="18240" y="17111"/>
                  <a:pt x="18224" y="17208"/>
                </a:cubicBezTo>
                <a:cubicBezTo>
                  <a:pt x="18195" y="17382"/>
                  <a:pt x="18182" y="17571"/>
                  <a:pt x="18161" y="17748"/>
                </a:cubicBezTo>
                <a:cubicBezTo>
                  <a:pt x="18152" y="17825"/>
                  <a:pt x="18150" y="17927"/>
                  <a:pt x="18129" y="18002"/>
                </a:cubicBezTo>
                <a:cubicBezTo>
                  <a:pt x="18117" y="18044"/>
                  <a:pt x="18114" y="18156"/>
                  <a:pt x="18098" y="18193"/>
                </a:cubicBezTo>
                <a:cubicBezTo>
                  <a:pt x="18087" y="18203"/>
                  <a:pt x="18077" y="18214"/>
                  <a:pt x="18066" y="18224"/>
                </a:cubicBezTo>
                <a:cubicBezTo>
                  <a:pt x="18079" y="18175"/>
                  <a:pt x="18098" y="18155"/>
                  <a:pt x="18098" y="18098"/>
                </a:cubicBezTo>
                <a:cubicBezTo>
                  <a:pt x="18098" y="18001"/>
                  <a:pt x="18108" y="17935"/>
                  <a:pt x="18129" y="17844"/>
                </a:cubicBezTo>
                <a:cubicBezTo>
                  <a:pt x="18145" y="17774"/>
                  <a:pt x="18157" y="17693"/>
                  <a:pt x="18161" y="17621"/>
                </a:cubicBezTo>
                <a:cubicBezTo>
                  <a:pt x="18166" y="17529"/>
                  <a:pt x="18188" y="17455"/>
                  <a:pt x="18193" y="17367"/>
                </a:cubicBezTo>
                <a:cubicBezTo>
                  <a:pt x="18197" y="17295"/>
                  <a:pt x="18217" y="17245"/>
                  <a:pt x="18224" y="17177"/>
                </a:cubicBezTo>
                <a:cubicBezTo>
                  <a:pt x="18230" y="17114"/>
                  <a:pt x="18313" y="17046"/>
                  <a:pt x="18256" y="17018"/>
                </a:cubicBezTo>
                <a:cubicBezTo>
                  <a:pt x="18245" y="17018"/>
                  <a:pt x="18235" y="17018"/>
                  <a:pt x="18224" y="17018"/>
                </a:cubicBezTo>
              </a:path>
              <a:path w="10415" h="2572">
                <a:moveTo>
                  <a:pt x="17907" y="17082"/>
                </a:moveTo>
                <a:cubicBezTo>
                  <a:pt x="17907" y="17147"/>
                  <a:pt x="17896" y="17190"/>
                  <a:pt x="17939" y="17240"/>
                </a:cubicBezTo>
                <a:cubicBezTo>
                  <a:pt x="17982" y="17289"/>
                  <a:pt x="17996" y="17369"/>
                  <a:pt x="18034" y="17431"/>
                </a:cubicBezTo>
                <a:cubicBezTo>
                  <a:pt x="18112" y="17560"/>
                  <a:pt x="18170" y="17709"/>
                  <a:pt x="18224" y="17844"/>
                </a:cubicBezTo>
                <a:cubicBezTo>
                  <a:pt x="18255" y="17921"/>
                  <a:pt x="18298" y="18005"/>
                  <a:pt x="18352" y="18066"/>
                </a:cubicBezTo>
                <a:cubicBezTo>
                  <a:pt x="18386" y="18104"/>
                  <a:pt x="18403" y="18146"/>
                  <a:pt x="18415" y="18193"/>
                </a:cubicBezTo>
              </a:path>
              <a:path w="10415" h="2572">
                <a:moveTo>
                  <a:pt x="19907" y="16700"/>
                </a:moveTo>
                <a:cubicBezTo>
                  <a:pt x="19918" y="16690"/>
                  <a:pt x="19928" y="16679"/>
                  <a:pt x="19939" y="16669"/>
                </a:cubicBezTo>
                <a:cubicBezTo>
                  <a:pt x="19987" y="16704"/>
                  <a:pt x="20005" y="16700"/>
                  <a:pt x="20066" y="16700"/>
                </a:cubicBezTo>
                <a:cubicBezTo>
                  <a:pt x="20129" y="16700"/>
                  <a:pt x="20193" y="16700"/>
                  <a:pt x="20256" y="16700"/>
                </a:cubicBezTo>
              </a:path>
              <a:path w="10415" h="2572">
                <a:moveTo>
                  <a:pt x="20002" y="17177"/>
                </a:moveTo>
                <a:cubicBezTo>
                  <a:pt x="19992" y="17177"/>
                  <a:pt x="19981" y="17177"/>
                  <a:pt x="19971" y="17177"/>
                </a:cubicBezTo>
                <a:cubicBezTo>
                  <a:pt x="20019" y="17165"/>
                  <a:pt x="20059" y="17147"/>
                  <a:pt x="20098" y="17113"/>
                </a:cubicBezTo>
                <a:cubicBezTo>
                  <a:pt x="20142" y="17074"/>
                  <a:pt x="20198" y="17072"/>
                  <a:pt x="20256" y="17050"/>
                </a:cubicBezTo>
              </a:path>
              <a:path w="10415" h="2572">
                <a:moveTo>
                  <a:pt x="20733" y="16320"/>
                </a:moveTo>
                <a:cubicBezTo>
                  <a:pt x="20749" y="16384"/>
                  <a:pt x="20772" y="16442"/>
                  <a:pt x="20796" y="16510"/>
                </a:cubicBezTo>
                <a:cubicBezTo>
                  <a:pt x="20848" y="16658"/>
                  <a:pt x="20849" y="16807"/>
                  <a:pt x="20892" y="16954"/>
                </a:cubicBezTo>
                <a:cubicBezTo>
                  <a:pt x="20932" y="17091"/>
                  <a:pt x="20924" y="17231"/>
                  <a:pt x="20955" y="17367"/>
                </a:cubicBezTo>
                <a:cubicBezTo>
                  <a:pt x="20979" y="17475"/>
                  <a:pt x="21010" y="17574"/>
                  <a:pt x="21018" y="17685"/>
                </a:cubicBezTo>
                <a:cubicBezTo>
                  <a:pt x="21018" y="17721"/>
                  <a:pt x="21021" y="17734"/>
                  <a:pt x="21050" y="17748"/>
                </a:cubicBezTo>
              </a:path>
              <a:path w="10415" h="2572">
                <a:moveTo>
                  <a:pt x="21114" y="16192"/>
                </a:moveTo>
                <a:lnTo>
                  <a:pt x="21114" y="16192"/>
                </a:lnTo>
              </a:path>
              <a:path w="10415" h="2572">
                <a:moveTo>
                  <a:pt x="21114" y="16192"/>
                </a:moveTo>
                <a:lnTo>
                  <a:pt x="21114" y="16192"/>
                </a:lnTo>
              </a:path>
              <a:path w="10415" h="2572">
                <a:moveTo>
                  <a:pt x="21114" y="16224"/>
                </a:moveTo>
                <a:cubicBezTo>
                  <a:pt x="21114" y="16348"/>
                  <a:pt x="21105" y="16486"/>
                  <a:pt x="21082" y="16605"/>
                </a:cubicBezTo>
                <a:cubicBezTo>
                  <a:pt x="21051" y="16764"/>
                  <a:pt x="20973" y="16920"/>
                  <a:pt x="20955" y="17082"/>
                </a:cubicBezTo>
                <a:cubicBezTo>
                  <a:pt x="20936" y="17257"/>
                  <a:pt x="20904" y="17417"/>
                  <a:pt x="20860" y="17590"/>
                </a:cubicBezTo>
                <a:cubicBezTo>
                  <a:pt x="20826" y="17724"/>
                  <a:pt x="20814" y="17868"/>
                  <a:pt x="20796" y="18002"/>
                </a:cubicBezTo>
                <a:cubicBezTo>
                  <a:pt x="20789" y="18052"/>
                  <a:pt x="20796" y="18110"/>
                  <a:pt x="20796" y="18161"/>
                </a:cubicBezTo>
              </a:path>
              <a:path w="10415" h="2572">
                <a:moveTo>
                  <a:pt x="21177" y="16002"/>
                </a:moveTo>
                <a:cubicBezTo>
                  <a:pt x="21177" y="15955"/>
                  <a:pt x="21186" y="15909"/>
                  <a:pt x="21209" y="15875"/>
                </a:cubicBezTo>
                <a:cubicBezTo>
                  <a:pt x="21234" y="15837"/>
                  <a:pt x="21275" y="15784"/>
                  <a:pt x="21304" y="15780"/>
                </a:cubicBezTo>
                <a:cubicBezTo>
                  <a:pt x="21372" y="15772"/>
                  <a:pt x="21368" y="15827"/>
                  <a:pt x="21368" y="15875"/>
                </a:cubicBezTo>
                <a:cubicBezTo>
                  <a:pt x="21368" y="15968"/>
                  <a:pt x="21361" y="16074"/>
                  <a:pt x="21336" y="16161"/>
                </a:cubicBezTo>
                <a:cubicBezTo>
                  <a:pt x="21314" y="16237"/>
                  <a:pt x="21312" y="16348"/>
                  <a:pt x="21272" y="16415"/>
                </a:cubicBezTo>
                <a:cubicBezTo>
                  <a:pt x="21262" y="16425"/>
                  <a:pt x="21251" y="16436"/>
                  <a:pt x="21241" y="16446"/>
                </a:cubicBezTo>
                <a:cubicBezTo>
                  <a:pt x="21281" y="16393"/>
                  <a:pt x="21285" y="16384"/>
                  <a:pt x="21336" y="16351"/>
                </a:cubicBezTo>
                <a:cubicBezTo>
                  <a:pt x="21394" y="16314"/>
                  <a:pt x="21389" y="16319"/>
                  <a:pt x="21431" y="16351"/>
                </a:cubicBezTo>
                <a:cubicBezTo>
                  <a:pt x="21480" y="16388"/>
                  <a:pt x="21484" y="16432"/>
                  <a:pt x="21526" y="16446"/>
                </a:cubicBezTo>
              </a:path>
              <a:path w="10415" h="2572">
                <a:moveTo>
                  <a:pt x="21717" y="16161"/>
                </a:moveTo>
                <a:cubicBezTo>
                  <a:pt x="21717" y="16276"/>
                  <a:pt x="21733" y="16367"/>
                  <a:pt x="21749" y="16478"/>
                </a:cubicBezTo>
                <a:cubicBezTo>
                  <a:pt x="21764" y="16585"/>
                  <a:pt x="21797" y="16689"/>
                  <a:pt x="21812" y="16796"/>
                </a:cubicBezTo>
                <a:cubicBezTo>
                  <a:pt x="21826" y="16894"/>
                  <a:pt x="21860" y="16988"/>
                  <a:pt x="21876" y="17082"/>
                </a:cubicBezTo>
                <a:cubicBezTo>
                  <a:pt x="21876" y="17145"/>
                  <a:pt x="21876" y="17166"/>
                  <a:pt x="21876" y="17208"/>
                </a:cubicBezTo>
              </a:path>
              <a:path w="10415" h="2572">
                <a:moveTo>
                  <a:pt x="21622" y="16764"/>
                </a:moveTo>
                <a:cubicBezTo>
                  <a:pt x="21611" y="16764"/>
                  <a:pt x="21601" y="16764"/>
                  <a:pt x="21590" y="16764"/>
                </a:cubicBezTo>
                <a:cubicBezTo>
                  <a:pt x="21672" y="16785"/>
                  <a:pt x="21642" y="16789"/>
                  <a:pt x="21717" y="16764"/>
                </a:cubicBezTo>
                <a:cubicBezTo>
                  <a:pt x="21769" y="16747"/>
                  <a:pt x="21812" y="16673"/>
                  <a:pt x="21876" y="16637"/>
                </a:cubicBezTo>
              </a:path>
              <a:path w="10415" h="2572">
                <a:moveTo>
                  <a:pt x="22162" y="15748"/>
                </a:moveTo>
                <a:cubicBezTo>
                  <a:pt x="22136" y="15813"/>
                  <a:pt x="22162" y="15940"/>
                  <a:pt x="22162" y="16034"/>
                </a:cubicBezTo>
                <a:cubicBezTo>
                  <a:pt x="22162" y="16226"/>
                  <a:pt x="22193" y="16411"/>
                  <a:pt x="22193" y="16605"/>
                </a:cubicBezTo>
                <a:cubicBezTo>
                  <a:pt x="22193" y="16832"/>
                  <a:pt x="22205" y="17052"/>
                  <a:pt x="22225" y="17272"/>
                </a:cubicBezTo>
                <a:cubicBezTo>
                  <a:pt x="22233" y="17363"/>
                  <a:pt x="22257" y="17439"/>
                  <a:pt x="22257" y="17526"/>
                </a:cubicBezTo>
              </a:path>
              <a:path w="10415" h="2572">
                <a:moveTo>
                  <a:pt x="22320" y="16256"/>
                </a:moveTo>
                <a:cubicBezTo>
                  <a:pt x="22327" y="16177"/>
                  <a:pt x="22322" y="16072"/>
                  <a:pt x="22352" y="16002"/>
                </a:cubicBezTo>
                <a:cubicBezTo>
                  <a:pt x="22376" y="15946"/>
                  <a:pt x="22434" y="15887"/>
                  <a:pt x="22479" y="15843"/>
                </a:cubicBezTo>
                <a:cubicBezTo>
                  <a:pt x="22511" y="15812"/>
                  <a:pt x="22542" y="15780"/>
                  <a:pt x="22574" y="15748"/>
                </a:cubicBezTo>
                <a:cubicBezTo>
                  <a:pt x="22603" y="15777"/>
                  <a:pt x="22656" y="15767"/>
                  <a:pt x="22670" y="15843"/>
                </a:cubicBezTo>
                <a:cubicBezTo>
                  <a:pt x="22702" y="16019"/>
                  <a:pt x="22652" y="16211"/>
                  <a:pt x="22638" y="16383"/>
                </a:cubicBezTo>
                <a:cubicBezTo>
                  <a:pt x="22624" y="16549"/>
                  <a:pt x="22629" y="16726"/>
                  <a:pt x="22606" y="16891"/>
                </a:cubicBezTo>
                <a:cubicBezTo>
                  <a:pt x="22585" y="17041"/>
                  <a:pt x="22549" y="17184"/>
                  <a:pt x="22542" y="17336"/>
                </a:cubicBezTo>
                <a:cubicBezTo>
                  <a:pt x="22540" y="17378"/>
                  <a:pt x="22542" y="17420"/>
                  <a:pt x="22542" y="17462"/>
                </a:cubicBezTo>
                <a:cubicBezTo>
                  <a:pt x="22571" y="17434"/>
                  <a:pt x="22606" y="17425"/>
                  <a:pt x="22638" y="17399"/>
                </a:cubicBezTo>
                <a:cubicBezTo>
                  <a:pt x="22672" y="17372"/>
                  <a:pt x="22663" y="17371"/>
                  <a:pt x="22733" y="17367"/>
                </a:cubicBezTo>
                <a:cubicBezTo>
                  <a:pt x="22775" y="17364"/>
                  <a:pt x="22818" y="17367"/>
                  <a:pt x="22860" y="17367"/>
                </a:cubicBezTo>
              </a:path>
              <a:path w="10415" h="2572">
                <a:moveTo>
                  <a:pt x="22924" y="16320"/>
                </a:moveTo>
                <a:cubicBezTo>
                  <a:pt x="22970" y="16397"/>
                  <a:pt x="22988" y="16510"/>
                  <a:pt x="23019" y="16605"/>
                </a:cubicBezTo>
                <a:cubicBezTo>
                  <a:pt x="23064" y="16742"/>
                  <a:pt x="23072" y="16882"/>
                  <a:pt x="23114" y="17018"/>
                </a:cubicBezTo>
                <a:cubicBezTo>
                  <a:pt x="23143" y="17111"/>
                  <a:pt x="23185" y="17223"/>
                  <a:pt x="23241" y="17304"/>
                </a:cubicBezTo>
                <a:cubicBezTo>
                  <a:pt x="23273" y="17350"/>
                  <a:pt x="23319" y="17357"/>
                  <a:pt x="23368" y="17367"/>
                </a:cubicBezTo>
              </a:path>
              <a:path w="10415" h="2572">
                <a:moveTo>
                  <a:pt x="23336" y="16161"/>
                </a:moveTo>
                <a:cubicBezTo>
                  <a:pt x="23316" y="16241"/>
                  <a:pt x="23296" y="16324"/>
                  <a:pt x="23273" y="16415"/>
                </a:cubicBezTo>
                <a:cubicBezTo>
                  <a:pt x="23225" y="16608"/>
                  <a:pt x="23214" y="16792"/>
                  <a:pt x="23178" y="16986"/>
                </a:cubicBezTo>
                <a:cubicBezTo>
                  <a:pt x="23143" y="17176"/>
                  <a:pt x="23150" y="17371"/>
                  <a:pt x="23114" y="17558"/>
                </a:cubicBezTo>
                <a:cubicBezTo>
                  <a:pt x="23097" y="17647"/>
                  <a:pt x="23078" y="17728"/>
                  <a:pt x="23050" y="17812"/>
                </a:cubicBezTo>
              </a:path>
              <a:path w="10415" h="2572">
                <a:moveTo>
                  <a:pt x="23686" y="16002"/>
                </a:moveTo>
                <a:cubicBezTo>
                  <a:pt x="23645" y="16056"/>
                  <a:pt x="23625" y="16089"/>
                  <a:pt x="23622" y="16161"/>
                </a:cubicBezTo>
                <a:cubicBezTo>
                  <a:pt x="23615" y="16313"/>
                  <a:pt x="23594" y="16455"/>
                  <a:pt x="23590" y="16605"/>
                </a:cubicBezTo>
                <a:cubicBezTo>
                  <a:pt x="23586" y="16749"/>
                  <a:pt x="23610" y="16886"/>
                  <a:pt x="23654" y="17018"/>
                </a:cubicBezTo>
              </a:path>
              <a:path w="10415" h="2572">
                <a:moveTo>
                  <a:pt x="23590" y="16764"/>
                </a:moveTo>
                <a:cubicBezTo>
                  <a:pt x="23579" y="16764"/>
                  <a:pt x="23569" y="16764"/>
                  <a:pt x="23558" y="16764"/>
                </a:cubicBezTo>
                <a:cubicBezTo>
                  <a:pt x="23572" y="16681"/>
                  <a:pt x="23589" y="16702"/>
                  <a:pt x="23654" y="16637"/>
                </a:cubicBezTo>
                <a:cubicBezTo>
                  <a:pt x="23692" y="16599"/>
                  <a:pt x="23710" y="16585"/>
                  <a:pt x="23749" y="16574"/>
                </a:cubicBezTo>
              </a:path>
              <a:path w="10415" h="2572">
                <a:moveTo>
                  <a:pt x="23971" y="15875"/>
                </a:moveTo>
                <a:cubicBezTo>
                  <a:pt x="23947" y="15826"/>
                  <a:pt x="23961" y="15751"/>
                  <a:pt x="24003" y="15684"/>
                </a:cubicBezTo>
                <a:cubicBezTo>
                  <a:pt x="24035" y="15684"/>
                  <a:pt x="24045" y="15684"/>
                  <a:pt x="24035" y="15653"/>
                </a:cubicBezTo>
                <a:cubicBezTo>
                  <a:pt x="24085" y="15681"/>
                  <a:pt x="24150" y="15701"/>
                  <a:pt x="24162" y="15780"/>
                </a:cubicBezTo>
                <a:cubicBezTo>
                  <a:pt x="24191" y="15974"/>
                  <a:pt x="24180" y="16229"/>
                  <a:pt x="24130" y="16415"/>
                </a:cubicBezTo>
                <a:cubicBezTo>
                  <a:pt x="24099" y="16531"/>
                  <a:pt x="24119" y="16872"/>
                  <a:pt x="24066" y="16764"/>
                </a:cubicBezTo>
                <a:cubicBezTo>
                  <a:pt x="24027" y="16684"/>
                  <a:pt x="24097" y="16605"/>
                  <a:pt x="24130" y="16542"/>
                </a:cubicBezTo>
                <a:cubicBezTo>
                  <a:pt x="24151" y="16502"/>
                  <a:pt x="24159" y="16442"/>
                  <a:pt x="24225" y="16446"/>
                </a:cubicBezTo>
                <a:cubicBezTo>
                  <a:pt x="24301" y="16451"/>
                  <a:pt x="24312" y="16521"/>
                  <a:pt x="24352" y="16574"/>
                </a:cubicBezTo>
                <a:cubicBezTo>
                  <a:pt x="24407" y="16647"/>
                  <a:pt x="24412" y="16794"/>
                  <a:pt x="24416" y="16891"/>
                </a:cubicBezTo>
                <a:cubicBezTo>
                  <a:pt x="24421" y="17026"/>
                  <a:pt x="24376" y="17082"/>
                  <a:pt x="24352" y="17208"/>
                </a:cubicBezTo>
                <a:cubicBezTo>
                  <a:pt x="24335" y="17299"/>
                  <a:pt x="24324" y="17332"/>
                  <a:pt x="24257" y="17399"/>
                </a:cubicBezTo>
                <a:cubicBezTo>
                  <a:pt x="24223" y="17433"/>
                  <a:pt x="24148" y="17450"/>
                  <a:pt x="24098" y="17431"/>
                </a:cubicBezTo>
                <a:cubicBezTo>
                  <a:pt x="24061" y="17417"/>
                  <a:pt x="24014" y="17375"/>
                  <a:pt x="24003" y="17336"/>
                </a:cubicBezTo>
                <a:cubicBezTo>
                  <a:pt x="24003" y="17315"/>
                  <a:pt x="24003" y="17293"/>
                  <a:pt x="24003" y="17272"/>
                </a:cubicBezTo>
              </a:path>
              <a:path w="10415" h="2572">
                <a:moveTo>
                  <a:pt x="24574" y="15970"/>
                </a:moveTo>
                <a:cubicBezTo>
                  <a:pt x="24574" y="16081"/>
                  <a:pt x="24547" y="16176"/>
                  <a:pt x="24543" y="16288"/>
                </a:cubicBezTo>
                <a:cubicBezTo>
                  <a:pt x="24538" y="16428"/>
                  <a:pt x="24511" y="16558"/>
                  <a:pt x="24511" y="16700"/>
                </a:cubicBezTo>
                <a:cubicBezTo>
                  <a:pt x="24511" y="16817"/>
                  <a:pt x="24521" y="16966"/>
                  <a:pt x="24543" y="17082"/>
                </a:cubicBezTo>
                <a:cubicBezTo>
                  <a:pt x="24555" y="17145"/>
                  <a:pt x="24601" y="17258"/>
                  <a:pt x="24638" y="17304"/>
                </a:cubicBezTo>
                <a:cubicBezTo>
                  <a:pt x="24674" y="17349"/>
                  <a:pt x="24713" y="17336"/>
                  <a:pt x="24765" y="17336"/>
                </a:cubicBezTo>
                <a:cubicBezTo>
                  <a:pt x="24817" y="17336"/>
                  <a:pt x="24867" y="17328"/>
                  <a:pt x="24892" y="17272"/>
                </a:cubicBezTo>
                <a:cubicBezTo>
                  <a:pt x="24918" y="17213"/>
                  <a:pt x="24935" y="17146"/>
                  <a:pt x="24956" y="17082"/>
                </a:cubicBezTo>
                <a:cubicBezTo>
                  <a:pt x="24992" y="16972"/>
                  <a:pt x="25019" y="16918"/>
                  <a:pt x="25019" y="16796"/>
                </a:cubicBezTo>
                <a:cubicBezTo>
                  <a:pt x="25019" y="16712"/>
                  <a:pt x="24995" y="16651"/>
                  <a:pt x="24987" y="16574"/>
                </a:cubicBezTo>
                <a:cubicBezTo>
                  <a:pt x="24987" y="16542"/>
                  <a:pt x="24987" y="16532"/>
                  <a:pt x="24956" y="16542"/>
                </a:cubicBezTo>
                <a:cubicBezTo>
                  <a:pt x="24862" y="16565"/>
                  <a:pt x="24886" y="16672"/>
                  <a:pt x="24860" y="16764"/>
                </a:cubicBezTo>
                <a:cubicBezTo>
                  <a:pt x="24825" y="16889"/>
                  <a:pt x="24802" y="17015"/>
                  <a:pt x="24797" y="17145"/>
                </a:cubicBezTo>
                <a:cubicBezTo>
                  <a:pt x="24794" y="17230"/>
                  <a:pt x="24818" y="17286"/>
                  <a:pt x="24828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9"/>
          <p:cNvSpPr/>
          <p:nvPr/>
        </p:nvSpPr>
        <p:spPr>
          <a:xfrm>
            <a:off x="8137440" y="2560680"/>
            <a:ext cx="12960" cy="34920"/>
          </a:xfrm>
          <a:custGeom>
            <a:avLst/>
            <a:gdLst/>
            <a:ahLst/>
            <a:rect l="l" t="t" r="r" b="b"/>
            <a:pathLst>
              <a:path w="33" h="96">
                <a:moveTo>
                  <a:pt x="22638" y="7207"/>
                </a:moveTo>
                <a:cubicBezTo>
                  <a:pt x="22627" y="7207"/>
                  <a:pt x="22617" y="7207"/>
                  <a:pt x="22606" y="7207"/>
                </a:cubicBezTo>
              </a:path>
              <a:path w="33" h="96">
                <a:moveTo>
                  <a:pt x="22638" y="7207"/>
                </a:moveTo>
                <a:cubicBezTo>
                  <a:pt x="22627" y="7197"/>
                  <a:pt x="22617" y="7186"/>
                  <a:pt x="22606" y="7176"/>
                </a:cubicBezTo>
              </a:path>
              <a:path w="33" h="96">
                <a:moveTo>
                  <a:pt x="22606" y="7176"/>
                </a:moveTo>
                <a:cubicBezTo>
                  <a:pt x="22606" y="7144"/>
                  <a:pt x="22606" y="7133"/>
                  <a:pt x="22606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0"/>
          <p:cNvSpPr/>
          <p:nvPr/>
        </p:nvSpPr>
        <p:spPr>
          <a:xfrm>
            <a:off x="8354880" y="2262240"/>
            <a:ext cx="514440" cy="333360"/>
          </a:xfrm>
          <a:custGeom>
            <a:avLst/>
            <a:gdLst/>
            <a:ahLst/>
            <a:rect l="l" t="t" r="r" b="b"/>
            <a:pathLst>
              <a:path w="1430" h="922">
                <a:moveTo>
                  <a:pt x="23432" y="6731"/>
                </a:moveTo>
                <a:cubicBezTo>
                  <a:pt x="23474" y="6774"/>
                  <a:pt x="23516" y="6815"/>
                  <a:pt x="23558" y="6858"/>
                </a:cubicBezTo>
              </a:path>
              <a:path w="1430" h="922">
                <a:moveTo>
                  <a:pt x="23590" y="6890"/>
                </a:moveTo>
                <a:cubicBezTo>
                  <a:pt x="23590" y="6947"/>
                  <a:pt x="23586" y="6964"/>
                  <a:pt x="23622" y="6985"/>
                </a:cubicBezTo>
              </a:path>
              <a:path w="1430" h="922">
                <a:moveTo>
                  <a:pt x="23622" y="7017"/>
                </a:moveTo>
                <a:cubicBezTo>
                  <a:pt x="23628" y="7057"/>
                  <a:pt x="23634" y="7140"/>
                  <a:pt x="23654" y="7176"/>
                </a:cubicBezTo>
                <a:cubicBezTo>
                  <a:pt x="23665" y="7186"/>
                  <a:pt x="23675" y="7197"/>
                  <a:pt x="23686" y="7207"/>
                </a:cubicBezTo>
              </a:path>
              <a:path w="1430" h="922">
                <a:moveTo>
                  <a:pt x="23209" y="6509"/>
                </a:moveTo>
                <a:cubicBezTo>
                  <a:pt x="23326" y="6444"/>
                  <a:pt x="23430" y="6393"/>
                  <a:pt x="23558" y="6350"/>
                </a:cubicBezTo>
                <a:cubicBezTo>
                  <a:pt x="23655" y="6318"/>
                  <a:pt x="23806" y="6267"/>
                  <a:pt x="23908" y="6286"/>
                </a:cubicBezTo>
                <a:cubicBezTo>
                  <a:pt x="24005" y="6304"/>
                  <a:pt x="24133" y="6375"/>
                  <a:pt x="24225" y="6414"/>
                </a:cubicBezTo>
                <a:cubicBezTo>
                  <a:pt x="24324" y="6456"/>
                  <a:pt x="24384" y="6531"/>
                  <a:pt x="24448" y="6604"/>
                </a:cubicBezTo>
                <a:cubicBezTo>
                  <a:pt x="24508" y="6672"/>
                  <a:pt x="24585" y="6764"/>
                  <a:pt x="24606" y="6858"/>
                </a:cubicBezTo>
                <a:cubicBezTo>
                  <a:pt x="24626" y="6947"/>
                  <a:pt x="24614" y="7009"/>
                  <a:pt x="24606" y="7080"/>
                </a:cubicBezTo>
                <a:cubicBezTo>
                  <a:pt x="24606" y="7144"/>
                  <a:pt x="24606" y="7165"/>
                  <a:pt x="24606" y="7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out the G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look for the GREATEST numb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/or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goes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52440" y="3809880"/>
                <a:ext cx="3745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1292400" y="4876920"/>
                <a:ext cx="3665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Ink 6"/>
          <p:cNvSpPr/>
          <p:nvPr/>
        </p:nvSpPr>
        <p:spPr>
          <a:xfrm>
            <a:off x="1120680" y="2936880"/>
            <a:ext cx="3989520" cy="160200"/>
          </a:xfrm>
          <a:custGeom>
            <a:avLst/>
            <a:gdLst/>
            <a:ahLst/>
            <a:rect l="l" t="t" r="r" b="b"/>
            <a:pathLst>
              <a:path w="11081" h="445">
                <a:moveTo>
                  <a:pt x="3112" y="8192"/>
                </a:moveTo>
                <a:cubicBezTo>
                  <a:pt x="3151" y="8215"/>
                  <a:pt x="3146" y="8219"/>
                  <a:pt x="3207" y="8223"/>
                </a:cubicBezTo>
                <a:cubicBezTo>
                  <a:pt x="3391" y="8234"/>
                  <a:pt x="3568" y="8209"/>
                  <a:pt x="3746" y="8192"/>
                </a:cubicBezTo>
                <a:cubicBezTo>
                  <a:pt x="3925" y="8175"/>
                  <a:pt x="4111" y="8176"/>
                  <a:pt x="4286" y="8160"/>
                </a:cubicBezTo>
                <a:cubicBezTo>
                  <a:pt x="4451" y="8145"/>
                  <a:pt x="4601" y="8187"/>
                  <a:pt x="4762" y="8192"/>
                </a:cubicBezTo>
                <a:cubicBezTo>
                  <a:pt x="4901" y="8196"/>
                  <a:pt x="5041" y="8193"/>
                  <a:pt x="5175" y="8223"/>
                </a:cubicBezTo>
                <a:cubicBezTo>
                  <a:pt x="5265" y="8243"/>
                  <a:pt x="5376" y="8231"/>
                  <a:pt x="5461" y="8255"/>
                </a:cubicBezTo>
                <a:cubicBezTo>
                  <a:pt x="5530" y="8274"/>
                  <a:pt x="5550" y="8283"/>
                  <a:pt x="5620" y="8287"/>
                </a:cubicBezTo>
                <a:cubicBezTo>
                  <a:pt x="5651" y="8289"/>
                  <a:pt x="5684" y="8287"/>
                  <a:pt x="5715" y="8287"/>
                </a:cubicBezTo>
              </a:path>
              <a:path w="11081" h="445">
                <a:moveTo>
                  <a:pt x="8287" y="8414"/>
                </a:moveTo>
                <a:cubicBezTo>
                  <a:pt x="8566" y="8414"/>
                  <a:pt x="8835" y="8382"/>
                  <a:pt x="9112" y="8382"/>
                </a:cubicBezTo>
                <a:cubicBezTo>
                  <a:pt x="9346" y="8382"/>
                  <a:pt x="9574" y="8350"/>
                  <a:pt x="9811" y="8350"/>
                </a:cubicBezTo>
                <a:cubicBezTo>
                  <a:pt x="10124" y="8350"/>
                  <a:pt x="10418" y="8336"/>
                  <a:pt x="10732" y="8350"/>
                </a:cubicBezTo>
                <a:cubicBezTo>
                  <a:pt x="11071" y="8366"/>
                  <a:pt x="11410" y="8354"/>
                  <a:pt x="11748" y="8382"/>
                </a:cubicBezTo>
                <a:cubicBezTo>
                  <a:pt x="12077" y="8410"/>
                  <a:pt x="12403" y="8463"/>
                  <a:pt x="12732" y="8477"/>
                </a:cubicBezTo>
                <a:cubicBezTo>
                  <a:pt x="13025" y="8489"/>
                  <a:pt x="13330" y="8480"/>
                  <a:pt x="13621" y="8509"/>
                </a:cubicBezTo>
                <a:cubicBezTo>
                  <a:pt x="13815" y="8528"/>
                  <a:pt x="14004" y="8550"/>
                  <a:pt x="14192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1406520" y="4286160"/>
            <a:ext cx="800280" cy="389160"/>
          </a:xfrm>
          <a:custGeom>
            <a:avLst/>
            <a:gdLst/>
            <a:ahLst/>
            <a:rect l="l" t="t" r="r" b="b"/>
            <a:pathLst>
              <a:path w="2224" h="1081">
                <a:moveTo>
                  <a:pt x="3905" y="12097"/>
                </a:moveTo>
                <a:cubicBezTo>
                  <a:pt x="3979" y="12097"/>
                  <a:pt x="4029" y="12072"/>
                  <a:pt x="4096" y="12065"/>
                </a:cubicBezTo>
                <a:cubicBezTo>
                  <a:pt x="4193" y="12055"/>
                  <a:pt x="4288" y="12044"/>
                  <a:pt x="4382" y="12033"/>
                </a:cubicBezTo>
                <a:cubicBezTo>
                  <a:pt x="4517" y="12017"/>
                  <a:pt x="4660" y="12015"/>
                  <a:pt x="4794" y="12002"/>
                </a:cubicBezTo>
                <a:cubicBezTo>
                  <a:pt x="4951" y="11987"/>
                  <a:pt x="5113" y="11974"/>
                  <a:pt x="5270" y="11970"/>
                </a:cubicBezTo>
                <a:cubicBezTo>
                  <a:pt x="5417" y="11966"/>
                  <a:pt x="5566" y="11911"/>
                  <a:pt x="5715" y="11938"/>
                </a:cubicBezTo>
                <a:cubicBezTo>
                  <a:pt x="5810" y="11955"/>
                  <a:pt x="5931" y="11998"/>
                  <a:pt x="6032" y="11970"/>
                </a:cubicBezTo>
                <a:cubicBezTo>
                  <a:pt x="6129" y="11943"/>
                  <a:pt x="6075" y="11941"/>
                  <a:pt x="6032" y="11906"/>
                </a:cubicBezTo>
              </a:path>
              <a:path w="2224" h="1081">
                <a:moveTo>
                  <a:pt x="4572" y="12287"/>
                </a:moveTo>
                <a:cubicBezTo>
                  <a:pt x="4572" y="12232"/>
                  <a:pt x="4579" y="12211"/>
                  <a:pt x="4636" y="12192"/>
                </a:cubicBezTo>
                <a:cubicBezTo>
                  <a:pt x="4711" y="12166"/>
                  <a:pt x="4799" y="12204"/>
                  <a:pt x="4858" y="12224"/>
                </a:cubicBezTo>
                <a:cubicBezTo>
                  <a:pt x="4903" y="12239"/>
                  <a:pt x="4915" y="12250"/>
                  <a:pt x="4953" y="12287"/>
                </a:cubicBezTo>
                <a:cubicBezTo>
                  <a:pt x="4940" y="12325"/>
                  <a:pt x="4927" y="12340"/>
                  <a:pt x="4890" y="12382"/>
                </a:cubicBezTo>
                <a:cubicBezTo>
                  <a:pt x="4845" y="12433"/>
                  <a:pt x="4828" y="12446"/>
                  <a:pt x="4762" y="12446"/>
                </a:cubicBezTo>
                <a:cubicBezTo>
                  <a:pt x="4747" y="12446"/>
                  <a:pt x="4614" y="12446"/>
                  <a:pt x="4699" y="12446"/>
                </a:cubicBezTo>
                <a:cubicBezTo>
                  <a:pt x="4772" y="12446"/>
                  <a:pt x="4836" y="12429"/>
                  <a:pt x="4890" y="12478"/>
                </a:cubicBezTo>
                <a:cubicBezTo>
                  <a:pt x="4940" y="12523"/>
                  <a:pt x="4980" y="12566"/>
                  <a:pt x="4985" y="12636"/>
                </a:cubicBezTo>
                <a:cubicBezTo>
                  <a:pt x="4990" y="12708"/>
                  <a:pt x="5000" y="12774"/>
                  <a:pt x="4953" y="12827"/>
                </a:cubicBezTo>
                <a:cubicBezTo>
                  <a:pt x="4898" y="12889"/>
                  <a:pt x="4875" y="12915"/>
                  <a:pt x="4794" y="12922"/>
                </a:cubicBezTo>
                <a:cubicBezTo>
                  <a:pt x="4741" y="12926"/>
                  <a:pt x="4673" y="12892"/>
                  <a:pt x="4636" y="12859"/>
                </a:cubicBezTo>
                <a:cubicBezTo>
                  <a:pt x="4615" y="12840"/>
                  <a:pt x="4560" y="12726"/>
                  <a:pt x="4572" y="12700"/>
                </a:cubicBezTo>
                <a:cubicBezTo>
                  <a:pt x="4583" y="12689"/>
                  <a:pt x="4593" y="12679"/>
                  <a:pt x="4604" y="12668"/>
                </a:cubicBezTo>
              </a:path>
              <a:path w="2224" h="1081">
                <a:moveTo>
                  <a:pt x="5175" y="12382"/>
                </a:moveTo>
                <a:cubicBezTo>
                  <a:pt x="5175" y="12478"/>
                  <a:pt x="5158" y="12547"/>
                  <a:pt x="5144" y="12636"/>
                </a:cubicBezTo>
                <a:cubicBezTo>
                  <a:pt x="5132" y="12712"/>
                  <a:pt x="5125" y="12796"/>
                  <a:pt x="5112" y="12859"/>
                </a:cubicBezTo>
                <a:cubicBezTo>
                  <a:pt x="5110" y="12868"/>
                  <a:pt x="5112" y="13059"/>
                  <a:pt x="5112" y="12890"/>
                </a:cubicBezTo>
                <a:cubicBezTo>
                  <a:pt x="5112" y="12816"/>
                  <a:pt x="5122" y="12735"/>
                  <a:pt x="5144" y="12668"/>
                </a:cubicBezTo>
                <a:cubicBezTo>
                  <a:pt x="5158" y="12626"/>
                  <a:pt x="5206" y="12476"/>
                  <a:pt x="5239" y="12446"/>
                </a:cubicBezTo>
                <a:cubicBezTo>
                  <a:pt x="5266" y="12422"/>
                  <a:pt x="5324" y="12414"/>
                  <a:pt x="5366" y="12414"/>
                </a:cubicBezTo>
                <a:cubicBezTo>
                  <a:pt x="5408" y="12470"/>
                  <a:pt x="5398" y="12499"/>
                  <a:pt x="5398" y="12573"/>
                </a:cubicBezTo>
                <a:cubicBezTo>
                  <a:pt x="5398" y="12674"/>
                  <a:pt x="5391" y="12743"/>
                  <a:pt x="5366" y="12827"/>
                </a:cubicBezTo>
                <a:cubicBezTo>
                  <a:pt x="5349" y="12884"/>
                  <a:pt x="5366" y="12906"/>
                  <a:pt x="5366" y="12827"/>
                </a:cubicBezTo>
                <a:cubicBezTo>
                  <a:pt x="5366" y="12753"/>
                  <a:pt x="5376" y="12673"/>
                  <a:pt x="5398" y="12605"/>
                </a:cubicBezTo>
                <a:cubicBezTo>
                  <a:pt x="5417" y="12548"/>
                  <a:pt x="5470" y="12413"/>
                  <a:pt x="5524" y="12382"/>
                </a:cubicBezTo>
                <a:cubicBezTo>
                  <a:pt x="5535" y="12382"/>
                  <a:pt x="5545" y="12382"/>
                  <a:pt x="5556" y="12382"/>
                </a:cubicBezTo>
                <a:cubicBezTo>
                  <a:pt x="5599" y="12393"/>
                  <a:pt x="5642" y="12431"/>
                  <a:pt x="5652" y="12478"/>
                </a:cubicBezTo>
                <a:cubicBezTo>
                  <a:pt x="5672" y="12570"/>
                  <a:pt x="5625" y="12645"/>
                  <a:pt x="5620" y="12732"/>
                </a:cubicBezTo>
                <a:cubicBezTo>
                  <a:pt x="5616" y="12803"/>
                  <a:pt x="5595" y="12967"/>
                  <a:pt x="5652" y="12986"/>
                </a:cubicBezTo>
              </a:path>
              <a:path w="2224" h="1081">
                <a:moveTo>
                  <a:pt x="6096" y="12065"/>
                </a:moveTo>
                <a:cubicBezTo>
                  <a:pt x="6122" y="12118"/>
                  <a:pt x="6099" y="12137"/>
                  <a:pt x="6032" y="12160"/>
                </a:cubicBezTo>
                <a:cubicBezTo>
                  <a:pt x="5978" y="12178"/>
                  <a:pt x="5953" y="12133"/>
                  <a:pt x="5906" y="12128"/>
                </a:cubicBezTo>
                <a:cubicBezTo>
                  <a:pt x="5895" y="12128"/>
                  <a:pt x="5885" y="12128"/>
                  <a:pt x="5874" y="12128"/>
                </a:cubicBezTo>
                <a:cubicBezTo>
                  <a:pt x="5874" y="12200"/>
                  <a:pt x="5849" y="12171"/>
                  <a:pt x="5842" y="12224"/>
                </a:cubicBezTo>
                <a:cubicBezTo>
                  <a:pt x="5842" y="12256"/>
                  <a:pt x="5842" y="12266"/>
                  <a:pt x="5842" y="12287"/>
                </a:cubicBezTo>
                <a:cubicBezTo>
                  <a:pt x="5876" y="12279"/>
                  <a:pt x="5928" y="12234"/>
                  <a:pt x="5969" y="12256"/>
                </a:cubicBezTo>
                <a:cubicBezTo>
                  <a:pt x="6026" y="12287"/>
                  <a:pt x="6033" y="12305"/>
                  <a:pt x="6064" y="12351"/>
                </a:cubicBezTo>
                <a:cubicBezTo>
                  <a:pt x="6091" y="12390"/>
                  <a:pt x="6124" y="12455"/>
                  <a:pt x="6096" y="12510"/>
                </a:cubicBezTo>
                <a:cubicBezTo>
                  <a:pt x="6078" y="12545"/>
                  <a:pt x="6013" y="12597"/>
                  <a:pt x="5969" y="12573"/>
                </a:cubicBezTo>
                <a:cubicBezTo>
                  <a:pt x="5922" y="12547"/>
                  <a:pt x="5837" y="12538"/>
                  <a:pt x="5810" y="12478"/>
                </a:cubicBezTo>
                <a:cubicBezTo>
                  <a:pt x="5810" y="12467"/>
                  <a:pt x="5810" y="12457"/>
                  <a:pt x="5810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2708280" y="4321080"/>
            <a:ext cx="687240" cy="376200"/>
          </a:xfrm>
          <a:custGeom>
            <a:avLst/>
            <a:gdLst/>
            <a:ahLst/>
            <a:rect l="l" t="t" r="r" b="b"/>
            <a:pathLst>
              <a:path w="1906" h="1048">
                <a:moveTo>
                  <a:pt x="7525" y="12128"/>
                </a:moveTo>
                <a:cubicBezTo>
                  <a:pt x="7537" y="12092"/>
                  <a:pt x="7569" y="12071"/>
                  <a:pt x="7620" y="12065"/>
                </a:cubicBezTo>
                <a:cubicBezTo>
                  <a:pt x="7687" y="12058"/>
                  <a:pt x="7773" y="12048"/>
                  <a:pt x="7842" y="12033"/>
                </a:cubicBezTo>
                <a:cubicBezTo>
                  <a:pt x="7973" y="12005"/>
                  <a:pt x="8087" y="12002"/>
                  <a:pt x="8223" y="12002"/>
                </a:cubicBezTo>
                <a:cubicBezTo>
                  <a:pt x="8367" y="12002"/>
                  <a:pt x="8498" y="12020"/>
                  <a:pt x="8636" y="12033"/>
                </a:cubicBezTo>
                <a:cubicBezTo>
                  <a:pt x="8860" y="12054"/>
                  <a:pt x="9086" y="12030"/>
                  <a:pt x="9303" y="12065"/>
                </a:cubicBezTo>
                <a:cubicBezTo>
                  <a:pt x="9341" y="12071"/>
                  <a:pt x="9390" y="12065"/>
                  <a:pt x="9430" y="12065"/>
                </a:cubicBezTo>
              </a:path>
              <a:path w="1906" h="1048">
                <a:moveTo>
                  <a:pt x="8033" y="12319"/>
                </a:moveTo>
                <a:cubicBezTo>
                  <a:pt x="8041" y="12293"/>
                  <a:pt x="8131" y="12250"/>
                  <a:pt x="8160" y="12256"/>
                </a:cubicBezTo>
                <a:cubicBezTo>
                  <a:pt x="8213" y="12266"/>
                  <a:pt x="8289" y="12304"/>
                  <a:pt x="8350" y="12319"/>
                </a:cubicBezTo>
                <a:cubicBezTo>
                  <a:pt x="8380" y="12327"/>
                  <a:pt x="8406" y="12370"/>
                  <a:pt x="8382" y="12414"/>
                </a:cubicBezTo>
                <a:cubicBezTo>
                  <a:pt x="8355" y="12462"/>
                  <a:pt x="8301" y="12446"/>
                  <a:pt x="8255" y="12446"/>
                </a:cubicBezTo>
                <a:cubicBezTo>
                  <a:pt x="8186" y="12446"/>
                  <a:pt x="8186" y="12446"/>
                  <a:pt x="8255" y="12446"/>
                </a:cubicBezTo>
                <a:cubicBezTo>
                  <a:pt x="8309" y="12446"/>
                  <a:pt x="8345" y="12504"/>
                  <a:pt x="8382" y="12541"/>
                </a:cubicBezTo>
                <a:cubicBezTo>
                  <a:pt x="8416" y="12574"/>
                  <a:pt x="8438" y="12652"/>
                  <a:pt x="8414" y="12700"/>
                </a:cubicBezTo>
                <a:cubicBezTo>
                  <a:pt x="8392" y="12744"/>
                  <a:pt x="8322" y="12791"/>
                  <a:pt x="8287" y="12827"/>
                </a:cubicBezTo>
                <a:cubicBezTo>
                  <a:pt x="8240" y="12874"/>
                  <a:pt x="8190" y="12859"/>
                  <a:pt x="8128" y="12859"/>
                </a:cubicBezTo>
                <a:cubicBezTo>
                  <a:pt x="8089" y="12859"/>
                  <a:pt x="8069" y="12806"/>
                  <a:pt x="8064" y="12764"/>
                </a:cubicBezTo>
                <a:cubicBezTo>
                  <a:pt x="8059" y="12720"/>
                  <a:pt x="8103" y="12669"/>
                  <a:pt x="8128" y="12636"/>
                </a:cubicBezTo>
              </a:path>
              <a:path w="1906" h="1048">
                <a:moveTo>
                  <a:pt x="8509" y="12446"/>
                </a:moveTo>
                <a:cubicBezTo>
                  <a:pt x="8509" y="12626"/>
                  <a:pt x="8509" y="12806"/>
                  <a:pt x="8509" y="12986"/>
                </a:cubicBezTo>
                <a:cubicBezTo>
                  <a:pt x="8509" y="13039"/>
                  <a:pt x="8524" y="12941"/>
                  <a:pt x="8509" y="12890"/>
                </a:cubicBezTo>
                <a:cubicBezTo>
                  <a:pt x="8490" y="12827"/>
                  <a:pt x="8487" y="12741"/>
                  <a:pt x="8509" y="12668"/>
                </a:cubicBezTo>
                <a:cubicBezTo>
                  <a:pt x="8528" y="12604"/>
                  <a:pt x="8573" y="12564"/>
                  <a:pt x="8604" y="12541"/>
                </a:cubicBezTo>
                <a:cubicBezTo>
                  <a:pt x="8675" y="12489"/>
                  <a:pt x="8663" y="12519"/>
                  <a:pt x="8731" y="12541"/>
                </a:cubicBezTo>
                <a:cubicBezTo>
                  <a:pt x="8785" y="12559"/>
                  <a:pt x="8763" y="12638"/>
                  <a:pt x="8763" y="12700"/>
                </a:cubicBezTo>
                <a:cubicBezTo>
                  <a:pt x="8763" y="12780"/>
                  <a:pt x="8737" y="12815"/>
                  <a:pt x="8731" y="12890"/>
                </a:cubicBezTo>
                <a:cubicBezTo>
                  <a:pt x="8730" y="12904"/>
                  <a:pt x="8731" y="13040"/>
                  <a:pt x="8731" y="12954"/>
                </a:cubicBezTo>
                <a:cubicBezTo>
                  <a:pt x="8731" y="12881"/>
                  <a:pt x="8741" y="12799"/>
                  <a:pt x="8763" y="12732"/>
                </a:cubicBezTo>
                <a:cubicBezTo>
                  <a:pt x="8788" y="12658"/>
                  <a:pt x="8866" y="12582"/>
                  <a:pt x="8890" y="12541"/>
                </a:cubicBezTo>
                <a:cubicBezTo>
                  <a:pt x="8913" y="12502"/>
                  <a:pt x="8894" y="12510"/>
                  <a:pt x="8954" y="12510"/>
                </a:cubicBezTo>
                <a:cubicBezTo>
                  <a:pt x="8995" y="12565"/>
                  <a:pt x="8985" y="12595"/>
                  <a:pt x="8985" y="12668"/>
                </a:cubicBezTo>
                <a:cubicBezTo>
                  <a:pt x="8985" y="12742"/>
                  <a:pt x="8954" y="12809"/>
                  <a:pt x="8954" y="12890"/>
                </a:cubicBezTo>
                <a:cubicBezTo>
                  <a:pt x="8954" y="12964"/>
                  <a:pt x="8980" y="12974"/>
                  <a:pt x="8985" y="13018"/>
                </a:cubicBezTo>
                <a:cubicBezTo>
                  <a:pt x="8995" y="13096"/>
                  <a:pt x="9050" y="13016"/>
                  <a:pt x="9080" y="12986"/>
                </a:cubicBezTo>
              </a:path>
              <a:path w="1906" h="1048">
                <a:moveTo>
                  <a:pt x="9430" y="12128"/>
                </a:moveTo>
                <a:cubicBezTo>
                  <a:pt x="9414" y="12176"/>
                  <a:pt x="9391" y="12160"/>
                  <a:pt x="9334" y="12160"/>
                </a:cubicBezTo>
                <a:cubicBezTo>
                  <a:pt x="9302" y="12160"/>
                  <a:pt x="9271" y="12160"/>
                  <a:pt x="9239" y="12160"/>
                </a:cubicBezTo>
                <a:cubicBezTo>
                  <a:pt x="9239" y="12224"/>
                  <a:pt x="9221" y="12230"/>
                  <a:pt x="9208" y="12256"/>
                </a:cubicBezTo>
                <a:cubicBezTo>
                  <a:pt x="9191" y="12289"/>
                  <a:pt x="9208" y="12376"/>
                  <a:pt x="9208" y="12414"/>
                </a:cubicBezTo>
                <a:cubicBezTo>
                  <a:pt x="9256" y="12397"/>
                  <a:pt x="9229" y="12367"/>
                  <a:pt x="9271" y="12319"/>
                </a:cubicBezTo>
                <a:cubicBezTo>
                  <a:pt x="9316" y="12269"/>
                  <a:pt x="9353" y="12279"/>
                  <a:pt x="9398" y="12319"/>
                </a:cubicBezTo>
                <a:cubicBezTo>
                  <a:pt x="9447" y="12363"/>
                  <a:pt x="9430" y="12415"/>
                  <a:pt x="9430" y="12478"/>
                </a:cubicBezTo>
                <a:cubicBezTo>
                  <a:pt x="9430" y="12545"/>
                  <a:pt x="9436" y="12545"/>
                  <a:pt x="9398" y="12573"/>
                </a:cubicBezTo>
                <a:cubicBezTo>
                  <a:pt x="9370" y="12594"/>
                  <a:pt x="9314" y="12629"/>
                  <a:pt x="9271" y="12605"/>
                </a:cubicBezTo>
                <a:cubicBezTo>
                  <a:pt x="9216" y="12574"/>
                  <a:pt x="9208" y="12533"/>
                  <a:pt x="920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4046400" y="4251240"/>
            <a:ext cx="800280" cy="366840"/>
          </a:xfrm>
          <a:custGeom>
            <a:avLst/>
            <a:gdLst/>
            <a:ahLst/>
            <a:rect l="l" t="t" r="r" b="b"/>
            <a:pathLst>
              <a:path w="2223" h="1017">
                <a:moveTo>
                  <a:pt x="11271" y="12033"/>
                </a:moveTo>
                <a:cubicBezTo>
                  <a:pt x="11240" y="12033"/>
                  <a:pt x="11230" y="12033"/>
                  <a:pt x="11240" y="12002"/>
                </a:cubicBezTo>
                <a:cubicBezTo>
                  <a:pt x="11291" y="11995"/>
                  <a:pt x="11322" y="11990"/>
                  <a:pt x="11366" y="11970"/>
                </a:cubicBezTo>
                <a:cubicBezTo>
                  <a:pt x="11447" y="11934"/>
                  <a:pt x="11510" y="11928"/>
                  <a:pt x="11589" y="11906"/>
                </a:cubicBezTo>
                <a:cubicBezTo>
                  <a:pt x="11706" y="11874"/>
                  <a:pt x="11816" y="11847"/>
                  <a:pt x="11938" y="11843"/>
                </a:cubicBezTo>
                <a:cubicBezTo>
                  <a:pt x="12216" y="11833"/>
                  <a:pt x="12493" y="11845"/>
                  <a:pt x="12764" y="11874"/>
                </a:cubicBezTo>
                <a:cubicBezTo>
                  <a:pt x="12898" y="11888"/>
                  <a:pt x="13017" y="11860"/>
                  <a:pt x="13144" y="11843"/>
                </a:cubicBezTo>
                <a:cubicBezTo>
                  <a:pt x="13222" y="11833"/>
                  <a:pt x="13292" y="11822"/>
                  <a:pt x="13367" y="11811"/>
                </a:cubicBezTo>
                <a:cubicBezTo>
                  <a:pt x="13434" y="11801"/>
                  <a:pt x="13436" y="11827"/>
                  <a:pt x="13462" y="11843"/>
                </a:cubicBezTo>
              </a:path>
              <a:path w="2223" h="1017">
                <a:moveTo>
                  <a:pt x="11906" y="12097"/>
                </a:moveTo>
                <a:cubicBezTo>
                  <a:pt x="11850" y="12097"/>
                  <a:pt x="11912" y="12068"/>
                  <a:pt x="11938" y="12065"/>
                </a:cubicBezTo>
                <a:cubicBezTo>
                  <a:pt x="12017" y="12055"/>
                  <a:pt x="12135" y="12047"/>
                  <a:pt x="12192" y="12097"/>
                </a:cubicBezTo>
                <a:cubicBezTo>
                  <a:pt x="12250" y="12147"/>
                  <a:pt x="12225" y="12167"/>
                  <a:pt x="12192" y="12192"/>
                </a:cubicBezTo>
                <a:cubicBezTo>
                  <a:pt x="12148" y="12225"/>
                  <a:pt x="12115" y="12271"/>
                  <a:pt x="12065" y="12287"/>
                </a:cubicBezTo>
                <a:cubicBezTo>
                  <a:pt x="12010" y="12305"/>
                  <a:pt x="11985" y="12287"/>
                  <a:pt x="12065" y="12287"/>
                </a:cubicBezTo>
                <a:cubicBezTo>
                  <a:pt x="12119" y="12287"/>
                  <a:pt x="12155" y="12345"/>
                  <a:pt x="12192" y="12382"/>
                </a:cubicBezTo>
                <a:cubicBezTo>
                  <a:pt x="12243" y="12432"/>
                  <a:pt x="12224" y="12505"/>
                  <a:pt x="12224" y="12573"/>
                </a:cubicBezTo>
                <a:cubicBezTo>
                  <a:pt x="12224" y="12608"/>
                  <a:pt x="12166" y="12689"/>
                  <a:pt x="12128" y="12700"/>
                </a:cubicBezTo>
                <a:cubicBezTo>
                  <a:pt x="12067" y="12718"/>
                  <a:pt x="12019" y="12733"/>
                  <a:pt x="11970" y="12700"/>
                </a:cubicBezTo>
                <a:cubicBezTo>
                  <a:pt x="11933" y="12675"/>
                  <a:pt x="11887" y="12611"/>
                  <a:pt x="11874" y="12573"/>
                </a:cubicBezTo>
                <a:cubicBezTo>
                  <a:pt x="11874" y="12528"/>
                  <a:pt x="11880" y="12506"/>
                  <a:pt x="11906" y="12478"/>
                </a:cubicBezTo>
              </a:path>
              <a:path w="2223" h="1017">
                <a:moveTo>
                  <a:pt x="12351" y="12319"/>
                </a:moveTo>
                <a:cubicBezTo>
                  <a:pt x="12351" y="12478"/>
                  <a:pt x="12351" y="12636"/>
                  <a:pt x="12351" y="12795"/>
                </a:cubicBezTo>
                <a:cubicBezTo>
                  <a:pt x="12309" y="12740"/>
                  <a:pt x="12319" y="12710"/>
                  <a:pt x="12319" y="12636"/>
                </a:cubicBezTo>
                <a:cubicBezTo>
                  <a:pt x="12319" y="12550"/>
                  <a:pt x="12337" y="12483"/>
                  <a:pt x="12351" y="12414"/>
                </a:cubicBezTo>
                <a:cubicBezTo>
                  <a:pt x="12365" y="12347"/>
                  <a:pt x="12363" y="12296"/>
                  <a:pt x="12446" y="12287"/>
                </a:cubicBezTo>
                <a:cubicBezTo>
                  <a:pt x="12497" y="12281"/>
                  <a:pt x="12550" y="12299"/>
                  <a:pt x="12573" y="12351"/>
                </a:cubicBezTo>
                <a:cubicBezTo>
                  <a:pt x="12615" y="12444"/>
                  <a:pt x="12561" y="12613"/>
                  <a:pt x="12541" y="12700"/>
                </a:cubicBezTo>
                <a:cubicBezTo>
                  <a:pt x="12529" y="12754"/>
                  <a:pt x="12574" y="12776"/>
                  <a:pt x="12510" y="12732"/>
                </a:cubicBezTo>
                <a:cubicBezTo>
                  <a:pt x="12510" y="12677"/>
                  <a:pt x="12524" y="12622"/>
                  <a:pt x="12541" y="12573"/>
                </a:cubicBezTo>
                <a:cubicBezTo>
                  <a:pt x="12568" y="12497"/>
                  <a:pt x="12612" y="12437"/>
                  <a:pt x="12668" y="12382"/>
                </a:cubicBezTo>
                <a:cubicBezTo>
                  <a:pt x="12733" y="12318"/>
                  <a:pt x="12719" y="12332"/>
                  <a:pt x="12795" y="12351"/>
                </a:cubicBezTo>
                <a:cubicBezTo>
                  <a:pt x="12795" y="12436"/>
                  <a:pt x="12777" y="12495"/>
                  <a:pt x="12764" y="12573"/>
                </a:cubicBezTo>
                <a:cubicBezTo>
                  <a:pt x="12750" y="12656"/>
                  <a:pt x="12775" y="12728"/>
                  <a:pt x="12795" y="12795"/>
                </a:cubicBezTo>
                <a:cubicBezTo>
                  <a:pt x="12811" y="12850"/>
                  <a:pt x="12814" y="12829"/>
                  <a:pt x="12859" y="12795"/>
                </a:cubicBezTo>
              </a:path>
              <a:path w="2223" h="1017">
                <a:moveTo>
                  <a:pt x="13176" y="11938"/>
                </a:moveTo>
                <a:cubicBezTo>
                  <a:pt x="13160" y="12001"/>
                  <a:pt x="13146" y="12002"/>
                  <a:pt x="13081" y="12002"/>
                </a:cubicBezTo>
                <a:cubicBezTo>
                  <a:pt x="13038" y="12002"/>
                  <a:pt x="13046" y="11946"/>
                  <a:pt x="13018" y="12033"/>
                </a:cubicBezTo>
                <a:cubicBezTo>
                  <a:pt x="13006" y="12068"/>
                  <a:pt x="12995" y="12092"/>
                  <a:pt x="12986" y="12128"/>
                </a:cubicBezTo>
                <a:cubicBezTo>
                  <a:pt x="13011" y="12179"/>
                  <a:pt x="13024" y="12115"/>
                  <a:pt x="13081" y="12097"/>
                </a:cubicBezTo>
                <a:cubicBezTo>
                  <a:pt x="13110" y="12088"/>
                  <a:pt x="13198" y="12113"/>
                  <a:pt x="13208" y="12128"/>
                </a:cubicBezTo>
                <a:cubicBezTo>
                  <a:pt x="13215" y="12138"/>
                  <a:pt x="13264" y="12237"/>
                  <a:pt x="13240" y="12256"/>
                </a:cubicBezTo>
                <a:cubicBezTo>
                  <a:pt x="13210" y="12280"/>
                  <a:pt x="13198" y="12287"/>
                  <a:pt x="13144" y="12287"/>
                </a:cubicBezTo>
                <a:cubicBezTo>
                  <a:pt x="13085" y="12287"/>
                  <a:pt x="13034" y="12305"/>
                  <a:pt x="13018" y="12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6321600" y="3121200"/>
            <a:ext cx="2560320" cy="1554120"/>
          </a:xfrm>
          <a:custGeom>
            <a:avLst/>
            <a:gdLst/>
            <a:ahLst/>
            <a:rect l="l" t="t" r="r" b="b"/>
            <a:pathLst>
              <a:path w="7113" h="4319">
                <a:moveTo>
                  <a:pt x="18510" y="8668"/>
                </a:moveTo>
                <a:cubicBezTo>
                  <a:pt x="18477" y="8725"/>
                  <a:pt x="18419" y="8793"/>
                  <a:pt x="18383" y="8858"/>
                </a:cubicBezTo>
                <a:cubicBezTo>
                  <a:pt x="18306" y="8995"/>
                  <a:pt x="18220" y="9172"/>
                  <a:pt x="18129" y="9303"/>
                </a:cubicBezTo>
                <a:cubicBezTo>
                  <a:pt x="17991" y="9501"/>
                  <a:pt x="17903" y="9737"/>
                  <a:pt x="17812" y="9970"/>
                </a:cubicBezTo>
                <a:cubicBezTo>
                  <a:pt x="17703" y="10248"/>
                  <a:pt x="17660" y="10533"/>
                  <a:pt x="17621" y="10827"/>
                </a:cubicBezTo>
                <a:cubicBezTo>
                  <a:pt x="17580" y="11143"/>
                  <a:pt x="17573" y="11402"/>
                  <a:pt x="17590" y="11716"/>
                </a:cubicBezTo>
                <a:cubicBezTo>
                  <a:pt x="17604" y="11987"/>
                  <a:pt x="17651" y="12195"/>
                  <a:pt x="17748" y="12446"/>
                </a:cubicBezTo>
                <a:cubicBezTo>
                  <a:pt x="17790" y="12556"/>
                  <a:pt x="17846" y="12662"/>
                  <a:pt x="17907" y="12764"/>
                </a:cubicBezTo>
                <a:cubicBezTo>
                  <a:pt x="17941" y="12822"/>
                  <a:pt x="17987" y="12872"/>
                  <a:pt x="18034" y="12922"/>
                </a:cubicBezTo>
                <a:cubicBezTo>
                  <a:pt x="18051" y="12940"/>
                  <a:pt x="18067" y="12955"/>
                  <a:pt x="18098" y="12986"/>
                </a:cubicBezTo>
              </a:path>
              <a:path w="7113" h="4319">
                <a:moveTo>
                  <a:pt x="17875" y="10763"/>
                </a:moveTo>
                <a:cubicBezTo>
                  <a:pt x="17875" y="10774"/>
                  <a:pt x="17875" y="10784"/>
                  <a:pt x="17875" y="10795"/>
                </a:cubicBezTo>
                <a:cubicBezTo>
                  <a:pt x="17916" y="10805"/>
                  <a:pt x="17953" y="10844"/>
                  <a:pt x="18002" y="10827"/>
                </a:cubicBezTo>
                <a:cubicBezTo>
                  <a:pt x="18078" y="10800"/>
                  <a:pt x="18110" y="10795"/>
                  <a:pt x="18193" y="10795"/>
                </a:cubicBezTo>
                <a:cubicBezTo>
                  <a:pt x="18246" y="10795"/>
                  <a:pt x="18299" y="10795"/>
                  <a:pt x="18352" y="10795"/>
                </a:cubicBezTo>
                <a:cubicBezTo>
                  <a:pt x="18352" y="10827"/>
                  <a:pt x="18352" y="10837"/>
                  <a:pt x="18383" y="10827"/>
                </a:cubicBezTo>
              </a:path>
              <a:path w="7113" h="4319">
                <a:moveTo>
                  <a:pt x="18796" y="10446"/>
                </a:moveTo>
                <a:cubicBezTo>
                  <a:pt x="18796" y="10899"/>
                  <a:pt x="18850" y="11416"/>
                  <a:pt x="18764" y="11843"/>
                </a:cubicBezTo>
                <a:cubicBezTo>
                  <a:pt x="18764" y="11864"/>
                  <a:pt x="18764" y="11885"/>
                  <a:pt x="18764" y="11906"/>
                </a:cubicBezTo>
                <a:cubicBezTo>
                  <a:pt x="18764" y="11513"/>
                  <a:pt x="18755" y="11117"/>
                  <a:pt x="18796" y="10732"/>
                </a:cubicBezTo>
                <a:cubicBezTo>
                  <a:pt x="18807" y="10633"/>
                  <a:pt x="18820" y="10503"/>
                  <a:pt x="18860" y="10414"/>
                </a:cubicBezTo>
                <a:cubicBezTo>
                  <a:pt x="18881" y="10366"/>
                  <a:pt x="18902" y="10371"/>
                  <a:pt x="18923" y="10350"/>
                </a:cubicBezTo>
                <a:cubicBezTo>
                  <a:pt x="18971" y="10391"/>
                  <a:pt x="18989" y="10407"/>
                  <a:pt x="19018" y="10478"/>
                </a:cubicBezTo>
                <a:cubicBezTo>
                  <a:pt x="19064" y="10593"/>
                  <a:pt x="19071" y="10768"/>
                  <a:pt x="19082" y="10890"/>
                </a:cubicBezTo>
                <a:cubicBezTo>
                  <a:pt x="19106" y="11172"/>
                  <a:pt x="19082" y="11465"/>
                  <a:pt x="19082" y="11748"/>
                </a:cubicBezTo>
                <a:cubicBezTo>
                  <a:pt x="19045" y="11686"/>
                  <a:pt x="19050" y="11669"/>
                  <a:pt x="19050" y="11589"/>
                </a:cubicBezTo>
                <a:cubicBezTo>
                  <a:pt x="19050" y="11331"/>
                  <a:pt x="19055" y="11078"/>
                  <a:pt x="19082" y="10827"/>
                </a:cubicBezTo>
                <a:cubicBezTo>
                  <a:pt x="19095" y="10702"/>
                  <a:pt x="19110" y="10523"/>
                  <a:pt x="19177" y="10414"/>
                </a:cubicBezTo>
                <a:cubicBezTo>
                  <a:pt x="19206" y="10385"/>
                  <a:pt x="19217" y="10379"/>
                  <a:pt x="19209" y="10350"/>
                </a:cubicBezTo>
                <a:cubicBezTo>
                  <a:pt x="19264" y="10382"/>
                  <a:pt x="19274" y="10390"/>
                  <a:pt x="19304" y="10446"/>
                </a:cubicBezTo>
                <a:cubicBezTo>
                  <a:pt x="19365" y="10559"/>
                  <a:pt x="19388" y="10700"/>
                  <a:pt x="19399" y="10827"/>
                </a:cubicBezTo>
                <a:cubicBezTo>
                  <a:pt x="19433" y="11238"/>
                  <a:pt x="19367" y="11664"/>
                  <a:pt x="19431" y="12065"/>
                </a:cubicBezTo>
                <a:cubicBezTo>
                  <a:pt x="19440" y="12119"/>
                  <a:pt x="19421" y="12141"/>
                  <a:pt x="19494" y="12128"/>
                </a:cubicBezTo>
                <a:cubicBezTo>
                  <a:pt x="19530" y="12128"/>
                  <a:pt x="19544" y="12125"/>
                  <a:pt x="19558" y="12097"/>
                </a:cubicBezTo>
              </a:path>
              <a:path w="7113" h="4319">
                <a:moveTo>
                  <a:pt x="19939" y="9588"/>
                </a:moveTo>
                <a:cubicBezTo>
                  <a:pt x="19889" y="9601"/>
                  <a:pt x="19872" y="9631"/>
                  <a:pt x="19844" y="9652"/>
                </a:cubicBezTo>
                <a:cubicBezTo>
                  <a:pt x="19805" y="9681"/>
                  <a:pt x="19766" y="9710"/>
                  <a:pt x="19717" y="9716"/>
                </a:cubicBezTo>
                <a:cubicBezTo>
                  <a:pt x="19686" y="9719"/>
                  <a:pt x="19653" y="9716"/>
                  <a:pt x="19622" y="9716"/>
                </a:cubicBezTo>
                <a:cubicBezTo>
                  <a:pt x="19669" y="9732"/>
                  <a:pt x="19653" y="9755"/>
                  <a:pt x="19653" y="9811"/>
                </a:cubicBezTo>
                <a:cubicBezTo>
                  <a:pt x="19653" y="9891"/>
                  <a:pt x="19639" y="10085"/>
                  <a:pt x="19653" y="10065"/>
                </a:cubicBezTo>
                <a:cubicBezTo>
                  <a:pt x="19684" y="10022"/>
                  <a:pt x="19695" y="9987"/>
                  <a:pt x="19748" y="9970"/>
                </a:cubicBezTo>
                <a:cubicBezTo>
                  <a:pt x="19819" y="9947"/>
                  <a:pt x="19806" y="9962"/>
                  <a:pt x="19876" y="9970"/>
                </a:cubicBezTo>
                <a:cubicBezTo>
                  <a:pt x="19917" y="9975"/>
                  <a:pt x="19983" y="10022"/>
                  <a:pt x="20002" y="10065"/>
                </a:cubicBezTo>
                <a:cubicBezTo>
                  <a:pt x="20025" y="10117"/>
                  <a:pt x="20058" y="10226"/>
                  <a:pt x="20034" y="10287"/>
                </a:cubicBezTo>
                <a:cubicBezTo>
                  <a:pt x="20015" y="10337"/>
                  <a:pt x="19997" y="10445"/>
                  <a:pt x="19939" y="10478"/>
                </a:cubicBezTo>
                <a:cubicBezTo>
                  <a:pt x="19901" y="10499"/>
                  <a:pt x="19861" y="10509"/>
                  <a:pt x="19812" y="10509"/>
                </a:cubicBezTo>
                <a:cubicBezTo>
                  <a:pt x="19761" y="10509"/>
                  <a:pt x="19700" y="10509"/>
                  <a:pt x="19685" y="10478"/>
                </a:cubicBezTo>
                <a:cubicBezTo>
                  <a:pt x="19685" y="10435"/>
                  <a:pt x="19685" y="10414"/>
                  <a:pt x="19685" y="10382"/>
                </a:cubicBezTo>
              </a:path>
              <a:path w="7113" h="4319">
                <a:moveTo>
                  <a:pt x="20384" y="10541"/>
                </a:moveTo>
                <a:lnTo>
                  <a:pt x="20384" y="10541"/>
                </a:lnTo>
              </a:path>
              <a:path w="7113" h="4319">
                <a:moveTo>
                  <a:pt x="20384" y="10541"/>
                </a:moveTo>
                <a:lnTo>
                  <a:pt x="20384" y="10541"/>
                </a:lnTo>
              </a:path>
              <a:path w="7113" h="4319">
                <a:moveTo>
                  <a:pt x="20415" y="10636"/>
                </a:moveTo>
                <a:cubicBezTo>
                  <a:pt x="20415" y="10837"/>
                  <a:pt x="20499" y="11271"/>
                  <a:pt x="20384" y="11430"/>
                </a:cubicBezTo>
              </a:path>
              <a:path w="7113" h="4319">
                <a:moveTo>
                  <a:pt x="20256" y="11017"/>
                </a:moveTo>
                <a:cubicBezTo>
                  <a:pt x="20246" y="11017"/>
                  <a:pt x="20235" y="11017"/>
                  <a:pt x="20225" y="11017"/>
                </a:cubicBezTo>
                <a:cubicBezTo>
                  <a:pt x="20302" y="11017"/>
                  <a:pt x="20380" y="11031"/>
                  <a:pt x="20447" y="10986"/>
                </a:cubicBezTo>
                <a:cubicBezTo>
                  <a:pt x="20518" y="10939"/>
                  <a:pt x="20577" y="10888"/>
                  <a:pt x="20638" y="10827"/>
                </a:cubicBezTo>
                <a:cubicBezTo>
                  <a:pt x="20648" y="10816"/>
                  <a:pt x="20659" y="10806"/>
                  <a:pt x="20669" y="10795"/>
                </a:cubicBezTo>
              </a:path>
              <a:path w="7113" h="4319">
                <a:moveTo>
                  <a:pt x="20828" y="10065"/>
                </a:moveTo>
                <a:cubicBezTo>
                  <a:pt x="20859" y="9983"/>
                  <a:pt x="20868" y="9915"/>
                  <a:pt x="20923" y="9842"/>
                </a:cubicBezTo>
                <a:cubicBezTo>
                  <a:pt x="20942" y="9816"/>
                  <a:pt x="21050" y="9725"/>
                  <a:pt x="21082" y="9716"/>
                </a:cubicBezTo>
                <a:cubicBezTo>
                  <a:pt x="21153" y="9696"/>
                  <a:pt x="21184" y="9718"/>
                  <a:pt x="21209" y="9747"/>
                </a:cubicBezTo>
                <a:cubicBezTo>
                  <a:pt x="21276" y="9826"/>
                  <a:pt x="21171" y="9977"/>
                  <a:pt x="21146" y="10065"/>
                </a:cubicBezTo>
                <a:cubicBezTo>
                  <a:pt x="21112" y="10186"/>
                  <a:pt x="21055" y="10371"/>
                  <a:pt x="20987" y="10478"/>
                </a:cubicBezTo>
                <a:cubicBezTo>
                  <a:pt x="20949" y="10537"/>
                  <a:pt x="20883" y="10630"/>
                  <a:pt x="20923" y="10573"/>
                </a:cubicBezTo>
                <a:cubicBezTo>
                  <a:pt x="20962" y="10518"/>
                  <a:pt x="20991" y="10479"/>
                  <a:pt x="21050" y="10446"/>
                </a:cubicBezTo>
                <a:cubicBezTo>
                  <a:pt x="21120" y="10407"/>
                  <a:pt x="21178" y="10394"/>
                  <a:pt x="21241" y="10446"/>
                </a:cubicBezTo>
                <a:cubicBezTo>
                  <a:pt x="21315" y="10506"/>
                  <a:pt x="21332" y="10612"/>
                  <a:pt x="21336" y="10700"/>
                </a:cubicBezTo>
                <a:cubicBezTo>
                  <a:pt x="21341" y="10830"/>
                  <a:pt x="21302" y="10995"/>
                  <a:pt x="21241" y="11112"/>
                </a:cubicBezTo>
                <a:cubicBezTo>
                  <a:pt x="21184" y="11222"/>
                  <a:pt x="21109" y="11298"/>
                  <a:pt x="21018" y="11335"/>
                </a:cubicBezTo>
                <a:cubicBezTo>
                  <a:pt x="20943" y="11366"/>
                  <a:pt x="20923" y="11385"/>
                  <a:pt x="20860" y="11335"/>
                </a:cubicBezTo>
                <a:cubicBezTo>
                  <a:pt x="20845" y="11323"/>
                  <a:pt x="20815" y="11280"/>
                  <a:pt x="20828" y="11240"/>
                </a:cubicBezTo>
                <a:cubicBezTo>
                  <a:pt x="20836" y="11217"/>
                  <a:pt x="20887" y="11213"/>
                  <a:pt x="20923" y="11208"/>
                </a:cubicBezTo>
              </a:path>
              <a:path w="7113" h="4319">
                <a:moveTo>
                  <a:pt x="21717" y="10192"/>
                </a:moveTo>
                <a:cubicBezTo>
                  <a:pt x="21717" y="10287"/>
                  <a:pt x="21736" y="10353"/>
                  <a:pt x="21749" y="10446"/>
                </a:cubicBezTo>
                <a:cubicBezTo>
                  <a:pt x="21765" y="10558"/>
                  <a:pt x="21768" y="10684"/>
                  <a:pt x="21780" y="10795"/>
                </a:cubicBezTo>
                <a:cubicBezTo>
                  <a:pt x="21793" y="10919"/>
                  <a:pt x="21780" y="11051"/>
                  <a:pt x="21780" y="11176"/>
                </a:cubicBezTo>
              </a:path>
              <a:path w="7113" h="4319">
                <a:moveTo>
                  <a:pt x="21622" y="10668"/>
                </a:moveTo>
                <a:cubicBezTo>
                  <a:pt x="21702" y="10678"/>
                  <a:pt x="21761" y="10700"/>
                  <a:pt x="21844" y="10700"/>
                </a:cubicBezTo>
                <a:cubicBezTo>
                  <a:pt x="21962" y="10700"/>
                  <a:pt x="22007" y="10718"/>
                  <a:pt x="22130" y="10700"/>
                </a:cubicBezTo>
                <a:cubicBezTo>
                  <a:pt x="22151" y="10700"/>
                  <a:pt x="22172" y="10700"/>
                  <a:pt x="22193" y="10700"/>
                </a:cubicBezTo>
              </a:path>
              <a:path w="7113" h="4319">
                <a:moveTo>
                  <a:pt x="22288" y="10001"/>
                </a:moveTo>
                <a:cubicBezTo>
                  <a:pt x="22299" y="9956"/>
                  <a:pt x="22287" y="9971"/>
                  <a:pt x="22320" y="9938"/>
                </a:cubicBezTo>
                <a:cubicBezTo>
                  <a:pt x="22369" y="9889"/>
                  <a:pt x="22428" y="9861"/>
                  <a:pt x="22479" y="9811"/>
                </a:cubicBezTo>
                <a:cubicBezTo>
                  <a:pt x="22519" y="9771"/>
                  <a:pt x="22602" y="9753"/>
                  <a:pt x="22638" y="9811"/>
                </a:cubicBezTo>
                <a:cubicBezTo>
                  <a:pt x="22698" y="9909"/>
                  <a:pt x="22647" y="9995"/>
                  <a:pt x="22638" y="10096"/>
                </a:cubicBezTo>
                <a:cubicBezTo>
                  <a:pt x="22621" y="10276"/>
                  <a:pt x="22574" y="10494"/>
                  <a:pt x="22511" y="10668"/>
                </a:cubicBezTo>
                <a:cubicBezTo>
                  <a:pt x="22447" y="10846"/>
                  <a:pt x="22406" y="11024"/>
                  <a:pt x="22352" y="11208"/>
                </a:cubicBezTo>
                <a:cubicBezTo>
                  <a:pt x="22322" y="11309"/>
                  <a:pt x="22119" y="11494"/>
                  <a:pt x="22225" y="11494"/>
                </a:cubicBezTo>
                <a:cubicBezTo>
                  <a:pt x="22246" y="11494"/>
                  <a:pt x="22291" y="11384"/>
                  <a:pt x="22320" y="11366"/>
                </a:cubicBezTo>
                <a:cubicBezTo>
                  <a:pt x="22361" y="11340"/>
                  <a:pt x="22428" y="11321"/>
                  <a:pt x="22479" y="11335"/>
                </a:cubicBezTo>
                <a:cubicBezTo>
                  <a:pt x="22539" y="11352"/>
                  <a:pt x="22580" y="11459"/>
                  <a:pt x="22606" y="11494"/>
                </a:cubicBezTo>
                <a:cubicBezTo>
                  <a:pt x="22649" y="11550"/>
                  <a:pt x="22636" y="11574"/>
                  <a:pt x="22670" y="11525"/>
                </a:cubicBezTo>
                <a:cubicBezTo>
                  <a:pt x="22670" y="11515"/>
                  <a:pt x="22670" y="11504"/>
                  <a:pt x="22670" y="11494"/>
                </a:cubicBezTo>
              </a:path>
              <a:path w="7113" h="4319">
                <a:moveTo>
                  <a:pt x="22828" y="10509"/>
                </a:moveTo>
                <a:cubicBezTo>
                  <a:pt x="22813" y="10517"/>
                  <a:pt x="22814" y="10573"/>
                  <a:pt x="22828" y="10636"/>
                </a:cubicBezTo>
                <a:cubicBezTo>
                  <a:pt x="22864" y="10796"/>
                  <a:pt x="22860" y="10946"/>
                  <a:pt x="22860" y="11112"/>
                </a:cubicBezTo>
                <a:cubicBezTo>
                  <a:pt x="22860" y="11303"/>
                  <a:pt x="22860" y="11493"/>
                  <a:pt x="22860" y="11684"/>
                </a:cubicBezTo>
                <a:cubicBezTo>
                  <a:pt x="22824" y="11624"/>
                  <a:pt x="22805" y="11506"/>
                  <a:pt x="22796" y="11430"/>
                </a:cubicBezTo>
                <a:cubicBezTo>
                  <a:pt x="22778" y="11277"/>
                  <a:pt x="22823" y="11136"/>
                  <a:pt x="22828" y="10986"/>
                </a:cubicBezTo>
                <a:cubicBezTo>
                  <a:pt x="22832" y="10864"/>
                  <a:pt x="22842" y="10746"/>
                  <a:pt x="22892" y="10636"/>
                </a:cubicBezTo>
                <a:cubicBezTo>
                  <a:pt x="22923" y="10567"/>
                  <a:pt x="22972" y="10554"/>
                  <a:pt x="22987" y="10509"/>
                </a:cubicBezTo>
                <a:cubicBezTo>
                  <a:pt x="23051" y="10574"/>
                  <a:pt x="23059" y="10585"/>
                  <a:pt x="23082" y="10668"/>
                </a:cubicBezTo>
                <a:cubicBezTo>
                  <a:pt x="23120" y="10807"/>
                  <a:pt x="23114" y="10936"/>
                  <a:pt x="23114" y="11081"/>
                </a:cubicBezTo>
                <a:cubicBezTo>
                  <a:pt x="23114" y="11166"/>
                  <a:pt x="23114" y="11250"/>
                  <a:pt x="23114" y="11335"/>
                </a:cubicBezTo>
                <a:cubicBezTo>
                  <a:pt x="23114" y="11404"/>
                  <a:pt x="23114" y="11404"/>
                  <a:pt x="23114" y="11335"/>
                </a:cubicBezTo>
                <a:cubicBezTo>
                  <a:pt x="23114" y="11198"/>
                  <a:pt x="23124" y="11055"/>
                  <a:pt x="23146" y="10922"/>
                </a:cubicBezTo>
                <a:cubicBezTo>
                  <a:pt x="23168" y="10792"/>
                  <a:pt x="23196" y="10631"/>
                  <a:pt x="23241" y="10509"/>
                </a:cubicBezTo>
                <a:cubicBezTo>
                  <a:pt x="23262" y="10451"/>
                  <a:pt x="23295" y="10423"/>
                  <a:pt x="23336" y="10382"/>
                </a:cubicBezTo>
                <a:cubicBezTo>
                  <a:pt x="23410" y="10474"/>
                  <a:pt x="23407" y="10527"/>
                  <a:pt x="23432" y="10636"/>
                </a:cubicBezTo>
                <a:cubicBezTo>
                  <a:pt x="23468" y="10796"/>
                  <a:pt x="23437" y="10952"/>
                  <a:pt x="23463" y="11112"/>
                </a:cubicBezTo>
                <a:cubicBezTo>
                  <a:pt x="23485" y="11249"/>
                  <a:pt x="23506" y="11387"/>
                  <a:pt x="23527" y="11525"/>
                </a:cubicBezTo>
                <a:cubicBezTo>
                  <a:pt x="23540" y="11613"/>
                  <a:pt x="23551" y="11577"/>
                  <a:pt x="23590" y="11525"/>
                </a:cubicBezTo>
              </a:path>
              <a:path w="7113" h="4319">
                <a:moveTo>
                  <a:pt x="23717" y="9652"/>
                </a:moveTo>
                <a:cubicBezTo>
                  <a:pt x="23717" y="9827"/>
                  <a:pt x="23711" y="9994"/>
                  <a:pt x="23686" y="10160"/>
                </a:cubicBezTo>
                <a:cubicBezTo>
                  <a:pt x="23675" y="10235"/>
                  <a:pt x="23702" y="10258"/>
                  <a:pt x="23717" y="10319"/>
                </a:cubicBezTo>
              </a:path>
              <a:path w="7113" h="4319">
                <a:moveTo>
                  <a:pt x="23940" y="9652"/>
                </a:moveTo>
                <a:cubicBezTo>
                  <a:pt x="23883" y="9671"/>
                  <a:pt x="23908" y="9743"/>
                  <a:pt x="23908" y="9811"/>
                </a:cubicBezTo>
                <a:cubicBezTo>
                  <a:pt x="23908" y="9941"/>
                  <a:pt x="23876" y="10059"/>
                  <a:pt x="23876" y="10192"/>
                </a:cubicBezTo>
                <a:cubicBezTo>
                  <a:pt x="23876" y="10245"/>
                  <a:pt x="23876" y="10297"/>
                  <a:pt x="23876" y="10350"/>
                </a:cubicBezTo>
                <a:cubicBezTo>
                  <a:pt x="23940" y="10350"/>
                  <a:pt x="23987" y="10362"/>
                  <a:pt x="24035" y="10319"/>
                </a:cubicBezTo>
                <a:cubicBezTo>
                  <a:pt x="24079" y="10279"/>
                  <a:pt x="24095" y="10185"/>
                  <a:pt x="24098" y="10128"/>
                </a:cubicBezTo>
                <a:cubicBezTo>
                  <a:pt x="24104" y="10032"/>
                  <a:pt x="24114" y="9926"/>
                  <a:pt x="24066" y="9842"/>
                </a:cubicBezTo>
                <a:cubicBezTo>
                  <a:pt x="24026" y="9772"/>
                  <a:pt x="24031" y="9757"/>
                  <a:pt x="23971" y="9716"/>
                </a:cubicBezTo>
                <a:cubicBezTo>
                  <a:pt x="23961" y="9705"/>
                  <a:pt x="23950" y="9695"/>
                  <a:pt x="23940" y="9684"/>
                </a:cubicBezTo>
              </a:path>
              <a:path w="7113" h="4319">
                <a:moveTo>
                  <a:pt x="24035" y="8858"/>
                </a:moveTo>
                <a:cubicBezTo>
                  <a:pt x="24061" y="8882"/>
                  <a:pt x="24160" y="8949"/>
                  <a:pt x="24194" y="8985"/>
                </a:cubicBezTo>
                <a:cubicBezTo>
                  <a:pt x="24287" y="9082"/>
                  <a:pt x="24418" y="9248"/>
                  <a:pt x="24479" y="9366"/>
                </a:cubicBezTo>
                <a:cubicBezTo>
                  <a:pt x="24594" y="9590"/>
                  <a:pt x="24661" y="9878"/>
                  <a:pt x="24670" y="10128"/>
                </a:cubicBezTo>
                <a:cubicBezTo>
                  <a:pt x="24687" y="10571"/>
                  <a:pt x="24660" y="10992"/>
                  <a:pt x="24606" y="11430"/>
                </a:cubicBezTo>
                <a:cubicBezTo>
                  <a:pt x="24564" y="11769"/>
                  <a:pt x="24472" y="12094"/>
                  <a:pt x="24352" y="12414"/>
                </a:cubicBezTo>
                <a:cubicBezTo>
                  <a:pt x="24261" y="12627"/>
                  <a:pt x="24233" y="12693"/>
                  <a:pt x="24162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1177920" y="5394240"/>
            <a:ext cx="879480" cy="503280"/>
          </a:xfrm>
          <a:custGeom>
            <a:avLst/>
            <a:gdLst/>
            <a:ahLst/>
            <a:rect l="l" t="t" r="r" b="b"/>
            <a:pathLst>
              <a:path w="2446" h="1398">
                <a:moveTo>
                  <a:pt x="3270" y="15272"/>
                </a:moveTo>
                <a:cubicBezTo>
                  <a:pt x="3333" y="15264"/>
                  <a:pt x="3403" y="15260"/>
                  <a:pt x="3461" y="15240"/>
                </a:cubicBezTo>
                <a:cubicBezTo>
                  <a:pt x="3572" y="15203"/>
                  <a:pt x="3659" y="15154"/>
                  <a:pt x="3778" y="15145"/>
                </a:cubicBezTo>
                <a:cubicBezTo>
                  <a:pt x="3919" y="15135"/>
                  <a:pt x="4047" y="15113"/>
                  <a:pt x="4191" y="15113"/>
                </a:cubicBezTo>
                <a:cubicBezTo>
                  <a:pt x="4343" y="15113"/>
                  <a:pt x="4489" y="15063"/>
                  <a:pt x="4636" y="15050"/>
                </a:cubicBezTo>
                <a:cubicBezTo>
                  <a:pt x="4784" y="15037"/>
                  <a:pt x="4935" y="15049"/>
                  <a:pt x="5080" y="15018"/>
                </a:cubicBezTo>
                <a:cubicBezTo>
                  <a:pt x="5193" y="14994"/>
                  <a:pt x="5342" y="14957"/>
                  <a:pt x="5461" y="14986"/>
                </a:cubicBezTo>
                <a:cubicBezTo>
                  <a:pt x="5542" y="15005"/>
                  <a:pt x="5595" y="15018"/>
                  <a:pt x="5683" y="15018"/>
                </a:cubicBezTo>
                <a:cubicBezTo>
                  <a:pt x="5694" y="15018"/>
                  <a:pt x="5704" y="15018"/>
                  <a:pt x="5715" y="15018"/>
                </a:cubicBezTo>
              </a:path>
              <a:path w="2446" h="1398">
                <a:moveTo>
                  <a:pt x="4128" y="15335"/>
                </a:moveTo>
                <a:cubicBezTo>
                  <a:pt x="4062" y="15335"/>
                  <a:pt x="4168" y="15311"/>
                  <a:pt x="4191" y="15304"/>
                </a:cubicBezTo>
                <a:cubicBezTo>
                  <a:pt x="4236" y="15289"/>
                  <a:pt x="4303" y="15277"/>
                  <a:pt x="4350" y="15272"/>
                </a:cubicBezTo>
                <a:cubicBezTo>
                  <a:pt x="4390" y="15268"/>
                  <a:pt x="4448" y="15309"/>
                  <a:pt x="4477" y="15335"/>
                </a:cubicBezTo>
                <a:cubicBezTo>
                  <a:pt x="4533" y="15385"/>
                  <a:pt x="4518" y="15416"/>
                  <a:pt x="4508" y="15462"/>
                </a:cubicBezTo>
                <a:cubicBezTo>
                  <a:pt x="4493" y="15531"/>
                  <a:pt x="4461" y="15527"/>
                  <a:pt x="4413" y="15558"/>
                </a:cubicBezTo>
                <a:cubicBezTo>
                  <a:pt x="4349" y="15600"/>
                  <a:pt x="4285" y="15558"/>
                  <a:pt x="4223" y="15589"/>
                </a:cubicBezTo>
                <a:cubicBezTo>
                  <a:pt x="4192" y="15605"/>
                  <a:pt x="4102" y="15621"/>
                  <a:pt x="4159" y="15621"/>
                </a:cubicBezTo>
                <a:cubicBezTo>
                  <a:pt x="4170" y="15621"/>
                  <a:pt x="4318" y="15684"/>
                  <a:pt x="4318" y="15684"/>
                </a:cubicBezTo>
                <a:cubicBezTo>
                  <a:pt x="4383" y="15744"/>
                  <a:pt x="4389" y="15834"/>
                  <a:pt x="4413" y="15907"/>
                </a:cubicBezTo>
                <a:cubicBezTo>
                  <a:pt x="4441" y="15990"/>
                  <a:pt x="4445" y="16041"/>
                  <a:pt x="4445" y="16129"/>
                </a:cubicBezTo>
                <a:cubicBezTo>
                  <a:pt x="4445" y="16196"/>
                  <a:pt x="4403" y="16192"/>
                  <a:pt x="4350" y="16192"/>
                </a:cubicBezTo>
                <a:cubicBezTo>
                  <a:pt x="4291" y="16192"/>
                  <a:pt x="4208" y="16186"/>
                  <a:pt x="4159" y="16161"/>
                </a:cubicBezTo>
                <a:cubicBezTo>
                  <a:pt x="4114" y="16138"/>
                  <a:pt x="4087" y="16112"/>
                  <a:pt x="4064" y="16066"/>
                </a:cubicBezTo>
                <a:cubicBezTo>
                  <a:pt x="4064" y="16055"/>
                  <a:pt x="4064" y="16045"/>
                  <a:pt x="4064" y="16034"/>
                </a:cubicBezTo>
              </a:path>
              <a:path w="2446" h="1398">
                <a:moveTo>
                  <a:pt x="4636" y="15558"/>
                </a:moveTo>
                <a:cubicBezTo>
                  <a:pt x="4668" y="15645"/>
                  <a:pt x="4697" y="15723"/>
                  <a:pt x="4731" y="15812"/>
                </a:cubicBezTo>
                <a:cubicBezTo>
                  <a:pt x="4784" y="15948"/>
                  <a:pt x="4860" y="16116"/>
                  <a:pt x="4890" y="16256"/>
                </a:cubicBezTo>
                <a:cubicBezTo>
                  <a:pt x="4890" y="16320"/>
                  <a:pt x="4890" y="16341"/>
                  <a:pt x="4890" y="16383"/>
                </a:cubicBezTo>
              </a:path>
              <a:path w="2446" h="1398">
                <a:moveTo>
                  <a:pt x="4890" y="15621"/>
                </a:moveTo>
                <a:cubicBezTo>
                  <a:pt x="4825" y="15701"/>
                  <a:pt x="4810" y="15786"/>
                  <a:pt x="4762" y="15875"/>
                </a:cubicBezTo>
                <a:cubicBezTo>
                  <a:pt x="4694" y="16002"/>
                  <a:pt x="4621" y="16107"/>
                  <a:pt x="4540" y="16224"/>
                </a:cubicBezTo>
                <a:cubicBezTo>
                  <a:pt x="4504" y="16276"/>
                  <a:pt x="4490" y="16307"/>
                  <a:pt x="4445" y="16351"/>
                </a:cubicBezTo>
              </a:path>
              <a:path w="2446" h="1398">
                <a:moveTo>
                  <a:pt x="5175" y="15367"/>
                </a:moveTo>
                <a:cubicBezTo>
                  <a:pt x="5215" y="15337"/>
                  <a:pt x="5252" y="15309"/>
                  <a:pt x="5302" y="15304"/>
                </a:cubicBezTo>
                <a:cubicBezTo>
                  <a:pt x="5357" y="15298"/>
                  <a:pt x="5393" y="15353"/>
                  <a:pt x="5398" y="15399"/>
                </a:cubicBezTo>
                <a:cubicBezTo>
                  <a:pt x="5402" y="15436"/>
                  <a:pt x="5324" y="15529"/>
                  <a:pt x="5302" y="15558"/>
                </a:cubicBezTo>
                <a:cubicBezTo>
                  <a:pt x="5263" y="15609"/>
                  <a:pt x="5192" y="15636"/>
                  <a:pt x="5144" y="15684"/>
                </a:cubicBezTo>
                <a:cubicBezTo>
                  <a:pt x="5115" y="15713"/>
                  <a:pt x="5104" y="15719"/>
                  <a:pt x="5112" y="15748"/>
                </a:cubicBezTo>
                <a:cubicBezTo>
                  <a:pt x="5180" y="15748"/>
                  <a:pt x="5201" y="15722"/>
                  <a:pt x="5270" y="15716"/>
                </a:cubicBezTo>
                <a:cubicBezTo>
                  <a:pt x="5354" y="15709"/>
                  <a:pt x="5417" y="15715"/>
                  <a:pt x="5493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2583000" y="5349960"/>
            <a:ext cx="799920" cy="468360"/>
          </a:xfrm>
          <a:custGeom>
            <a:avLst/>
            <a:gdLst/>
            <a:ahLst/>
            <a:rect l="l" t="t" r="r" b="b"/>
            <a:pathLst>
              <a:path w="2223" h="1303">
                <a:moveTo>
                  <a:pt x="7176" y="15050"/>
                </a:moveTo>
                <a:cubicBezTo>
                  <a:pt x="7254" y="15029"/>
                  <a:pt x="7314" y="15018"/>
                  <a:pt x="7398" y="15018"/>
                </a:cubicBezTo>
                <a:cubicBezTo>
                  <a:pt x="7521" y="15018"/>
                  <a:pt x="7626" y="14992"/>
                  <a:pt x="7747" y="14986"/>
                </a:cubicBezTo>
                <a:cubicBezTo>
                  <a:pt x="7854" y="14981"/>
                  <a:pt x="7990" y="14974"/>
                  <a:pt x="8096" y="14954"/>
                </a:cubicBezTo>
                <a:cubicBezTo>
                  <a:pt x="8221" y="14931"/>
                  <a:pt x="8354" y="14918"/>
                  <a:pt x="8477" y="14891"/>
                </a:cubicBezTo>
                <a:cubicBezTo>
                  <a:pt x="8608" y="14862"/>
                  <a:pt x="8722" y="14859"/>
                  <a:pt x="8858" y="14859"/>
                </a:cubicBezTo>
                <a:cubicBezTo>
                  <a:pt x="8984" y="14859"/>
                  <a:pt x="9091" y="14872"/>
                  <a:pt x="9208" y="14891"/>
                </a:cubicBezTo>
                <a:cubicBezTo>
                  <a:pt x="9257" y="14899"/>
                  <a:pt x="9316" y="14891"/>
                  <a:pt x="9366" y="14891"/>
                </a:cubicBezTo>
              </a:path>
              <a:path w="2223" h="1303">
                <a:moveTo>
                  <a:pt x="7938" y="15335"/>
                </a:moveTo>
                <a:cubicBezTo>
                  <a:pt x="8019" y="15287"/>
                  <a:pt x="8100" y="15299"/>
                  <a:pt x="8192" y="15272"/>
                </a:cubicBezTo>
                <a:cubicBezTo>
                  <a:pt x="8295" y="15242"/>
                  <a:pt x="8327" y="15243"/>
                  <a:pt x="8414" y="15272"/>
                </a:cubicBezTo>
                <a:cubicBezTo>
                  <a:pt x="8442" y="15281"/>
                  <a:pt x="8471" y="15321"/>
                  <a:pt x="8446" y="15367"/>
                </a:cubicBezTo>
                <a:cubicBezTo>
                  <a:pt x="8415" y="15422"/>
                  <a:pt x="8359" y="15425"/>
                  <a:pt x="8318" y="15462"/>
                </a:cubicBezTo>
                <a:cubicBezTo>
                  <a:pt x="8269" y="15506"/>
                  <a:pt x="8224" y="15494"/>
                  <a:pt x="8160" y="15494"/>
                </a:cubicBezTo>
                <a:cubicBezTo>
                  <a:pt x="8128" y="15494"/>
                  <a:pt x="8117" y="15494"/>
                  <a:pt x="8096" y="15494"/>
                </a:cubicBezTo>
                <a:cubicBezTo>
                  <a:pt x="8147" y="15532"/>
                  <a:pt x="8200" y="15548"/>
                  <a:pt x="8255" y="15589"/>
                </a:cubicBezTo>
                <a:cubicBezTo>
                  <a:pt x="8329" y="15644"/>
                  <a:pt x="8377" y="15694"/>
                  <a:pt x="8382" y="15780"/>
                </a:cubicBezTo>
                <a:cubicBezTo>
                  <a:pt x="8385" y="15823"/>
                  <a:pt x="8382" y="15944"/>
                  <a:pt x="8350" y="15970"/>
                </a:cubicBezTo>
                <a:cubicBezTo>
                  <a:pt x="8298" y="16013"/>
                  <a:pt x="8136" y="15950"/>
                  <a:pt x="8096" y="15938"/>
                </a:cubicBezTo>
                <a:cubicBezTo>
                  <a:pt x="8052" y="15925"/>
                  <a:pt x="8004" y="15920"/>
                  <a:pt x="8001" y="15875"/>
                </a:cubicBezTo>
                <a:cubicBezTo>
                  <a:pt x="8001" y="15854"/>
                  <a:pt x="8001" y="15833"/>
                  <a:pt x="8001" y="15812"/>
                </a:cubicBezTo>
              </a:path>
              <a:path w="2223" h="1303">
                <a:moveTo>
                  <a:pt x="8509" y="15430"/>
                </a:moveTo>
                <a:cubicBezTo>
                  <a:pt x="8558" y="15517"/>
                  <a:pt x="8617" y="15596"/>
                  <a:pt x="8668" y="15684"/>
                </a:cubicBezTo>
                <a:cubicBezTo>
                  <a:pt x="8731" y="15794"/>
                  <a:pt x="8793" y="15899"/>
                  <a:pt x="8858" y="16002"/>
                </a:cubicBezTo>
                <a:cubicBezTo>
                  <a:pt x="8884" y="16054"/>
                  <a:pt x="8895" y="16062"/>
                  <a:pt x="8890" y="16097"/>
                </a:cubicBezTo>
              </a:path>
              <a:path w="2223" h="1303">
                <a:moveTo>
                  <a:pt x="8858" y="15430"/>
                </a:moveTo>
                <a:cubicBezTo>
                  <a:pt x="8811" y="15446"/>
                  <a:pt x="8793" y="15529"/>
                  <a:pt x="8763" y="15589"/>
                </a:cubicBezTo>
                <a:cubicBezTo>
                  <a:pt x="8705" y="15704"/>
                  <a:pt x="8629" y="15793"/>
                  <a:pt x="8572" y="15907"/>
                </a:cubicBezTo>
                <a:cubicBezTo>
                  <a:pt x="8537" y="15978"/>
                  <a:pt x="8481" y="16109"/>
                  <a:pt x="8414" y="16161"/>
                </a:cubicBezTo>
                <a:cubicBezTo>
                  <a:pt x="8403" y="16161"/>
                  <a:pt x="8393" y="16161"/>
                  <a:pt x="8382" y="16161"/>
                </a:cubicBezTo>
              </a:path>
              <a:path w="2223" h="1303">
                <a:moveTo>
                  <a:pt x="9049" y="15272"/>
                </a:moveTo>
                <a:cubicBezTo>
                  <a:pt x="9065" y="15208"/>
                  <a:pt x="9079" y="15208"/>
                  <a:pt x="9144" y="15208"/>
                </a:cubicBezTo>
                <a:cubicBezTo>
                  <a:pt x="9191" y="15208"/>
                  <a:pt x="9237" y="15217"/>
                  <a:pt x="9271" y="15240"/>
                </a:cubicBezTo>
                <a:cubicBezTo>
                  <a:pt x="9328" y="15278"/>
                  <a:pt x="9306" y="15328"/>
                  <a:pt x="9271" y="15367"/>
                </a:cubicBezTo>
                <a:cubicBezTo>
                  <a:pt x="9246" y="15395"/>
                  <a:pt x="9152" y="15444"/>
                  <a:pt x="9112" y="15462"/>
                </a:cubicBezTo>
                <a:cubicBezTo>
                  <a:pt x="9066" y="15482"/>
                  <a:pt x="9080" y="15497"/>
                  <a:pt x="9080" y="15558"/>
                </a:cubicBezTo>
                <a:cubicBezTo>
                  <a:pt x="9080" y="15593"/>
                  <a:pt x="9165" y="15638"/>
                  <a:pt x="9208" y="15653"/>
                </a:cubicBezTo>
                <a:cubicBezTo>
                  <a:pt x="9259" y="15670"/>
                  <a:pt x="9343" y="15653"/>
                  <a:pt x="9398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3"/>
          <p:cNvSpPr/>
          <p:nvPr/>
        </p:nvSpPr>
        <p:spPr>
          <a:xfrm>
            <a:off x="3965400" y="4629240"/>
            <a:ext cx="4321440" cy="1314360"/>
          </a:xfrm>
          <a:custGeom>
            <a:avLst/>
            <a:gdLst/>
            <a:ahLst/>
            <a:rect l="l" t="t" r="r" b="b"/>
            <a:pathLst>
              <a:path w="12003" h="3652">
                <a:moveTo>
                  <a:pt x="14319" y="13748"/>
                </a:moveTo>
                <a:cubicBezTo>
                  <a:pt x="14292" y="13836"/>
                  <a:pt x="14315" y="13744"/>
                  <a:pt x="14383" y="13780"/>
                </a:cubicBezTo>
                <a:cubicBezTo>
                  <a:pt x="14429" y="13805"/>
                  <a:pt x="14511" y="13833"/>
                  <a:pt x="14573" y="13811"/>
                </a:cubicBezTo>
                <a:cubicBezTo>
                  <a:pt x="14629" y="13791"/>
                  <a:pt x="14703" y="13771"/>
                  <a:pt x="14764" y="13748"/>
                </a:cubicBezTo>
                <a:cubicBezTo>
                  <a:pt x="14818" y="13727"/>
                  <a:pt x="14909" y="13678"/>
                  <a:pt x="14954" y="13652"/>
                </a:cubicBezTo>
                <a:cubicBezTo>
                  <a:pt x="15006" y="13621"/>
                  <a:pt x="14992" y="13629"/>
                  <a:pt x="15050" y="13621"/>
                </a:cubicBezTo>
                <a:cubicBezTo>
                  <a:pt x="15065" y="13647"/>
                  <a:pt x="15097" y="13667"/>
                  <a:pt x="15081" y="13716"/>
                </a:cubicBezTo>
                <a:cubicBezTo>
                  <a:pt x="15065" y="13766"/>
                  <a:pt x="14982" y="13829"/>
                  <a:pt x="14954" y="13875"/>
                </a:cubicBezTo>
                <a:cubicBezTo>
                  <a:pt x="14915" y="13939"/>
                  <a:pt x="14880" y="13981"/>
                  <a:pt x="14827" y="14034"/>
                </a:cubicBezTo>
                <a:cubicBezTo>
                  <a:pt x="14784" y="14077"/>
                  <a:pt x="14729" y="14072"/>
                  <a:pt x="14700" y="14097"/>
                </a:cubicBezTo>
                <a:cubicBezTo>
                  <a:pt x="14700" y="14108"/>
                  <a:pt x="14700" y="14118"/>
                  <a:pt x="14700" y="14129"/>
                </a:cubicBezTo>
                <a:cubicBezTo>
                  <a:pt x="14714" y="14117"/>
                  <a:pt x="14755" y="14073"/>
                  <a:pt x="14796" y="14065"/>
                </a:cubicBezTo>
                <a:cubicBezTo>
                  <a:pt x="14844" y="14055"/>
                  <a:pt x="14877" y="14041"/>
                  <a:pt x="14922" y="14034"/>
                </a:cubicBezTo>
                <a:cubicBezTo>
                  <a:pt x="14977" y="14025"/>
                  <a:pt x="15010" y="14032"/>
                  <a:pt x="15050" y="14065"/>
                </a:cubicBezTo>
                <a:cubicBezTo>
                  <a:pt x="15130" y="14129"/>
                  <a:pt x="15119" y="14149"/>
                  <a:pt x="15176" y="14224"/>
                </a:cubicBezTo>
                <a:cubicBezTo>
                  <a:pt x="15225" y="14288"/>
                  <a:pt x="15208" y="14364"/>
                  <a:pt x="15208" y="14446"/>
                </a:cubicBezTo>
                <a:cubicBezTo>
                  <a:pt x="15208" y="14578"/>
                  <a:pt x="15158" y="14675"/>
                  <a:pt x="15113" y="14796"/>
                </a:cubicBezTo>
                <a:cubicBezTo>
                  <a:pt x="15063" y="14929"/>
                  <a:pt x="15025" y="14990"/>
                  <a:pt x="14922" y="15081"/>
                </a:cubicBezTo>
                <a:cubicBezTo>
                  <a:pt x="14812" y="15179"/>
                  <a:pt x="14790" y="15233"/>
                  <a:pt x="14637" y="15240"/>
                </a:cubicBezTo>
                <a:cubicBezTo>
                  <a:pt x="14569" y="15243"/>
                  <a:pt x="14460" y="15264"/>
                  <a:pt x="14414" y="15208"/>
                </a:cubicBezTo>
                <a:cubicBezTo>
                  <a:pt x="14405" y="15197"/>
                  <a:pt x="14264" y="15045"/>
                  <a:pt x="14256" y="15018"/>
                </a:cubicBezTo>
                <a:cubicBezTo>
                  <a:pt x="14236" y="14947"/>
                  <a:pt x="14266" y="14887"/>
                  <a:pt x="14288" y="14859"/>
                </a:cubicBezTo>
                <a:cubicBezTo>
                  <a:pt x="14321" y="14817"/>
                  <a:pt x="14395" y="14816"/>
                  <a:pt x="14446" y="14827"/>
                </a:cubicBezTo>
                <a:cubicBezTo>
                  <a:pt x="14517" y="14843"/>
                  <a:pt x="14582" y="14870"/>
                  <a:pt x="14637" y="14922"/>
                </a:cubicBezTo>
                <a:cubicBezTo>
                  <a:pt x="14696" y="14982"/>
                  <a:pt x="14711" y="15000"/>
                  <a:pt x="14764" y="15018"/>
                </a:cubicBezTo>
              </a:path>
              <a:path w="12003" h="3652">
                <a:moveTo>
                  <a:pt x="15494" y="14256"/>
                </a:moveTo>
                <a:cubicBezTo>
                  <a:pt x="15494" y="14314"/>
                  <a:pt x="15510" y="14361"/>
                  <a:pt x="15526" y="14414"/>
                </a:cubicBezTo>
                <a:cubicBezTo>
                  <a:pt x="15562" y="14533"/>
                  <a:pt x="15585" y="14648"/>
                  <a:pt x="15621" y="14764"/>
                </a:cubicBezTo>
                <a:cubicBezTo>
                  <a:pt x="15654" y="14872"/>
                  <a:pt x="15674" y="14981"/>
                  <a:pt x="15716" y="15081"/>
                </a:cubicBezTo>
                <a:cubicBezTo>
                  <a:pt x="15752" y="15166"/>
                  <a:pt x="15774" y="15277"/>
                  <a:pt x="15780" y="15367"/>
                </a:cubicBezTo>
                <a:cubicBezTo>
                  <a:pt x="15784" y="15432"/>
                  <a:pt x="15798" y="15439"/>
                  <a:pt x="15812" y="15494"/>
                </a:cubicBezTo>
              </a:path>
              <a:path w="12003" h="3652">
                <a:moveTo>
                  <a:pt x="15812" y="14097"/>
                </a:moveTo>
                <a:cubicBezTo>
                  <a:pt x="15740" y="14169"/>
                  <a:pt x="15747" y="14218"/>
                  <a:pt x="15716" y="14319"/>
                </a:cubicBezTo>
                <a:cubicBezTo>
                  <a:pt x="15667" y="14478"/>
                  <a:pt x="15612" y="14639"/>
                  <a:pt x="15558" y="14796"/>
                </a:cubicBezTo>
                <a:cubicBezTo>
                  <a:pt x="15489" y="14998"/>
                  <a:pt x="15448" y="15191"/>
                  <a:pt x="15399" y="15399"/>
                </a:cubicBezTo>
                <a:cubicBezTo>
                  <a:pt x="15372" y="15513"/>
                  <a:pt x="15345" y="15601"/>
                  <a:pt x="15335" y="15716"/>
                </a:cubicBezTo>
              </a:path>
              <a:path w="12003" h="3652">
                <a:moveTo>
                  <a:pt x="16097" y="13716"/>
                </a:moveTo>
                <a:cubicBezTo>
                  <a:pt x="16087" y="13716"/>
                  <a:pt x="16076" y="13716"/>
                  <a:pt x="16066" y="13716"/>
                </a:cubicBezTo>
                <a:cubicBezTo>
                  <a:pt x="16078" y="13679"/>
                  <a:pt x="16109" y="13658"/>
                  <a:pt x="16161" y="13652"/>
                </a:cubicBezTo>
                <a:cubicBezTo>
                  <a:pt x="16193" y="13648"/>
                  <a:pt x="16222" y="13688"/>
                  <a:pt x="16224" y="13716"/>
                </a:cubicBezTo>
                <a:cubicBezTo>
                  <a:pt x="16231" y="13813"/>
                  <a:pt x="16174" y="13906"/>
                  <a:pt x="16161" y="14002"/>
                </a:cubicBezTo>
                <a:cubicBezTo>
                  <a:pt x="16149" y="14085"/>
                  <a:pt x="16118" y="14153"/>
                  <a:pt x="16097" y="14224"/>
                </a:cubicBezTo>
                <a:cubicBezTo>
                  <a:pt x="16073" y="14305"/>
                  <a:pt x="16118" y="14171"/>
                  <a:pt x="16161" y="14224"/>
                </a:cubicBezTo>
                <a:cubicBezTo>
                  <a:pt x="16179" y="14247"/>
                  <a:pt x="16210" y="14273"/>
                  <a:pt x="16256" y="14288"/>
                </a:cubicBezTo>
                <a:cubicBezTo>
                  <a:pt x="16307" y="14305"/>
                  <a:pt x="16347" y="14283"/>
                  <a:pt x="16383" y="14256"/>
                </a:cubicBezTo>
              </a:path>
              <a:path w="12003" h="3652">
                <a:moveTo>
                  <a:pt x="17145" y="13113"/>
                </a:moveTo>
                <a:cubicBezTo>
                  <a:pt x="17135" y="13203"/>
                  <a:pt x="17107" y="13278"/>
                  <a:pt x="17082" y="13367"/>
                </a:cubicBezTo>
                <a:cubicBezTo>
                  <a:pt x="17031" y="13547"/>
                  <a:pt x="16966" y="13733"/>
                  <a:pt x="16891" y="13906"/>
                </a:cubicBezTo>
                <a:cubicBezTo>
                  <a:pt x="16801" y="14114"/>
                  <a:pt x="16761" y="14325"/>
                  <a:pt x="16700" y="14542"/>
                </a:cubicBezTo>
                <a:cubicBezTo>
                  <a:pt x="16629" y="14793"/>
                  <a:pt x="16605" y="14979"/>
                  <a:pt x="16605" y="15240"/>
                </a:cubicBezTo>
                <a:cubicBezTo>
                  <a:pt x="16605" y="15394"/>
                  <a:pt x="16616" y="15480"/>
                  <a:pt x="16669" y="15621"/>
                </a:cubicBezTo>
                <a:cubicBezTo>
                  <a:pt x="16714" y="15741"/>
                  <a:pt x="16785" y="15804"/>
                  <a:pt x="16891" y="15875"/>
                </a:cubicBezTo>
                <a:cubicBezTo>
                  <a:pt x="16958" y="15920"/>
                  <a:pt x="17039" y="15943"/>
                  <a:pt x="17113" y="15970"/>
                </a:cubicBezTo>
              </a:path>
              <a:path w="12003" h="3652">
                <a:moveTo>
                  <a:pt x="11017" y="15018"/>
                </a:moveTo>
                <a:cubicBezTo>
                  <a:pt x="11192" y="15018"/>
                  <a:pt x="11356" y="15031"/>
                  <a:pt x="11525" y="15050"/>
                </a:cubicBezTo>
                <a:cubicBezTo>
                  <a:pt x="11668" y="15066"/>
                  <a:pt x="11797" y="15023"/>
                  <a:pt x="11938" y="15018"/>
                </a:cubicBezTo>
                <a:cubicBezTo>
                  <a:pt x="12089" y="15013"/>
                  <a:pt x="12233" y="14991"/>
                  <a:pt x="12382" y="14986"/>
                </a:cubicBezTo>
                <a:cubicBezTo>
                  <a:pt x="12678" y="14977"/>
                  <a:pt x="12988" y="14973"/>
                  <a:pt x="13272" y="15018"/>
                </a:cubicBezTo>
                <a:cubicBezTo>
                  <a:pt x="13330" y="15027"/>
                  <a:pt x="13314" y="15018"/>
                  <a:pt x="13367" y="15050"/>
                </a:cubicBezTo>
              </a:path>
              <a:path w="12003" h="3652">
                <a:moveTo>
                  <a:pt x="11620" y="15304"/>
                </a:moveTo>
                <a:cubicBezTo>
                  <a:pt x="11632" y="15257"/>
                  <a:pt x="11667" y="15224"/>
                  <a:pt x="11716" y="15208"/>
                </a:cubicBezTo>
                <a:cubicBezTo>
                  <a:pt x="11792" y="15183"/>
                  <a:pt x="11977" y="15195"/>
                  <a:pt x="12033" y="15240"/>
                </a:cubicBezTo>
                <a:cubicBezTo>
                  <a:pt x="12100" y="15294"/>
                  <a:pt x="12051" y="15314"/>
                  <a:pt x="12033" y="15367"/>
                </a:cubicBezTo>
                <a:cubicBezTo>
                  <a:pt x="12016" y="15418"/>
                  <a:pt x="12000" y="15455"/>
                  <a:pt x="11938" y="15462"/>
                </a:cubicBezTo>
                <a:cubicBezTo>
                  <a:pt x="11918" y="15464"/>
                  <a:pt x="11761" y="15462"/>
                  <a:pt x="11843" y="15462"/>
                </a:cubicBezTo>
                <a:cubicBezTo>
                  <a:pt x="11915" y="15462"/>
                  <a:pt x="11982" y="15515"/>
                  <a:pt x="12002" y="15589"/>
                </a:cubicBezTo>
                <a:cubicBezTo>
                  <a:pt x="12029" y="15689"/>
                  <a:pt x="12007" y="15743"/>
                  <a:pt x="12002" y="15843"/>
                </a:cubicBezTo>
                <a:cubicBezTo>
                  <a:pt x="11996" y="15950"/>
                  <a:pt x="11963" y="15934"/>
                  <a:pt x="11874" y="15970"/>
                </a:cubicBezTo>
                <a:cubicBezTo>
                  <a:pt x="11753" y="16019"/>
                  <a:pt x="11792" y="15967"/>
                  <a:pt x="11684" y="15938"/>
                </a:cubicBezTo>
                <a:cubicBezTo>
                  <a:pt x="11656" y="15930"/>
                  <a:pt x="11523" y="15919"/>
                  <a:pt x="11557" y="15843"/>
                </a:cubicBezTo>
                <a:cubicBezTo>
                  <a:pt x="11589" y="15812"/>
                  <a:pt x="11600" y="15802"/>
                  <a:pt x="11620" y="15780"/>
                </a:cubicBezTo>
              </a:path>
              <a:path w="12003" h="3652">
                <a:moveTo>
                  <a:pt x="12224" y="15621"/>
                </a:moveTo>
                <a:cubicBezTo>
                  <a:pt x="12266" y="15744"/>
                  <a:pt x="12279" y="15798"/>
                  <a:pt x="12351" y="15907"/>
                </a:cubicBezTo>
                <a:cubicBezTo>
                  <a:pt x="12408" y="15994"/>
                  <a:pt x="12461" y="16034"/>
                  <a:pt x="12541" y="16097"/>
                </a:cubicBezTo>
              </a:path>
              <a:path w="12003" h="3652">
                <a:moveTo>
                  <a:pt x="12636" y="15462"/>
                </a:moveTo>
                <a:cubicBezTo>
                  <a:pt x="12565" y="15544"/>
                  <a:pt x="12478" y="15628"/>
                  <a:pt x="12414" y="15716"/>
                </a:cubicBezTo>
                <a:cubicBezTo>
                  <a:pt x="12331" y="15831"/>
                  <a:pt x="12263" y="15903"/>
                  <a:pt x="12160" y="16002"/>
                </a:cubicBezTo>
                <a:cubicBezTo>
                  <a:pt x="12107" y="16052"/>
                  <a:pt x="12048" y="16145"/>
                  <a:pt x="12002" y="16161"/>
                </a:cubicBezTo>
              </a:path>
              <a:path w="12003" h="3652">
                <a:moveTo>
                  <a:pt x="12890" y="15272"/>
                </a:moveTo>
                <a:cubicBezTo>
                  <a:pt x="12950" y="15246"/>
                  <a:pt x="13045" y="15213"/>
                  <a:pt x="13113" y="15240"/>
                </a:cubicBezTo>
                <a:cubicBezTo>
                  <a:pt x="13159" y="15258"/>
                  <a:pt x="13189" y="15276"/>
                  <a:pt x="13208" y="15304"/>
                </a:cubicBezTo>
                <a:cubicBezTo>
                  <a:pt x="13194" y="15359"/>
                  <a:pt x="13156" y="15387"/>
                  <a:pt x="13113" y="15430"/>
                </a:cubicBezTo>
                <a:cubicBezTo>
                  <a:pt x="13065" y="15478"/>
                  <a:pt x="12947" y="15552"/>
                  <a:pt x="12922" y="15589"/>
                </a:cubicBezTo>
                <a:cubicBezTo>
                  <a:pt x="12890" y="15637"/>
                  <a:pt x="12939" y="15673"/>
                  <a:pt x="12954" y="15684"/>
                </a:cubicBezTo>
                <a:cubicBezTo>
                  <a:pt x="13005" y="15722"/>
                  <a:pt x="13052" y="15747"/>
                  <a:pt x="13113" y="15780"/>
                </a:cubicBezTo>
                <a:cubicBezTo>
                  <a:pt x="13188" y="15820"/>
                  <a:pt x="13260" y="15865"/>
                  <a:pt x="13335" y="15907"/>
                </a:cubicBezTo>
              </a:path>
              <a:path w="12003" h="3652">
                <a:moveTo>
                  <a:pt x="17272" y="14034"/>
                </a:moveTo>
                <a:cubicBezTo>
                  <a:pt x="17207" y="14066"/>
                  <a:pt x="17296" y="14065"/>
                  <a:pt x="17336" y="14065"/>
                </a:cubicBezTo>
                <a:cubicBezTo>
                  <a:pt x="17402" y="14065"/>
                  <a:pt x="17454" y="14034"/>
                  <a:pt x="17526" y="14034"/>
                </a:cubicBezTo>
                <a:cubicBezTo>
                  <a:pt x="17584" y="14034"/>
                  <a:pt x="17624" y="14002"/>
                  <a:pt x="17685" y="14002"/>
                </a:cubicBezTo>
                <a:cubicBezTo>
                  <a:pt x="17754" y="14002"/>
                  <a:pt x="17793" y="13989"/>
                  <a:pt x="17844" y="14034"/>
                </a:cubicBezTo>
                <a:cubicBezTo>
                  <a:pt x="17910" y="14093"/>
                  <a:pt x="17856" y="14122"/>
                  <a:pt x="17844" y="14192"/>
                </a:cubicBezTo>
                <a:cubicBezTo>
                  <a:pt x="17825" y="14301"/>
                  <a:pt x="17788" y="14376"/>
                  <a:pt x="17748" y="14478"/>
                </a:cubicBezTo>
                <a:cubicBezTo>
                  <a:pt x="17706" y="14586"/>
                  <a:pt x="17680" y="14688"/>
                  <a:pt x="17653" y="14796"/>
                </a:cubicBezTo>
                <a:cubicBezTo>
                  <a:pt x="17627" y="14899"/>
                  <a:pt x="17562" y="14975"/>
                  <a:pt x="17558" y="15081"/>
                </a:cubicBezTo>
                <a:cubicBezTo>
                  <a:pt x="17554" y="15192"/>
                  <a:pt x="17526" y="15232"/>
                  <a:pt x="17526" y="15335"/>
                </a:cubicBezTo>
                <a:cubicBezTo>
                  <a:pt x="17526" y="15367"/>
                  <a:pt x="17526" y="15378"/>
                  <a:pt x="17526" y="15399"/>
                </a:cubicBezTo>
              </a:path>
              <a:path w="12003" h="3652">
                <a:moveTo>
                  <a:pt x="17844" y="14288"/>
                </a:moveTo>
                <a:cubicBezTo>
                  <a:pt x="17910" y="14304"/>
                  <a:pt x="17915" y="14346"/>
                  <a:pt x="17939" y="14414"/>
                </a:cubicBezTo>
                <a:cubicBezTo>
                  <a:pt x="17984" y="14539"/>
                  <a:pt x="17974" y="14670"/>
                  <a:pt x="18002" y="14796"/>
                </a:cubicBezTo>
                <a:cubicBezTo>
                  <a:pt x="18028" y="14911"/>
                  <a:pt x="18038" y="15032"/>
                  <a:pt x="18066" y="15145"/>
                </a:cubicBezTo>
                <a:cubicBezTo>
                  <a:pt x="18088" y="15231"/>
                  <a:pt x="18143" y="15263"/>
                  <a:pt x="18161" y="15335"/>
                </a:cubicBezTo>
              </a:path>
              <a:path w="12003" h="3652">
                <a:moveTo>
                  <a:pt x="18256" y="14160"/>
                </a:moveTo>
                <a:cubicBezTo>
                  <a:pt x="18207" y="14226"/>
                  <a:pt x="18182" y="14329"/>
                  <a:pt x="18161" y="14414"/>
                </a:cubicBezTo>
                <a:cubicBezTo>
                  <a:pt x="18105" y="14645"/>
                  <a:pt x="18047" y="14880"/>
                  <a:pt x="18002" y="15113"/>
                </a:cubicBezTo>
                <a:cubicBezTo>
                  <a:pt x="17969" y="15287"/>
                  <a:pt x="17942" y="15456"/>
                  <a:pt x="17875" y="15621"/>
                </a:cubicBezTo>
                <a:cubicBezTo>
                  <a:pt x="17849" y="15684"/>
                  <a:pt x="17844" y="15687"/>
                  <a:pt x="17844" y="15748"/>
                </a:cubicBezTo>
              </a:path>
              <a:path w="12003" h="3652">
                <a:moveTo>
                  <a:pt x="18320" y="13811"/>
                </a:moveTo>
                <a:cubicBezTo>
                  <a:pt x="18348" y="13791"/>
                  <a:pt x="18409" y="13760"/>
                  <a:pt x="18415" y="13748"/>
                </a:cubicBezTo>
                <a:cubicBezTo>
                  <a:pt x="18426" y="13727"/>
                  <a:pt x="18441" y="13671"/>
                  <a:pt x="18478" y="13652"/>
                </a:cubicBezTo>
                <a:cubicBezTo>
                  <a:pt x="18520" y="13631"/>
                  <a:pt x="18497" y="13636"/>
                  <a:pt x="18542" y="13621"/>
                </a:cubicBezTo>
                <a:cubicBezTo>
                  <a:pt x="18578" y="13633"/>
                  <a:pt x="18602" y="13664"/>
                  <a:pt x="18606" y="13716"/>
                </a:cubicBezTo>
                <a:cubicBezTo>
                  <a:pt x="18613" y="13808"/>
                  <a:pt x="18565" y="13916"/>
                  <a:pt x="18542" y="14002"/>
                </a:cubicBezTo>
                <a:cubicBezTo>
                  <a:pt x="18514" y="14110"/>
                  <a:pt x="18438" y="14212"/>
                  <a:pt x="18415" y="14319"/>
                </a:cubicBezTo>
                <a:cubicBezTo>
                  <a:pt x="18403" y="14375"/>
                  <a:pt x="18301" y="14420"/>
                  <a:pt x="18352" y="14446"/>
                </a:cubicBezTo>
                <a:cubicBezTo>
                  <a:pt x="18395" y="14468"/>
                  <a:pt x="18450" y="14438"/>
                  <a:pt x="18478" y="14414"/>
                </a:cubicBezTo>
                <a:cubicBezTo>
                  <a:pt x="18526" y="14372"/>
                  <a:pt x="18606" y="14330"/>
                  <a:pt x="18669" y="14319"/>
                </a:cubicBezTo>
                <a:cubicBezTo>
                  <a:pt x="18690" y="14319"/>
                  <a:pt x="18711" y="14319"/>
                  <a:pt x="18732" y="14319"/>
                </a:cubicBezTo>
              </a:path>
              <a:path w="12003" h="3652">
                <a:moveTo>
                  <a:pt x="19145" y="14160"/>
                </a:moveTo>
                <a:cubicBezTo>
                  <a:pt x="19110" y="14209"/>
                  <a:pt x="19114" y="14227"/>
                  <a:pt x="19114" y="14288"/>
                </a:cubicBezTo>
                <a:cubicBezTo>
                  <a:pt x="19114" y="14367"/>
                  <a:pt x="19104" y="14496"/>
                  <a:pt x="19082" y="14573"/>
                </a:cubicBezTo>
                <a:cubicBezTo>
                  <a:pt x="19059" y="14656"/>
                  <a:pt x="19073" y="14746"/>
                  <a:pt x="19050" y="14827"/>
                </a:cubicBezTo>
                <a:cubicBezTo>
                  <a:pt x="19031" y="14896"/>
                  <a:pt x="19018" y="14915"/>
                  <a:pt x="19018" y="14986"/>
                </a:cubicBezTo>
              </a:path>
              <a:path w="12003" h="3652">
                <a:moveTo>
                  <a:pt x="18891" y="14605"/>
                </a:moveTo>
                <a:cubicBezTo>
                  <a:pt x="18821" y="14605"/>
                  <a:pt x="18931" y="14583"/>
                  <a:pt x="18955" y="14573"/>
                </a:cubicBezTo>
                <a:cubicBezTo>
                  <a:pt x="19029" y="14542"/>
                  <a:pt x="19130" y="14496"/>
                  <a:pt x="19209" y="14478"/>
                </a:cubicBezTo>
                <a:cubicBezTo>
                  <a:pt x="19275" y="14478"/>
                  <a:pt x="19298" y="14477"/>
                  <a:pt x="19336" y="14446"/>
                </a:cubicBezTo>
              </a:path>
              <a:path w="12003" h="3652">
                <a:moveTo>
                  <a:pt x="19844" y="13621"/>
                </a:moveTo>
                <a:cubicBezTo>
                  <a:pt x="19844" y="13610"/>
                  <a:pt x="19844" y="13600"/>
                  <a:pt x="19844" y="13589"/>
                </a:cubicBezTo>
                <a:cubicBezTo>
                  <a:pt x="19797" y="13596"/>
                  <a:pt x="19769" y="13594"/>
                  <a:pt x="19748" y="13621"/>
                </a:cubicBezTo>
                <a:cubicBezTo>
                  <a:pt x="19699" y="13684"/>
                  <a:pt x="19708" y="13775"/>
                  <a:pt x="19685" y="13843"/>
                </a:cubicBezTo>
                <a:cubicBezTo>
                  <a:pt x="19648" y="13953"/>
                  <a:pt x="19674" y="14046"/>
                  <a:pt x="19653" y="14160"/>
                </a:cubicBezTo>
                <a:cubicBezTo>
                  <a:pt x="19628" y="14301"/>
                  <a:pt x="19622" y="14427"/>
                  <a:pt x="19622" y="14573"/>
                </a:cubicBezTo>
                <a:cubicBezTo>
                  <a:pt x="19622" y="14759"/>
                  <a:pt x="19631" y="14937"/>
                  <a:pt x="19653" y="15113"/>
                </a:cubicBezTo>
                <a:cubicBezTo>
                  <a:pt x="19670" y="15249"/>
                  <a:pt x="19663" y="15208"/>
                  <a:pt x="19748" y="15272"/>
                </a:cubicBezTo>
                <a:cubicBezTo>
                  <a:pt x="19815" y="15322"/>
                  <a:pt x="19844" y="15298"/>
                  <a:pt x="19907" y="15240"/>
                </a:cubicBezTo>
                <a:cubicBezTo>
                  <a:pt x="19969" y="15184"/>
                  <a:pt x="19997" y="15091"/>
                  <a:pt x="20034" y="15018"/>
                </a:cubicBezTo>
                <a:cubicBezTo>
                  <a:pt x="20088" y="14911"/>
                  <a:pt x="20124" y="14817"/>
                  <a:pt x="20130" y="14700"/>
                </a:cubicBezTo>
                <a:cubicBezTo>
                  <a:pt x="20134" y="14617"/>
                  <a:pt x="20148" y="14509"/>
                  <a:pt x="20098" y="14446"/>
                </a:cubicBezTo>
                <a:cubicBezTo>
                  <a:pt x="20084" y="14428"/>
                  <a:pt x="20055" y="14386"/>
                  <a:pt x="20002" y="14414"/>
                </a:cubicBezTo>
                <a:cubicBezTo>
                  <a:pt x="19951" y="14441"/>
                  <a:pt x="19874" y="14507"/>
                  <a:pt x="19844" y="14573"/>
                </a:cubicBezTo>
                <a:cubicBezTo>
                  <a:pt x="19785" y="14701"/>
                  <a:pt x="19803" y="14852"/>
                  <a:pt x="19780" y="14986"/>
                </a:cubicBezTo>
                <a:cubicBezTo>
                  <a:pt x="19748" y="15170"/>
                  <a:pt x="19766" y="15312"/>
                  <a:pt x="19780" y="15494"/>
                </a:cubicBezTo>
              </a:path>
              <a:path w="12003" h="3652">
                <a:moveTo>
                  <a:pt x="20574" y="14034"/>
                </a:moveTo>
                <a:cubicBezTo>
                  <a:pt x="20532" y="14048"/>
                  <a:pt x="20522" y="14102"/>
                  <a:pt x="20542" y="14160"/>
                </a:cubicBezTo>
                <a:cubicBezTo>
                  <a:pt x="20578" y="14268"/>
                  <a:pt x="20574" y="14360"/>
                  <a:pt x="20574" y="14478"/>
                </a:cubicBezTo>
                <a:cubicBezTo>
                  <a:pt x="20574" y="14608"/>
                  <a:pt x="20542" y="14726"/>
                  <a:pt x="20542" y="14859"/>
                </a:cubicBezTo>
                <a:cubicBezTo>
                  <a:pt x="20542" y="14916"/>
                  <a:pt x="20546" y="14933"/>
                  <a:pt x="20510" y="14954"/>
                </a:cubicBezTo>
              </a:path>
              <a:path w="12003" h="3652">
                <a:moveTo>
                  <a:pt x="20415" y="14573"/>
                </a:moveTo>
                <a:cubicBezTo>
                  <a:pt x="20492" y="14573"/>
                  <a:pt x="20536" y="14551"/>
                  <a:pt x="20606" y="14542"/>
                </a:cubicBezTo>
                <a:cubicBezTo>
                  <a:pt x="20734" y="14525"/>
                  <a:pt x="20729" y="14533"/>
                  <a:pt x="20828" y="14446"/>
                </a:cubicBezTo>
              </a:path>
              <a:path w="12003" h="3652">
                <a:moveTo>
                  <a:pt x="21050" y="13716"/>
                </a:moveTo>
                <a:cubicBezTo>
                  <a:pt x="21050" y="13858"/>
                  <a:pt x="21030" y="13990"/>
                  <a:pt x="21018" y="14129"/>
                </a:cubicBezTo>
                <a:cubicBezTo>
                  <a:pt x="21003" y="14307"/>
                  <a:pt x="20992" y="14490"/>
                  <a:pt x="20987" y="14668"/>
                </a:cubicBezTo>
                <a:cubicBezTo>
                  <a:pt x="20985" y="14758"/>
                  <a:pt x="20958" y="14977"/>
                  <a:pt x="21018" y="15018"/>
                </a:cubicBezTo>
              </a:path>
              <a:path w="12003" h="3652">
                <a:moveTo>
                  <a:pt x="21241" y="13748"/>
                </a:moveTo>
                <a:cubicBezTo>
                  <a:pt x="21274" y="13681"/>
                  <a:pt x="21297" y="13618"/>
                  <a:pt x="21336" y="13589"/>
                </a:cubicBezTo>
                <a:cubicBezTo>
                  <a:pt x="21376" y="13559"/>
                  <a:pt x="21413" y="13531"/>
                  <a:pt x="21463" y="13526"/>
                </a:cubicBezTo>
                <a:cubicBezTo>
                  <a:pt x="21550" y="13517"/>
                  <a:pt x="21535" y="13579"/>
                  <a:pt x="21558" y="13621"/>
                </a:cubicBezTo>
                <a:cubicBezTo>
                  <a:pt x="21615" y="13724"/>
                  <a:pt x="21587" y="13822"/>
                  <a:pt x="21558" y="13938"/>
                </a:cubicBezTo>
                <a:cubicBezTo>
                  <a:pt x="21501" y="14164"/>
                  <a:pt x="21404" y="14411"/>
                  <a:pt x="21368" y="14637"/>
                </a:cubicBezTo>
                <a:cubicBezTo>
                  <a:pt x="21356" y="14712"/>
                  <a:pt x="21336" y="14756"/>
                  <a:pt x="21336" y="14827"/>
                </a:cubicBezTo>
                <a:cubicBezTo>
                  <a:pt x="21400" y="14827"/>
                  <a:pt x="21405" y="14809"/>
                  <a:pt x="21431" y="14796"/>
                </a:cubicBezTo>
                <a:cubicBezTo>
                  <a:pt x="21459" y="14782"/>
                  <a:pt x="21529" y="14767"/>
                  <a:pt x="21558" y="14764"/>
                </a:cubicBezTo>
                <a:cubicBezTo>
                  <a:pt x="21638" y="14755"/>
                  <a:pt x="21685" y="14774"/>
                  <a:pt x="21749" y="14796"/>
                </a:cubicBezTo>
                <a:cubicBezTo>
                  <a:pt x="21773" y="14804"/>
                  <a:pt x="21818" y="14796"/>
                  <a:pt x="21844" y="14796"/>
                </a:cubicBezTo>
              </a:path>
              <a:path w="12003" h="3652">
                <a:moveTo>
                  <a:pt x="21939" y="13748"/>
                </a:moveTo>
                <a:cubicBezTo>
                  <a:pt x="21939" y="13826"/>
                  <a:pt x="21990" y="13866"/>
                  <a:pt x="22003" y="13938"/>
                </a:cubicBezTo>
                <a:cubicBezTo>
                  <a:pt x="22023" y="14053"/>
                  <a:pt x="22044" y="14117"/>
                  <a:pt x="22098" y="14224"/>
                </a:cubicBezTo>
                <a:cubicBezTo>
                  <a:pt x="22136" y="14299"/>
                  <a:pt x="22166" y="14355"/>
                  <a:pt x="22225" y="14414"/>
                </a:cubicBezTo>
                <a:cubicBezTo>
                  <a:pt x="22274" y="14463"/>
                  <a:pt x="22271" y="14451"/>
                  <a:pt x="22320" y="14414"/>
                </a:cubicBezTo>
              </a:path>
              <a:path w="12003" h="3652">
                <a:moveTo>
                  <a:pt x="22447" y="13526"/>
                </a:moveTo>
                <a:cubicBezTo>
                  <a:pt x="22418" y="13577"/>
                  <a:pt x="22347" y="13755"/>
                  <a:pt x="22320" y="13843"/>
                </a:cubicBezTo>
                <a:cubicBezTo>
                  <a:pt x="22261" y="14033"/>
                  <a:pt x="22182" y="14222"/>
                  <a:pt x="22130" y="14414"/>
                </a:cubicBezTo>
                <a:cubicBezTo>
                  <a:pt x="22078" y="14604"/>
                  <a:pt x="21996" y="14788"/>
                  <a:pt x="21971" y="14986"/>
                </a:cubicBezTo>
                <a:cubicBezTo>
                  <a:pt x="21971" y="15073"/>
                  <a:pt x="21974" y="15098"/>
                  <a:pt x="21939" y="15145"/>
                </a:cubicBezTo>
              </a:path>
              <a:path w="12003" h="3652">
                <a:moveTo>
                  <a:pt x="22384" y="12859"/>
                </a:moveTo>
                <a:cubicBezTo>
                  <a:pt x="22480" y="12866"/>
                  <a:pt x="22556" y="12858"/>
                  <a:pt x="22638" y="12922"/>
                </a:cubicBezTo>
                <a:cubicBezTo>
                  <a:pt x="22752" y="13011"/>
                  <a:pt x="22786" y="13155"/>
                  <a:pt x="22860" y="13272"/>
                </a:cubicBezTo>
                <a:cubicBezTo>
                  <a:pt x="22947" y="13409"/>
                  <a:pt x="23003" y="13615"/>
                  <a:pt x="23019" y="13780"/>
                </a:cubicBezTo>
                <a:cubicBezTo>
                  <a:pt x="23042" y="14009"/>
                  <a:pt x="23021" y="14252"/>
                  <a:pt x="22987" y="14478"/>
                </a:cubicBezTo>
                <a:cubicBezTo>
                  <a:pt x="22947" y="14744"/>
                  <a:pt x="22861" y="15054"/>
                  <a:pt x="22765" y="15304"/>
                </a:cubicBezTo>
                <a:cubicBezTo>
                  <a:pt x="22657" y="15587"/>
                  <a:pt x="22490" y="15861"/>
                  <a:pt x="22352" y="16129"/>
                </a:cubicBezTo>
                <a:cubicBezTo>
                  <a:pt x="22257" y="16320"/>
                  <a:pt x="22226" y="16383"/>
                  <a:pt x="22162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4"/>
          <p:cNvSpPr/>
          <p:nvPr/>
        </p:nvSpPr>
        <p:spPr>
          <a:xfrm>
            <a:off x="5280120" y="3382920"/>
            <a:ext cx="1017360" cy="914400"/>
          </a:xfrm>
          <a:custGeom>
            <a:avLst/>
            <a:gdLst/>
            <a:ahLst/>
            <a:rect l="l" t="t" r="r" b="b"/>
            <a:pathLst>
              <a:path w="2827" h="2541">
                <a:moveTo>
                  <a:pt x="14796" y="10319"/>
                </a:moveTo>
                <a:lnTo>
                  <a:pt x="14796" y="10319"/>
                </a:lnTo>
              </a:path>
              <a:path w="2827" h="2541">
                <a:moveTo>
                  <a:pt x="14796" y="10319"/>
                </a:moveTo>
                <a:lnTo>
                  <a:pt x="14796" y="10319"/>
                </a:lnTo>
              </a:path>
              <a:path w="2827" h="2541">
                <a:moveTo>
                  <a:pt x="14859" y="10255"/>
                </a:moveTo>
                <a:cubicBezTo>
                  <a:pt x="14897" y="10188"/>
                  <a:pt x="14947" y="10129"/>
                  <a:pt x="14986" y="10065"/>
                </a:cubicBezTo>
                <a:cubicBezTo>
                  <a:pt x="15026" y="9998"/>
                  <a:pt x="15076" y="9919"/>
                  <a:pt x="15145" y="9874"/>
                </a:cubicBezTo>
                <a:cubicBezTo>
                  <a:pt x="15229" y="9819"/>
                  <a:pt x="15228" y="9807"/>
                  <a:pt x="15304" y="9842"/>
                </a:cubicBezTo>
                <a:cubicBezTo>
                  <a:pt x="15368" y="9872"/>
                  <a:pt x="15391" y="9914"/>
                  <a:pt x="15367" y="10001"/>
                </a:cubicBezTo>
                <a:cubicBezTo>
                  <a:pt x="15341" y="10095"/>
                  <a:pt x="15285" y="10233"/>
                  <a:pt x="15240" y="10319"/>
                </a:cubicBezTo>
                <a:cubicBezTo>
                  <a:pt x="15183" y="10428"/>
                  <a:pt x="15107" y="10527"/>
                  <a:pt x="15050" y="10636"/>
                </a:cubicBezTo>
                <a:cubicBezTo>
                  <a:pt x="15008" y="10717"/>
                  <a:pt x="15008" y="10694"/>
                  <a:pt x="14954" y="10732"/>
                </a:cubicBezTo>
                <a:cubicBezTo>
                  <a:pt x="14987" y="10680"/>
                  <a:pt x="15020" y="10619"/>
                  <a:pt x="15081" y="10573"/>
                </a:cubicBezTo>
                <a:cubicBezTo>
                  <a:pt x="15122" y="10542"/>
                  <a:pt x="15255" y="10504"/>
                  <a:pt x="15304" y="10509"/>
                </a:cubicBezTo>
                <a:cubicBezTo>
                  <a:pt x="15411" y="10519"/>
                  <a:pt x="15436" y="10560"/>
                  <a:pt x="15494" y="10636"/>
                </a:cubicBezTo>
                <a:cubicBezTo>
                  <a:pt x="15567" y="10733"/>
                  <a:pt x="15558" y="10800"/>
                  <a:pt x="15558" y="10922"/>
                </a:cubicBezTo>
                <a:cubicBezTo>
                  <a:pt x="15558" y="11083"/>
                  <a:pt x="15490" y="11194"/>
                  <a:pt x="15430" y="11335"/>
                </a:cubicBezTo>
                <a:cubicBezTo>
                  <a:pt x="15374" y="11467"/>
                  <a:pt x="15302" y="11574"/>
                  <a:pt x="15208" y="11684"/>
                </a:cubicBezTo>
                <a:cubicBezTo>
                  <a:pt x="15130" y="11775"/>
                  <a:pt x="15010" y="11852"/>
                  <a:pt x="14891" y="11874"/>
                </a:cubicBezTo>
                <a:cubicBezTo>
                  <a:pt x="14803" y="11890"/>
                  <a:pt x="14755" y="11833"/>
                  <a:pt x="14700" y="11779"/>
                </a:cubicBezTo>
                <a:cubicBezTo>
                  <a:pt x="14660" y="11740"/>
                  <a:pt x="14646" y="11644"/>
                  <a:pt x="14668" y="11589"/>
                </a:cubicBezTo>
                <a:cubicBezTo>
                  <a:pt x="14706" y="11492"/>
                  <a:pt x="14758" y="11497"/>
                  <a:pt x="14827" y="11462"/>
                </a:cubicBezTo>
                <a:cubicBezTo>
                  <a:pt x="14889" y="11431"/>
                  <a:pt x="14950" y="11428"/>
                  <a:pt x="15018" y="11462"/>
                </a:cubicBezTo>
                <a:cubicBezTo>
                  <a:pt x="15103" y="11504"/>
                  <a:pt x="15155" y="11614"/>
                  <a:pt x="15208" y="11684"/>
                </a:cubicBezTo>
                <a:cubicBezTo>
                  <a:pt x="15219" y="11695"/>
                  <a:pt x="15229" y="11705"/>
                  <a:pt x="15240" y="11716"/>
                </a:cubicBezTo>
              </a:path>
              <a:path w="2827" h="2541">
                <a:moveTo>
                  <a:pt x="16002" y="10668"/>
                </a:moveTo>
                <a:cubicBezTo>
                  <a:pt x="16027" y="10758"/>
                  <a:pt x="16034" y="10824"/>
                  <a:pt x="16034" y="10922"/>
                </a:cubicBezTo>
                <a:cubicBezTo>
                  <a:pt x="16034" y="11156"/>
                  <a:pt x="16054" y="11398"/>
                  <a:pt x="16002" y="11620"/>
                </a:cubicBezTo>
                <a:cubicBezTo>
                  <a:pt x="16002" y="11631"/>
                  <a:pt x="16002" y="11641"/>
                  <a:pt x="16002" y="11652"/>
                </a:cubicBezTo>
                <a:cubicBezTo>
                  <a:pt x="15974" y="11606"/>
                  <a:pt x="15970" y="11560"/>
                  <a:pt x="15970" y="11462"/>
                </a:cubicBezTo>
                <a:cubicBezTo>
                  <a:pt x="15970" y="11308"/>
                  <a:pt x="15989" y="11167"/>
                  <a:pt x="16002" y="11017"/>
                </a:cubicBezTo>
                <a:cubicBezTo>
                  <a:pt x="16015" y="10865"/>
                  <a:pt x="16031" y="10744"/>
                  <a:pt x="16097" y="10604"/>
                </a:cubicBezTo>
                <a:cubicBezTo>
                  <a:pt x="16136" y="10521"/>
                  <a:pt x="16144" y="10516"/>
                  <a:pt x="16224" y="10509"/>
                </a:cubicBezTo>
                <a:cubicBezTo>
                  <a:pt x="16235" y="10509"/>
                  <a:pt x="16245" y="10509"/>
                  <a:pt x="16256" y="10509"/>
                </a:cubicBezTo>
                <a:cubicBezTo>
                  <a:pt x="16285" y="10595"/>
                  <a:pt x="16340" y="10702"/>
                  <a:pt x="16351" y="10795"/>
                </a:cubicBezTo>
                <a:cubicBezTo>
                  <a:pt x="16378" y="11014"/>
                  <a:pt x="16348" y="11250"/>
                  <a:pt x="16320" y="11462"/>
                </a:cubicBezTo>
                <a:cubicBezTo>
                  <a:pt x="16313" y="11515"/>
                  <a:pt x="16320" y="11610"/>
                  <a:pt x="16320" y="11557"/>
                </a:cubicBezTo>
                <a:cubicBezTo>
                  <a:pt x="16320" y="11546"/>
                  <a:pt x="16320" y="11536"/>
                  <a:pt x="16320" y="11525"/>
                </a:cubicBezTo>
                <a:cubicBezTo>
                  <a:pt x="16320" y="11403"/>
                  <a:pt x="16341" y="11295"/>
                  <a:pt x="16351" y="11176"/>
                </a:cubicBezTo>
                <a:cubicBezTo>
                  <a:pt x="16364" y="11022"/>
                  <a:pt x="16389" y="10879"/>
                  <a:pt x="16446" y="10732"/>
                </a:cubicBezTo>
                <a:cubicBezTo>
                  <a:pt x="16466" y="10680"/>
                  <a:pt x="16473" y="10561"/>
                  <a:pt x="16542" y="10541"/>
                </a:cubicBezTo>
                <a:cubicBezTo>
                  <a:pt x="16574" y="10541"/>
                  <a:pt x="16584" y="10541"/>
                  <a:pt x="16605" y="10541"/>
                </a:cubicBezTo>
                <a:cubicBezTo>
                  <a:pt x="16632" y="10614"/>
                  <a:pt x="16653" y="10687"/>
                  <a:pt x="16669" y="10763"/>
                </a:cubicBezTo>
                <a:cubicBezTo>
                  <a:pt x="16702" y="10921"/>
                  <a:pt x="16727" y="11078"/>
                  <a:pt x="16732" y="11240"/>
                </a:cubicBezTo>
                <a:cubicBezTo>
                  <a:pt x="16737" y="11404"/>
                  <a:pt x="16757" y="11555"/>
                  <a:pt x="16764" y="11716"/>
                </a:cubicBezTo>
                <a:cubicBezTo>
                  <a:pt x="16767" y="11790"/>
                  <a:pt x="16764" y="11864"/>
                  <a:pt x="16764" y="11938"/>
                </a:cubicBezTo>
              </a:path>
              <a:path w="2827" h="2541">
                <a:moveTo>
                  <a:pt x="17494" y="9398"/>
                </a:moveTo>
                <a:lnTo>
                  <a:pt x="17494" y="9398"/>
                </a:lnTo>
              </a:path>
              <a:path w="2827" h="2541">
                <a:moveTo>
                  <a:pt x="17494" y="9398"/>
                </a:moveTo>
                <a:lnTo>
                  <a:pt x="17494" y="9398"/>
                </a:lnTo>
              </a:path>
              <a:path w="2827" h="2541">
                <a:moveTo>
                  <a:pt x="17462" y="9462"/>
                </a:moveTo>
                <a:cubicBezTo>
                  <a:pt x="17446" y="9528"/>
                  <a:pt x="17387" y="9569"/>
                  <a:pt x="17336" y="9620"/>
                </a:cubicBezTo>
                <a:cubicBezTo>
                  <a:pt x="17287" y="9669"/>
                  <a:pt x="17245" y="9725"/>
                  <a:pt x="17177" y="9747"/>
                </a:cubicBezTo>
                <a:cubicBezTo>
                  <a:pt x="17137" y="9760"/>
                  <a:pt x="17101" y="9678"/>
                  <a:pt x="17082" y="9716"/>
                </a:cubicBezTo>
                <a:cubicBezTo>
                  <a:pt x="17065" y="9749"/>
                  <a:pt x="17052" y="9838"/>
                  <a:pt x="17050" y="9874"/>
                </a:cubicBezTo>
                <a:cubicBezTo>
                  <a:pt x="17044" y="9962"/>
                  <a:pt x="17007" y="10014"/>
                  <a:pt x="16986" y="10096"/>
                </a:cubicBezTo>
                <a:cubicBezTo>
                  <a:pt x="16986" y="10107"/>
                  <a:pt x="16986" y="10117"/>
                  <a:pt x="16986" y="10128"/>
                </a:cubicBezTo>
                <a:cubicBezTo>
                  <a:pt x="16996" y="10125"/>
                  <a:pt x="17075" y="10075"/>
                  <a:pt x="17082" y="10065"/>
                </a:cubicBezTo>
                <a:cubicBezTo>
                  <a:pt x="17110" y="10024"/>
                  <a:pt x="17134" y="9981"/>
                  <a:pt x="17177" y="9938"/>
                </a:cubicBezTo>
                <a:cubicBezTo>
                  <a:pt x="17221" y="9893"/>
                  <a:pt x="17258" y="9907"/>
                  <a:pt x="17304" y="9938"/>
                </a:cubicBezTo>
                <a:cubicBezTo>
                  <a:pt x="17335" y="9958"/>
                  <a:pt x="17360" y="10088"/>
                  <a:pt x="17367" y="10128"/>
                </a:cubicBezTo>
                <a:cubicBezTo>
                  <a:pt x="17375" y="10173"/>
                  <a:pt x="17353" y="10338"/>
                  <a:pt x="17336" y="10382"/>
                </a:cubicBezTo>
                <a:cubicBezTo>
                  <a:pt x="17312" y="10443"/>
                  <a:pt x="17171" y="10553"/>
                  <a:pt x="17113" y="10573"/>
                </a:cubicBezTo>
                <a:cubicBezTo>
                  <a:pt x="17051" y="10594"/>
                  <a:pt x="17048" y="10548"/>
                  <a:pt x="17018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pay attention to the s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and width of a rectangle with an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514600" y="2666880"/>
                <a:ext cx="23623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114800" y="4876920"/>
                <a:ext cx="232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Ink 6"/>
          <p:cNvSpPr/>
          <p:nvPr/>
        </p:nvSpPr>
        <p:spPr>
          <a:xfrm>
            <a:off x="4057560" y="3211560"/>
            <a:ext cx="274680" cy="34920"/>
          </a:xfrm>
          <a:custGeom>
            <a:avLst/>
            <a:gdLst/>
            <a:ahLst/>
            <a:rect l="l" t="t" r="r" b="b"/>
            <a:pathLst>
              <a:path w="763" h="96">
                <a:moveTo>
                  <a:pt x="11303" y="8954"/>
                </a:moveTo>
                <a:cubicBezTo>
                  <a:pt x="11218" y="8954"/>
                  <a:pt x="11351" y="8954"/>
                  <a:pt x="11366" y="8954"/>
                </a:cubicBezTo>
                <a:cubicBezTo>
                  <a:pt x="11539" y="8954"/>
                  <a:pt x="11719" y="8953"/>
                  <a:pt x="11874" y="8985"/>
                </a:cubicBezTo>
                <a:cubicBezTo>
                  <a:pt x="11925" y="8996"/>
                  <a:pt x="12035" y="9008"/>
                  <a:pt x="12002" y="8985"/>
                </a:cubicBezTo>
                <a:cubicBezTo>
                  <a:pt x="11947" y="8946"/>
                  <a:pt x="11931" y="8975"/>
                  <a:pt x="11874" y="8954"/>
                </a:cubicBezTo>
                <a:cubicBezTo>
                  <a:pt x="11790" y="8924"/>
                  <a:pt x="11745" y="8922"/>
                  <a:pt x="11652" y="8922"/>
                </a:cubicBezTo>
                <a:cubicBezTo>
                  <a:pt x="11578" y="8922"/>
                  <a:pt x="11504" y="8922"/>
                  <a:pt x="11430" y="8922"/>
                </a:cubicBezTo>
                <a:cubicBezTo>
                  <a:pt x="11480" y="8935"/>
                  <a:pt x="11510" y="8970"/>
                  <a:pt x="11557" y="8985"/>
                </a:cubicBezTo>
                <a:cubicBezTo>
                  <a:pt x="11609" y="9002"/>
                  <a:pt x="11623" y="9008"/>
                  <a:pt x="1168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7"/>
          <p:cNvSpPr/>
          <p:nvPr/>
        </p:nvSpPr>
        <p:spPr>
          <a:xfrm>
            <a:off x="5154480" y="2492280"/>
            <a:ext cx="3178440" cy="925560"/>
          </a:xfrm>
          <a:custGeom>
            <a:avLst/>
            <a:gdLst/>
            <a:ahLst/>
            <a:rect l="l" t="t" r="r" b="b"/>
            <a:pathLst>
              <a:path w="8828" h="2572">
                <a:moveTo>
                  <a:pt x="14891" y="7017"/>
                </a:moveTo>
                <a:cubicBezTo>
                  <a:pt x="14859" y="7042"/>
                  <a:pt x="14838" y="7038"/>
                  <a:pt x="14796" y="7080"/>
                </a:cubicBezTo>
                <a:cubicBezTo>
                  <a:pt x="14728" y="7149"/>
                  <a:pt x="14698" y="7226"/>
                  <a:pt x="14637" y="7302"/>
                </a:cubicBezTo>
                <a:cubicBezTo>
                  <a:pt x="14542" y="7420"/>
                  <a:pt x="14466" y="7542"/>
                  <a:pt x="14414" y="7684"/>
                </a:cubicBezTo>
                <a:cubicBezTo>
                  <a:pt x="14341" y="7885"/>
                  <a:pt x="14319" y="8075"/>
                  <a:pt x="14319" y="8287"/>
                </a:cubicBezTo>
                <a:cubicBezTo>
                  <a:pt x="14319" y="8424"/>
                  <a:pt x="14355" y="8605"/>
                  <a:pt x="14414" y="8731"/>
                </a:cubicBezTo>
                <a:cubicBezTo>
                  <a:pt x="14474" y="8859"/>
                  <a:pt x="14542" y="8975"/>
                  <a:pt x="14637" y="9080"/>
                </a:cubicBezTo>
              </a:path>
              <a:path w="8828" h="2572">
                <a:moveTo>
                  <a:pt x="17336" y="7176"/>
                </a:moveTo>
                <a:cubicBezTo>
                  <a:pt x="17431" y="7217"/>
                  <a:pt x="17352" y="7165"/>
                  <a:pt x="17431" y="7271"/>
                </a:cubicBezTo>
                <a:cubicBezTo>
                  <a:pt x="17492" y="7352"/>
                  <a:pt x="17517" y="7431"/>
                  <a:pt x="17558" y="7525"/>
                </a:cubicBezTo>
                <a:cubicBezTo>
                  <a:pt x="17606" y="7635"/>
                  <a:pt x="17698" y="7756"/>
                  <a:pt x="17716" y="7874"/>
                </a:cubicBezTo>
                <a:cubicBezTo>
                  <a:pt x="17739" y="8021"/>
                  <a:pt x="17769" y="8199"/>
                  <a:pt x="17748" y="8350"/>
                </a:cubicBezTo>
                <a:cubicBezTo>
                  <a:pt x="17724" y="8518"/>
                  <a:pt x="17656" y="8647"/>
                  <a:pt x="17590" y="8795"/>
                </a:cubicBezTo>
                <a:cubicBezTo>
                  <a:pt x="17546" y="8893"/>
                  <a:pt x="17494" y="8986"/>
                  <a:pt x="17399" y="9049"/>
                </a:cubicBezTo>
                <a:cubicBezTo>
                  <a:pt x="17378" y="9059"/>
                  <a:pt x="17357" y="9070"/>
                  <a:pt x="17336" y="9080"/>
                </a:cubicBezTo>
              </a:path>
              <a:path w="8828" h="2572">
                <a:moveTo>
                  <a:pt x="18288" y="7112"/>
                </a:moveTo>
                <a:cubicBezTo>
                  <a:pt x="18266" y="7148"/>
                  <a:pt x="18247" y="7225"/>
                  <a:pt x="18224" y="7302"/>
                </a:cubicBezTo>
                <a:cubicBezTo>
                  <a:pt x="18172" y="7475"/>
                  <a:pt x="18111" y="7636"/>
                  <a:pt x="18066" y="7810"/>
                </a:cubicBezTo>
                <a:cubicBezTo>
                  <a:pt x="18023" y="7978"/>
                  <a:pt x="17984" y="8208"/>
                  <a:pt x="18002" y="8382"/>
                </a:cubicBezTo>
                <a:cubicBezTo>
                  <a:pt x="18021" y="8567"/>
                  <a:pt x="18062" y="8718"/>
                  <a:pt x="18129" y="8890"/>
                </a:cubicBezTo>
                <a:cubicBezTo>
                  <a:pt x="18188" y="9042"/>
                  <a:pt x="18273" y="9111"/>
                  <a:pt x="18415" y="9176"/>
                </a:cubicBezTo>
              </a:path>
              <a:path w="8828" h="2572">
                <a:moveTo>
                  <a:pt x="21558" y="6922"/>
                </a:moveTo>
                <a:cubicBezTo>
                  <a:pt x="21579" y="6957"/>
                  <a:pt x="21600" y="6994"/>
                  <a:pt x="21622" y="7048"/>
                </a:cubicBezTo>
                <a:cubicBezTo>
                  <a:pt x="21678" y="7187"/>
                  <a:pt x="21741" y="7277"/>
                  <a:pt x="21780" y="7430"/>
                </a:cubicBezTo>
                <a:cubicBezTo>
                  <a:pt x="21824" y="7603"/>
                  <a:pt x="21891" y="7792"/>
                  <a:pt x="21908" y="7969"/>
                </a:cubicBezTo>
                <a:cubicBezTo>
                  <a:pt x="21926" y="8156"/>
                  <a:pt x="21916" y="8359"/>
                  <a:pt x="21876" y="8541"/>
                </a:cubicBezTo>
                <a:cubicBezTo>
                  <a:pt x="21842" y="8699"/>
                  <a:pt x="21770" y="8850"/>
                  <a:pt x="21685" y="8985"/>
                </a:cubicBezTo>
                <a:cubicBezTo>
                  <a:pt x="21624" y="9082"/>
                  <a:pt x="21547" y="9133"/>
                  <a:pt x="21463" y="9208"/>
                </a:cubicBezTo>
              </a:path>
              <a:path w="8828" h="2572">
                <a:moveTo>
                  <a:pt x="16002" y="7652"/>
                </a:moveTo>
                <a:cubicBezTo>
                  <a:pt x="15952" y="7652"/>
                  <a:pt x="15970" y="7673"/>
                  <a:pt x="15970" y="7715"/>
                </a:cubicBezTo>
              </a:path>
              <a:path w="8828" h="2572">
                <a:moveTo>
                  <a:pt x="16002" y="7810"/>
                </a:moveTo>
                <a:cubicBezTo>
                  <a:pt x="16002" y="8016"/>
                  <a:pt x="16003" y="8218"/>
                  <a:pt x="15970" y="8414"/>
                </a:cubicBezTo>
                <a:cubicBezTo>
                  <a:pt x="15957" y="8489"/>
                  <a:pt x="15955" y="8537"/>
                  <a:pt x="15938" y="8572"/>
                </a:cubicBezTo>
                <a:cubicBezTo>
                  <a:pt x="15938" y="8583"/>
                  <a:pt x="15938" y="8593"/>
                  <a:pt x="15938" y="8604"/>
                </a:cubicBezTo>
              </a:path>
              <a:path w="8828" h="2572">
                <a:moveTo>
                  <a:pt x="15748" y="8223"/>
                </a:moveTo>
                <a:cubicBezTo>
                  <a:pt x="15816" y="8223"/>
                  <a:pt x="15853" y="8203"/>
                  <a:pt x="15907" y="8192"/>
                </a:cubicBezTo>
                <a:cubicBezTo>
                  <a:pt x="15950" y="8183"/>
                  <a:pt x="16094" y="8148"/>
                  <a:pt x="16129" y="8160"/>
                </a:cubicBezTo>
                <a:cubicBezTo>
                  <a:pt x="16188" y="8180"/>
                  <a:pt x="16213" y="8192"/>
                  <a:pt x="16288" y="8192"/>
                </a:cubicBezTo>
              </a:path>
              <a:path w="8828" h="2572">
                <a:moveTo>
                  <a:pt x="19971" y="7810"/>
                </a:moveTo>
                <a:cubicBezTo>
                  <a:pt x="19971" y="7996"/>
                  <a:pt x="19978" y="8170"/>
                  <a:pt x="20002" y="8350"/>
                </a:cubicBezTo>
                <a:cubicBezTo>
                  <a:pt x="20016" y="8452"/>
                  <a:pt x="20011" y="8539"/>
                  <a:pt x="20034" y="8636"/>
                </a:cubicBezTo>
                <a:cubicBezTo>
                  <a:pt x="20043" y="8675"/>
                  <a:pt x="20034" y="8723"/>
                  <a:pt x="20034" y="8763"/>
                </a:cubicBezTo>
              </a:path>
              <a:path w="8828" h="2572">
                <a:moveTo>
                  <a:pt x="19717" y="8350"/>
                </a:moveTo>
                <a:cubicBezTo>
                  <a:pt x="19717" y="8339"/>
                  <a:pt x="19717" y="8329"/>
                  <a:pt x="19717" y="8318"/>
                </a:cubicBezTo>
                <a:cubicBezTo>
                  <a:pt x="19833" y="8318"/>
                  <a:pt x="19950" y="8318"/>
                  <a:pt x="20066" y="8318"/>
                </a:cubicBezTo>
              </a:path>
              <a:path w="8828" h="2572">
                <a:moveTo>
                  <a:pt x="14700" y="7842"/>
                </a:moveTo>
                <a:cubicBezTo>
                  <a:pt x="14672" y="7888"/>
                  <a:pt x="14668" y="7935"/>
                  <a:pt x="14668" y="8033"/>
                </a:cubicBezTo>
                <a:cubicBezTo>
                  <a:pt x="14668" y="8239"/>
                  <a:pt x="14677" y="8436"/>
                  <a:pt x="14700" y="8636"/>
                </a:cubicBezTo>
                <a:cubicBezTo>
                  <a:pt x="14714" y="8752"/>
                  <a:pt x="14700" y="8805"/>
                  <a:pt x="14700" y="8922"/>
                </a:cubicBezTo>
                <a:cubicBezTo>
                  <a:pt x="14700" y="8769"/>
                  <a:pt x="14718" y="8625"/>
                  <a:pt x="14732" y="8477"/>
                </a:cubicBezTo>
                <a:cubicBezTo>
                  <a:pt x="14746" y="8329"/>
                  <a:pt x="14733" y="8178"/>
                  <a:pt x="14764" y="8033"/>
                </a:cubicBezTo>
                <a:cubicBezTo>
                  <a:pt x="14790" y="7911"/>
                  <a:pt x="14804" y="7799"/>
                  <a:pt x="14859" y="7684"/>
                </a:cubicBezTo>
                <a:cubicBezTo>
                  <a:pt x="14895" y="7607"/>
                  <a:pt x="14926" y="7552"/>
                  <a:pt x="14986" y="7493"/>
                </a:cubicBezTo>
                <a:cubicBezTo>
                  <a:pt x="15045" y="7501"/>
                  <a:pt x="15075" y="7497"/>
                  <a:pt x="15113" y="7556"/>
                </a:cubicBezTo>
                <a:cubicBezTo>
                  <a:pt x="15189" y="7674"/>
                  <a:pt x="15187" y="7808"/>
                  <a:pt x="15208" y="7938"/>
                </a:cubicBezTo>
                <a:cubicBezTo>
                  <a:pt x="15237" y="8121"/>
                  <a:pt x="15264" y="8322"/>
                  <a:pt x="15240" y="8509"/>
                </a:cubicBezTo>
                <a:cubicBezTo>
                  <a:pt x="15220" y="8663"/>
                  <a:pt x="15199" y="8799"/>
                  <a:pt x="15240" y="8954"/>
                </a:cubicBezTo>
                <a:cubicBezTo>
                  <a:pt x="15253" y="9002"/>
                  <a:pt x="15298" y="9067"/>
                  <a:pt x="15304" y="9080"/>
                </a:cubicBezTo>
              </a:path>
              <a:path w="8828" h="2572">
                <a:moveTo>
                  <a:pt x="18478" y="7906"/>
                </a:moveTo>
                <a:cubicBezTo>
                  <a:pt x="18478" y="8028"/>
                  <a:pt x="18500" y="8136"/>
                  <a:pt x="18510" y="8255"/>
                </a:cubicBezTo>
                <a:cubicBezTo>
                  <a:pt x="18527" y="8446"/>
                  <a:pt x="18522" y="8639"/>
                  <a:pt x="18542" y="8826"/>
                </a:cubicBezTo>
                <a:cubicBezTo>
                  <a:pt x="18558" y="8971"/>
                  <a:pt x="18542" y="9125"/>
                  <a:pt x="18542" y="9271"/>
                </a:cubicBezTo>
                <a:cubicBezTo>
                  <a:pt x="18514" y="9215"/>
                  <a:pt x="18533" y="9229"/>
                  <a:pt x="18510" y="9144"/>
                </a:cubicBezTo>
                <a:cubicBezTo>
                  <a:pt x="18469" y="8996"/>
                  <a:pt x="18478" y="8855"/>
                  <a:pt x="18478" y="8700"/>
                </a:cubicBezTo>
                <a:cubicBezTo>
                  <a:pt x="18478" y="8553"/>
                  <a:pt x="18486" y="8368"/>
                  <a:pt x="18510" y="8223"/>
                </a:cubicBezTo>
                <a:cubicBezTo>
                  <a:pt x="18532" y="8090"/>
                  <a:pt x="18552" y="7968"/>
                  <a:pt x="18606" y="7842"/>
                </a:cubicBezTo>
                <a:cubicBezTo>
                  <a:pt x="18639" y="7765"/>
                  <a:pt x="18675" y="7710"/>
                  <a:pt x="18732" y="7652"/>
                </a:cubicBezTo>
                <a:cubicBezTo>
                  <a:pt x="18815" y="7664"/>
                  <a:pt x="18815" y="7661"/>
                  <a:pt x="18860" y="7747"/>
                </a:cubicBezTo>
                <a:cubicBezTo>
                  <a:pt x="18918" y="7857"/>
                  <a:pt x="18920" y="8036"/>
                  <a:pt x="18923" y="8160"/>
                </a:cubicBezTo>
                <a:cubicBezTo>
                  <a:pt x="18930" y="8428"/>
                  <a:pt x="18935" y="8689"/>
                  <a:pt x="18955" y="8954"/>
                </a:cubicBezTo>
                <a:cubicBezTo>
                  <a:pt x="18966" y="9096"/>
                  <a:pt x="18969" y="9240"/>
                  <a:pt x="19050" y="9366"/>
                </a:cubicBezTo>
                <a:cubicBezTo>
                  <a:pt x="19083" y="9416"/>
                  <a:pt x="19149" y="9501"/>
                  <a:pt x="19209" y="9493"/>
                </a:cubicBezTo>
                <a:cubicBezTo>
                  <a:pt x="19230" y="9483"/>
                  <a:pt x="19251" y="9472"/>
                  <a:pt x="19272" y="9462"/>
                </a:cubicBezTo>
              </a:path>
              <a:path w="8828" h="2572">
                <a:moveTo>
                  <a:pt x="16986" y="7366"/>
                </a:moveTo>
                <a:lnTo>
                  <a:pt x="16986" y="7366"/>
                </a:lnTo>
              </a:path>
              <a:path w="8828" h="2572">
                <a:moveTo>
                  <a:pt x="16986" y="7366"/>
                </a:moveTo>
                <a:cubicBezTo>
                  <a:pt x="16975" y="7366"/>
                  <a:pt x="16965" y="7366"/>
                  <a:pt x="16954" y="7366"/>
                </a:cubicBezTo>
              </a:path>
              <a:path w="8828" h="2572">
                <a:moveTo>
                  <a:pt x="16954" y="7366"/>
                </a:moveTo>
                <a:cubicBezTo>
                  <a:pt x="16896" y="7388"/>
                  <a:pt x="16831" y="7415"/>
                  <a:pt x="16764" y="7430"/>
                </a:cubicBezTo>
                <a:cubicBezTo>
                  <a:pt x="16697" y="7445"/>
                  <a:pt x="16631" y="7476"/>
                  <a:pt x="16574" y="7493"/>
                </a:cubicBezTo>
                <a:cubicBezTo>
                  <a:pt x="16525" y="7508"/>
                  <a:pt x="16465" y="7461"/>
                  <a:pt x="16510" y="7493"/>
                </a:cubicBezTo>
                <a:cubicBezTo>
                  <a:pt x="16554" y="7524"/>
                  <a:pt x="16571" y="7637"/>
                  <a:pt x="16574" y="7684"/>
                </a:cubicBezTo>
                <a:cubicBezTo>
                  <a:pt x="16580" y="7780"/>
                  <a:pt x="16547" y="7847"/>
                  <a:pt x="16542" y="7938"/>
                </a:cubicBezTo>
                <a:cubicBezTo>
                  <a:pt x="16538" y="8009"/>
                  <a:pt x="16519" y="8136"/>
                  <a:pt x="16574" y="8192"/>
                </a:cubicBezTo>
                <a:cubicBezTo>
                  <a:pt x="16584" y="8192"/>
                  <a:pt x="16595" y="8192"/>
                  <a:pt x="16605" y="8192"/>
                </a:cubicBezTo>
                <a:cubicBezTo>
                  <a:pt x="16615" y="8140"/>
                  <a:pt x="16656" y="8038"/>
                  <a:pt x="16700" y="8001"/>
                </a:cubicBezTo>
                <a:cubicBezTo>
                  <a:pt x="16742" y="7965"/>
                  <a:pt x="16833" y="7892"/>
                  <a:pt x="16891" y="7906"/>
                </a:cubicBezTo>
                <a:cubicBezTo>
                  <a:pt x="16964" y="7924"/>
                  <a:pt x="17039" y="7969"/>
                  <a:pt x="17082" y="8033"/>
                </a:cubicBezTo>
                <a:cubicBezTo>
                  <a:pt x="17149" y="8133"/>
                  <a:pt x="17145" y="8236"/>
                  <a:pt x="17145" y="8350"/>
                </a:cubicBezTo>
                <a:cubicBezTo>
                  <a:pt x="17145" y="8465"/>
                  <a:pt x="17089" y="8551"/>
                  <a:pt x="17018" y="8636"/>
                </a:cubicBezTo>
                <a:cubicBezTo>
                  <a:pt x="16971" y="8693"/>
                  <a:pt x="16870" y="8807"/>
                  <a:pt x="16796" y="8826"/>
                </a:cubicBezTo>
                <a:cubicBezTo>
                  <a:pt x="16764" y="8834"/>
                  <a:pt x="16705" y="8826"/>
                  <a:pt x="16669" y="8826"/>
                </a:cubicBezTo>
              </a:path>
              <a:path w="8828" h="2572">
                <a:moveTo>
                  <a:pt x="21018" y="7398"/>
                </a:moveTo>
                <a:cubicBezTo>
                  <a:pt x="20977" y="7398"/>
                  <a:pt x="20919" y="7442"/>
                  <a:pt x="20892" y="7430"/>
                </a:cubicBezTo>
                <a:cubicBezTo>
                  <a:pt x="20836" y="7405"/>
                  <a:pt x="20767" y="7383"/>
                  <a:pt x="20701" y="7366"/>
                </a:cubicBezTo>
                <a:cubicBezTo>
                  <a:pt x="20656" y="7355"/>
                  <a:pt x="20616" y="7339"/>
                  <a:pt x="20574" y="7334"/>
                </a:cubicBezTo>
                <a:cubicBezTo>
                  <a:pt x="20535" y="7330"/>
                  <a:pt x="20514" y="7391"/>
                  <a:pt x="20510" y="7430"/>
                </a:cubicBezTo>
                <a:cubicBezTo>
                  <a:pt x="20500" y="7518"/>
                  <a:pt x="20484" y="7598"/>
                  <a:pt x="20479" y="7684"/>
                </a:cubicBezTo>
                <a:cubicBezTo>
                  <a:pt x="20472" y="7810"/>
                  <a:pt x="20479" y="7938"/>
                  <a:pt x="20479" y="8064"/>
                </a:cubicBezTo>
                <a:cubicBezTo>
                  <a:pt x="20543" y="8064"/>
                  <a:pt x="20542" y="8057"/>
                  <a:pt x="20574" y="8001"/>
                </a:cubicBezTo>
                <a:cubicBezTo>
                  <a:pt x="20607" y="7944"/>
                  <a:pt x="20647" y="7849"/>
                  <a:pt x="20701" y="7810"/>
                </a:cubicBezTo>
                <a:cubicBezTo>
                  <a:pt x="20784" y="7751"/>
                  <a:pt x="20792" y="7788"/>
                  <a:pt x="20860" y="7810"/>
                </a:cubicBezTo>
                <a:cubicBezTo>
                  <a:pt x="20879" y="7816"/>
                  <a:pt x="20944" y="7922"/>
                  <a:pt x="20955" y="7969"/>
                </a:cubicBezTo>
                <a:cubicBezTo>
                  <a:pt x="20981" y="8078"/>
                  <a:pt x="20964" y="8252"/>
                  <a:pt x="20923" y="8350"/>
                </a:cubicBezTo>
                <a:cubicBezTo>
                  <a:pt x="20884" y="8444"/>
                  <a:pt x="20835" y="8501"/>
                  <a:pt x="20764" y="8572"/>
                </a:cubicBezTo>
                <a:cubicBezTo>
                  <a:pt x="20689" y="8647"/>
                  <a:pt x="20633" y="8661"/>
                  <a:pt x="20542" y="8700"/>
                </a:cubicBezTo>
              </a:path>
              <a:path w="8828" h="2572">
                <a:moveTo>
                  <a:pt x="22130" y="8255"/>
                </a:moveTo>
                <a:cubicBezTo>
                  <a:pt x="22138" y="8320"/>
                  <a:pt x="22133" y="8326"/>
                  <a:pt x="22162" y="8382"/>
                </a:cubicBezTo>
                <a:cubicBezTo>
                  <a:pt x="22189" y="8434"/>
                  <a:pt x="22190" y="8462"/>
                  <a:pt x="22257" y="8477"/>
                </a:cubicBezTo>
                <a:cubicBezTo>
                  <a:pt x="22327" y="8493"/>
                  <a:pt x="22311" y="8455"/>
                  <a:pt x="22352" y="8414"/>
                </a:cubicBezTo>
                <a:cubicBezTo>
                  <a:pt x="22431" y="8336"/>
                  <a:pt x="22436" y="8226"/>
                  <a:pt x="22479" y="8128"/>
                </a:cubicBezTo>
                <a:cubicBezTo>
                  <a:pt x="22560" y="7943"/>
                  <a:pt x="22665" y="7763"/>
                  <a:pt x="22765" y="7588"/>
                </a:cubicBezTo>
                <a:cubicBezTo>
                  <a:pt x="22875" y="7396"/>
                  <a:pt x="23013" y="7225"/>
                  <a:pt x="23146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8"/>
          <p:cNvSpPr/>
          <p:nvPr/>
        </p:nvSpPr>
        <p:spPr>
          <a:xfrm>
            <a:off x="6046920" y="3336840"/>
            <a:ext cx="479160" cy="1052640"/>
          </a:xfrm>
          <a:custGeom>
            <a:avLst/>
            <a:gdLst/>
            <a:ahLst/>
            <a:rect l="l" t="t" r="r" b="b"/>
            <a:pathLst>
              <a:path w="1334" h="2922">
                <a:moveTo>
                  <a:pt x="17431" y="9271"/>
                </a:moveTo>
                <a:cubicBezTo>
                  <a:pt x="17421" y="9300"/>
                  <a:pt x="17377" y="9321"/>
                  <a:pt x="17336" y="9334"/>
                </a:cubicBezTo>
                <a:cubicBezTo>
                  <a:pt x="17294" y="9348"/>
                  <a:pt x="17222" y="9334"/>
                  <a:pt x="17177" y="9334"/>
                </a:cubicBezTo>
                <a:cubicBezTo>
                  <a:pt x="17205" y="9421"/>
                  <a:pt x="17207" y="9339"/>
                  <a:pt x="17177" y="9493"/>
                </a:cubicBezTo>
                <a:cubicBezTo>
                  <a:pt x="17164" y="9561"/>
                  <a:pt x="17177" y="9646"/>
                  <a:pt x="17177" y="9716"/>
                </a:cubicBezTo>
                <a:cubicBezTo>
                  <a:pt x="17187" y="9675"/>
                  <a:pt x="17225" y="9609"/>
                  <a:pt x="17272" y="9588"/>
                </a:cubicBezTo>
                <a:cubicBezTo>
                  <a:pt x="17305" y="9573"/>
                  <a:pt x="17419" y="9580"/>
                  <a:pt x="17431" y="9620"/>
                </a:cubicBezTo>
                <a:cubicBezTo>
                  <a:pt x="17450" y="9681"/>
                  <a:pt x="17466" y="9755"/>
                  <a:pt x="17494" y="9811"/>
                </a:cubicBezTo>
                <a:cubicBezTo>
                  <a:pt x="17516" y="9855"/>
                  <a:pt x="17551" y="9941"/>
                  <a:pt x="17526" y="10001"/>
                </a:cubicBezTo>
                <a:cubicBezTo>
                  <a:pt x="17513" y="10032"/>
                  <a:pt x="17456" y="10140"/>
                  <a:pt x="17431" y="10160"/>
                </a:cubicBezTo>
                <a:cubicBezTo>
                  <a:pt x="17414" y="10173"/>
                  <a:pt x="17335" y="10209"/>
                  <a:pt x="17304" y="10192"/>
                </a:cubicBezTo>
                <a:cubicBezTo>
                  <a:pt x="17275" y="10163"/>
                  <a:pt x="17264" y="10157"/>
                  <a:pt x="17272" y="10128"/>
                </a:cubicBezTo>
              </a:path>
              <a:path w="1334" h="2922">
                <a:moveTo>
                  <a:pt x="17685" y="9588"/>
                </a:moveTo>
                <a:cubicBezTo>
                  <a:pt x="17685" y="9655"/>
                  <a:pt x="17728" y="9680"/>
                  <a:pt x="17716" y="9747"/>
                </a:cubicBezTo>
                <a:cubicBezTo>
                  <a:pt x="17699" y="9844"/>
                  <a:pt x="17685" y="9901"/>
                  <a:pt x="17685" y="10001"/>
                </a:cubicBezTo>
                <a:cubicBezTo>
                  <a:pt x="17685" y="10054"/>
                  <a:pt x="17685" y="10107"/>
                  <a:pt x="17685" y="10160"/>
                </a:cubicBezTo>
                <a:cubicBezTo>
                  <a:pt x="17669" y="10112"/>
                  <a:pt x="17653" y="10133"/>
                  <a:pt x="17653" y="10065"/>
                </a:cubicBezTo>
                <a:cubicBezTo>
                  <a:pt x="17653" y="9979"/>
                  <a:pt x="17672" y="9922"/>
                  <a:pt x="17685" y="9842"/>
                </a:cubicBezTo>
                <a:cubicBezTo>
                  <a:pt x="17693" y="9794"/>
                  <a:pt x="17711" y="9650"/>
                  <a:pt x="17748" y="9620"/>
                </a:cubicBezTo>
                <a:cubicBezTo>
                  <a:pt x="17795" y="9581"/>
                  <a:pt x="17852" y="9540"/>
                  <a:pt x="17907" y="9588"/>
                </a:cubicBezTo>
                <a:cubicBezTo>
                  <a:pt x="17957" y="9632"/>
                  <a:pt x="17966" y="9714"/>
                  <a:pt x="17970" y="9779"/>
                </a:cubicBezTo>
                <a:cubicBezTo>
                  <a:pt x="17976" y="9884"/>
                  <a:pt x="17970" y="9991"/>
                  <a:pt x="17970" y="10096"/>
                </a:cubicBezTo>
              </a:path>
              <a:path w="1334" h="2922">
                <a:moveTo>
                  <a:pt x="17399" y="10382"/>
                </a:moveTo>
                <a:cubicBezTo>
                  <a:pt x="17350" y="10398"/>
                  <a:pt x="17373" y="10414"/>
                  <a:pt x="17304" y="10414"/>
                </a:cubicBezTo>
                <a:cubicBezTo>
                  <a:pt x="17251" y="10414"/>
                  <a:pt x="17198" y="10414"/>
                  <a:pt x="17145" y="10414"/>
                </a:cubicBezTo>
                <a:cubicBezTo>
                  <a:pt x="17145" y="10531"/>
                  <a:pt x="17009" y="10680"/>
                  <a:pt x="17113" y="10732"/>
                </a:cubicBezTo>
                <a:cubicBezTo>
                  <a:pt x="17149" y="10750"/>
                  <a:pt x="17166" y="10682"/>
                  <a:pt x="17177" y="10668"/>
                </a:cubicBezTo>
                <a:cubicBezTo>
                  <a:pt x="17209" y="10624"/>
                  <a:pt x="17266" y="10629"/>
                  <a:pt x="17304" y="10604"/>
                </a:cubicBezTo>
                <a:cubicBezTo>
                  <a:pt x="17371" y="10561"/>
                  <a:pt x="17364" y="10613"/>
                  <a:pt x="17431" y="10636"/>
                </a:cubicBezTo>
                <a:cubicBezTo>
                  <a:pt x="17506" y="10661"/>
                  <a:pt x="17494" y="10681"/>
                  <a:pt x="17494" y="10763"/>
                </a:cubicBezTo>
                <a:cubicBezTo>
                  <a:pt x="17494" y="10828"/>
                  <a:pt x="17503" y="10870"/>
                  <a:pt x="17462" y="10922"/>
                </a:cubicBezTo>
                <a:cubicBezTo>
                  <a:pt x="17412" y="10986"/>
                  <a:pt x="17430" y="11006"/>
                  <a:pt x="17367" y="11049"/>
                </a:cubicBezTo>
                <a:cubicBezTo>
                  <a:pt x="17351" y="11060"/>
                  <a:pt x="17267" y="11115"/>
                  <a:pt x="17240" y="11081"/>
                </a:cubicBezTo>
                <a:cubicBezTo>
                  <a:pt x="17240" y="11070"/>
                  <a:pt x="17240" y="11060"/>
                  <a:pt x="17240" y="11049"/>
                </a:cubicBezTo>
              </a:path>
              <a:path w="1334" h="2922">
                <a:moveTo>
                  <a:pt x="17621" y="10573"/>
                </a:moveTo>
                <a:cubicBezTo>
                  <a:pt x="17658" y="10621"/>
                  <a:pt x="17653" y="10638"/>
                  <a:pt x="17653" y="10700"/>
                </a:cubicBezTo>
                <a:cubicBezTo>
                  <a:pt x="17653" y="10753"/>
                  <a:pt x="17653" y="10975"/>
                  <a:pt x="17653" y="10922"/>
                </a:cubicBezTo>
                <a:cubicBezTo>
                  <a:pt x="17653" y="10834"/>
                  <a:pt x="17666" y="10782"/>
                  <a:pt x="17685" y="10700"/>
                </a:cubicBezTo>
                <a:cubicBezTo>
                  <a:pt x="17705" y="10615"/>
                  <a:pt x="17722" y="10611"/>
                  <a:pt x="17780" y="10573"/>
                </a:cubicBezTo>
                <a:cubicBezTo>
                  <a:pt x="17809" y="10544"/>
                  <a:pt x="17815" y="10533"/>
                  <a:pt x="17844" y="10541"/>
                </a:cubicBezTo>
                <a:cubicBezTo>
                  <a:pt x="17893" y="10608"/>
                  <a:pt x="17871" y="10602"/>
                  <a:pt x="17907" y="10668"/>
                </a:cubicBezTo>
                <a:cubicBezTo>
                  <a:pt x="17931" y="10713"/>
                  <a:pt x="17945" y="10786"/>
                  <a:pt x="17970" y="10827"/>
                </a:cubicBezTo>
                <a:cubicBezTo>
                  <a:pt x="17988" y="10857"/>
                  <a:pt x="18012" y="10971"/>
                  <a:pt x="18034" y="10986"/>
                </a:cubicBezTo>
                <a:cubicBezTo>
                  <a:pt x="18045" y="10986"/>
                  <a:pt x="18055" y="10986"/>
                  <a:pt x="18066" y="10986"/>
                </a:cubicBezTo>
              </a:path>
              <a:path w="1334" h="2922">
                <a:moveTo>
                  <a:pt x="16796" y="11271"/>
                </a:moveTo>
                <a:cubicBezTo>
                  <a:pt x="16856" y="11227"/>
                  <a:pt x="16908" y="11240"/>
                  <a:pt x="16986" y="11240"/>
                </a:cubicBezTo>
                <a:cubicBezTo>
                  <a:pt x="17141" y="11240"/>
                  <a:pt x="17281" y="11251"/>
                  <a:pt x="17431" y="11271"/>
                </a:cubicBezTo>
                <a:cubicBezTo>
                  <a:pt x="17547" y="11286"/>
                  <a:pt x="17666" y="11277"/>
                  <a:pt x="17780" y="11303"/>
                </a:cubicBezTo>
                <a:cubicBezTo>
                  <a:pt x="17871" y="11323"/>
                  <a:pt x="18016" y="11331"/>
                  <a:pt x="18098" y="11366"/>
                </a:cubicBezTo>
                <a:cubicBezTo>
                  <a:pt x="18108" y="11377"/>
                  <a:pt x="18119" y="11387"/>
                  <a:pt x="18129" y="11398"/>
                </a:cubicBezTo>
              </a:path>
              <a:path w="1334" h="2922">
                <a:moveTo>
                  <a:pt x="17082" y="11557"/>
                </a:moveTo>
                <a:cubicBezTo>
                  <a:pt x="17082" y="11651"/>
                  <a:pt x="17065" y="11725"/>
                  <a:pt x="17050" y="11811"/>
                </a:cubicBezTo>
                <a:cubicBezTo>
                  <a:pt x="17033" y="11910"/>
                  <a:pt x="17050" y="12027"/>
                  <a:pt x="17050" y="12128"/>
                </a:cubicBezTo>
              </a:path>
              <a:path w="1334" h="2922">
                <a:moveTo>
                  <a:pt x="17240" y="11494"/>
                </a:moveTo>
                <a:cubicBezTo>
                  <a:pt x="17240" y="11616"/>
                  <a:pt x="17219" y="11726"/>
                  <a:pt x="17208" y="11843"/>
                </a:cubicBezTo>
                <a:cubicBezTo>
                  <a:pt x="17197" y="11957"/>
                  <a:pt x="17208" y="12077"/>
                  <a:pt x="17208" y="12192"/>
                </a:cubicBezTo>
                <a:cubicBezTo>
                  <a:pt x="17275" y="12192"/>
                  <a:pt x="17276" y="12198"/>
                  <a:pt x="17304" y="12160"/>
                </a:cubicBezTo>
                <a:cubicBezTo>
                  <a:pt x="17350" y="12099"/>
                  <a:pt x="17348" y="12044"/>
                  <a:pt x="17367" y="11970"/>
                </a:cubicBezTo>
                <a:cubicBezTo>
                  <a:pt x="17394" y="11866"/>
                  <a:pt x="17399" y="11791"/>
                  <a:pt x="17399" y="11684"/>
                </a:cubicBezTo>
                <a:cubicBezTo>
                  <a:pt x="17399" y="11616"/>
                  <a:pt x="17415" y="11566"/>
                  <a:pt x="17336" y="11557"/>
                </a:cubicBezTo>
                <a:cubicBezTo>
                  <a:pt x="17325" y="11557"/>
                  <a:pt x="17315" y="11557"/>
                  <a:pt x="17304" y="11557"/>
                </a:cubicBezTo>
              </a:path>
              <a:path w="1334" h="2922">
                <a:moveTo>
                  <a:pt x="17621" y="11748"/>
                </a:moveTo>
                <a:cubicBezTo>
                  <a:pt x="17621" y="11864"/>
                  <a:pt x="17621" y="11981"/>
                  <a:pt x="17621" y="12097"/>
                </a:cubicBezTo>
                <a:cubicBezTo>
                  <a:pt x="17621" y="12177"/>
                  <a:pt x="17614" y="12023"/>
                  <a:pt x="17621" y="12002"/>
                </a:cubicBezTo>
                <a:cubicBezTo>
                  <a:pt x="17649" y="11917"/>
                  <a:pt x="17653" y="11830"/>
                  <a:pt x="17685" y="11748"/>
                </a:cubicBezTo>
                <a:cubicBezTo>
                  <a:pt x="17709" y="11686"/>
                  <a:pt x="17754" y="11639"/>
                  <a:pt x="17812" y="11620"/>
                </a:cubicBezTo>
                <a:cubicBezTo>
                  <a:pt x="17823" y="11620"/>
                  <a:pt x="17833" y="11620"/>
                  <a:pt x="17844" y="11620"/>
                </a:cubicBezTo>
                <a:cubicBezTo>
                  <a:pt x="17860" y="11684"/>
                  <a:pt x="17922" y="11709"/>
                  <a:pt x="17939" y="11779"/>
                </a:cubicBezTo>
                <a:cubicBezTo>
                  <a:pt x="17962" y="11876"/>
                  <a:pt x="17938" y="11967"/>
                  <a:pt x="17970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9"/>
          <p:cNvSpPr/>
          <p:nvPr/>
        </p:nvSpPr>
        <p:spPr>
          <a:xfrm>
            <a:off x="5657760" y="5440320"/>
            <a:ext cx="309600" cy="527040"/>
          </a:xfrm>
          <a:custGeom>
            <a:avLst/>
            <a:gdLst/>
            <a:ahLst/>
            <a:rect l="l" t="t" r="r" b="b"/>
            <a:pathLst>
              <a:path w="859" h="1462">
                <a:moveTo>
                  <a:pt x="15748" y="16224"/>
                </a:moveTo>
                <a:cubicBezTo>
                  <a:pt x="15727" y="16316"/>
                  <a:pt x="15716" y="16279"/>
                  <a:pt x="15748" y="16383"/>
                </a:cubicBezTo>
                <a:cubicBezTo>
                  <a:pt x="15771" y="16458"/>
                  <a:pt x="15799" y="16518"/>
                  <a:pt x="15843" y="16574"/>
                </a:cubicBezTo>
                <a:cubicBezTo>
                  <a:pt x="15863" y="16540"/>
                  <a:pt x="15898" y="16480"/>
                  <a:pt x="15907" y="16415"/>
                </a:cubicBezTo>
                <a:cubicBezTo>
                  <a:pt x="15926" y="16272"/>
                  <a:pt x="15963" y="16162"/>
                  <a:pt x="16034" y="16034"/>
                </a:cubicBezTo>
                <a:cubicBezTo>
                  <a:pt x="16106" y="15904"/>
                  <a:pt x="16168" y="15776"/>
                  <a:pt x="16256" y="15653"/>
                </a:cubicBezTo>
                <a:cubicBezTo>
                  <a:pt x="16383" y="15476"/>
                  <a:pt x="16484" y="15312"/>
                  <a:pt x="16574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0"/>
          <p:cNvSpPr/>
          <p:nvPr/>
        </p:nvSpPr>
        <p:spPr>
          <a:xfrm>
            <a:off x="353880" y="3292560"/>
            <a:ext cx="2127240" cy="811080"/>
          </a:xfrm>
          <a:custGeom>
            <a:avLst/>
            <a:gdLst/>
            <a:ahLst/>
            <a:rect l="l" t="t" r="r" b="b"/>
            <a:pathLst>
              <a:path w="5907" h="2255">
                <a:moveTo>
                  <a:pt x="1334" y="9144"/>
                </a:moveTo>
                <a:lnTo>
                  <a:pt x="1334" y="9144"/>
                </a:lnTo>
              </a:path>
              <a:path w="5907" h="2255">
                <a:moveTo>
                  <a:pt x="1334" y="9144"/>
                </a:moveTo>
                <a:cubicBezTo>
                  <a:pt x="1323" y="9144"/>
                  <a:pt x="1313" y="9144"/>
                  <a:pt x="1302" y="9144"/>
                </a:cubicBezTo>
              </a:path>
              <a:path w="5907" h="2255">
                <a:moveTo>
                  <a:pt x="1302" y="9144"/>
                </a:moveTo>
                <a:cubicBezTo>
                  <a:pt x="1245" y="9214"/>
                  <a:pt x="1186" y="9286"/>
                  <a:pt x="1143" y="9366"/>
                </a:cubicBezTo>
                <a:cubicBezTo>
                  <a:pt x="1074" y="9495"/>
                  <a:pt x="1002" y="9665"/>
                  <a:pt x="984" y="9811"/>
                </a:cubicBezTo>
                <a:cubicBezTo>
                  <a:pt x="963" y="9982"/>
                  <a:pt x="1004" y="10126"/>
                  <a:pt x="1048" y="10287"/>
                </a:cubicBezTo>
                <a:cubicBezTo>
                  <a:pt x="1086" y="10426"/>
                  <a:pt x="1150" y="10575"/>
                  <a:pt x="1270" y="10668"/>
                </a:cubicBezTo>
                <a:cubicBezTo>
                  <a:pt x="1334" y="10700"/>
                  <a:pt x="1355" y="10710"/>
                  <a:pt x="1397" y="10732"/>
                </a:cubicBezTo>
              </a:path>
              <a:path w="5907" h="2255">
                <a:moveTo>
                  <a:pt x="3080" y="9208"/>
                </a:moveTo>
                <a:cubicBezTo>
                  <a:pt x="3091" y="9197"/>
                  <a:pt x="3101" y="9187"/>
                  <a:pt x="3112" y="9176"/>
                </a:cubicBezTo>
                <a:cubicBezTo>
                  <a:pt x="3176" y="9225"/>
                  <a:pt x="3213" y="9236"/>
                  <a:pt x="3270" y="9303"/>
                </a:cubicBezTo>
                <a:cubicBezTo>
                  <a:pt x="3313" y="9345"/>
                  <a:pt x="3335" y="9366"/>
                  <a:pt x="3366" y="9398"/>
                </a:cubicBezTo>
              </a:path>
              <a:path w="5907" h="2255">
                <a:moveTo>
                  <a:pt x="3429" y="9588"/>
                </a:moveTo>
                <a:cubicBezTo>
                  <a:pt x="3471" y="9755"/>
                  <a:pt x="3510" y="9926"/>
                  <a:pt x="3524" y="10096"/>
                </a:cubicBezTo>
                <a:cubicBezTo>
                  <a:pt x="3537" y="10256"/>
                  <a:pt x="3562" y="10416"/>
                  <a:pt x="3524" y="10573"/>
                </a:cubicBezTo>
                <a:cubicBezTo>
                  <a:pt x="3502" y="10665"/>
                  <a:pt x="3448" y="10773"/>
                  <a:pt x="3366" y="10827"/>
                </a:cubicBezTo>
                <a:cubicBezTo>
                  <a:pt x="3308" y="10865"/>
                  <a:pt x="3273" y="10890"/>
                  <a:pt x="3207" y="10890"/>
                </a:cubicBezTo>
                <a:cubicBezTo>
                  <a:pt x="3196" y="10890"/>
                  <a:pt x="3186" y="10890"/>
                  <a:pt x="3175" y="10890"/>
                </a:cubicBezTo>
              </a:path>
              <a:path w="5907" h="2255">
                <a:moveTo>
                  <a:pt x="4254" y="9366"/>
                </a:moveTo>
                <a:cubicBezTo>
                  <a:pt x="4196" y="9381"/>
                  <a:pt x="4125" y="9469"/>
                  <a:pt x="4096" y="9525"/>
                </a:cubicBezTo>
                <a:cubicBezTo>
                  <a:pt x="4029" y="9652"/>
                  <a:pt x="3952" y="9801"/>
                  <a:pt x="3905" y="9938"/>
                </a:cubicBezTo>
                <a:cubicBezTo>
                  <a:pt x="3857" y="10078"/>
                  <a:pt x="3802" y="10300"/>
                  <a:pt x="3810" y="10446"/>
                </a:cubicBezTo>
                <a:cubicBezTo>
                  <a:pt x="3816" y="10562"/>
                  <a:pt x="3848" y="10743"/>
                  <a:pt x="3937" y="10827"/>
                </a:cubicBezTo>
                <a:cubicBezTo>
                  <a:pt x="4008" y="10895"/>
                  <a:pt x="4102" y="10921"/>
                  <a:pt x="4191" y="10954"/>
                </a:cubicBezTo>
              </a:path>
              <a:path w="5907" h="2255">
                <a:moveTo>
                  <a:pt x="6604" y="9239"/>
                </a:moveTo>
                <a:cubicBezTo>
                  <a:pt x="6649" y="9313"/>
                  <a:pt x="6679" y="9376"/>
                  <a:pt x="6731" y="9462"/>
                </a:cubicBezTo>
                <a:cubicBezTo>
                  <a:pt x="6792" y="9563"/>
                  <a:pt x="6826" y="9698"/>
                  <a:pt x="6858" y="9811"/>
                </a:cubicBezTo>
                <a:cubicBezTo>
                  <a:pt x="6905" y="9978"/>
                  <a:pt x="6890" y="10147"/>
                  <a:pt x="6890" y="10319"/>
                </a:cubicBezTo>
                <a:cubicBezTo>
                  <a:pt x="6890" y="10480"/>
                  <a:pt x="6885" y="10639"/>
                  <a:pt x="6858" y="10795"/>
                </a:cubicBezTo>
                <a:cubicBezTo>
                  <a:pt x="6831" y="10953"/>
                  <a:pt x="6761" y="11068"/>
                  <a:pt x="6699" y="11208"/>
                </a:cubicBezTo>
                <a:cubicBezTo>
                  <a:pt x="6668" y="11303"/>
                  <a:pt x="6658" y="11335"/>
                  <a:pt x="6636" y="11398"/>
                </a:cubicBezTo>
              </a:path>
              <a:path w="5907" h="2255">
                <a:moveTo>
                  <a:pt x="1873" y="10065"/>
                </a:moveTo>
                <a:cubicBezTo>
                  <a:pt x="2032" y="10065"/>
                  <a:pt x="2191" y="10065"/>
                  <a:pt x="2350" y="10065"/>
                </a:cubicBezTo>
              </a:path>
              <a:path w="5907" h="2255">
                <a:moveTo>
                  <a:pt x="4890" y="10287"/>
                </a:moveTo>
                <a:lnTo>
                  <a:pt x="4890" y="10287"/>
                </a:lnTo>
              </a:path>
              <a:path w="5907" h="2255">
                <a:moveTo>
                  <a:pt x="4890" y="10287"/>
                </a:moveTo>
                <a:lnTo>
                  <a:pt x="4890" y="10287"/>
                </a:lnTo>
              </a:path>
              <a:path w="5907" h="2255">
                <a:moveTo>
                  <a:pt x="4921" y="10287"/>
                </a:moveTo>
                <a:cubicBezTo>
                  <a:pt x="5016" y="10287"/>
                  <a:pt x="5083" y="10305"/>
                  <a:pt x="5175" y="10319"/>
                </a:cubicBezTo>
                <a:cubicBezTo>
                  <a:pt x="5291" y="10336"/>
                  <a:pt x="5353" y="10328"/>
                  <a:pt x="5461" y="10382"/>
                </a:cubicBezTo>
              </a:path>
              <a:path w="5907" h="2255">
                <a:moveTo>
                  <a:pt x="1175" y="9684"/>
                </a:moveTo>
                <a:cubicBezTo>
                  <a:pt x="1185" y="9724"/>
                  <a:pt x="1191" y="9771"/>
                  <a:pt x="1206" y="9811"/>
                </a:cubicBezTo>
                <a:cubicBezTo>
                  <a:pt x="1238" y="9900"/>
                  <a:pt x="1214" y="9978"/>
                  <a:pt x="1238" y="10065"/>
                </a:cubicBezTo>
                <a:cubicBezTo>
                  <a:pt x="1264" y="10156"/>
                  <a:pt x="1270" y="10221"/>
                  <a:pt x="1270" y="10319"/>
                </a:cubicBezTo>
                <a:cubicBezTo>
                  <a:pt x="1270" y="10361"/>
                  <a:pt x="1270" y="10404"/>
                  <a:pt x="1270" y="10446"/>
                </a:cubicBezTo>
                <a:cubicBezTo>
                  <a:pt x="1217" y="10428"/>
                  <a:pt x="1238" y="10385"/>
                  <a:pt x="1238" y="10319"/>
                </a:cubicBezTo>
                <a:cubicBezTo>
                  <a:pt x="1238" y="10221"/>
                  <a:pt x="1184" y="10138"/>
                  <a:pt x="1206" y="10033"/>
                </a:cubicBezTo>
                <a:cubicBezTo>
                  <a:pt x="1232" y="9911"/>
                  <a:pt x="1252" y="9801"/>
                  <a:pt x="1302" y="9684"/>
                </a:cubicBezTo>
                <a:cubicBezTo>
                  <a:pt x="1339" y="9598"/>
                  <a:pt x="1360" y="9535"/>
                  <a:pt x="1460" y="9525"/>
                </a:cubicBezTo>
                <a:cubicBezTo>
                  <a:pt x="1508" y="9520"/>
                  <a:pt x="1561" y="9607"/>
                  <a:pt x="1556" y="9652"/>
                </a:cubicBezTo>
                <a:cubicBezTo>
                  <a:pt x="1543" y="9766"/>
                  <a:pt x="1524" y="9877"/>
                  <a:pt x="1524" y="10001"/>
                </a:cubicBezTo>
                <a:cubicBezTo>
                  <a:pt x="1524" y="10146"/>
                  <a:pt x="1496" y="10313"/>
                  <a:pt x="1556" y="10446"/>
                </a:cubicBezTo>
                <a:cubicBezTo>
                  <a:pt x="1582" y="10504"/>
                  <a:pt x="1585" y="10527"/>
                  <a:pt x="1619" y="10573"/>
                </a:cubicBezTo>
              </a:path>
              <a:path w="5907" h="2255">
                <a:moveTo>
                  <a:pt x="4191" y="9779"/>
                </a:moveTo>
                <a:cubicBezTo>
                  <a:pt x="4191" y="9985"/>
                  <a:pt x="4188" y="10182"/>
                  <a:pt x="4159" y="10382"/>
                </a:cubicBezTo>
                <a:cubicBezTo>
                  <a:pt x="4146" y="10470"/>
                  <a:pt x="4089" y="10556"/>
                  <a:pt x="4128" y="10636"/>
                </a:cubicBezTo>
                <a:cubicBezTo>
                  <a:pt x="4138" y="10636"/>
                  <a:pt x="4149" y="10636"/>
                  <a:pt x="4159" y="10636"/>
                </a:cubicBezTo>
                <a:cubicBezTo>
                  <a:pt x="4159" y="10525"/>
                  <a:pt x="4152" y="10426"/>
                  <a:pt x="4191" y="10319"/>
                </a:cubicBezTo>
                <a:cubicBezTo>
                  <a:pt x="4238" y="10190"/>
                  <a:pt x="4288" y="10061"/>
                  <a:pt x="4350" y="9938"/>
                </a:cubicBezTo>
                <a:cubicBezTo>
                  <a:pt x="4388" y="9862"/>
                  <a:pt x="4417" y="9807"/>
                  <a:pt x="4477" y="9747"/>
                </a:cubicBezTo>
                <a:cubicBezTo>
                  <a:pt x="4516" y="9708"/>
                  <a:pt x="4590" y="9695"/>
                  <a:pt x="4636" y="9747"/>
                </a:cubicBezTo>
                <a:cubicBezTo>
                  <a:pt x="4674" y="9790"/>
                  <a:pt x="4667" y="9878"/>
                  <a:pt x="4667" y="9938"/>
                </a:cubicBezTo>
                <a:cubicBezTo>
                  <a:pt x="4667" y="10051"/>
                  <a:pt x="4636" y="10179"/>
                  <a:pt x="4604" y="10287"/>
                </a:cubicBezTo>
                <a:cubicBezTo>
                  <a:pt x="4577" y="10377"/>
                  <a:pt x="4520" y="10542"/>
                  <a:pt x="4540" y="10636"/>
                </a:cubicBezTo>
                <a:cubicBezTo>
                  <a:pt x="4559" y="10726"/>
                  <a:pt x="4626" y="10815"/>
                  <a:pt x="4699" y="10858"/>
                </a:cubicBezTo>
                <a:cubicBezTo>
                  <a:pt x="4720" y="10869"/>
                  <a:pt x="4741" y="10879"/>
                  <a:pt x="4762" y="10890"/>
                </a:cubicBezTo>
              </a:path>
              <a:path w="5907" h="2255">
                <a:moveTo>
                  <a:pt x="2984" y="9779"/>
                </a:moveTo>
                <a:cubicBezTo>
                  <a:pt x="3038" y="9708"/>
                  <a:pt x="3007" y="9721"/>
                  <a:pt x="2984" y="9652"/>
                </a:cubicBezTo>
                <a:cubicBezTo>
                  <a:pt x="2970" y="9610"/>
                  <a:pt x="2939" y="9568"/>
                  <a:pt x="2889" y="9557"/>
                </a:cubicBezTo>
                <a:cubicBezTo>
                  <a:pt x="2879" y="9555"/>
                  <a:pt x="2737" y="9579"/>
                  <a:pt x="2730" y="9588"/>
                </a:cubicBezTo>
                <a:cubicBezTo>
                  <a:pt x="2699" y="9627"/>
                  <a:pt x="2699" y="9693"/>
                  <a:pt x="2699" y="9747"/>
                </a:cubicBezTo>
                <a:cubicBezTo>
                  <a:pt x="2699" y="9815"/>
                  <a:pt x="2734" y="9908"/>
                  <a:pt x="2762" y="9970"/>
                </a:cubicBezTo>
                <a:cubicBezTo>
                  <a:pt x="2801" y="10056"/>
                  <a:pt x="2814" y="10136"/>
                  <a:pt x="2858" y="10224"/>
                </a:cubicBezTo>
                <a:cubicBezTo>
                  <a:pt x="2886" y="10281"/>
                  <a:pt x="2915" y="10352"/>
                  <a:pt x="2921" y="10414"/>
                </a:cubicBezTo>
                <a:cubicBezTo>
                  <a:pt x="2924" y="10442"/>
                  <a:pt x="2886" y="10527"/>
                  <a:pt x="2858" y="10541"/>
                </a:cubicBezTo>
                <a:cubicBezTo>
                  <a:pt x="2824" y="10558"/>
                  <a:pt x="2747" y="10543"/>
                  <a:pt x="2730" y="10509"/>
                </a:cubicBezTo>
                <a:cubicBezTo>
                  <a:pt x="2707" y="10463"/>
                  <a:pt x="2677" y="10378"/>
                  <a:pt x="2699" y="10319"/>
                </a:cubicBezTo>
                <a:cubicBezTo>
                  <a:pt x="2722" y="10259"/>
                  <a:pt x="2791" y="10118"/>
                  <a:pt x="2826" y="10065"/>
                </a:cubicBezTo>
                <a:cubicBezTo>
                  <a:pt x="2864" y="10008"/>
                  <a:pt x="2970" y="9882"/>
                  <a:pt x="3016" y="9842"/>
                </a:cubicBezTo>
                <a:cubicBezTo>
                  <a:pt x="3072" y="9815"/>
                  <a:pt x="3087" y="9811"/>
                  <a:pt x="3112" y="9779"/>
                </a:cubicBezTo>
              </a:path>
              <a:path w="5907" h="2255">
                <a:moveTo>
                  <a:pt x="5683" y="9842"/>
                </a:moveTo>
                <a:cubicBezTo>
                  <a:pt x="5817" y="9842"/>
                  <a:pt x="5938" y="9831"/>
                  <a:pt x="6064" y="9811"/>
                </a:cubicBezTo>
                <a:cubicBezTo>
                  <a:pt x="6107" y="9804"/>
                  <a:pt x="6231" y="9807"/>
                  <a:pt x="6255" y="9842"/>
                </a:cubicBezTo>
                <a:cubicBezTo>
                  <a:pt x="6291" y="9896"/>
                  <a:pt x="6212" y="9965"/>
                  <a:pt x="6191" y="10001"/>
                </a:cubicBezTo>
                <a:cubicBezTo>
                  <a:pt x="6138" y="10089"/>
                  <a:pt x="6079" y="10161"/>
                  <a:pt x="6032" y="10255"/>
                </a:cubicBezTo>
                <a:cubicBezTo>
                  <a:pt x="5991" y="10339"/>
                  <a:pt x="5957" y="10421"/>
                  <a:pt x="5937" y="10509"/>
                </a:cubicBezTo>
                <a:cubicBezTo>
                  <a:pt x="5925" y="10562"/>
                  <a:pt x="5911" y="10619"/>
                  <a:pt x="5906" y="10668"/>
                </a:cubicBezTo>
                <a:cubicBezTo>
                  <a:pt x="5906" y="10704"/>
                  <a:pt x="5903" y="10718"/>
                  <a:pt x="5874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1"/>
          <p:cNvSpPr/>
          <p:nvPr/>
        </p:nvSpPr>
        <p:spPr>
          <a:xfrm>
            <a:off x="4022640" y="3807000"/>
            <a:ext cx="309600" cy="68040"/>
          </a:xfrm>
          <a:custGeom>
            <a:avLst/>
            <a:gdLst/>
            <a:ahLst/>
            <a:rect l="l" t="t" r="r" b="b"/>
            <a:pathLst>
              <a:path w="858" h="191">
                <a:moveTo>
                  <a:pt x="11176" y="10732"/>
                </a:moveTo>
                <a:cubicBezTo>
                  <a:pt x="11225" y="10695"/>
                  <a:pt x="11241" y="10700"/>
                  <a:pt x="11303" y="10700"/>
                </a:cubicBezTo>
                <a:cubicBezTo>
                  <a:pt x="11458" y="10700"/>
                  <a:pt x="11602" y="10707"/>
                  <a:pt x="11748" y="10732"/>
                </a:cubicBezTo>
                <a:cubicBezTo>
                  <a:pt x="11820" y="10744"/>
                  <a:pt x="11900" y="10756"/>
                  <a:pt x="11970" y="10763"/>
                </a:cubicBezTo>
                <a:cubicBezTo>
                  <a:pt x="12002" y="10763"/>
                  <a:pt x="12012" y="10763"/>
                  <a:pt x="12033" y="10763"/>
                </a:cubicBezTo>
                <a:cubicBezTo>
                  <a:pt x="11997" y="10751"/>
                  <a:pt x="11958" y="10711"/>
                  <a:pt x="11906" y="10700"/>
                </a:cubicBezTo>
                <a:cubicBezTo>
                  <a:pt x="11822" y="10683"/>
                  <a:pt x="11735" y="10650"/>
                  <a:pt x="11652" y="10636"/>
                </a:cubicBezTo>
                <a:cubicBezTo>
                  <a:pt x="11555" y="10620"/>
                  <a:pt x="11466" y="10604"/>
                  <a:pt x="11366" y="10604"/>
                </a:cubicBezTo>
                <a:cubicBezTo>
                  <a:pt x="11283" y="10604"/>
                  <a:pt x="11281" y="10584"/>
                  <a:pt x="11240" y="10604"/>
                </a:cubicBezTo>
                <a:cubicBezTo>
                  <a:pt x="11175" y="10636"/>
                  <a:pt x="11263" y="10636"/>
                  <a:pt x="11303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2"/>
          <p:cNvSpPr/>
          <p:nvPr/>
        </p:nvSpPr>
        <p:spPr>
          <a:xfrm>
            <a:off x="2857680" y="5280120"/>
            <a:ext cx="2720880" cy="892080"/>
          </a:xfrm>
          <a:custGeom>
            <a:avLst/>
            <a:gdLst/>
            <a:ahLst/>
            <a:rect l="l" t="t" r="r" b="b"/>
            <a:pathLst>
              <a:path w="7557" h="2478">
                <a:moveTo>
                  <a:pt x="10954" y="14668"/>
                </a:moveTo>
                <a:cubicBezTo>
                  <a:pt x="10989" y="14772"/>
                  <a:pt x="11045" y="14881"/>
                  <a:pt x="11081" y="14986"/>
                </a:cubicBezTo>
                <a:cubicBezTo>
                  <a:pt x="11142" y="15166"/>
                  <a:pt x="11140" y="15400"/>
                  <a:pt x="11144" y="15589"/>
                </a:cubicBezTo>
                <a:cubicBezTo>
                  <a:pt x="11149" y="15811"/>
                  <a:pt x="11095" y="15998"/>
                  <a:pt x="10986" y="16192"/>
                </a:cubicBezTo>
                <a:cubicBezTo>
                  <a:pt x="10931" y="16290"/>
                  <a:pt x="10843" y="16467"/>
                  <a:pt x="10763" y="16542"/>
                </a:cubicBezTo>
                <a:cubicBezTo>
                  <a:pt x="10742" y="16553"/>
                  <a:pt x="10721" y="16563"/>
                  <a:pt x="10700" y="16574"/>
                </a:cubicBezTo>
              </a:path>
              <a:path w="7557" h="2478">
                <a:moveTo>
                  <a:pt x="11874" y="14922"/>
                </a:moveTo>
                <a:cubicBezTo>
                  <a:pt x="11815" y="15028"/>
                  <a:pt x="11748" y="15134"/>
                  <a:pt x="11684" y="15240"/>
                </a:cubicBezTo>
                <a:cubicBezTo>
                  <a:pt x="11582" y="15409"/>
                  <a:pt x="11482" y="15577"/>
                  <a:pt x="11462" y="15780"/>
                </a:cubicBezTo>
                <a:cubicBezTo>
                  <a:pt x="11436" y="16042"/>
                  <a:pt x="11482" y="16263"/>
                  <a:pt x="11557" y="16510"/>
                </a:cubicBezTo>
              </a:path>
              <a:path w="7557" h="2478">
                <a:moveTo>
                  <a:pt x="15272" y="15304"/>
                </a:moveTo>
                <a:cubicBezTo>
                  <a:pt x="15325" y="15366"/>
                  <a:pt x="15369" y="15395"/>
                  <a:pt x="15399" y="15494"/>
                </a:cubicBezTo>
                <a:cubicBezTo>
                  <a:pt x="15458" y="15687"/>
                  <a:pt x="15481" y="15897"/>
                  <a:pt x="15494" y="16097"/>
                </a:cubicBezTo>
                <a:cubicBezTo>
                  <a:pt x="15508" y="16322"/>
                  <a:pt x="15440" y="16586"/>
                  <a:pt x="15367" y="16796"/>
                </a:cubicBezTo>
                <a:cubicBezTo>
                  <a:pt x="15317" y="16940"/>
                  <a:pt x="15213" y="17037"/>
                  <a:pt x="15113" y="17145"/>
                </a:cubicBezTo>
              </a:path>
              <a:path w="7557" h="2478">
                <a:moveTo>
                  <a:pt x="9176" y="15145"/>
                </a:moveTo>
                <a:cubicBezTo>
                  <a:pt x="9219" y="15173"/>
                  <a:pt x="9208" y="15207"/>
                  <a:pt x="9208" y="15272"/>
                </a:cubicBezTo>
                <a:cubicBezTo>
                  <a:pt x="9208" y="15363"/>
                  <a:pt x="9239" y="15458"/>
                  <a:pt x="9239" y="15558"/>
                </a:cubicBezTo>
                <a:cubicBezTo>
                  <a:pt x="9239" y="15691"/>
                  <a:pt x="9285" y="15809"/>
                  <a:pt x="9303" y="15938"/>
                </a:cubicBezTo>
                <a:cubicBezTo>
                  <a:pt x="9303" y="16004"/>
                  <a:pt x="9304" y="16028"/>
                  <a:pt x="9334" y="16066"/>
                </a:cubicBezTo>
              </a:path>
              <a:path w="7557" h="2478">
                <a:moveTo>
                  <a:pt x="9493" y="15558"/>
                </a:moveTo>
                <a:cubicBezTo>
                  <a:pt x="9423" y="15558"/>
                  <a:pt x="9374" y="15586"/>
                  <a:pt x="9303" y="15589"/>
                </a:cubicBezTo>
                <a:cubicBezTo>
                  <a:pt x="9145" y="15596"/>
                  <a:pt x="9061" y="15655"/>
                  <a:pt x="8922" y="15716"/>
                </a:cubicBezTo>
                <a:cubicBezTo>
                  <a:pt x="8830" y="15747"/>
                  <a:pt x="8800" y="15755"/>
                  <a:pt x="8763" y="15812"/>
                </a:cubicBezTo>
              </a:path>
              <a:path w="7557" h="2478">
                <a:moveTo>
                  <a:pt x="12954" y="15938"/>
                </a:moveTo>
                <a:cubicBezTo>
                  <a:pt x="13160" y="15938"/>
                  <a:pt x="13357" y="15948"/>
                  <a:pt x="13557" y="15970"/>
                </a:cubicBezTo>
                <a:cubicBezTo>
                  <a:pt x="13639" y="15979"/>
                  <a:pt x="13700" y="15992"/>
                  <a:pt x="13780" y="16002"/>
                </a:cubicBezTo>
              </a:path>
              <a:path w="7557" h="2478">
                <a:moveTo>
                  <a:pt x="8064" y="15304"/>
                </a:moveTo>
                <a:cubicBezTo>
                  <a:pt x="8064" y="15399"/>
                  <a:pt x="8046" y="15466"/>
                  <a:pt x="8033" y="15558"/>
                </a:cubicBezTo>
                <a:cubicBezTo>
                  <a:pt x="8019" y="15656"/>
                  <a:pt x="7985" y="15750"/>
                  <a:pt x="7969" y="15843"/>
                </a:cubicBezTo>
                <a:cubicBezTo>
                  <a:pt x="7960" y="15899"/>
                  <a:pt x="7949" y="15947"/>
                  <a:pt x="7938" y="16002"/>
                </a:cubicBezTo>
                <a:cubicBezTo>
                  <a:pt x="7938" y="15941"/>
                  <a:pt x="7962" y="15888"/>
                  <a:pt x="7969" y="15843"/>
                </a:cubicBezTo>
                <a:cubicBezTo>
                  <a:pt x="7986" y="15727"/>
                  <a:pt x="8016" y="15638"/>
                  <a:pt x="8064" y="15526"/>
                </a:cubicBezTo>
                <a:cubicBezTo>
                  <a:pt x="8089" y="15467"/>
                  <a:pt x="8129" y="15381"/>
                  <a:pt x="8160" y="15335"/>
                </a:cubicBezTo>
                <a:cubicBezTo>
                  <a:pt x="8171" y="15325"/>
                  <a:pt x="8181" y="15314"/>
                  <a:pt x="8192" y="15304"/>
                </a:cubicBezTo>
                <a:cubicBezTo>
                  <a:pt x="8192" y="15382"/>
                  <a:pt x="8219" y="15407"/>
                  <a:pt x="8223" y="15494"/>
                </a:cubicBezTo>
                <a:cubicBezTo>
                  <a:pt x="8229" y="15610"/>
                  <a:pt x="8223" y="15727"/>
                  <a:pt x="8223" y="15843"/>
                </a:cubicBezTo>
                <a:cubicBezTo>
                  <a:pt x="8193" y="15936"/>
                  <a:pt x="8206" y="15823"/>
                  <a:pt x="8223" y="15780"/>
                </a:cubicBezTo>
                <a:cubicBezTo>
                  <a:pt x="8265" y="15675"/>
                  <a:pt x="8305" y="15566"/>
                  <a:pt x="8350" y="15462"/>
                </a:cubicBezTo>
                <a:cubicBezTo>
                  <a:pt x="8366" y="15426"/>
                  <a:pt x="8421" y="15289"/>
                  <a:pt x="8446" y="15272"/>
                </a:cubicBezTo>
                <a:cubicBezTo>
                  <a:pt x="8456" y="15272"/>
                  <a:pt x="8467" y="15272"/>
                  <a:pt x="8477" y="15272"/>
                </a:cubicBezTo>
                <a:cubicBezTo>
                  <a:pt x="8477" y="15374"/>
                  <a:pt x="8457" y="15460"/>
                  <a:pt x="8446" y="15558"/>
                </a:cubicBezTo>
                <a:cubicBezTo>
                  <a:pt x="8429" y="15719"/>
                  <a:pt x="8459" y="15883"/>
                  <a:pt x="8477" y="16034"/>
                </a:cubicBezTo>
                <a:cubicBezTo>
                  <a:pt x="8477" y="16112"/>
                  <a:pt x="8465" y="16132"/>
                  <a:pt x="8509" y="16161"/>
                </a:cubicBezTo>
              </a:path>
              <a:path w="7557" h="2478">
                <a:moveTo>
                  <a:pt x="11779" y="15526"/>
                </a:moveTo>
                <a:cubicBezTo>
                  <a:pt x="11857" y="15545"/>
                  <a:pt x="11843" y="15575"/>
                  <a:pt x="11843" y="15653"/>
                </a:cubicBezTo>
                <a:cubicBezTo>
                  <a:pt x="11843" y="15774"/>
                  <a:pt x="11803" y="15830"/>
                  <a:pt x="11779" y="15938"/>
                </a:cubicBezTo>
                <a:cubicBezTo>
                  <a:pt x="11773" y="15964"/>
                  <a:pt x="11715" y="16158"/>
                  <a:pt x="11716" y="16161"/>
                </a:cubicBezTo>
                <a:cubicBezTo>
                  <a:pt x="11728" y="16191"/>
                  <a:pt x="11778" y="16071"/>
                  <a:pt x="11779" y="16066"/>
                </a:cubicBezTo>
                <a:cubicBezTo>
                  <a:pt x="11805" y="15942"/>
                  <a:pt x="11857" y="15865"/>
                  <a:pt x="11906" y="15748"/>
                </a:cubicBezTo>
                <a:cubicBezTo>
                  <a:pt x="11936" y="15677"/>
                  <a:pt x="11964" y="15584"/>
                  <a:pt x="12002" y="15526"/>
                </a:cubicBezTo>
                <a:cubicBezTo>
                  <a:pt x="12012" y="15515"/>
                  <a:pt x="12023" y="15505"/>
                  <a:pt x="12033" y="15494"/>
                </a:cubicBezTo>
                <a:cubicBezTo>
                  <a:pt x="12050" y="15579"/>
                  <a:pt x="12083" y="15653"/>
                  <a:pt x="12065" y="15748"/>
                </a:cubicBezTo>
                <a:cubicBezTo>
                  <a:pt x="12044" y="15855"/>
                  <a:pt x="12024" y="15962"/>
                  <a:pt x="12002" y="16066"/>
                </a:cubicBezTo>
                <a:cubicBezTo>
                  <a:pt x="12002" y="16097"/>
                  <a:pt x="12002" y="16108"/>
                  <a:pt x="12002" y="16129"/>
                </a:cubicBezTo>
                <a:cubicBezTo>
                  <a:pt x="12017" y="16050"/>
                  <a:pt x="12061" y="15981"/>
                  <a:pt x="12097" y="15907"/>
                </a:cubicBezTo>
                <a:cubicBezTo>
                  <a:pt x="12145" y="15809"/>
                  <a:pt x="12228" y="15742"/>
                  <a:pt x="12287" y="15653"/>
                </a:cubicBezTo>
                <a:cubicBezTo>
                  <a:pt x="12325" y="15595"/>
                  <a:pt x="12314" y="15575"/>
                  <a:pt x="12351" y="15526"/>
                </a:cubicBezTo>
                <a:cubicBezTo>
                  <a:pt x="12409" y="15546"/>
                  <a:pt x="12382" y="15648"/>
                  <a:pt x="12382" y="15716"/>
                </a:cubicBezTo>
                <a:cubicBezTo>
                  <a:pt x="12382" y="15908"/>
                  <a:pt x="12392" y="16070"/>
                  <a:pt x="12446" y="16256"/>
                </a:cubicBezTo>
                <a:cubicBezTo>
                  <a:pt x="12484" y="16386"/>
                  <a:pt x="12510" y="16492"/>
                  <a:pt x="12605" y="16574"/>
                </a:cubicBezTo>
              </a:path>
              <a:path w="7557" h="2478">
                <a:moveTo>
                  <a:pt x="9779" y="15018"/>
                </a:moveTo>
                <a:cubicBezTo>
                  <a:pt x="9844" y="15018"/>
                  <a:pt x="9847" y="15037"/>
                  <a:pt x="9874" y="15050"/>
                </a:cubicBezTo>
                <a:cubicBezTo>
                  <a:pt x="9913" y="15069"/>
                  <a:pt x="10063" y="15075"/>
                  <a:pt x="10096" y="15081"/>
                </a:cubicBezTo>
                <a:cubicBezTo>
                  <a:pt x="10173" y="15096"/>
                  <a:pt x="10243" y="15095"/>
                  <a:pt x="10319" y="15113"/>
                </a:cubicBezTo>
                <a:cubicBezTo>
                  <a:pt x="10377" y="15127"/>
                  <a:pt x="10449" y="15113"/>
                  <a:pt x="10509" y="15113"/>
                </a:cubicBezTo>
                <a:cubicBezTo>
                  <a:pt x="10458" y="15178"/>
                  <a:pt x="10449" y="15239"/>
                  <a:pt x="10414" y="15304"/>
                </a:cubicBezTo>
                <a:cubicBezTo>
                  <a:pt x="10355" y="15413"/>
                  <a:pt x="10326" y="15536"/>
                  <a:pt x="10287" y="15653"/>
                </a:cubicBezTo>
                <a:cubicBezTo>
                  <a:pt x="10227" y="15831"/>
                  <a:pt x="10188" y="16014"/>
                  <a:pt x="10128" y="16192"/>
                </a:cubicBezTo>
                <a:cubicBezTo>
                  <a:pt x="10100" y="16276"/>
                  <a:pt x="10089" y="16295"/>
                  <a:pt x="10096" y="16351"/>
                </a:cubicBezTo>
              </a:path>
              <a:path w="7557" h="2478">
                <a:moveTo>
                  <a:pt x="14319" y="15430"/>
                </a:moveTo>
                <a:cubicBezTo>
                  <a:pt x="14377" y="15444"/>
                  <a:pt x="14409" y="15462"/>
                  <a:pt x="14478" y="15462"/>
                </a:cubicBezTo>
                <a:cubicBezTo>
                  <a:pt x="14596" y="15462"/>
                  <a:pt x="14696" y="15460"/>
                  <a:pt x="14796" y="15494"/>
                </a:cubicBezTo>
                <a:cubicBezTo>
                  <a:pt x="14848" y="15512"/>
                  <a:pt x="14834" y="15546"/>
                  <a:pt x="14796" y="15589"/>
                </a:cubicBezTo>
                <a:cubicBezTo>
                  <a:pt x="14733" y="15660"/>
                  <a:pt x="14704" y="15742"/>
                  <a:pt x="14637" y="15812"/>
                </a:cubicBezTo>
                <a:cubicBezTo>
                  <a:pt x="14525" y="15930"/>
                  <a:pt x="14440" y="16036"/>
                  <a:pt x="14351" y="16161"/>
                </a:cubicBezTo>
                <a:cubicBezTo>
                  <a:pt x="14284" y="16255"/>
                  <a:pt x="14209" y="16498"/>
                  <a:pt x="14129" y="16415"/>
                </a:cubicBezTo>
                <a:cubicBezTo>
                  <a:pt x="14108" y="16394"/>
                  <a:pt x="14211" y="16354"/>
                  <a:pt x="14224" y="16351"/>
                </a:cubicBezTo>
                <a:cubicBezTo>
                  <a:pt x="14347" y="16325"/>
                  <a:pt x="14491" y="16354"/>
                  <a:pt x="14605" y="16383"/>
                </a:cubicBezTo>
                <a:cubicBezTo>
                  <a:pt x="14655" y="16396"/>
                  <a:pt x="14688" y="16370"/>
                  <a:pt x="14732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3"/>
          <p:cNvSpPr/>
          <p:nvPr/>
        </p:nvSpPr>
        <p:spPr>
          <a:xfrm>
            <a:off x="5086440" y="5565600"/>
            <a:ext cx="241200" cy="446400"/>
          </a:xfrm>
          <a:custGeom>
            <a:avLst/>
            <a:gdLst/>
            <a:ahLst/>
            <a:rect l="l" t="t" r="r" b="b"/>
            <a:pathLst>
              <a:path w="668" h="1239">
                <a:moveTo>
                  <a:pt x="14129" y="15526"/>
                </a:moveTo>
                <a:cubicBezTo>
                  <a:pt x="14351" y="15526"/>
                  <a:pt x="14574" y="15526"/>
                  <a:pt x="14796" y="15526"/>
                </a:cubicBezTo>
                <a:cubicBezTo>
                  <a:pt x="14764" y="15568"/>
                  <a:pt x="14731" y="15606"/>
                  <a:pt x="14700" y="15653"/>
                </a:cubicBezTo>
                <a:cubicBezTo>
                  <a:pt x="14640" y="15745"/>
                  <a:pt x="14580" y="15838"/>
                  <a:pt x="14542" y="15938"/>
                </a:cubicBezTo>
                <a:cubicBezTo>
                  <a:pt x="14492" y="16070"/>
                  <a:pt x="14428" y="16184"/>
                  <a:pt x="14383" y="16320"/>
                </a:cubicBezTo>
                <a:cubicBezTo>
                  <a:pt x="14348" y="16425"/>
                  <a:pt x="14312" y="16533"/>
                  <a:pt x="14288" y="16637"/>
                </a:cubicBezTo>
                <a:cubicBezTo>
                  <a:pt x="14279" y="16675"/>
                  <a:pt x="14274" y="16735"/>
                  <a:pt x="14288" y="16700"/>
                </a:cubicBezTo>
                <a:cubicBezTo>
                  <a:pt x="14288" y="16690"/>
                  <a:pt x="14288" y="16679"/>
                  <a:pt x="14288" y="16669"/>
                </a:cubicBezTo>
                <a:cubicBezTo>
                  <a:pt x="14300" y="16584"/>
                  <a:pt x="14342" y="16528"/>
                  <a:pt x="14383" y="16446"/>
                </a:cubicBezTo>
                <a:cubicBezTo>
                  <a:pt x="14434" y="16343"/>
                  <a:pt x="14465" y="16234"/>
                  <a:pt x="14510" y="16129"/>
                </a:cubicBezTo>
                <a:cubicBezTo>
                  <a:pt x="14552" y="16032"/>
                  <a:pt x="14571" y="15939"/>
                  <a:pt x="14605" y="15843"/>
                </a:cubicBezTo>
                <a:cubicBezTo>
                  <a:pt x="14633" y="15762"/>
                  <a:pt x="14629" y="15688"/>
                  <a:pt x="14668" y="15621"/>
                </a:cubicBezTo>
                <a:cubicBezTo>
                  <a:pt x="14632" y="15682"/>
                  <a:pt x="14609" y="15739"/>
                  <a:pt x="14605" y="15812"/>
                </a:cubicBezTo>
                <a:cubicBezTo>
                  <a:pt x="14600" y="15896"/>
                  <a:pt x="14595" y="16016"/>
                  <a:pt x="14573" y="16097"/>
                </a:cubicBezTo>
                <a:cubicBezTo>
                  <a:pt x="14547" y="16192"/>
                  <a:pt x="14532" y="16288"/>
                  <a:pt x="14510" y="16383"/>
                </a:cubicBezTo>
                <a:cubicBezTo>
                  <a:pt x="14501" y="16422"/>
                  <a:pt x="14497" y="16508"/>
                  <a:pt x="14478" y="16542"/>
                </a:cubicBezTo>
                <a:cubicBezTo>
                  <a:pt x="14449" y="16571"/>
                  <a:pt x="14438" y="16586"/>
                  <a:pt x="14446" y="16542"/>
                </a:cubicBezTo>
                <a:cubicBezTo>
                  <a:pt x="14446" y="16470"/>
                  <a:pt x="14421" y="16499"/>
                  <a:pt x="14414" y="16446"/>
                </a:cubicBezTo>
                <a:cubicBezTo>
                  <a:pt x="14412" y="16431"/>
                  <a:pt x="14437" y="16336"/>
                  <a:pt x="14446" y="16320"/>
                </a:cubicBezTo>
                <a:cubicBezTo>
                  <a:pt x="14482" y="16256"/>
                  <a:pt x="14504" y="16201"/>
                  <a:pt x="14542" y="16129"/>
                </a:cubicBezTo>
                <a:cubicBezTo>
                  <a:pt x="14586" y="16046"/>
                  <a:pt x="14609" y="15992"/>
                  <a:pt x="14637" y="15907"/>
                </a:cubicBezTo>
                <a:cubicBezTo>
                  <a:pt x="14660" y="15835"/>
                  <a:pt x="14712" y="15781"/>
                  <a:pt x="14732" y="15716"/>
                </a:cubicBezTo>
                <a:cubicBezTo>
                  <a:pt x="14742" y="15681"/>
                  <a:pt x="14732" y="15625"/>
                  <a:pt x="14732" y="15589"/>
                </a:cubicBezTo>
                <a:cubicBezTo>
                  <a:pt x="14692" y="15560"/>
                  <a:pt x="14654" y="15531"/>
                  <a:pt x="14605" y="15526"/>
                </a:cubicBezTo>
                <a:cubicBezTo>
                  <a:pt x="14553" y="15520"/>
                  <a:pt x="14537" y="15494"/>
                  <a:pt x="14478" y="15494"/>
                </a:cubicBezTo>
                <a:cubicBezTo>
                  <a:pt x="14399" y="15494"/>
                  <a:pt x="14380" y="15513"/>
                  <a:pt x="14319" y="15526"/>
                </a:cubicBezTo>
                <a:cubicBezTo>
                  <a:pt x="14303" y="15529"/>
                  <a:pt x="14171" y="15545"/>
                  <a:pt x="14160" y="15558"/>
                </a:cubicBezTo>
                <a:cubicBezTo>
                  <a:pt x="14160" y="15589"/>
                  <a:pt x="14160" y="15599"/>
                  <a:pt x="14129" y="15589"/>
                </a:cubicBezTo>
                <a:cubicBezTo>
                  <a:pt x="14156" y="15569"/>
                  <a:pt x="14225" y="15503"/>
                  <a:pt x="14256" y="15494"/>
                </a:cubicBezTo>
                <a:cubicBezTo>
                  <a:pt x="14324" y="15474"/>
                  <a:pt x="14370" y="15462"/>
                  <a:pt x="14446" y="15462"/>
                </a:cubicBezTo>
                <a:cubicBezTo>
                  <a:pt x="14507" y="15462"/>
                  <a:pt x="14586" y="15463"/>
                  <a:pt x="14637" y="15494"/>
                </a:cubicBezTo>
                <a:cubicBezTo>
                  <a:pt x="14676" y="15518"/>
                  <a:pt x="14695" y="15530"/>
                  <a:pt x="14732" y="15558"/>
                </a:cubicBezTo>
                <a:cubicBezTo>
                  <a:pt x="14732" y="15635"/>
                  <a:pt x="14693" y="15642"/>
                  <a:pt x="14668" y="15716"/>
                </a:cubicBezTo>
                <a:cubicBezTo>
                  <a:pt x="14644" y="15788"/>
                  <a:pt x="14610" y="15837"/>
                  <a:pt x="14573" y="15907"/>
                </a:cubicBezTo>
                <a:cubicBezTo>
                  <a:pt x="14524" y="15999"/>
                  <a:pt x="14493" y="16098"/>
                  <a:pt x="14446" y="16192"/>
                </a:cubicBezTo>
                <a:cubicBezTo>
                  <a:pt x="14400" y="16284"/>
                  <a:pt x="14388" y="16392"/>
                  <a:pt x="14351" y="16478"/>
                </a:cubicBezTo>
                <a:cubicBezTo>
                  <a:pt x="14332" y="16522"/>
                  <a:pt x="14341" y="16597"/>
                  <a:pt x="14319" y="16637"/>
                </a:cubicBezTo>
                <a:cubicBezTo>
                  <a:pt x="14309" y="16648"/>
                  <a:pt x="14298" y="16658"/>
                  <a:pt x="14288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4"/>
          <p:cNvSpPr/>
          <p:nvPr/>
        </p:nvSpPr>
        <p:spPr>
          <a:xfrm>
            <a:off x="114480" y="3075120"/>
            <a:ext cx="377640" cy="582480"/>
          </a:xfrm>
          <a:custGeom>
            <a:avLst/>
            <a:gdLst/>
            <a:ahLst/>
            <a:rect l="l" t="t" r="r" b="b"/>
            <a:pathLst>
              <a:path w="1048" h="1620">
                <a:moveTo>
                  <a:pt x="318" y="9906"/>
                </a:moveTo>
                <a:cubicBezTo>
                  <a:pt x="332" y="9931"/>
                  <a:pt x="332" y="9953"/>
                  <a:pt x="349" y="10001"/>
                </a:cubicBezTo>
                <a:cubicBezTo>
                  <a:pt x="366" y="10048"/>
                  <a:pt x="395" y="10083"/>
                  <a:pt x="413" y="10128"/>
                </a:cubicBezTo>
                <a:cubicBezTo>
                  <a:pt x="413" y="10139"/>
                  <a:pt x="413" y="10149"/>
                  <a:pt x="413" y="10160"/>
                </a:cubicBezTo>
                <a:cubicBezTo>
                  <a:pt x="443" y="10122"/>
                  <a:pt x="450" y="10066"/>
                  <a:pt x="476" y="10033"/>
                </a:cubicBezTo>
                <a:cubicBezTo>
                  <a:pt x="566" y="9918"/>
                  <a:pt x="629" y="9786"/>
                  <a:pt x="698" y="9652"/>
                </a:cubicBezTo>
                <a:cubicBezTo>
                  <a:pt x="836" y="9383"/>
                  <a:pt x="990" y="9119"/>
                  <a:pt x="1143" y="8858"/>
                </a:cubicBezTo>
                <a:cubicBezTo>
                  <a:pt x="1241" y="8695"/>
                  <a:pt x="1277" y="8637"/>
                  <a:pt x="1365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5"/>
          <p:cNvSpPr/>
          <p:nvPr/>
        </p:nvSpPr>
        <p:spPr>
          <a:xfrm>
            <a:off x="949320" y="3978360"/>
            <a:ext cx="674640" cy="765000"/>
          </a:xfrm>
          <a:custGeom>
            <a:avLst/>
            <a:gdLst/>
            <a:ahLst/>
            <a:rect l="l" t="t" r="r" b="b"/>
            <a:pathLst>
              <a:path w="1874" h="2128">
                <a:moveTo>
                  <a:pt x="3556" y="11144"/>
                </a:moveTo>
                <a:cubicBezTo>
                  <a:pt x="3556" y="11112"/>
                  <a:pt x="3556" y="11081"/>
                  <a:pt x="3556" y="11049"/>
                </a:cubicBezTo>
                <a:cubicBezTo>
                  <a:pt x="3508" y="11049"/>
                  <a:pt x="3424" y="11029"/>
                  <a:pt x="3397" y="11081"/>
                </a:cubicBezTo>
                <a:cubicBezTo>
                  <a:pt x="3368" y="11137"/>
                  <a:pt x="3339" y="11208"/>
                  <a:pt x="3334" y="11271"/>
                </a:cubicBezTo>
                <a:cubicBezTo>
                  <a:pt x="3328" y="11339"/>
                  <a:pt x="3379" y="11335"/>
                  <a:pt x="3429" y="11335"/>
                </a:cubicBezTo>
                <a:cubicBezTo>
                  <a:pt x="3509" y="11335"/>
                  <a:pt x="3525" y="11311"/>
                  <a:pt x="3556" y="11271"/>
                </a:cubicBezTo>
                <a:cubicBezTo>
                  <a:pt x="3600" y="11214"/>
                  <a:pt x="3605" y="11166"/>
                  <a:pt x="3556" y="11112"/>
                </a:cubicBezTo>
                <a:cubicBezTo>
                  <a:pt x="3514" y="11066"/>
                  <a:pt x="3507" y="11069"/>
                  <a:pt x="3492" y="11112"/>
                </a:cubicBezTo>
              </a:path>
              <a:path w="1874" h="2128">
                <a:moveTo>
                  <a:pt x="3492" y="11303"/>
                </a:moveTo>
                <a:cubicBezTo>
                  <a:pt x="3451" y="11314"/>
                  <a:pt x="3407" y="11352"/>
                  <a:pt x="3397" y="11398"/>
                </a:cubicBezTo>
                <a:cubicBezTo>
                  <a:pt x="3384" y="11458"/>
                  <a:pt x="3366" y="11495"/>
                  <a:pt x="3366" y="11557"/>
                </a:cubicBezTo>
                <a:cubicBezTo>
                  <a:pt x="3366" y="11620"/>
                  <a:pt x="3436" y="11647"/>
                  <a:pt x="3492" y="11620"/>
                </a:cubicBezTo>
                <a:cubicBezTo>
                  <a:pt x="3550" y="11592"/>
                  <a:pt x="3570" y="11566"/>
                  <a:pt x="3588" y="11494"/>
                </a:cubicBezTo>
                <a:cubicBezTo>
                  <a:pt x="3605" y="11426"/>
                  <a:pt x="3573" y="11386"/>
                  <a:pt x="3556" y="11335"/>
                </a:cubicBezTo>
                <a:cubicBezTo>
                  <a:pt x="3556" y="11303"/>
                  <a:pt x="3556" y="11292"/>
                  <a:pt x="3556" y="11271"/>
                </a:cubicBezTo>
              </a:path>
              <a:path w="1874" h="2128">
                <a:moveTo>
                  <a:pt x="3715" y="11144"/>
                </a:moveTo>
                <a:cubicBezTo>
                  <a:pt x="3715" y="11250"/>
                  <a:pt x="3724" y="11331"/>
                  <a:pt x="3746" y="11430"/>
                </a:cubicBezTo>
                <a:cubicBezTo>
                  <a:pt x="3752" y="11456"/>
                  <a:pt x="3746" y="11659"/>
                  <a:pt x="3746" y="11589"/>
                </a:cubicBezTo>
                <a:cubicBezTo>
                  <a:pt x="3746" y="11502"/>
                  <a:pt x="3764" y="11437"/>
                  <a:pt x="3778" y="11366"/>
                </a:cubicBezTo>
                <a:cubicBezTo>
                  <a:pt x="3790" y="11307"/>
                  <a:pt x="3804" y="11239"/>
                  <a:pt x="3874" y="11208"/>
                </a:cubicBezTo>
                <a:cubicBezTo>
                  <a:pt x="3905" y="11208"/>
                  <a:pt x="3916" y="11208"/>
                  <a:pt x="3937" y="11208"/>
                </a:cubicBezTo>
                <a:cubicBezTo>
                  <a:pt x="3937" y="11293"/>
                  <a:pt x="3951" y="11350"/>
                  <a:pt x="3969" y="11430"/>
                </a:cubicBezTo>
                <a:cubicBezTo>
                  <a:pt x="3982" y="11487"/>
                  <a:pt x="3965" y="11552"/>
                  <a:pt x="4032" y="11589"/>
                </a:cubicBezTo>
                <a:cubicBezTo>
                  <a:pt x="4058" y="11604"/>
                  <a:pt x="4097" y="11612"/>
                  <a:pt x="4128" y="11620"/>
                </a:cubicBezTo>
              </a:path>
              <a:path w="1874" h="2128">
                <a:moveTo>
                  <a:pt x="2953" y="11271"/>
                </a:moveTo>
                <a:cubicBezTo>
                  <a:pt x="3016" y="11271"/>
                  <a:pt x="3029" y="11257"/>
                  <a:pt x="3080" y="11240"/>
                </a:cubicBezTo>
                <a:cubicBezTo>
                  <a:pt x="3091" y="11240"/>
                  <a:pt x="3101" y="11240"/>
                  <a:pt x="3112" y="11240"/>
                </a:cubicBezTo>
              </a:path>
              <a:path w="1874" h="2128">
                <a:moveTo>
                  <a:pt x="2953" y="11811"/>
                </a:moveTo>
                <a:cubicBezTo>
                  <a:pt x="2963" y="11811"/>
                  <a:pt x="2974" y="11811"/>
                  <a:pt x="2984" y="11811"/>
                </a:cubicBezTo>
                <a:cubicBezTo>
                  <a:pt x="3000" y="11859"/>
                  <a:pt x="3023" y="11843"/>
                  <a:pt x="3080" y="11843"/>
                </a:cubicBezTo>
                <a:cubicBezTo>
                  <a:pt x="3091" y="11843"/>
                  <a:pt x="3101" y="11843"/>
                  <a:pt x="3112" y="11843"/>
                </a:cubicBezTo>
              </a:path>
              <a:path w="1874" h="2128">
                <a:moveTo>
                  <a:pt x="3334" y="11779"/>
                </a:moveTo>
                <a:cubicBezTo>
                  <a:pt x="3323" y="11779"/>
                  <a:pt x="3313" y="11779"/>
                  <a:pt x="3302" y="11779"/>
                </a:cubicBezTo>
                <a:cubicBezTo>
                  <a:pt x="3352" y="11767"/>
                  <a:pt x="3373" y="11748"/>
                  <a:pt x="3429" y="11748"/>
                </a:cubicBezTo>
                <a:cubicBezTo>
                  <a:pt x="3471" y="11748"/>
                  <a:pt x="3514" y="11748"/>
                  <a:pt x="3556" y="11748"/>
                </a:cubicBezTo>
                <a:cubicBezTo>
                  <a:pt x="3556" y="11829"/>
                  <a:pt x="3546" y="11871"/>
                  <a:pt x="3524" y="11938"/>
                </a:cubicBezTo>
                <a:cubicBezTo>
                  <a:pt x="3510" y="11980"/>
                  <a:pt x="3505" y="12027"/>
                  <a:pt x="3492" y="12065"/>
                </a:cubicBezTo>
                <a:cubicBezTo>
                  <a:pt x="3484" y="12089"/>
                  <a:pt x="3492" y="12135"/>
                  <a:pt x="3492" y="12160"/>
                </a:cubicBezTo>
              </a:path>
              <a:path w="1874" h="2128">
                <a:moveTo>
                  <a:pt x="3715" y="11874"/>
                </a:moveTo>
                <a:cubicBezTo>
                  <a:pt x="3715" y="11953"/>
                  <a:pt x="3702" y="11990"/>
                  <a:pt x="3683" y="12065"/>
                </a:cubicBezTo>
                <a:cubicBezTo>
                  <a:pt x="3674" y="12102"/>
                  <a:pt x="3683" y="12154"/>
                  <a:pt x="3683" y="12192"/>
                </a:cubicBezTo>
                <a:cubicBezTo>
                  <a:pt x="3683" y="12126"/>
                  <a:pt x="3693" y="12086"/>
                  <a:pt x="3715" y="12033"/>
                </a:cubicBezTo>
                <a:cubicBezTo>
                  <a:pt x="3746" y="11959"/>
                  <a:pt x="3782" y="11948"/>
                  <a:pt x="3810" y="11906"/>
                </a:cubicBezTo>
                <a:cubicBezTo>
                  <a:pt x="3833" y="11871"/>
                  <a:pt x="3847" y="11857"/>
                  <a:pt x="3905" y="11843"/>
                </a:cubicBezTo>
                <a:cubicBezTo>
                  <a:pt x="3920" y="11900"/>
                  <a:pt x="3937" y="11933"/>
                  <a:pt x="3937" y="12002"/>
                </a:cubicBezTo>
                <a:cubicBezTo>
                  <a:pt x="3937" y="12061"/>
                  <a:pt x="3940" y="12116"/>
                  <a:pt x="3969" y="12160"/>
                </a:cubicBezTo>
                <a:cubicBezTo>
                  <a:pt x="3994" y="12198"/>
                  <a:pt x="4057" y="12243"/>
                  <a:pt x="4096" y="12256"/>
                </a:cubicBezTo>
                <a:cubicBezTo>
                  <a:pt x="4145" y="12272"/>
                  <a:pt x="4220" y="12218"/>
                  <a:pt x="4254" y="12192"/>
                </a:cubicBezTo>
              </a:path>
              <a:path w="1874" h="2128">
                <a:moveTo>
                  <a:pt x="2635" y="12287"/>
                </a:moveTo>
                <a:cubicBezTo>
                  <a:pt x="2683" y="12303"/>
                  <a:pt x="2662" y="12319"/>
                  <a:pt x="2730" y="12319"/>
                </a:cubicBezTo>
                <a:cubicBezTo>
                  <a:pt x="2813" y="12319"/>
                  <a:pt x="2872" y="12291"/>
                  <a:pt x="2953" y="12287"/>
                </a:cubicBezTo>
                <a:cubicBezTo>
                  <a:pt x="3094" y="12281"/>
                  <a:pt x="3228" y="12237"/>
                  <a:pt x="3366" y="12224"/>
                </a:cubicBezTo>
                <a:cubicBezTo>
                  <a:pt x="3541" y="12208"/>
                  <a:pt x="3704" y="12242"/>
                  <a:pt x="3874" y="12256"/>
                </a:cubicBezTo>
                <a:cubicBezTo>
                  <a:pt x="4014" y="12268"/>
                  <a:pt x="4149" y="12313"/>
                  <a:pt x="4286" y="12319"/>
                </a:cubicBezTo>
                <a:cubicBezTo>
                  <a:pt x="4360" y="12322"/>
                  <a:pt x="4434" y="12319"/>
                  <a:pt x="4508" y="12319"/>
                </a:cubicBezTo>
              </a:path>
              <a:path w="1874" h="2128">
                <a:moveTo>
                  <a:pt x="2858" y="12541"/>
                </a:moveTo>
                <a:cubicBezTo>
                  <a:pt x="2974" y="12541"/>
                  <a:pt x="3091" y="12541"/>
                  <a:pt x="3207" y="12541"/>
                </a:cubicBezTo>
              </a:path>
              <a:path w="1874" h="2128">
                <a:moveTo>
                  <a:pt x="3366" y="12382"/>
                </a:moveTo>
                <a:cubicBezTo>
                  <a:pt x="3366" y="12452"/>
                  <a:pt x="3351" y="12473"/>
                  <a:pt x="3334" y="12541"/>
                </a:cubicBezTo>
                <a:cubicBezTo>
                  <a:pt x="3316" y="12613"/>
                  <a:pt x="3282" y="12692"/>
                  <a:pt x="3270" y="12764"/>
                </a:cubicBezTo>
                <a:cubicBezTo>
                  <a:pt x="3255" y="12856"/>
                  <a:pt x="3276" y="12964"/>
                  <a:pt x="3238" y="13049"/>
                </a:cubicBezTo>
                <a:cubicBezTo>
                  <a:pt x="3217" y="13096"/>
                  <a:pt x="3202" y="13131"/>
                  <a:pt x="3175" y="13176"/>
                </a:cubicBezTo>
              </a:path>
              <a:path w="1874" h="2128">
                <a:moveTo>
                  <a:pt x="3746" y="12414"/>
                </a:moveTo>
                <a:cubicBezTo>
                  <a:pt x="3732" y="12458"/>
                  <a:pt x="3682" y="12472"/>
                  <a:pt x="3620" y="12478"/>
                </a:cubicBezTo>
                <a:cubicBezTo>
                  <a:pt x="3558" y="12484"/>
                  <a:pt x="3492" y="12478"/>
                  <a:pt x="3429" y="12478"/>
                </a:cubicBezTo>
                <a:cubicBezTo>
                  <a:pt x="3429" y="12543"/>
                  <a:pt x="3415" y="12553"/>
                  <a:pt x="3397" y="12605"/>
                </a:cubicBezTo>
                <a:cubicBezTo>
                  <a:pt x="3385" y="12640"/>
                  <a:pt x="3375" y="12664"/>
                  <a:pt x="3366" y="12700"/>
                </a:cubicBezTo>
                <a:cubicBezTo>
                  <a:pt x="3428" y="12684"/>
                  <a:pt x="3465" y="12624"/>
                  <a:pt x="3524" y="12605"/>
                </a:cubicBezTo>
                <a:cubicBezTo>
                  <a:pt x="3572" y="12589"/>
                  <a:pt x="3618" y="12607"/>
                  <a:pt x="3651" y="12636"/>
                </a:cubicBezTo>
                <a:cubicBezTo>
                  <a:pt x="3691" y="12671"/>
                  <a:pt x="3696" y="12720"/>
                  <a:pt x="3715" y="12764"/>
                </a:cubicBezTo>
                <a:cubicBezTo>
                  <a:pt x="3742" y="12829"/>
                  <a:pt x="3773" y="12946"/>
                  <a:pt x="3746" y="13018"/>
                </a:cubicBezTo>
                <a:cubicBezTo>
                  <a:pt x="3730" y="13062"/>
                  <a:pt x="3701" y="13109"/>
                  <a:pt x="3651" y="13113"/>
                </a:cubicBezTo>
                <a:cubicBezTo>
                  <a:pt x="3567" y="13119"/>
                  <a:pt x="3557" y="13071"/>
                  <a:pt x="3492" y="13049"/>
                </a:cubicBezTo>
                <a:cubicBezTo>
                  <a:pt x="3452" y="13035"/>
                  <a:pt x="3442" y="13005"/>
                  <a:pt x="3429" y="12954"/>
                </a:cubicBezTo>
              </a:path>
              <a:path w="1874" h="2128">
                <a:moveTo>
                  <a:pt x="3810" y="12573"/>
                </a:moveTo>
                <a:cubicBezTo>
                  <a:pt x="3826" y="12638"/>
                  <a:pt x="3842" y="12654"/>
                  <a:pt x="3842" y="12732"/>
                </a:cubicBezTo>
                <a:cubicBezTo>
                  <a:pt x="3842" y="12775"/>
                  <a:pt x="3826" y="12913"/>
                  <a:pt x="3810" y="12954"/>
                </a:cubicBezTo>
                <a:cubicBezTo>
                  <a:pt x="3788" y="13012"/>
                  <a:pt x="3790" y="13157"/>
                  <a:pt x="3746" y="13113"/>
                </a:cubicBezTo>
                <a:cubicBezTo>
                  <a:pt x="3726" y="13093"/>
                  <a:pt x="3771" y="12937"/>
                  <a:pt x="3778" y="12922"/>
                </a:cubicBezTo>
                <a:cubicBezTo>
                  <a:pt x="3805" y="12863"/>
                  <a:pt x="3837" y="12779"/>
                  <a:pt x="3874" y="12732"/>
                </a:cubicBezTo>
                <a:cubicBezTo>
                  <a:pt x="3915" y="12680"/>
                  <a:pt x="3937" y="12668"/>
                  <a:pt x="4000" y="12668"/>
                </a:cubicBezTo>
                <a:cubicBezTo>
                  <a:pt x="4000" y="12794"/>
                  <a:pt x="3976" y="12945"/>
                  <a:pt x="4032" y="13049"/>
                </a:cubicBezTo>
                <a:cubicBezTo>
                  <a:pt x="4076" y="13132"/>
                  <a:pt x="4133" y="13171"/>
                  <a:pt x="4223" y="13176"/>
                </a:cubicBezTo>
                <a:cubicBezTo>
                  <a:pt x="4280" y="13176"/>
                  <a:pt x="4297" y="13180"/>
                  <a:pt x="4318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6"/>
          <p:cNvSpPr/>
          <p:nvPr/>
        </p:nvSpPr>
        <p:spPr>
          <a:xfrm>
            <a:off x="2766960" y="5361120"/>
            <a:ext cx="136440" cy="536400"/>
          </a:xfrm>
          <a:custGeom>
            <a:avLst/>
            <a:gdLst/>
            <a:ahLst/>
            <a:rect l="l" t="t" r="r" b="b"/>
            <a:pathLst>
              <a:path w="381" h="1493">
                <a:moveTo>
                  <a:pt x="8064" y="14922"/>
                </a:moveTo>
                <a:cubicBezTo>
                  <a:pt x="8023" y="14891"/>
                  <a:pt x="7978" y="14864"/>
                  <a:pt x="7938" y="14922"/>
                </a:cubicBezTo>
                <a:cubicBezTo>
                  <a:pt x="7832" y="15075"/>
                  <a:pt x="7794" y="15144"/>
                  <a:pt x="7747" y="15335"/>
                </a:cubicBezTo>
                <a:cubicBezTo>
                  <a:pt x="7684" y="15591"/>
                  <a:pt x="7675" y="15805"/>
                  <a:pt x="7715" y="16066"/>
                </a:cubicBezTo>
                <a:cubicBezTo>
                  <a:pt x="7748" y="16227"/>
                  <a:pt x="7760" y="16283"/>
                  <a:pt x="7810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7"/>
          <p:cNvSpPr/>
          <p:nvPr/>
        </p:nvSpPr>
        <p:spPr>
          <a:xfrm>
            <a:off x="3714840" y="6137280"/>
            <a:ext cx="995400" cy="674640"/>
          </a:xfrm>
          <a:custGeom>
            <a:avLst/>
            <a:gdLst/>
            <a:ahLst/>
            <a:rect l="l" t="t" r="r" b="b"/>
            <a:pathLst>
              <a:path w="2763" h="1874">
                <a:moveTo>
                  <a:pt x="10636" y="17272"/>
                </a:moveTo>
                <a:lnTo>
                  <a:pt x="10636" y="17272"/>
                </a:lnTo>
              </a:path>
              <a:path w="2763" h="1874">
                <a:moveTo>
                  <a:pt x="10636" y="17272"/>
                </a:moveTo>
                <a:lnTo>
                  <a:pt x="10636" y="17272"/>
                </a:lnTo>
              </a:path>
              <a:path w="2763" h="1874">
                <a:moveTo>
                  <a:pt x="10636" y="17272"/>
                </a:moveTo>
                <a:cubicBezTo>
                  <a:pt x="10647" y="17261"/>
                  <a:pt x="10657" y="17251"/>
                  <a:pt x="10668" y="17240"/>
                </a:cubicBezTo>
              </a:path>
              <a:path w="2763" h="1874">
                <a:moveTo>
                  <a:pt x="10668" y="17240"/>
                </a:moveTo>
                <a:cubicBezTo>
                  <a:pt x="10685" y="17217"/>
                  <a:pt x="10719" y="17122"/>
                  <a:pt x="10732" y="17113"/>
                </a:cubicBezTo>
                <a:cubicBezTo>
                  <a:pt x="10761" y="17093"/>
                  <a:pt x="10794" y="17083"/>
                  <a:pt x="10827" y="17050"/>
                </a:cubicBezTo>
                <a:cubicBezTo>
                  <a:pt x="10878" y="17068"/>
                  <a:pt x="10884" y="17077"/>
                  <a:pt x="10890" y="17145"/>
                </a:cubicBezTo>
                <a:cubicBezTo>
                  <a:pt x="10896" y="17211"/>
                  <a:pt x="10858" y="17291"/>
                  <a:pt x="10858" y="17367"/>
                </a:cubicBezTo>
                <a:cubicBezTo>
                  <a:pt x="10858" y="17396"/>
                  <a:pt x="10843" y="17574"/>
                  <a:pt x="10827" y="17590"/>
                </a:cubicBezTo>
                <a:cubicBezTo>
                  <a:pt x="10797" y="17620"/>
                  <a:pt x="10820" y="17577"/>
                  <a:pt x="10858" y="17558"/>
                </a:cubicBezTo>
                <a:cubicBezTo>
                  <a:pt x="10907" y="17533"/>
                  <a:pt x="10976" y="17559"/>
                  <a:pt x="10986" y="17590"/>
                </a:cubicBezTo>
              </a:path>
              <a:path w="2763" h="1874">
                <a:moveTo>
                  <a:pt x="11049" y="17177"/>
                </a:moveTo>
                <a:cubicBezTo>
                  <a:pt x="11049" y="17257"/>
                  <a:pt x="11075" y="17292"/>
                  <a:pt x="11081" y="17367"/>
                </a:cubicBezTo>
                <a:cubicBezTo>
                  <a:pt x="11085" y="17413"/>
                  <a:pt x="11080" y="17528"/>
                  <a:pt x="11112" y="17494"/>
                </a:cubicBezTo>
                <a:cubicBezTo>
                  <a:pt x="11140" y="17465"/>
                  <a:pt x="11130" y="17205"/>
                  <a:pt x="11144" y="17177"/>
                </a:cubicBezTo>
                <a:cubicBezTo>
                  <a:pt x="11144" y="17145"/>
                  <a:pt x="11144" y="17134"/>
                  <a:pt x="11176" y="17145"/>
                </a:cubicBezTo>
                <a:cubicBezTo>
                  <a:pt x="11186" y="17176"/>
                  <a:pt x="11217" y="17204"/>
                  <a:pt x="11240" y="17240"/>
                </a:cubicBezTo>
                <a:cubicBezTo>
                  <a:pt x="11286" y="17310"/>
                  <a:pt x="11241" y="17360"/>
                  <a:pt x="11271" y="17431"/>
                </a:cubicBezTo>
                <a:cubicBezTo>
                  <a:pt x="11298" y="17494"/>
                  <a:pt x="11311" y="17501"/>
                  <a:pt x="11335" y="17431"/>
                </a:cubicBezTo>
                <a:cubicBezTo>
                  <a:pt x="11349" y="17391"/>
                  <a:pt x="11356" y="17313"/>
                  <a:pt x="11366" y="17272"/>
                </a:cubicBezTo>
                <a:cubicBezTo>
                  <a:pt x="11379" y="17219"/>
                  <a:pt x="11403" y="17183"/>
                  <a:pt x="11462" y="17177"/>
                </a:cubicBezTo>
                <a:cubicBezTo>
                  <a:pt x="11533" y="17169"/>
                  <a:pt x="11546" y="17251"/>
                  <a:pt x="11557" y="17304"/>
                </a:cubicBezTo>
              </a:path>
              <a:path w="2763" h="1874">
                <a:moveTo>
                  <a:pt x="10319" y="18129"/>
                </a:moveTo>
                <a:cubicBezTo>
                  <a:pt x="10356" y="18120"/>
                  <a:pt x="10376" y="18107"/>
                  <a:pt x="10414" y="18098"/>
                </a:cubicBezTo>
              </a:path>
              <a:path w="2763" h="1874">
                <a:moveTo>
                  <a:pt x="10604" y="17970"/>
                </a:moveTo>
                <a:cubicBezTo>
                  <a:pt x="10636" y="17970"/>
                  <a:pt x="10647" y="17970"/>
                  <a:pt x="10668" y="17970"/>
                </a:cubicBezTo>
                <a:cubicBezTo>
                  <a:pt x="10685" y="17920"/>
                  <a:pt x="10683" y="17958"/>
                  <a:pt x="10700" y="17907"/>
                </a:cubicBezTo>
                <a:cubicBezTo>
                  <a:pt x="10732" y="17907"/>
                  <a:pt x="10763" y="17907"/>
                  <a:pt x="10795" y="17907"/>
                </a:cubicBezTo>
                <a:cubicBezTo>
                  <a:pt x="10795" y="18055"/>
                  <a:pt x="10795" y="18204"/>
                  <a:pt x="10795" y="18352"/>
                </a:cubicBezTo>
              </a:path>
              <a:path w="2763" h="1874">
                <a:moveTo>
                  <a:pt x="10922" y="17939"/>
                </a:moveTo>
                <a:cubicBezTo>
                  <a:pt x="10935" y="17989"/>
                  <a:pt x="10971" y="18020"/>
                  <a:pt x="10986" y="18066"/>
                </a:cubicBezTo>
                <a:cubicBezTo>
                  <a:pt x="11002" y="18113"/>
                  <a:pt x="11013" y="18126"/>
                  <a:pt x="11017" y="18161"/>
                </a:cubicBezTo>
                <a:cubicBezTo>
                  <a:pt x="11017" y="18193"/>
                  <a:pt x="11017" y="18204"/>
                  <a:pt x="11049" y="18193"/>
                </a:cubicBezTo>
                <a:cubicBezTo>
                  <a:pt x="11049" y="18077"/>
                  <a:pt x="11049" y="17960"/>
                  <a:pt x="11049" y="17844"/>
                </a:cubicBezTo>
                <a:cubicBezTo>
                  <a:pt x="11096" y="17856"/>
                  <a:pt x="11128" y="17890"/>
                  <a:pt x="11144" y="17939"/>
                </a:cubicBezTo>
                <a:cubicBezTo>
                  <a:pt x="11155" y="17972"/>
                  <a:pt x="11170" y="18047"/>
                  <a:pt x="11208" y="18066"/>
                </a:cubicBezTo>
                <a:cubicBezTo>
                  <a:pt x="11219" y="18066"/>
                  <a:pt x="11229" y="18066"/>
                  <a:pt x="11240" y="18066"/>
                </a:cubicBezTo>
                <a:cubicBezTo>
                  <a:pt x="11240" y="18008"/>
                  <a:pt x="11214" y="17991"/>
                  <a:pt x="11208" y="17939"/>
                </a:cubicBezTo>
                <a:cubicBezTo>
                  <a:pt x="11204" y="17906"/>
                  <a:pt x="11243" y="17879"/>
                  <a:pt x="11271" y="17875"/>
                </a:cubicBezTo>
                <a:cubicBezTo>
                  <a:pt x="11328" y="17868"/>
                  <a:pt x="11366" y="17889"/>
                  <a:pt x="11398" y="17939"/>
                </a:cubicBezTo>
                <a:cubicBezTo>
                  <a:pt x="11430" y="17989"/>
                  <a:pt x="11433" y="18055"/>
                  <a:pt x="11462" y="18098"/>
                </a:cubicBezTo>
                <a:cubicBezTo>
                  <a:pt x="11473" y="18108"/>
                  <a:pt x="11483" y="18119"/>
                  <a:pt x="11494" y="18129"/>
                </a:cubicBezTo>
              </a:path>
              <a:path w="2763" h="1874">
                <a:moveTo>
                  <a:pt x="10858" y="18669"/>
                </a:moveTo>
                <a:cubicBezTo>
                  <a:pt x="10903" y="18624"/>
                  <a:pt x="10934" y="18596"/>
                  <a:pt x="10986" y="18574"/>
                </a:cubicBezTo>
                <a:cubicBezTo>
                  <a:pt x="11051" y="18546"/>
                  <a:pt x="11152" y="18490"/>
                  <a:pt x="11208" y="18447"/>
                </a:cubicBezTo>
                <a:cubicBezTo>
                  <a:pt x="11291" y="18382"/>
                  <a:pt x="11375" y="18315"/>
                  <a:pt x="11462" y="18256"/>
                </a:cubicBezTo>
                <a:cubicBezTo>
                  <a:pt x="11553" y="18195"/>
                  <a:pt x="11628" y="18130"/>
                  <a:pt x="11716" y="18066"/>
                </a:cubicBezTo>
                <a:cubicBezTo>
                  <a:pt x="11798" y="18007"/>
                  <a:pt x="11887" y="17964"/>
                  <a:pt x="11970" y="17907"/>
                </a:cubicBezTo>
                <a:cubicBezTo>
                  <a:pt x="12018" y="17874"/>
                  <a:pt x="12036" y="17875"/>
                  <a:pt x="12097" y="17875"/>
                </a:cubicBezTo>
              </a:path>
              <a:path w="2763" h="1874">
                <a:moveTo>
                  <a:pt x="11684" y="18701"/>
                </a:moveTo>
                <a:cubicBezTo>
                  <a:pt x="11673" y="18701"/>
                  <a:pt x="11663" y="18701"/>
                  <a:pt x="11652" y="18701"/>
                </a:cubicBezTo>
                <a:cubicBezTo>
                  <a:pt x="11687" y="18654"/>
                  <a:pt x="11673" y="18651"/>
                  <a:pt x="11716" y="18637"/>
                </a:cubicBezTo>
                <a:cubicBezTo>
                  <a:pt x="11730" y="18596"/>
                  <a:pt x="11734" y="18608"/>
                  <a:pt x="11779" y="18574"/>
                </a:cubicBezTo>
              </a:path>
              <a:path w="2763" h="1874">
                <a:moveTo>
                  <a:pt x="12097" y="18002"/>
                </a:moveTo>
                <a:lnTo>
                  <a:pt x="12097" y="18002"/>
                </a:lnTo>
              </a:path>
              <a:path w="2763" h="1874">
                <a:moveTo>
                  <a:pt x="12097" y="18002"/>
                </a:moveTo>
                <a:cubicBezTo>
                  <a:pt x="12086" y="18002"/>
                  <a:pt x="12076" y="18002"/>
                  <a:pt x="12065" y="18002"/>
                </a:cubicBezTo>
              </a:path>
              <a:path w="2763" h="1874">
                <a:moveTo>
                  <a:pt x="12065" y="18002"/>
                </a:moveTo>
                <a:cubicBezTo>
                  <a:pt x="12052" y="18052"/>
                  <a:pt x="12017" y="18083"/>
                  <a:pt x="12002" y="18129"/>
                </a:cubicBezTo>
                <a:cubicBezTo>
                  <a:pt x="11987" y="18174"/>
                  <a:pt x="11947" y="18207"/>
                  <a:pt x="11938" y="18224"/>
                </a:cubicBezTo>
                <a:cubicBezTo>
                  <a:pt x="11922" y="18255"/>
                  <a:pt x="11879" y="18310"/>
                  <a:pt x="11874" y="18320"/>
                </a:cubicBezTo>
                <a:cubicBezTo>
                  <a:pt x="11845" y="18378"/>
                  <a:pt x="11897" y="18438"/>
                  <a:pt x="11906" y="18478"/>
                </a:cubicBezTo>
                <a:cubicBezTo>
                  <a:pt x="11922" y="18551"/>
                  <a:pt x="11925" y="18579"/>
                  <a:pt x="11970" y="18637"/>
                </a:cubicBezTo>
                <a:cubicBezTo>
                  <a:pt x="12006" y="18591"/>
                  <a:pt x="12009" y="18575"/>
                  <a:pt x="12033" y="18542"/>
                </a:cubicBezTo>
                <a:cubicBezTo>
                  <a:pt x="12051" y="18518"/>
                  <a:pt x="12124" y="18449"/>
                  <a:pt x="12128" y="18447"/>
                </a:cubicBezTo>
                <a:cubicBezTo>
                  <a:pt x="12182" y="18421"/>
                  <a:pt x="12224" y="18478"/>
                  <a:pt x="12256" y="18510"/>
                </a:cubicBezTo>
                <a:cubicBezTo>
                  <a:pt x="12283" y="18538"/>
                  <a:pt x="12340" y="18662"/>
                  <a:pt x="12351" y="18701"/>
                </a:cubicBezTo>
                <a:cubicBezTo>
                  <a:pt x="12368" y="18764"/>
                  <a:pt x="12351" y="18855"/>
                  <a:pt x="12351" y="18923"/>
                </a:cubicBezTo>
                <a:cubicBezTo>
                  <a:pt x="12316" y="18877"/>
                  <a:pt x="12313" y="18856"/>
                  <a:pt x="12287" y="18796"/>
                </a:cubicBezTo>
              </a:path>
              <a:path w="2763" h="1874">
                <a:moveTo>
                  <a:pt x="12256" y="18352"/>
                </a:moveTo>
                <a:cubicBezTo>
                  <a:pt x="12281" y="18273"/>
                  <a:pt x="12297" y="18350"/>
                  <a:pt x="12319" y="18383"/>
                </a:cubicBezTo>
                <a:cubicBezTo>
                  <a:pt x="12357" y="18440"/>
                  <a:pt x="12396" y="18492"/>
                  <a:pt x="12446" y="18542"/>
                </a:cubicBezTo>
                <a:cubicBezTo>
                  <a:pt x="12487" y="18583"/>
                  <a:pt x="12481" y="18621"/>
                  <a:pt x="12510" y="18669"/>
                </a:cubicBezTo>
                <a:cubicBezTo>
                  <a:pt x="12563" y="18651"/>
                  <a:pt x="12531" y="18623"/>
                  <a:pt x="12510" y="18574"/>
                </a:cubicBezTo>
                <a:cubicBezTo>
                  <a:pt x="12468" y="18477"/>
                  <a:pt x="12429" y="18394"/>
                  <a:pt x="12414" y="18288"/>
                </a:cubicBezTo>
                <a:cubicBezTo>
                  <a:pt x="12404" y="18222"/>
                  <a:pt x="12382" y="18195"/>
                  <a:pt x="12382" y="18129"/>
                </a:cubicBezTo>
                <a:cubicBezTo>
                  <a:pt x="12382" y="18119"/>
                  <a:pt x="12382" y="18108"/>
                  <a:pt x="12382" y="18098"/>
                </a:cubicBezTo>
                <a:cubicBezTo>
                  <a:pt x="12440" y="18098"/>
                  <a:pt x="12475" y="18106"/>
                  <a:pt x="12510" y="18161"/>
                </a:cubicBezTo>
                <a:cubicBezTo>
                  <a:pt x="12554" y="18230"/>
                  <a:pt x="12557" y="18312"/>
                  <a:pt x="12605" y="18383"/>
                </a:cubicBezTo>
                <a:cubicBezTo>
                  <a:pt x="12633" y="18412"/>
                  <a:pt x="12639" y="18423"/>
                  <a:pt x="12668" y="18415"/>
                </a:cubicBezTo>
                <a:cubicBezTo>
                  <a:pt x="12668" y="18344"/>
                  <a:pt x="12640" y="18295"/>
                  <a:pt x="12636" y="18224"/>
                </a:cubicBezTo>
                <a:cubicBezTo>
                  <a:pt x="12632" y="18161"/>
                  <a:pt x="12575" y="18064"/>
                  <a:pt x="12605" y="18002"/>
                </a:cubicBezTo>
                <a:cubicBezTo>
                  <a:pt x="12615" y="17991"/>
                  <a:pt x="12626" y="17981"/>
                  <a:pt x="12636" y="17970"/>
                </a:cubicBezTo>
                <a:cubicBezTo>
                  <a:pt x="12706" y="17988"/>
                  <a:pt x="12729" y="18031"/>
                  <a:pt x="12764" y="18098"/>
                </a:cubicBezTo>
                <a:cubicBezTo>
                  <a:pt x="12817" y="18199"/>
                  <a:pt x="12881" y="18298"/>
                  <a:pt x="12954" y="18383"/>
                </a:cubicBezTo>
                <a:cubicBezTo>
                  <a:pt x="12994" y="18429"/>
                  <a:pt x="13021" y="18415"/>
                  <a:pt x="13081" y="18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8"/>
          <p:cNvSpPr/>
          <p:nvPr/>
        </p:nvSpPr>
        <p:spPr>
          <a:xfrm>
            <a:off x="3508200" y="5418000"/>
            <a:ext cx="309600" cy="446400"/>
          </a:xfrm>
          <a:custGeom>
            <a:avLst/>
            <a:gdLst/>
            <a:ahLst/>
            <a:rect l="l" t="t" r="r" b="b"/>
            <a:pathLst>
              <a:path w="858" h="1239">
                <a:moveTo>
                  <a:pt x="9811" y="15208"/>
                </a:moveTo>
                <a:cubicBezTo>
                  <a:pt x="9944" y="15208"/>
                  <a:pt x="9973" y="15184"/>
                  <a:pt x="10065" y="15145"/>
                </a:cubicBezTo>
                <a:cubicBezTo>
                  <a:pt x="10167" y="15102"/>
                  <a:pt x="10231" y="15175"/>
                  <a:pt x="10287" y="15208"/>
                </a:cubicBezTo>
                <a:cubicBezTo>
                  <a:pt x="10342" y="15241"/>
                  <a:pt x="10337" y="15254"/>
                  <a:pt x="10382" y="15304"/>
                </a:cubicBezTo>
                <a:cubicBezTo>
                  <a:pt x="10422" y="15348"/>
                  <a:pt x="10414" y="15371"/>
                  <a:pt x="10414" y="15430"/>
                </a:cubicBezTo>
                <a:cubicBezTo>
                  <a:pt x="10414" y="15506"/>
                  <a:pt x="10415" y="15531"/>
                  <a:pt x="10382" y="15589"/>
                </a:cubicBezTo>
                <a:cubicBezTo>
                  <a:pt x="10343" y="15657"/>
                  <a:pt x="10336" y="15715"/>
                  <a:pt x="10287" y="15780"/>
                </a:cubicBezTo>
                <a:cubicBezTo>
                  <a:pt x="10247" y="15834"/>
                  <a:pt x="10200" y="15885"/>
                  <a:pt x="10160" y="15938"/>
                </a:cubicBezTo>
                <a:cubicBezTo>
                  <a:pt x="10111" y="16003"/>
                  <a:pt x="9983" y="16152"/>
                  <a:pt x="9906" y="16161"/>
                </a:cubicBezTo>
                <a:cubicBezTo>
                  <a:pt x="9847" y="16168"/>
                  <a:pt x="9899" y="16178"/>
                  <a:pt x="9842" y="16192"/>
                </a:cubicBezTo>
                <a:cubicBezTo>
                  <a:pt x="9914" y="16192"/>
                  <a:pt x="9943" y="16180"/>
                  <a:pt x="10001" y="16161"/>
                </a:cubicBezTo>
                <a:cubicBezTo>
                  <a:pt x="10102" y="16128"/>
                  <a:pt x="10226" y="16177"/>
                  <a:pt x="10319" y="16192"/>
                </a:cubicBezTo>
                <a:cubicBezTo>
                  <a:pt x="10376" y="16201"/>
                  <a:pt x="10397" y="16208"/>
                  <a:pt x="10446" y="16224"/>
                </a:cubicBezTo>
                <a:cubicBezTo>
                  <a:pt x="10506" y="16244"/>
                  <a:pt x="10560" y="16301"/>
                  <a:pt x="10604" y="16256"/>
                </a:cubicBezTo>
                <a:cubicBezTo>
                  <a:pt x="10604" y="16245"/>
                  <a:pt x="10604" y="16235"/>
                  <a:pt x="10604" y="16224"/>
                </a:cubicBezTo>
                <a:cubicBezTo>
                  <a:pt x="10558" y="16271"/>
                  <a:pt x="10590" y="16230"/>
                  <a:pt x="10509" y="16224"/>
                </a:cubicBezTo>
                <a:cubicBezTo>
                  <a:pt x="10321" y="16210"/>
                  <a:pt x="10127" y="16224"/>
                  <a:pt x="9938" y="16224"/>
                </a:cubicBezTo>
                <a:cubicBezTo>
                  <a:pt x="9950" y="16189"/>
                  <a:pt x="9964" y="16166"/>
                  <a:pt x="10001" y="16129"/>
                </a:cubicBezTo>
                <a:cubicBezTo>
                  <a:pt x="10026" y="16104"/>
                  <a:pt x="10081" y="16036"/>
                  <a:pt x="10096" y="16002"/>
                </a:cubicBezTo>
                <a:cubicBezTo>
                  <a:pt x="10124" y="15938"/>
                  <a:pt x="10147" y="15872"/>
                  <a:pt x="10192" y="15812"/>
                </a:cubicBezTo>
                <a:cubicBezTo>
                  <a:pt x="10235" y="15755"/>
                  <a:pt x="10269" y="15691"/>
                  <a:pt x="10287" y="15621"/>
                </a:cubicBezTo>
                <a:cubicBezTo>
                  <a:pt x="10305" y="15551"/>
                  <a:pt x="10319" y="15505"/>
                  <a:pt x="10319" y="15430"/>
                </a:cubicBezTo>
                <a:cubicBezTo>
                  <a:pt x="10319" y="15344"/>
                  <a:pt x="10309" y="15284"/>
                  <a:pt x="10287" y="15240"/>
                </a:cubicBezTo>
                <a:cubicBezTo>
                  <a:pt x="10255" y="15177"/>
                  <a:pt x="10259" y="15147"/>
                  <a:pt x="10192" y="15113"/>
                </a:cubicBezTo>
                <a:cubicBezTo>
                  <a:pt x="10112" y="15073"/>
                  <a:pt x="9939" y="15123"/>
                  <a:pt x="9874" y="15145"/>
                </a:cubicBezTo>
                <a:cubicBezTo>
                  <a:pt x="9858" y="15150"/>
                  <a:pt x="9756" y="15226"/>
                  <a:pt x="9747" y="15240"/>
                </a:cubicBezTo>
                <a:cubicBezTo>
                  <a:pt x="9713" y="15291"/>
                  <a:pt x="9789" y="15228"/>
                  <a:pt x="9811" y="15208"/>
                </a:cubicBezTo>
                <a:cubicBezTo>
                  <a:pt x="9851" y="15171"/>
                  <a:pt x="9917" y="15145"/>
                  <a:pt x="9970" y="15113"/>
                </a:cubicBezTo>
                <a:cubicBezTo>
                  <a:pt x="10017" y="15084"/>
                  <a:pt x="10073" y="15056"/>
                  <a:pt x="10128" y="15050"/>
                </a:cubicBezTo>
                <a:cubicBezTo>
                  <a:pt x="10164" y="15046"/>
                  <a:pt x="10236" y="15060"/>
                  <a:pt x="10255" y="15081"/>
                </a:cubicBezTo>
                <a:cubicBezTo>
                  <a:pt x="10283" y="15113"/>
                  <a:pt x="10304" y="15167"/>
                  <a:pt x="10319" y="15240"/>
                </a:cubicBezTo>
                <a:cubicBezTo>
                  <a:pt x="10341" y="15348"/>
                  <a:pt x="10305" y="15469"/>
                  <a:pt x="10287" y="15558"/>
                </a:cubicBezTo>
                <a:cubicBezTo>
                  <a:pt x="10275" y="15617"/>
                  <a:pt x="10256" y="15695"/>
                  <a:pt x="10224" y="15748"/>
                </a:cubicBezTo>
                <a:cubicBezTo>
                  <a:pt x="10189" y="15806"/>
                  <a:pt x="10144" y="15859"/>
                  <a:pt x="10096" y="15907"/>
                </a:cubicBezTo>
                <a:cubicBezTo>
                  <a:pt x="10046" y="15957"/>
                  <a:pt x="10044" y="16018"/>
                  <a:pt x="10001" y="16066"/>
                </a:cubicBezTo>
                <a:cubicBezTo>
                  <a:pt x="9967" y="16104"/>
                  <a:pt x="9920" y="16112"/>
                  <a:pt x="9906" y="16161"/>
                </a:cubicBezTo>
                <a:cubicBezTo>
                  <a:pt x="9906" y="16192"/>
                  <a:pt x="9906" y="16203"/>
                  <a:pt x="9906" y="16224"/>
                </a:cubicBezTo>
                <a:cubicBezTo>
                  <a:pt x="9955" y="16240"/>
                  <a:pt x="9933" y="16250"/>
                  <a:pt x="10001" y="16256"/>
                </a:cubicBezTo>
                <a:cubicBezTo>
                  <a:pt x="10056" y="16261"/>
                  <a:pt x="10078" y="16282"/>
                  <a:pt x="10128" y="16288"/>
                </a:cubicBezTo>
                <a:cubicBezTo>
                  <a:pt x="10224" y="16299"/>
                  <a:pt x="10404" y="16311"/>
                  <a:pt x="10478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18:33Z</dcterms:created>
  <dc:creator>Sharon Fieldman</dc:creator>
  <dc:description/>
  <dc:language>en-US</dc:language>
  <cp:lastModifiedBy>njamison</cp:lastModifiedBy>
  <dcterms:modified xsi:type="dcterms:W3CDTF">2011-05-03T12:56:30Z</dcterms:modified>
  <cp:revision>13</cp:revision>
  <dc:subject/>
  <dc:title>Goal 1.01a Review</dc:title>
</cp:coreProperties>
</file>